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EBB056-8DD4-41C0-886F-655406ED5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AE397D1-F3C2-4E86-AA84-D56FC575DF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727CEF-758D-41F3-A7F0-68BB7E4C9E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C32667-3D5A-4303-A483-4D73DB924C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F81ACB-15ED-4BCF-A2F5-B5D8C9AE94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209AF2-172B-43DD-BD37-B06F9F435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9140E7-A7AB-4BF0-900E-F1A43B0822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505C49-4CBB-4A92-80E1-B849CFEBBC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50960B-3FEF-478A-BE12-8827E3156A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C24E46-2796-41B1-90B6-6244A814F2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D1D983-7B6B-4AE0-AB45-901866F3BE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65D8E9D-9827-4DCE-AF79-A952B17538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581DFCD-8FF6-426B-AC3F-25EE8982F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F6B62A-9E4E-40D8-87AF-FF75D8E7D0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708668-D8AF-4DBC-8862-13683858E1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B38367-09EE-435F-A473-E2E02A2B84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8B51F9-3B8B-4504-8FA2-209CEC7E84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5ADA4C-489C-408E-B219-2E3ADF4EE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600F0E-0401-4804-8130-D8D69FA0CF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37AD-CF9D-4118-8A18-E30943B5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39E-3318-4595-BD26-9FB12D7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857-9FE3-4823-907A-048087C4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980-EDB1-4EA2-9B28-8DBA2C1E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636-921D-44AF-A0DB-15CCD564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AEE-2007-4FF2-9424-C57969E1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14D2-70C2-4EBC-9EA1-32F30BDC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12EE-FA47-4575-9C5D-B1D99435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2CF-5A84-4F5C-99AA-8E9BD18F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35F-D762-4A3E-891B-368F75E9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DB7-53E6-4C6B-8278-EE1C3A5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B35-E4D3-4ADE-8F8A-547855C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55B-EB07-41C6-8DA1-5295A0F2D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hopkinslogo"/>
          <p:cNvPicPr/>
          <p:nvPr/>
        </p:nvPicPr>
        <p:blipFill>
          <a:blip r:embed="rId2"/>
          <a:srcRect l="32213" t="5997" r="35434" b="54007"/>
          <a:stretch/>
        </p:blipFill>
        <p:spPr>
          <a:xfrm>
            <a:off x="152280" y="6137280"/>
            <a:ext cx="81288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cor.com/images/Steathascope3.jpg&amp;imgrefurl=http://www.medcor.com/onsite/GroupHealth.asp&amp;h=472&amp;w=314&amp;sz=43&amp;hl=en&amp;start=7&amp;um=1&amp;usg=__0xsbEAvKjRBEe1GddGypybHf6Mc=&amp;tbnid=qstQXpXIv_XRqM:&amp;tbnh=129&amp;tbnw=86&amp;prev=/images?q=health+services&amp;um=1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organichealthservices.com/images/organic_health_services_header.jpg&amp;imgrefurl=http://www.organichealthservices.com/about_our_facility.html&amp;h=250&amp;w=900&amp;sz=148&amp;hl=en&amp;start=111&amp;um=1&amp;usg=__USSX-ziITxR0Ls3icaPAcW9RAnE=&amp;tbnid=-gcsXijPjcVyUM:&amp;tbnh=41&amp;tbnw=146&amp;prev=/images?q=health+services&amp;start=100&amp;ndsp=20&amp;um=1&amp;hl=en&amp;sa=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careers.bmj.com/images/articles/2007/08/cf1808cr.f1_default.gif&amp;imgrefurl=http://careers.bmj.com/careers/advice/view-article.html?id=2538&amp;h=277&amp;w=440&amp;sz=48&amp;hl=en&amp;start=142&amp;um=1&amp;usg=__V8NeliXUbHoYyJMxaLL4Ps3oUDw=&amp;tbnid=aCK6WRZbGXzcXM:&amp;tbnh=80&amp;tbnw=127&amp;prev=/images?q=clinical+research&amp;start=140&amp;ndsp=20&amp;um=1&amp;hl=en&amp;sa=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statsconsultgroup.ualberta.ca/gif_logo_medium.gif&amp;imgrefurl=http://www.biostatsconsultgroup.ualberta.ca/sample.html&amp;h=477&amp;w=589&amp;sz=58&amp;hl=en&amp;start=3&amp;um=1&amp;usg=__qL-HKAJ4UcIjWlyavQtGV0hNryU=&amp;tbnid=6gO4pL2MCQnnIM:&amp;tbnh=109&amp;tbnw=135&amp;prev=/images?q=biostatistics&amp;um=1&amp;hl=en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level2.cap.gov/Prof_Dev_Modules/cap_lesson_03/lesson3_html/artchange1.gif&amp;imgrefurl=http://level2.cap.gov/Prof_Dev_Modules/cap_lesson_03/lesson3_html/lesson3.htm&amp;h=268&amp;w=225&amp;sz=3&amp;hl=en&amp;start=20&amp;um=1&amp;usg=__gOlSM2lD0lWiv0L46qFdJaLAwug=&amp;tbnid=LRJyqOdvPhKHxM:&amp;tbnh=113&amp;tbnw=95&amp;prev=/images?q=organizational+change&amp;um=1&amp;hl=e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0/05/Coronary_artery_bypass_surgery_Image_657B-PH.jpg/300px-Coronary_artery_bypass_surgery_Image_657B-PH.jpg&amp;imgrefurl=http://en.wikipedia.org/wiki/Cardiac_surgery&amp;h=202&amp;w=300&amp;sz=24&amp;hl=en&amp;start=1&amp;um=1&amp;usg=__JPZeOQmUSJ098RqmHJSOMMp4df0=&amp;tbnid=gJhJpXq0XKXuLM:&amp;tbnh=78&amp;tbnw=116&amp;prev=/images?q=cardiac+surgery&amp;um=1&amp;hl=en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normeditec.com/images/applicazioni/5.jpg&amp;imgrefurl=http://www.normeditec.com/Applicazioni_UK.aspx&amp;h=213&amp;w=250&amp;sz=42&amp;hl=en&amp;start=12&amp;um=1&amp;usg=__HPhlVSqO4c20_-5gyn_oIvXexS8=&amp;tbnid=1c4w_ccYJmUFTM:&amp;tbnh=95&amp;tbnw=111&amp;prev=/images?q=cardiac+surgery&amp;um=1&amp;hl=en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mi.ch/student/images/link.jpg&amp;imgrefurl=http://www.fmi.ch/student/links.htm&amp;h=384&amp;w=480&amp;sz=16&amp;hl=en&amp;start=58&amp;um=1&amp;usg=__x62Ht_EhlnpMUhmPDMqbhW5kHiI=&amp;tbnid=UsR1qOLSSc6NcM:&amp;tbnh=103&amp;tbnw=129&amp;prev=/images?q=links+research&amp;start=40&amp;ndsp=20&amp;um=1&amp;hl=en&amp;sa=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izabeth A. Martinez, MD, MH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hns Hopkins Medical Institutions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ptember 10, 2008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880" y="2514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zation of Care and Outcomes in Cardiac Surge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HRQ grant 1K08HS013904-01A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57200" y="457200"/>
            <a:ext cx="815328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Building a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ff"/>
                </a:solidFill>
                <a:latin typeface="Arial"/>
              </a:rPr>
              <a:t>Health Services Career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in K-Limbo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bmitted the grant twice to AHR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ing to wait for f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elays in funding with a “fundable” sc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project most appropriate for AHR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xperience with NIH and couldn’t find a home for this type of grant propo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ed to (needed to) consider alternative career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during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with advi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rate of attendanc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n seriously with the awa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Aft>
                <a:spcPts val="13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flects hard work to get there (writing the grant!) and quality of the planned pro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of writing the grant (and, of course, resubmitting it!)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O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prove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advanced coursework in      Health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5" descr="Steathascope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5029200"/>
            <a:ext cx="1073160" cy="160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organic_health_services_header">
            <a:hlinkClick r:id="rId3"/>
          </p:cNvPr>
          <p:cNvPicPr/>
          <p:nvPr/>
        </p:nvPicPr>
        <p:blipFill>
          <a:blip r:embed="rId4"/>
          <a:srcRect l="0" t="0" r="28786" b="2396"/>
          <a:stretch/>
        </p:blipFill>
        <p:spPr>
          <a:xfrm>
            <a:off x="3505320" y="5708520"/>
            <a:ext cx="213336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ilding a Health Services Care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chieve the go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and conduct the proposed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area of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research protocol and gr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re curriculum requ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into an independent investig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25"/>
              </a:spcBef>
              <a:spcAft>
                <a:spcPts val="10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it ta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25"/>
              </a:spcBef>
              <a:spcAft>
                <a:spcPts val="10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ow the K08 facilitates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 leader in Health poli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cf1808c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57880" y="4800600"/>
            <a:ext cx="235260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ilding a Health Services Care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achieve the 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3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curriculum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pidemiology and Biostatis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ealth syst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ganizational and behavioral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03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ership chang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gif_logo_medi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2666880"/>
            <a:ext cx="1676520" cy="1354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artchange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5019840"/>
            <a:ext cx="135252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y formal train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services and outcomes research is very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be an expert in epi, biost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be able to be address bi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ment in outcomes research remains a 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sophisticated background to develop independence and a leadership r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velop into a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dependent Investigato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training additional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like lab resear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complex systems that are being evalu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be an expert in many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professional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in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in experience outside of the proposed project and cours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professional socie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 con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8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n professional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during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 of national committee for professional society to develop quality measures for anesthe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been asked to represent the American Society of Anesthesiologists in development of national 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, of course, the grant work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ganization of Care and Outcomes in Cardiac Surg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0,000 cardiac surgical cases in 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Differences in the processes of postoperative care contribute to differences in mortality in low-volume and high-volume hospit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tructure and processes of the perioperative management of patients undergoing cardiac surgery that impact their mortal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rganization of Care and Outcomes in Cardiac Surg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riation in Ca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458640">
              <a:lnSpc>
                <a:spcPct val="85000"/>
              </a:lnSpc>
              <a:spcAft>
                <a:spcPts val="1137"/>
              </a:spcAft>
              <a:buClr>
                <a:srgbClr val="33ccff"/>
              </a:buClr>
              <a:buFont typeface="Times New Roman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ICU physician staff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458640">
              <a:lnSpc>
                <a:spcPct val="85000"/>
              </a:lnSpc>
              <a:spcAft>
                <a:spcPts val="1137"/>
              </a:spcAft>
              <a:buClr>
                <a:srgbClr val="33ccff"/>
              </a:buClr>
              <a:buFont typeface="Times New Roman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ICU nurse staff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458640">
              <a:lnSpc>
                <a:spcPct val="85000"/>
              </a:lnSpc>
              <a:spcAft>
                <a:spcPts val="1137"/>
              </a:spcAft>
              <a:buClr>
                <a:srgbClr val="33ccff"/>
              </a:buClr>
              <a:buFont typeface="Times New Roman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diac ICU mid-level provider staff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-458640">
              <a:lnSpc>
                <a:spcPct val="85000"/>
              </a:lnSpc>
              <a:spcAft>
                <a:spcPts val="1137"/>
              </a:spcAft>
              <a:buClr>
                <a:srgbClr val="33ccff"/>
              </a:buClr>
              <a:buFont typeface="Times New Roman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31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nk variation in care to outcom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5840" indent="0">
              <a:lnSpc>
                <a:spcPct val="85000"/>
              </a:lnSpc>
              <a:spcAft>
                <a:spcPts val="1312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during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d preliminary site visits to   explore current practices in cardiac su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pilot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iv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 development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loted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5" descr="300px-Coronary_artery_bypass_surgery_Image_657B-P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4567320"/>
            <a:ext cx="2590920" cy="17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2590920"/>
            <a:ext cx="2205000" cy="1887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cardiac_surgery_1"/>
          <p:cNvPicPr/>
          <p:nvPr/>
        </p:nvPicPr>
        <p:blipFill>
          <a:blip r:embed="rId5"/>
          <a:stretch/>
        </p:blipFill>
        <p:spPr>
          <a:xfrm>
            <a:off x="3124080" y="5330880"/>
            <a:ext cx="19814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209680" y="146700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during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The importance of pilot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tru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 significant issues with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ite reviewing while visiting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a plan to reme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lore contributo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ise the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-pilo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act of research 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althcare Deliv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ly advance our knowledge of how cardiac surgical patients are managed postoperatively and how the differences in organizational characteristics are related to their outcome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strategies to reduce mortality in low-volume hospitals and to decrease variation in mortality within all cen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come a Leader in Health Policy: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/develop quality measures for cardiac 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 insurers whether cardiac surgery should be included in the volume or intensivist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zation of efforts to improve cardiac surg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Centers%2520%26%2520Programs"/>
          <p:cNvPicPr/>
          <p:nvPr/>
        </p:nvPicPr>
        <p:blipFill>
          <a:blip r:embed="rId1"/>
          <a:stretch/>
        </p:blipFill>
        <p:spPr>
          <a:xfrm>
            <a:off x="5562720" y="5029200"/>
            <a:ext cx="235260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ank you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zabeth Marti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artine@jhmi.e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 in research as a senior resident and f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ping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involved in ongoing pro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k advantage of “evening” classes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prior to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201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yed involved in multiple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00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00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xpert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00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advanc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00ff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likelihood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12640" y="508176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did have a men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ilding a Health Services Care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201"/>
              </a:spcBef>
              <a:spcAft>
                <a:spcPts val="1599"/>
              </a:spcAft>
              <a:buNone/>
              <a:tabLst>
                <a:tab algn="l" pos="0"/>
                <a:tab algn="l" pos="22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Care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nd conduct the proposed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62"/>
              </a:spcBef>
              <a:spcAft>
                <a:spcPts val="13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fine area of inter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62"/>
              </a:spcBef>
              <a:spcAft>
                <a:spcPts val="13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 the research protocol and gr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62"/>
              </a:spcBef>
              <a:spcAft>
                <a:spcPts val="1301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re curriculum requir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into an independent investig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lnSpc>
                <a:spcPct val="85000"/>
              </a:lnSpc>
              <a:spcBef>
                <a:spcPts val="150"/>
              </a:spcBef>
              <a:spcAft>
                <a:spcPts val="1199"/>
              </a:spcAft>
              <a:buNone/>
              <a:tabLst>
                <a:tab algn="l" pos="0"/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ta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33ccff"/>
              </a:buClr>
              <a:buFont typeface="Arial"/>
              <a:buAutoNum type="arabicPeriod"/>
              <a:tabLst>
                <a:tab algn="l" pos="2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ome a leader in Health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uilding a Health Services Career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achieve the go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area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Define your pa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Arial"/>
                <a:ea typeface="Arial"/>
              </a:rPr>
              <a:t>♦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What links your experience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●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ni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0">
              <a:lnSpc>
                <a:spcPct val="90000"/>
              </a:lnSpc>
              <a:spcAft>
                <a:spcPts val="14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li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4495680"/>
            <a:ext cx="213336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prior to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rther focused my clinical and research area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1199"/>
              </a:spcAft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me more involved in performance improvement and patient safety projects in cardiac surg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ied sub-areas of interest/potential research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rther recognized my limitations especially when it came to measurement, analysis and transforming ca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ipated in the GCRC grant review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pplied for University Suppor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tion of 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 in pursuing an advanced deg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edence in our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ment of my chairman and men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s Hopkins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ght to gain local support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s Hopkins Clinician Scientist A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fe prior to the K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of the courses included “grant writing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ed with focusing thoughts and first iterations of the development of my abstract for the eventual gra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ke it down into manageable pie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Aft>
                <a:spcPts val="11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verwhelming at fir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the psychological commitment to complete the gr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1199"/>
              </a:spcAft>
              <a:buClr>
                <a:srgbClr val="33ccff"/>
              </a:buClr>
              <a:buFont typeface="Times New Roman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hns Hopkins University Clinician Scientist Award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 were easy, everybody would be doing i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991200" y="5705640"/>
            <a:ext cx="1619280" cy="10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1_Mary</cp:lastModifiedBy>
  <dcterms:modified xsi:type="dcterms:W3CDTF">2009-01-02T00:06:51Z</dcterms:modified>
  <cp:revision>353</cp:revision>
  <dc:subject/>
  <dc:title>No Slide Title</dc:title>
</cp:coreProperties>
</file>