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1D7CBF-1C43-4105-B0FF-00E2DA3A3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C672CB-818A-46AA-8451-876B60653B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C5D743-703F-4690-B999-4A394A9C91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AEB740-A7F6-446B-8432-B42E7DC32A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DD95FC-6365-49B9-9FD2-B3696F317A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39C24F-7F45-461F-A3EB-2B5ED3F60F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46459C-749E-44D1-B917-E519155A0B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1E705F-C574-4023-850A-F61FB6B886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D9B000-6144-4C91-8DC1-3FEB37AC99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13394A-50C1-432C-83F5-4BE37B634F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F13413-7FDF-4CFB-8D37-8524E93F24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A5E229-DD7C-4C37-947C-50F9651148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29FF6B-4769-4224-83CA-DC768FDCA9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F60937-3EBA-45DC-914A-646C037E05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4874F3-3DD1-4C81-9976-6D25B40FE2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4CD1D4-4EB3-4C6A-8E46-09448305A9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2B4ED3-D42B-4427-B08A-B04CF84575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85654B-74FC-4297-8836-B40791AD26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85089D-4412-4ED0-8875-BD45695AEC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8FD-0965-4656-A264-F5E3BE6A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813-5AC0-4CF8-929C-8EB85059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1DF-807B-4AA6-8C50-30039292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A7A-EB35-4368-BBC1-E5976BF9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B1A-2602-44D8-9B93-C97BF46D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540-8E5C-41D5-89C2-8A40C3A6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519-D923-4F20-8F19-5D7EB3E8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803-3BDC-4CAA-9DD9-A11D142B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2FE-5F8F-4FAF-B7F9-2779B41F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EF6-B0F5-4CE1-9A25-BF60C56E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1D5-5AFC-402F-9EF7-36FA6F78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F0C-3FE8-4C71-AE9A-982CFBD0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BF8B-9C82-4BB7-9CA5-3E51C1F23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hopkinslogo"/>
          <p:cNvPicPr/>
          <p:nvPr/>
        </p:nvPicPr>
        <p:blipFill>
          <a:blip r:embed="rId2"/>
          <a:srcRect l="32213" t="5997" r="35434" b="54007"/>
          <a:stretch/>
        </p:blipFill>
        <p:spPr>
          <a:xfrm>
            <a:off x="152280" y="6137280"/>
            <a:ext cx="81288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dcor.com/images/Steathascope3.jpg&amp;imgrefurl=http://www.medcor.com/onsite/GroupHealth.asp&amp;h=472&amp;w=314&amp;sz=43&amp;hl=en&amp;start=7&amp;um=1&amp;usg=__0xsbEAvKjRBEe1GddGypybHf6Mc=&amp;tbnid=qstQXpXIv_XRqM:&amp;tbnh=129&amp;tbnw=86&amp;prev=/images?q=health+services&amp;um=1&amp;hl=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organichealthservices.com/images/organic_health_services_header.jpg&amp;imgrefurl=http://www.organichealthservices.com/about_our_facility.html&amp;h=250&amp;w=900&amp;sz=148&amp;hl=en&amp;start=111&amp;um=1&amp;usg=__USSX-ziITxR0Ls3icaPAcW9RAnE=&amp;tbnid=-gcsXijPjcVyUM:&amp;tbnh=41&amp;tbnw=146&amp;prev=/images?q=health+services&amp;start=100&amp;ndsp=20&amp;um=1&amp;hl=en&amp;sa=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areers.bmj.com/images/articles/2007/08/cf1808cr.f1_default.gif&amp;imgrefurl=http://careers.bmj.com/careers/advice/view-article.html?id=2538&amp;h=277&amp;w=440&amp;sz=48&amp;hl=en&amp;start=142&amp;um=1&amp;usg=__V8NeliXUbHoYyJMxaLL4Ps3oUDw=&amp;tbnid=aCK6WRZbGXzcXM:&amp;tbnh=80&amp;tbnw=127&amp;prev=/images?q=clinical+research&amp;start=140&amp;ndsp=20&amp;um=1&amp;hl=en&amp;sa=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ostatsconsultgroup.ualberta.ca/gif_logo_medium.gif&amp;imgrefurl=http://www.biostatsconsultgroup.ualberta.ca/sample.html&amp;h=477&amp;w=589&amp;sz=58&amp;hl=en&amp;start=3&amp;um=1&amp;usg=__qL-HKAJ4UcIjWlyavQtGV0hNryU=&amp;tbnid=6gO4pL2MCQnnIM:&amp;tbnh=109&amp;tbnw=135&amp;prev=/images?q=biostatistics&amp;um=1&amp;hl=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level2.cap.gov/Prof_Dev_Modules/cap_lesson_03/lesson3_html/artchange1.gif&amp;imgrefurl=http://level2.cap.gov/Prof_Dev_Modules/cap_lesson_03/lesson3_html/lesson3.htm&amp;h=268&amp;w=225&amp;sz=3&amp;hl=en&amp;start=20&amp;um=1&amp;usg=__gOlSM2lD0lWiv0L46qFdJaLAwug=&amp;tbnid=LRJyqOdvPhKHxM:&amp;tbnh=113&amp;tbnw=95&amp;prev=/images?q=organizational+change&amp;um=1&amp;hl=e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0/05/Coronary_artery_bypass_surgery_Image_657B-PH.jpg/300px-Coronary_artery_bypass_surgery_Image_657B-PH.jpg&amp;imgrefurl=http://en.wikipedia.org/wiki/Cardiac_surgery&amp;h=202&amp;w=300&amp;sz=24&amp;hl=en&amp;start=1&amp;um=1&amp;usg=__JPZeOQmUSJ098RqmHJSOMMp4df0=&amp;tbnid=gJhJpXq0XKXuLM:&amp;tbnh=78&amp;tbnw=116&amp;prev=/images?q=cardiac+surgery&amp;um=1&amp;hl=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normeditec.com/images/applicazioni/5.jpg&amp;imgrefurl=http://www.normeditec.com/Applicazioni_UK.aspx&amp;h=213&amp;w=250&amp;sz=42&amp;hl=en&amp;start=12&amp;um=1&amp;usg=__HPhlVSqO4c20_-5gyn_oIvXexS8=&amp;tbnid=1c4w_ccYJmUFTM:&amp;tbnh=95&amp;tbnw=111&amp;prev=/images?q=cardiac+surgery&amp;um=1&amp;hl=en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mi.ch/student/images/link.jpg&amp;imgrefurl=http://www.fmi.ch/student/links.htm&amp;h=384&amp;w=480&amp;sz=16&amp;hl=en&amp;start=58&amp;um=1&amp;usg=__x62Ht_EhlnpMUhmPDMqbhW5kHiI=&amp;tbnid=UsR1qOLSSc6NcM:&amp;tbnh=103&amp;tbnw=129&amp;prev=/images?q=links+research&amp;start=40&amp;ndsp=20&amp;um=1&amp;hl=en&amp;sa=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izabeth A. Martinez, MD, MH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ohns Hopkins Medical Institution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ptember 10, 200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2514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ganization of Care and Outcomes in Cardiac Surg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HRQ grant 1K08HS013904-01A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57200" y="457200"/>
            <a:ext cx="815328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Building a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Health Services Career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in K-Limbo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bmitted the grant twice to AHR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ing to wait for f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elays in funding with a “fundable” sc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ed project most appropriate for AHR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xperience with NIH and couldn’t find a home for this type of grant propo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to (needed to) consider alternative career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during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with advi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rate of attendanc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n seriously with the awa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Aft>
                <a:spcPts val="13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flects hard work to get there (writing the grant!) and quality of the planned pro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 of writing the grant (and, of course, resubmitting it!)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mprove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sue advanced coursework in      Health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Steathascope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029200"/>
            <a:ext cx="1073160" cy="1609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organic_health_services_header">
            <a:hlinkClick r:id="rId3"/>
          </p:cNvPr>
          <p:cNvPicPr/>
          <p:nvPr/>
        </p:nvPicPr>
        <p:blipFill>
          <a:blip r:embed="rId4"/>
          <a:srcRect l="0" t="0" r="28786" b="2396"/>
          <a:stretch/>
        </p:blipFill>
        <p:spPr>
          <a:xfrm>
            <a:off x="3505320" y="5708520"/>
            <a:ext cx="21333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ilding a Health Services Care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None/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chieve the goa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Clr>
                <a:srgbClr val="33ccff"/>
              </a:buClr>
              <a:buFont typeface="Arial"/>
              <a:buAutoNum type="arabicPeriod"/>
              <a:tabLst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and conduct the proposed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area of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the research protocol and g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e curriculum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Clr>
                <a:srgbClr val="33ccff"/>
              </a:buClr>
              <a:buFont typeface="Arial"/>
              <a:buAutoNum type="arabicPeriod"/>
              <a:tabLst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into an independent investig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25"/>
              </a:spcBef>
              <a:spcAft>
                <a:spcPts val="1001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it ta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25"/>
              </a:spcBef>
              <a:spcAft>
                <a:spcPts val="1001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ow the K08 facilitates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Clr>
                <a:srgbClr val="33ccff"/>
              </a:buClr>
              <a:buFont typeface="Arial"/>
              <a:buAutoNum type="arabicPeriod"/>
              <a:tabLst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 leader in Health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cf1808c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57880" y="4800600"/>
            <a:ext cx="235260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ilding a Health Services Care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achieve the 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 curriculum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pidemiology and Biostat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alth syst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ganizational and behavioral ch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ership ch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5" descr="gif_logo_med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2666880"/>
            <a:ext cx="1676520" cy="1354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artchange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5019840"/>
            <a:ext cx="13525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y formal training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services and outcomes research is very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be an expert in epi, biost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be able to be address bi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ment in outcomes research remains a 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ophisticated background to develop independence and a leadership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velop into a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pendent Investigat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training additional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like lab resear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complex systems that are being evalu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be an expert in many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professional relation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 in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experience outside of the proposed project and cours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professional socie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con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n professional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during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 of national committee for professional society to develop quality measures for an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been asked to represent the American Society of Anesthesiologists in development of national 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, of course, the grant work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ganization of Care and Outcomes in Cardiac Surge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00,000 cardiac surgical cases in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Differences in the processes of postoperative care contribute to differences in mortality in low-volume and high-volume hospit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structure and processes of the perioperative management of patients undergoing cardiac surgery that impact their morta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ganization of Care and Outcomes in Cardiac Surge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riation in 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458640">
              <a:lnSpc>
                <a:spcPct val="85000"/>
              </a:lnSpc>
              <a:spcAft>
                <a:spcPts val="1137"/>
              </a:spcAft>
              <a:buClr>
                <a:srgbClr val="33ccff"/>
              </a:buClr>
              <a:buFont typeface="Times New Roman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diac ICU physician staff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458640">
              <a:lnSpc>
                <a:spcPct val="85000"/>
              </a:lnSpc>
              <a:spcAft>
                <a:spcPts val="1137"/>
              </a:spcAft>
              <a:buClr>
                <a:srgbClr val="33ccff"/>
              </a:buClr>
              <a:buFont typeface="Times New Roman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diac ICU nurse staff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458640">
              <a:lnSpc>
                <a:spcPct val="85000"/>
              </a:lnSpc>
              <a:spcAft>
                <a:spcPts val="1137"/>
              </a:spcAft>
              <a:buClr>
                <a:srgbClr val="33ccff"/>
              </a:buClr>
              <a:buFont typeface="Times New Roman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diac ICU mid-level provider staff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458640">
              <a:lnSpc>
                <a:spcPct val="85000"/>
              </a:lnSpc>
              <a:spcAft>
                <a:spcPts val="1137"/>
              </a:spcAft>
              <a:buClr>
                <a:srgbClr val="33ccff"/>
              </a:buClr>
              <a:buFont typeface="Times New Roman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31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nk variation in care to outco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0">
              <a:lnSpc>
                <a:spcPct val="85000"/>
              </a:lnSpc>
              <a:spcAft>
                <a:spcPts val="1312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during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d preliminary site visits to   explore current practices in cardiac sur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pilot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rativ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 development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oted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300px-Coronary_artery_bypass_surgery_Image_657B-P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567320"/>
            <a:ext cx="2590920" cy="17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2590920"/>
            <a:ext cx="2205000" cy="1887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ardiac_surgery_1"/>
          <p:cNvPicPr/>
          <p:nvPr/>
        </p:nvPicPr>
        <p:blipFill>
          <a:blip r:embed="rId5"/>
          <a:stretch/>
        </p:blipFill>
        <p:spPr>
          <a:xfrm>
            <a:off x="3124080" y="5330880"/>
            <a:ext cx="198144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209680" y="146700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during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he importance of pilot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tru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significant issues with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pite reviewing while visiting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ine a plan to reme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ore contribu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ise the surv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-pilo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act of research o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althcare Delive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ly advance our knowledge of how cardiac surgical patients are managed postoperatively and how the differences in organizational characteristics are related to their outcom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strategies to reduce mortality in low-volume hospitals and to decrease variation in mortality within all cen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come a Leader in Health Policy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socie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/develop quality measures for cardiac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 insurers whether cardiac surgery should be included in the volume or intensivist 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ization of efforts to improve cardiac surg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Centers%2520%26%2520Programs"/>
          <p:cNvPicPr/>
          <p:nvPr/>
        </p:nvPicPr>
        <p:blipFill>
          <a:blip r:embed="rId1"/>
          <a:stretch/>
        </p:blipFill>
        <p:spPr>
          <a:xfrm>
            <a:off x="5562720" y="5029200"/>
            <a:ext cx="235260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ank you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 Marti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rtine@jhmi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 in research as a senior resident and f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ping 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involved in ongoing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k advantage of “evening” classes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prior to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201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ed involved in multiple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00ff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t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00ff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pert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00ff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advan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00ff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ikelihood of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12640" y="508176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did have a men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ilding a Health Services Care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5000"/>
              </a:lnSpc>
              <a:spcBef>
                <a:spcPts val="201"/>
              </a:spcBef>
              <a:spcAft>
                <a:spcPts val="1599"/>
              </a:spcAft>
              <a:buNone/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Care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33ccff"/>
              </a:buClr>
              <a:buFont typeface="Arial"/>
              <a:buAutoNum type="arabicPeriod"/>
              <a:tabLst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d conduct the propos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62"/>
              </a:spcBef>
              <a:spcAft>
                <a:spcPts val="1301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fine area of inter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62"/>
              </a:spcBef>
              <a:spcAft>
                <a:spcPts val="1301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 the research protocol and gr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62"/>
              </a:spcBef>
              <a:spcAft>
                <a:spcPts val="1301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re curriculum requi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33ccff"/>
              </a:buClr>
              <a:buFont typeface="Arial"/>
              <a:buAutoNum type="arabicPeriod"/>
              <a:tabLst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into an independent investig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it ta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33ccff"/>
              </a:buClr>
              <a:buFont typeface="Arial"/>
              <a:buAutoNum type="arabicPeriod"/>
              <a:tabLst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 a leader in Health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ilding a Health Services Care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achieve the 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area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0">
              <a:lnSpc>
                <a:spcPct val="90000"/>
              </a:lnSpc>
              <a:spcAft>
                <a:spcPts val="14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efine your pa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0">
              <a:lnSpc>
                <a:spcPct val="90000"/>
              </a:lnSpc>
              <a:spcAft>
                <a:spcPts val="14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What links your experience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0">
              <a:lnSpc>
                <a:spcPct val="90000"/>
              </a:lnSpc>
              <a:spcAft>
                <a:spcPts val="14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●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nic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0">
              <a:lnSpc>
                <a:spcPct val="90000"/>
              </a:lnSpc>
              <a:spcAft>
                <a:spcPts val="14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0">
              <a:lnSpc>
                <a:spcPct val="90000"/>
              </a:lnSpc>
              <a:spcAft>
                <a:spcPts val="14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li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4495680"/>
            <a:ext cx="2133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prior to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ther focused my clinical and research area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1199"/>
              </a:spcAft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me more involved in performance improvement and patient safety projects in cardiac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ied sub-areas of interest/potential research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rther recognized my limitations especially when it came to measurement, analysis and transforming ca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d in the GCRC grant review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plied for University Suppor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tion of 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 in pursuing an advanced deg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edence in our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ment of my chairman and men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s Hopkins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ght to gain local support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s Hopkins Clinician Scientist A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prior to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courses included “grant writing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ed with focusing thoughts and first iterations of the development of my abstract for the eventual gra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ke it down into manageable pi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Aft>
                <a:spcPts val="11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verwhelming at fir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the psychological commitment to complete the g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1199"/>
              </a:spcAft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s Hopkins University Clinician Scientist Award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t were easy, everybody would be doing 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991200" y="5705640"/>
            <a:ext cx="161928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1_Mary</cp:lastModifiedBy>
  <dcterms:modified xsi:type="dcterms:W3CDTF">2009-01-02T00:06:51Z</dcterms:modified>
  <cp:revision>353</cp:revision>
  <dc:subject/>
  <dc:title>No Slide Title</dc:title>
</cp:coreProperties>
</file>