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09160" y="69480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E6FFBEE1-E1AD-4563-863C-4FD73A318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9520" y="69516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neumothorax is a condition in which air or some other gas collects in the chest or the pleural space. The pleural space is the space that surrounds the lungs. When a gas collects in the pleural space, it can cause part or all of a lung to collapse. For that reason, pneumothorax is also called collapsed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und dehiscence is a premature bursting open or splitting along natural or surgical suture lines. A complication of surgery that occurs secondary to poor wound heal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42920"/>
            <a:ext cx="747576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19920" y="6477120"/>
            <a:ext cx="290664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b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553080"/>
            <a:ext cx="46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80146DAB-8A84-48E8-AF85-700F587E7B3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071720"/>
            <a:ext cx="72565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899172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9172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8209080" y="6445080"/>
            <a:ext cx="193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78600" y="6369120"/>
            <a:ext cx="1481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E25D26D9-6654-4B5B-ABBA-383A3D637CD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4792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1437"/>
              </a:spcBef>
              <a:buClr>
                <a:srgbClr val="005b4c"/>
              </a:buClr>
              <a:buSzPct val="120000"/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188"/>
              </a:spcBef>
              <a:buClr>
                <a:srgbClr val="005b4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188"/>
              </a:spcBef>
              <a:buClr>
                <a:srgbClr val="005b4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3880" y="380880"/>
            <a:ext cx="7323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Survey of Patient Safety Culture in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U.S. Hospitals: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External Validity Analyse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ss Mardon, Ph.D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st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8 AHRQ Annual Conferen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esta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650 Research Blvd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ockville, MD 20850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russmardon@westat.com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1-294-2037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sults: HSOPS &amp; AHRQ PS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180 possible correlations, 33 or 18% statistically significant (p&lt;.0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”s ranged from -.17 to -.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relationships indicated hospitals with better patient safety cultures had lower rates of adverse ev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sults: HSOPS &amp; AHRQ PS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OPS composites with more significant correl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s &amp; Transitions (6 PS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 Across Units (4 PS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Is with more significant correla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ologic &amp; metabolic derangements (PSI 10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monary embolism or deep vein thrombosis (PSI 1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sis (PSI 1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624"/>
              </a:spcAft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nd dehiscence in abdominopelvic surgical patients (PSI 1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Summary: HSOPS &amp; AHRQ PS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lationships were negative (i.e. in the right direction), supporting external validity of HSOP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point to safety culture areas to focus on for quality impr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nly 18% of possible relationships were statistically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2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OPS &amp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pital Quality Alliance (HQA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714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spital Quality Alliance (HQA)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submit data on hospital care processes to C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HQA measures are same/similar to ORYX measures reported to the Joint Com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measures, we examined 20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attack (AMI) -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failure (HF) -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onia (PN) –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ical care/infection prevention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CIP/INF) –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315200" cy="7714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spital Quality Alliance (HQA)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# eligible patients who received recommended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# patients eligible to receive the c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ncluded rates where total # eligible patients &gt;= 30 (excluded 1 r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ncluded rates with a full year of data (excluded 3 ra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.hospitalqualityalliance.org/hospitalquality  alliance/qualitymeasures/qualitymeasures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nalysis Method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partial correlations between HSOPS composite scores &amp; HQA cor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for bed size, teaching status &amp; government ow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182 hospitals matched using AHA 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OPS data from 2005 &amp;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composites, grade, # events, overall compo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HQA core measures from 2006 &amp;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tal of 300 partial correlations (15 x 2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300 correlations, 28 or 9% were positive &amp; statistically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”s ranged from .16 to .35, average = .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elationships indicate hospital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 safety cultures ha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es of providing recommended care to pat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re measure—smoking cessation counseling (AMI-4)—had 7 significant negative relationships with HSO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esults: HSOPS &amp; HQA 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esults: HSOPS &amp; HQA 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OPS composites with more significant correla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mwork Across Units (6 measures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offs &amp; Transitions (5 measure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e measures with more significant positive correla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N-7 Flu vaccination related to 5  HSOPS composi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F-1 Discharge instruction related to 3  HSOPS composi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P/INF-2 Antibiotic selection related to 3 HSOPS composi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4292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ummary: HSOPS &amp; HQA Core Measur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lationships positive, in the right dire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point to same safety culture areas to focus on as AHRQ P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nly 9% of possible relationships were statistically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00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est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ann Sorra, Ph.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bir Khanna, M.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omi Dyer, Ph.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sa Famolaro, M.P.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HR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Battles, Ph.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y Beth Farquhar, R.N., M.S.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udia Steiner, M.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vi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 Hays, Ph.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icia Merrywea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3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OPS &amp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er Assessment of Healthcare Providers and Systems (CAHP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spital Surv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cahps.ahrq.go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77148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Hospital CAHP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tisfaction survey asking about hospital c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Hospital CAHPS composi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with nur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mmunication with do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ommunication about medic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Responsiveness of hospital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Discharge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Pain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spital environment (clean &amp; qui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Overall rating of hospital (0 worst to 10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Willingness to recommend to family &amp; fri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Analysis Method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partial correlations between HSOPS composite scores &amp; Hospital CAH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for bed size, teaching status &amp; government ow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75 hospita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OPS data from 2005 &amp;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composites, grade, # events, overall compo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Hospital CAHPS composites from patients discharged in 2005 &amp;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tal of 135 partial correlations (15 x 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of 135 correlations, 35 or 26% were statistically signific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ignificant correlations were positive, indicating that hospital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tient safety cultures had patients who rated the hospit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quality of c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“r”s ranged from .24 to .46, average = .3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esults: HSOPS &amp; Hospital CAHP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Results: HSOPS &amp; Hospital CAHP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624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SOPS composites with more significant correla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 within units (5 HCAHPS measure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, Staffing, Patient safety grade (4 HCAHPS measure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624"/>
              </a:spcBef>
              <a:spcAft>
                <a:spcPts val="1624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CAHPS composites with more significant correlation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 environment (9 HSOPS composi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with nurses (8 HSOPS composi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ness of staff (6 HSOPS composit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Summary: HSOPS &amp; Hospital CAHP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lationships positive, in the right dire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point to different safety culture areas to focus on compared to first 2 analy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nly 26% of possible relationships were statistically significant and some of these were neg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Take-Away Messages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560" y="12193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relationships in all three analyses were in the right directions, lending support to HSOPS external valid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s with PSIs and HQA measures were strongest for HSOPS Handoffs and Teamwork across units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s with HCAHPS measures were strongest for Teamwork within units, staffing, and safety grad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ets are cross-sectional and limited, therefore they cannot support causal in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HSOPS External Validity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s worldwide are administering the AHRQ hospital patient safety culture survey (HSOP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patient safety culture related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harm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clinical process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satisfaction with ca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HSOPS External Validity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91440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HRQ funded external validity analyses to explore correlations between HSOPS an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AHRQ Patient Safety Indicators (PS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Hospital Quality Alliance (HQA) Core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Consumer Assessment of Healthcare Providers &amp; Systems (CAHPS) Hospital Surv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Limitations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self-selected group of hospi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unmeasured confounding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periods for data sources did not exactly coinc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of administrative data 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1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SOPS &amp;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800" indent="0" algn="ctr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Patient Safety Indicators (PSI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142920"/>
            <a:ext cx="807732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HRQ Patient Safety Indicators (PSIs)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inpatient discharge dat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rates of potential complications or adverse events fo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ed for case-mix dif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-level rates of adverse events per 1,000 pat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qualityindicators.ahrq.gov/psi_overview.h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spcAft>
                <a:spcPts val="700"/>
              </a:spcAft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PSIs Selected for Analysi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91440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0">
              <a:lnSpc>
                <a:spcPct val="100000"/>
              </a:lnSpc>
              <a:spcAft>
                <a:spcPts val="1375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examined 11 PSIs plus overall PSI compos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ubitus ulcer (PSI 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trogenic pneumothorax (PSI 6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nfections due to medical care (PSI 7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operati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 fracture (PSI 8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orrhage or hematoma (PSI 9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ologic &amp; metabolic derangements (PSI 10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iratory failure (PSI 11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monary embolism or deep vein thrombosis (PSI 12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sis (PSI 1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114120">
              <a:lnSpc>
                <a:spcPct val="85000"/>
              </a:lnSpc>
              <a:spcBef>
                <a:spcPts val="1250"/>
              </a:spcBef>
              <a:buClr>
                <a:srgbClr val="005b4c"/>
              </a:buClr>
              <a:buSzPct val="60000"/>
              <a:buFont typeface="Wingdings" charset="2"/>
              <a:buChar char="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nd dehiscence in abdominopelvic surgical patients (PSI 14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buClr>
                <a:srgbClr val="005b4c"/>
              </a:buClr>
              <a:buSzPct val="7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 puncture and laceration (PSI 15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nalysis Methods</a:t>
            </a:r>
            <a:endParaRPr b="1" i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d partial correlations between HSOPS composite scores &amp; AHRQ P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for bed size, teaching status &amp; government ow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179 hospitals, matched using AHA I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OPS data from 2005 &amp;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1448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composites, grade, # events, overall compos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PSIs (adjusted rates) computed from 2005 HCUP data for hospitals in 28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tal of 180 partial correlations (15 x 1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15:30:42Z</dcterms:created>
  <dc:creator>Russ Mardon, Ph.D.</dc:creator>
  <dc:description/>
  <cp:keywords>patient safety validity analysis HSOPS HCAHPS PSI HQA</cp:keywords>
  <dc:language>en-US</dc:language>
  <cp:lastModifiedBy>Russell Mardon</cp:lastModifiedBy>
  <cp:lastPrinted>2002-08-15T18:44:16Z</cp:lastPrinted>
  <dcterms:modified xsi:type="dcterms:W3CDTF">2008-09-05T14:33:27Z</dcterms:modified>
  <cp:revision>560</cp:revision>
  <dc:subject/>
  <dc:title>Survey of Patient Safety Culture in U.S. Hospitals:  External Validity Analyses</dc:title>
</cp:coreProperties>
</file>