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09160" y="69480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DE158A3-9835-4020-BBA5-EF589E6D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9520" y="69516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neumothorax is a condition in which air or some other gas collects in the chest or the pleural space. The pleural space is the space that surrounds the lungs. When a gas collects in the pleural space, it can cause part or all of a lung to collapse. For that reason, pneumothorax is also called collapsed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nd dehiscence is a premature bursting open or splitting along natural or surgical suture lines. A complication of surgery that occurs secondary to poor wound heal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42920"/>
            <a:ext cx="7475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9920" y="6477120"/>
            <a:ext cx="290664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b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553080"/>
            <a:ext cx="46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FAE1C26-725E-48CB-BEEC-77BAC0EFFD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071720"/>
            <a:ext cx="72565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899172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917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209080" y="6445080"/>
            <a:ext cx="19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78600" y="6369120"/>
            <a:ext cx="1481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00DC95C-BBC5-4221-8C70-DCBFAAA9C4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792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1437"/>
              </a:spcBef>
              <a:buClr>
                <a:srgbClr val="005b4c"/>
              </a:buClr>
              <a:buSzPct val="120000"/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380880"/>
            <a:ext cx="732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Survey of Patient Safety Culture i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U.S. Hospitals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External Validity Analys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ss Mardon, Ph.D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8 AHRQ Annual Confere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50 Research Blvd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ockville, MD 20850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russmardon@westat.co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1-294-2037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sults: HSOPS &amp; AHRQ P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180 possible correlations, 33 or 18% statistically significant (p&lt;.0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”s ranged from -.17 to -.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relationships indicated hospitals with better patient safety cultures had lower rates of adverse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sults: HSOPS &amp; AHRQ P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OPS composites with more significant correl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s &amp; Transitions (6 P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 Across Units (4 P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s with more significant correl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ologic &amp; metabolic derangements (PSI 10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monary embolism or deep vein thrombosis (PSI 1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sis (PSI 1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nd dehiscence in abdominopelvic surgical patients (PSI 1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ummary: HSOPS &amp; AHRQ P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ationships were negative (i.e. in the right direction), supporting external validity of HSOP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point to safety culture areas to focus on for quality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ly 18% of possible relationships were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2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OPS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ital Quality Alliance (HQA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714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spital Quality Alliance (HQA)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submit data on hospital care processes to C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QA measures are same/similar to ORYX measures reported to the Joint Com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measures, we examined 20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attack (AMI) -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failure (HF) -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onia (PN) –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care/infection prevention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CIP/INF) –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315200" cy="7714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spital Quality Alliance (HQA)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# eligible patients who received recommended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patients eligible to receive the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cluded rates where total # eligible patients &gt;= 30 (excluded 1 r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cluded rates with a full year of data (excluded 3 ra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hospitalqualityalliance.org/hospitalquality  alliance/qualitymeasures/qualitymeasures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nalysis Method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partial correlations between HSOPS composite scores &amp; HQA cor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for bed size, teaching status &amp; government 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182 hospitals matched using AHA 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OPS data from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composites, grade, # events, overall compo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HQA core measures from 2006 &amp;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300 partial correlations (15 x 2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300 correlations, 28 or 9% were positive &amp;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”s ranged from .16 to .35, average = .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elationships indicate hospital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 safety cultures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s of providing recommended care to pat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re measure—smoking cessation counseling (AMI-4)—had 7 significant negative relationships with HS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QA 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QA 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OPS composites with more significant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work Across Units (6 measures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offs &amp; Transitions (5 measur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 measures with more significant positive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N-7 Flu vaccination related to 5  HSOPS composi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F-1 Discharge instruction related to 3  HSOPS composi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P/INF-2 Antibiotic selection related to 3 HSOPS composi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ummary: HSOPS &amp; HQA 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ationships positive, in the right dire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point to same safety culture areas to focus on as AHRQ P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ly 9% of possible relationships were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st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nn Sorra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ir Khanna, M.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omi Dyer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sa Famolaro, M.P.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HR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Battles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Beth Farquhar, R.N., M.S.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dia Steiner, M.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i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 Hays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ia Merrywea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3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OPS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er Assessment of Healthcare Providers and Systems (CAHP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ital Surv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cahps.ahrq.g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714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spital CAH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tisfaction survey asking about hospital 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Hospital CAHPS composi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with nur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munication with do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unication about medic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Responsiveness of hospit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ischarg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ai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spital environment (clean &amp; qui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Overall rating of hospital (0 worst to 10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Willingness to recommend to family &amp; fri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nalysis Method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partial correlations between HSOPS composite scores &amp; Hospital CAH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for bed size, teaching status &amp; government 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75 hospit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OPS data from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composites, grade, # events, overall compo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Hospital CAHPS composites from patients discharged in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135 partial correlations (15 x 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135 correlations, 35 or 26% were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ignificant correlations were positive, indicating that hospital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 safety cultures had patients who rated the hospit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quality of c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“r”s ranged from .24 to .46, average = .3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ospital CAH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ospital CAH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624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OPS composites with more significant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 within units (5 HCAHPS measure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, Staffing, Patient safety grade (4 HCAHPS measure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CAHPS composites with more significant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environment (9 HSOPS composi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with nurses (8 HSOPS composi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ness of staff (6 HSOPS composi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ummary: HSOPS &amp; Hospital CAHP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ationships positive, in the right dire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point to different safety culture areas to focus on compared to first 2 analy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ly 26% of possible relationships were statistically significant and some of these were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Take-Away Messages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lationships in all three analyses were in the right directions, lending support to HSOPS external valid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 with PSIs and HQA measures were strongest for HSOPS Handoffs and Teamwork across units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 with HCAHPS measures were strongest for Teamwork within units, staffing, and safety grad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s are cross-sectional and limited, therefore they cannot support causal in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HSOPS External Validit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 worldwide are administering the AHRQ hospital patient safety culture survey (HSOP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patient safety culture related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harm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linical proces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tisfaction with c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HSOPS External Validit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funded external validity analyses to explore correlations between HSOPS an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HRQ Patient Safety Indicators (P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Hospital Quality Alliance (HQA) Cor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nsumer Assessment of Healthcare Providers &amp; Systems (CAHPS) Hospital Surv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Limitations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self-selected group of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unmeasured confounding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periods for data sources did not exactly coinc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administrative data 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1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OPS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Patient Safety Indicators (PS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807732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HRQ Patient Safety Indicators (PSIs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inpatient discharge da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rates of potential complications or adverse events fo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for case-mix dif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level rates of adverse events per 1,000 pat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qualityindicators.ahrq.gov/psi_overview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700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SIs Selected for Analy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9144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examined 11 PSIs plus overall PSI compos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ubitus ulcer (PSI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trogenic pneumothorax (PSI 6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nfections due to medical care (PSI 7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operati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fracture (PSI 8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rrhage or hematoma (PSI 9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ologic &amp; metabolic derangements (PSI 10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iratory failure (PSI 11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monary embolism or deep vein thrombosis (PSI 1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sis (PSI 1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85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nd dehiscence in abdominopelvic surgical patients (PSI 14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 puncture and laceration (PSI 15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nalysis Method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partial correlations between HSOPS composite scores &amp; AHRQ P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for bed size, teaching status &amp; government 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179 hospitals, matched using AHA I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OPS data from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composites, grade, # events, overall compo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PSIs (adjusted rates) computed from 2005 HCUP data for hospitals in 28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180 partial correlations (15 x 1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5:30:42Z</dcterms:created>
  <dc:creator>Russ Mardon, Ph.D.</dc:creator>
  <dc:description/>
  <cp:keywords>patient safety validity analysis HSOPS HCAHPS PSI HQA</cp:keywords>
  <dc:language>en-US</dc:language>
  <cp:lastModifiedBy>Russell Mardon</cp:lastModifiedBy>
  <cp:lastPrinted>2002-08-15T18:44:16Z</cp:lastPrinted>
  <dcterms:modified xsi:type="dcterms:W3CDTF">2008-09-05T14:33:27Z</dcterms:modified>
  <cp:revision>560</cp:revision>
  <dc:subject/>
  <dc:title>Survey of Patient Safety Culture in U.S. Hospitals:  External Validity Analyses</dc:title>
</cp:coreProperties>
</file>