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200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145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091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200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145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447920" y="228600"/>
            <a:ext cx="6697440" cy="406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200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145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091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200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145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447920" y="228600"/>
            <a:ext cx="6697440" cy="406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0000"/>
          </a:bodyPr>
          <a:p>
            <a:pPr marL="325440" indent="-325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7756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08000" indent="-244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247760" indent="-159840">
              <a:lnSpc>
                <a:spcPct val="90000"/>
              </a:lnSpc>
              <a:spcBef>
                <a:spcPts val="1199"/>
              </a:spcBef>
              <a:buClr>
                <a:srgbClr val="66ff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1333440"/>
            <a:ext cx="7986240" cy="19080"/>
            <a:chOff x="0" y="1333440"/>
            <a:chExt cx="7986240" cy="19080"/>
          </a:xfrm>
        </p:grpSpPr>
        <p:sp>
          <p:nvSpPr>
            <p:cNvPr id="3" name=""/>
            <p:cNvSpPr/>
            <p:nvPr/>
          </p:nvSpPr>
          <p:spPr>
            <a:xfrm>
              <a:off x="5400" y="1352520"/>
              <a:ext cx="7980840" cy="0"/>
            </a:xfrm>
            <a:prstGeom prst="line">
              <a:avLst/>
            </a:prstGeom>
            <a:ln w="50760">
              <a:solidFill>
                <a:srgbClr val="0017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1333440"/>
              <a:ext cx="7980840" cy="0"/>
            </a:xfrm>
            <a:prstGeom prst="line">
              <a:avLst/>
            </a:prstGeom>
            <a:ln w="507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5" name=""/>
          <p:cNvGraphicFramePr/>
          <p:nvPr/>
        </p:nvGraphicFramePr>
        <p:xfrm>
          <a:off x="142920" y="317520"/>
          <a:ext cx="1428840" cy="671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2920" y="317520"/>
                    <a:ext cx="1428840" cy="67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09120" y="2819520"/>
            <a:ext cx="77900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0" y="3867120"/>
            <a:ext cx="7986240" cy="19080"/>
            <a:chOff x="0" y="3867120"/>
            <a:chExt cx="7986240" cy="19080"/>
          </a:xfrm>
        </p:grpSpPr>
        <p:sp>
          <p:nvSpPr>
            <p:cNvPr id="46" name=""/>
            <p:cNvSpPr/>
            <p:nvPr/>
          </p:nvSpPr>
          <p:spPr>
            <a:xfrm>
              <a:off x="5400" y="3886200"/>
              <a:ext cx="7980840" cy="0"/>
            </a:xfrm>
            <a:prstGeom prst="line">
              <a:avLst/>
            </a:prstGeom>
            <a:ln w="50760">
              <a:solidFill>
                <a:srgbClr val="0017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3867120"/>
              <a:ext cx="7980840" cy="0"/>
            </a:xfrm>
            <a:prstGeom prst="line">
              <a:avLst/>
            </a:prstGeom>
            <a:ln w="507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48" name=""/>
          <p:cNvGraphicFramePr/>
          <p:nvPr/>
        </p:nvGraphicFramePr>
        <p:xfrm>
          <a:off x="990720" y="380880"/>
          <a:ext cx="7164360" cy="1695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90720" y="380880"/>
                    <a:ext cx="7164360" cy="169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176040" algn="ctr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182520" algn="ctr">
              <a:lnSpc>
                <a:spcPct val="90000"/>
              </a:lnSpc>
              <a:spcBef>
                <a:spcPts val="751"/>
              </a:spcBef>
              <a:buClr>
                <a:srgbClr val="66ffff"/>
              </a:buClr>
              <a:buSzPct val="65000"/>
              <a:buFont typeface="Monotype Sort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68400" algn="ctr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684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684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240" y="2438280"/>
            <a:ext cx="853452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ollaborative Networks for Conducting Comparative Effectiveness Research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150560" y="3962520"/>
            <a:ext cx="6435720" cy="2133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33520" y="464832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uesday September 9, 200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8:00 – 9:30 a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Exampl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4000"/>
          </a:bodyPr>
          <a:p>
            <a:pPr marL="344160" indent="-34416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mple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9340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 many patients receive carotid stents as compared to medical management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4160" indent="-344160">
              <a:lnSpc>
                <a:spcPct val="90000"/>
              </a:lnSpc>
              <a:spcBef>
                <a:spcPts val="5250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re complex: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9340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e patients who take dual therapy with ACE inhibitors and angiotensin receptor blockers at increased risk for adverse outcomes?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9340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is the balance of risks and benefits of combination therapy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47920" y="380520"/>
            <a:ext cx="6697440" cy="876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Major Components of AHRQ’s DRNI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5000"/>
          </a:bodyPr>
          <a:p>
            <a:pPr marL="395280" indent="-395280">
              <a:lnSpc>
                <a:spcPct val="90000"/>
              </a:lnSpc>
              <a:spcBef>
                <a:spcPts val="4000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wo pilot pro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29800" indent="-33696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MOR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29800" indent="-33696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iversity of Colorado &amp; AAF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5280" indent="-395280">
              <a:lnSpc>
                <a:spcPct val="90000"/>
              </a:lnSpc>
              <a:spcBef>
                <a:spcPts val="4000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nal working group including HIT staff and coordination with FDA and other federal health agenci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95280" indent="0">
              <a:lnSpc>
                <a:spcPct val="90000"/>
              </a:lnSpc>
              <a:spcBef>
                <a:spcPts val="4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General Goals of RFTO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6000"/>
          </a:bodyPr>
          <a:p>
            <a:pPr marL="399960" indent="-399960">
              <a:lnSpc>
                <a:spcPct val="90000"/>
              </a:lnSpc>
              <a:spcBef>
                <a:spcPts val="22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velop a scalable, evolvable, model that initially differentiates itself from other distributed networks by its capability to support user-driven research on the safety, clinical effectiveness, and 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comparative effectiveness of treatmen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99960" indent="-399960">
              <a:lnSpc>
                <a:spcPct val="90000"/>
              </a:lnSpc>
              <a:spcBef>
                <a:spcPts val="22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velop a research cooperative and governance structure that advances the traditional model to assist decision mak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39520" indent="-340920">
              <a:lnSpc>
                <a:spcPct val="90000"/>
              </a:lnSpc>
              <a:spcBef>
                <a:spcPts val="22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s advancement is essential for the continuation of public trust and funding from public and private pay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General Goals of RFTO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7993080" cy="2895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3000"/>
          </a:bodyPr>
          <a:p>
            <a:pPr marL="292680" indent="-292680">
              <a:lnSpc>
                <a:spcPct val="90000"/>
              </a:lnSpc>
              <a:spcBef>
                <a:spcPts val="22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derstand the extent to which the distributed research paradigm can be applied to problems facing policymakers, clinicians, &amp; patien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14880" indent="-249840">
              <a:lnSpc>
                <a:spcPct val="90000"/>
              </a:lnSpc>
              <a:spcBef>
                <a:spcPts val="22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re does the model exist in the continuum of research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2680" indent="-292680">
              <a:lnSpc>
                <a:spcPct val="90000"/>
              </a:lnSpc>
              <a:spcBef>
                <a:spcPts val="22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tablish program governanc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14880" indent="-249840">
              <a:lnSpc>
                <a:spcPct val="90000"/>
              </a:lnSpc>
              <a:spcBef>
                <a:spcPts val="22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 only address the technical aspects but the “sociologic” aspects of a research cooperativ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14880" indent="-249840">
              <a:lnSpc>
                <a:spcPct val="90000"/>
              </a:lnSpc>
              <a:spcBef>
                <a:spcPts val="22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nimize barriers to collaboration and close coordination with scientific staff at AHRQ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14880" indent="-249840">
              <a:lnSpc>
                <a:spcPct val="90000"/>
              </a:lnSpc>
              <a:spcBef>
                <a:spcPts val="22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lationship building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Four Phases of Projec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4000"/>
          </a:bodyPr>
          <a:p>
            <a:pPr marL="390600" indent="-390600">
              <a:lnSpc>
                <a:spcPct val="90000"/>
              </a:lnSpc>
              <a:spcBef>
                <a:spcPts val="4000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chnical Specifications – Spring to Fall 200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90600" indent="-390600">
              <a:lnSpc>
                <a:spcPct val="90000"/>
              </a:lnSpc>
              <a:spcBef>
                <a:spcPts val="4000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ilot testing – Spring 2008 to Winter 200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90600" indent="-390600">
              <a:lnSpc>
                <a:spcPct val="90000"/>
              </a:lnSpc>
              <a:spcBef>
                <a:spcPts val="4000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earch Study – Summer 2008 to early 200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90600" indent="-390600">
              <a:lnSpc>
                <a:spcPct val="90000"/>
              </a:lnSpc>
              <a:spcBef>
                <a:spcPts val="4000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lueprint Prospectus – Spring 200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Elements of the Ideal System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6000"/>
          </a:bodyPr>
          <a:p>
            <a:pPr marL="353160" indent="-353160">
              <a:lnSpc>
                <a:spcPct val="90000"/>
              </a:lnSpc>
              <a:spcBef>
                <a:spcPts val="1874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reate an open architecture that is technically and socially scalable to extend participation and collaboration with other AHRQ programs to meet the MMA mandat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3160" indent="-353160">
              <a:lnSpc>
                <a:spcPct val="90000"/>
              </a:lnSpc>
              <a:spcBef>
                <a:spcPts val="1874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velop a system which allows timely access to real time information and ensure a rapid response to questions facing clinicians, patients, and policy make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3160" indent="-353160">
              <a:lnSpc>
                <a:spcPct val="90000"/>
              </a:lnSpc>
              <a:spcBef>
                <a:spcPts val="1874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ke technical and procedural burdens as light as possible without sacrificing scientific integrit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3160" indent="-353160">
              <a:lnSpc>
                <a:spcPct val="90000"/>
              </a:lnSpc>
              <a:spcBef>
                <a:spcPts val="1874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oser connection between researchers and decision make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3160" indent="-353160">
              <a:lnSpc>
                <a:spcPct val="90000"/>
              </a:lnSpc>
              <a:spcBef>
                <a:spcPts val="1874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ow-cost, lightweight system that requires modest infrastructure, easy maintenance, and a coordinated research agend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Short-term Benchmark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418320" indent="-418320">
              <a:lnSpc>
                <a:spcPct val="90000"/>
              </a:lnSpc>
              <a:spcBef>
                <a:spcPts val="29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vide new information that helps advance a distributed model in health care resear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8320" indent="-418320">
              <a:lnSpc>
                <a:spcPct val="90000"/>
              </a:lnSpc>
              <a:spcBef>
                <a:spcPts val="29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rich AHRQ’s current capacity to conduct observational research on CE, specifically in DEcIDE &amp; CER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8320" indent="-418320">
              <a:lnSpc>
                <a:spcPct val="90000"/>
              </a:lnSpc>
              <a:spcBef>
                <a:spcPts val="29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rm a close partnership with AHRQ and stakeholders so that useful information is derived from this large investment of resourc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8320" indent="0">
              <a:lnSpc>
                <a:spcPct val="9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DRN Projects 2.0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uture DRN projects – how will we build upon these pilot project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3429000" y="3657600"/>
            <a:ext cx="2046240" cy="17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ession Outlin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9000"/>
          </a:bodyPr>
          <a:p>
            <a:pPr marL="367200" indent="-36720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8:00 – 8:15 AHRQ introduction – George Neyarapal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67200" indent="-36720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8:15 – 8:50 CO Distributed Research Network (DRN) project – Wilson Pace, David We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67200" indent="-36720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8:50 – 9:25 HMORN Distributed Research Network (DRN) project – Rich Platt, David Mag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67200" indent="-36720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9:25 – 9:30 Ques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6720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2819520"/>
            <a:ext cx="80946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Introduction: AHRQ’s Distributed Research Network Initiative in DEcIDE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990720" y="4495680"/>
            <a:ext cx="6626160" cy="2043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eorge Neyarapal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harmD, MPH, RP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HRQ, Center for Outcomes and Evid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556160" y="4419720"/>
            <a:ext cx="18396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Rectangle 5"/>
          <p:cNvSpPr/>
          <p:nvPr/>
        </p:nvSpPr>
        <p:spPr>
          <a:xfrm>
            <a:off x="8128080" y="6180120"/>
            <a:ext cx="71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08590-C63C-4408-8A8B-65420F68EA57}" type="slidenum">
              <a:rPr b="1" lang="en-US" sz="20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Outlin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9000"/>
          </a:bodyPr>
          <a:p>
            <a:pPr marL="413640" indent="-413640">
              <a:lnSpc>
                <a:spcPct val="90000"/>
              </a:lnSpc>
              <a:spcBef>
                <a:spcPts val="35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ckgrou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3640" indent="-413640">
              <a:lnSpc>
                <a:spcPct val="90000"/>
              </a:lnSpc>
              <a:spcBef>
                <a:spcPts val="35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tionale for Distributed Research Network Initia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3640" indent="-413640">
              <a:lnSpc>
                <a:spcPct val="90000"/>
              </a:lnSpc>
              <a:spcBef>
                <a:spcPts val="35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als of the Task Ord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3640" indent="-413640">
              <a:lnSpc>
                <a:spcPct val="90000"/>
              </a:lnSpc>
              <a:spcBef>
                <a:spcPts val="35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nchmarks of Suc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447560" y="228600"/>
            <a:ext cx="701028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DEcIDE Research Network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95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stablished as part of MMA in 2005 and incorporated in the Effective Health Care progra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3-center research network that is designed to be a data and scientific resource to external public &amp; private health organizations (particularly CMS) to provide unbiased, actionable information to inform decision make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in goal of DEcIDE is to develop new knowledge about the clinical and comparative effectiveness and safety of treatments and technologies in a valid, transparent, and scientifically rigorous mann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447920" y="4572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istributed Research Network Prototypes for Population-based Studi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4000"/>
          </a:bodyPr>
          <a:p>
            <a:pPr marL="344160" indent="-344160">
              <a:lnSpc>
                <a:spcPct val="90000"/>
              </a:lnSpc>
              <a:spcBef>
                <a:spcPts val="45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wo pilot project models of distributed research networks will be created &amp; evaluat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4160" indent="-344160">
              <a:lnSpc>
                <a:spcPct val="90000"/>
              </a:lnSpc>
              <a:spcBef>
                <a:spcPts val="45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aim is to develop a distributed network prototype that supports secure analyses of electronic information across multiple organizations to study risks, effects, and outcomes of various medical therapi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4160" indent="-344160">
              <a:lnSpc>
                <a:spcPct val="90000"/>
              </a:lnSpc>
              <a:spcBef>
                <a:spcPts val="45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long-term goal is a coordinated partnership of multiple research networks that provide information that can be quickly queried and analyzed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Unique Aspects of Effective Health Care Program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2438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ser-driven research &amp; systematic reviews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2438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ransparent methods, with process for reviewing COI with every project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2438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search for public health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814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ocused on improving quality of Medicaid, Medicare, SCHIP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814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grams with rising cost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2438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rtnership with stakeholders &amp; public nomina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69608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Rationale for Task Order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520" y="1904760"/>
            <a:ext cx="799308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lo investigators and databases.  Lack of coordination of research across multiple institution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searchers and decision-makers are disconnected, often working independent of each oth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mall studies often with limited external validity / generalizability which constrains good decision making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ast collections of data that are infrequently shar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ength to study completion does not meet the needs of policymakers, providers or patient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ceived inability of government to respond quickly to emerging clinical questions &amp; public health problems that face regulators, payers, providers, &amp; individual patient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4"/>
          <p:cNvSpPr/>
          <p:nvPr/>
        </p:nvSpPr>
        <p:spPr>
          <a:xfrm>
            <a:off x="2333880" y="1447920"/>
            <a:ext cx="453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urrent Research Paradigm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6520" y="456840"/>
            <a:ext cx="6202080" cy="6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Rationale for AHRQ’s Distributed Research Network Initiativ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0000"/>
          </a:bodyPr>
          <a:p>
            <a:pPr marL="371880" indent="-371880">
              <a:lnSpc>
                <a:spcPct val="90000"/>
              </a:lnSpc>
              <a:spcBef>
                <a:spcPts val="22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Leverag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existing resources including intellectual (scientists) and data resourc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1880" indent="-371880">
              <a:lnSpc>
                <a:spcPct val="90000"/>
              </a:lnSpc>
              <a:spcBef>
                <a:spcPts val="22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eate a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pipelin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for conducting rapid cycle research related to clinical effectiveness and comparative effectivenes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1880" indent="-371880">
              <a:lnSpc>
                <a:spcPct val="90000"/>
              </a:lnSpc>
              <a:spcBef>
                <a:spcPts val="22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Reduce the timelin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for providing valid evidence that can inform clinical decisions and public health problem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1880" indent="-371880">
              <a:lnSpc>
                <a:spcPct val="90000"/>
              </a:lnSpc>
              <a:spcBef>
                <a:spcPts val="22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pare for the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future need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f federal government to address questions of public policy in real tim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10T09:05:00Z</dcterms:created>
  <dc:creator>Sandy K. Cummings</dc:creator>
  <dc:description>6/24/04</dc:description>
  <cp:keywords/>
  <dc:language>en-US</dc:language>
  <cp:lastModifiedBy>rac</cp:lastModifiedBy>
  <cp:lastPrinted>2003-01-21T20:19:23Z</cp:lastPrinted>
  <dcterms:modified xsi:type="dcterms:W3CDTF">2008-10-02T19:59:28Z</dcterms:modified>
  <cp:revision>143</cp:revision>
  <dc:subject/>
  <dc:title>AHRQ Slide Template 2004</dc:title>
</cp:coreProperties>
</file>