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438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llaborative Networks for Conducting Comparative Effectiveness Researc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6483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esday September 9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:00 – 9:30 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ny patients receive carotid stents as compared to medical manag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52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complex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atients who take dual therapy with ACE inhibitors and angiotensin receptor blockers at increased risk for adverse outcomes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934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balance of risks and benefits of combination therap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omponents of AHRQ’s DRNI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ilo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M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800" indent="-336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olorado &amp; A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working group including HIT staff and coordination with FDA and other federal health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9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Goals of RFT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 scalable, evolvable, model that initially differentiates itself from other distributed networks by its capability to support user-driven research on the safety, clinical effectiveness, and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mparative effectiveness of trea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 research cooperative and governance structure that advances the traditional model to assist decision mak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advancement is essential for the continuation of public trust and funding from public and private p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eneral Goals of RFT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-2926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extent to which the distributed research paradigm can be applied to problems facing policymakers, clinicians, &amp; pat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es the model exist in the continuum of rese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program govern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only address the technical aspects but the “sociologic” aspects of a research coopera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ize barriers to collaboration and close coordination with scientific staff at AHR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4880" indent="-24984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ur Phases of Pro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pecifications – Spring to Fall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testing – Spring 2008 to Winter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Study – Summer 2008 to early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print Prospectus – Spring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ements of the Ideal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an open architecture that is technically and socially scalable to extend participation and collaboration with other AHRQ programs to meet the MMA mand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 system which allows timely access to real time information and ensure a rapid response to questions facing clinicians, patients, and policy ma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technical and procedural burdens as light as possible without sacrificing scientific integr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r connection between researchers and decision ma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8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cost, lightweight system that requires modest infrastructure, easy maintenance, and a coordinated research agen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rt-term Benchmar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new information that helps advance a distributed model in health care resear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ch AHRQ’s current capacity to conduct observational research on CE, specifically in DEcIDE &amp; CE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-418320"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a close partnership with AHRQ and stakeholders so that useful information is derived from this large investment of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832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RN Projects 2.0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ture DRN projects – how will we build upon these pilot proje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29000" y="3657600"/>
            <a:ext cx="2046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ession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00 – 8:15 AHRQ introduction – George Neyarap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15 – 8:50 CO Distributed Research Network (DRN) project – Wilson Pace, David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:50 – 9:25 HMORN Distributed Research Network (DRN) project – Rich Platt, David Mag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:25 – 9:3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094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 AHRQ’s Distributed Research Network Initiative in DEcID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720" y="4495680"/>
            <a:ext cx="6626160" cy="20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rge Neyarap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D, MPH, R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, Center for Outcomes and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56160" y="4419720"/>
            <a:ext cx="183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8128080" y="6180120"/>
            <a:ext cx="71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4EE0-E5F4-4CDE-9C5E-73D6202E923A}" type="slidenum">
              <a:rPr b="1" lang="en-US" sz="20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onale for Distributed Research Network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 of the Task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s of Su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cIDE Research Net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95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as part of MMA in 2005 and incorporated in the Effective Health Care progr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-center research network that is designed to be a data and scientific resource to external public &amp; private health organizations (particularly CMS) to provide unbiased, actionable information to inform decision mak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 goal of DEcIDE is to develop new knowledge about the clinical and comparative effectiveness and safety of treatments and technologies in a valid, transparent, and scientifically rigorous ma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ed Research Network Prototypes for Population-based Stud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ilot project models of distributed research networks will be created &amp; evalu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im is to develop a distributed network prototype that supports secure analyses of electronic information across multiple organizations to study risks, effects, and outcomes of various medical therap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4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-term goal is a coordinated partnership of multiple research networks that provide information that can be quickly queried and analyz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que Aspects of Effective Health Care Program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r-driven research &amp; systematic review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parent methods, with process for reviewing COI with every projec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 for public healt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1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cused on improving quality of Medicaid, Medicare, SCHI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1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rams with rising cos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438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nership with stakeholders &amp; public nomin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ionale for Task Ord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o investigators and databases.  Lack of coordination of research across multiple instit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ers and decision-makers are disconnected, often working independent of each o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studies often with limited external validity / generalizability which constrains good decision ma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st collections of data that are infrequently sha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to study completion does not meet the needs of policymakers, providers or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ived inability of government to respond quickly to emerging clinical questions &amp; public health problems that face regulators, payers, providers, &amp; individual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333880" y="144792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rrent Research Paradigm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620208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tionale for AHRQ’s Distributed Research Network Initia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ever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isting resources including intellectual (scientists) and data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ip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conducting rapid cycle research related to clinical effectiveness and comparative effective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duce the time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providing valid evidence that can inform clinical decisions and public health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90000"/>
              </a:lnSpc>
              <a:spcBef>
                <a:spcPts val="22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for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ture nee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ederal government to address questions of public policy in real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c</cp:lastModifiedBy>
  <cp:lastPrinted>2003-01-21T20:19:23Z</cp:lastPrinted>
  <dcterms:modified xsi:type="dcterms:W3CDTF">2008-10-02T19:59:28Z</dcterms:modified>
  <cp:revision>143</cp:revision>
  <dc:subject/>
  <dc:title>AHRQ Slide Template 2004</dc:title>
</cp:coreProperties>
</file>