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71440" y="694800"/>
            <a:ext cx="4641840" cy="34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31680" y="4408200"/>
            <a:ext cx="5121000" cy="41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81856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57480" y="881856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087219-4C44-4B7C-A1E3-C11E1748D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1680" y="4408200"/>
            <a:ext cx="5121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57480" y="88185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F7E9E0-8A97-4DBE-8C98-0B400DBD2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1680" y="4408200"/>
            <a:ext cx="5121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57480" y="88185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E50739-194D-4095-B027-122DAD6CF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1680" y="4408200"/>
            <a:ext cx="5121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957480" y="88185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8EB415-3651-4BF5-9B14-77EFDEAB3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1680" y="4408200"/>
            <a:ext cx="5121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957480" y="88185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EC34C5-FA88-48BF-B0AD-08A43614C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144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1680" y="4408200"/>
            <a:ext cx="5121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957480" y="88185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CC62D1D-B50B-4279-818A-FEFD5CC10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2134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120" y="19051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2134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5120" y="42134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840" y="19051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6240" y="19051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2134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840" y="42134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6240" y="42134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85120" y="19051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828440" y="30492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5120" y="19051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42134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5120" y="19051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85120" y="42134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5120" y="19051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42134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42134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5120" y="19051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42134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85120" y="42134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90840" y="19051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6240" y="190512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42134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90840" y="42134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6240" y="4213440"/>
            <a:ext cx="257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5120" y="19051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28440" y="30492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9051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2134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90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120" y="19051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5120" y="421344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120" y="1905120"/>
            <a:ext cx="39042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213440"/>
            <a:ext cx="80010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" name="Line 4"/>
          <p:cNvSpPr/>
          <p:nvPr/>
        </p:nvSpPr>
        <p:spPr>
          <a:xfrm flipH="1">
            <a:off x="0" y="1523880"/>
            <a:ext cx="9144000" cy="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Picture 5" descr="CHEPS Brochure Logo"/>
          <p:cNvPicPr/>
          <p:nvPr/>
        </p:nvPicPr>
        <p:blipFill>
          <a:blip r:embed="rId2"/>
          <a:stretch/>
        </p:blipFill>
        <p:spPr>
          <a:xfrm>
            <a:off x="304920" y="152280"/>
            <a:ext cx="1482480" cy="124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CHEPS Brochure Logo"/>
          <p:cNvPicPr/>
          <p:nvPr/>
        </p:nvPicPr>
        <p:blipFill>
          <a:blip r:embed="rId2"/>
          <a:stretch/>
        </p:blipFill>
        <p:spPr>
          <a:xfrm>
            <a:off x="0" y="0"/>
            <a:ext cx="2209680" cy="312408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musclogo"/>
          <p:cNvPicPr/>
          <p:nvPr/>
        </p:nvPicPr>
        <p:blipFill>
          <a:blip r:embed="rId3"/>
          <a:stretch/>
        </p:blipFill>
        <p:spPr>
          <a:xfrm>
            <a:off x="152280" y="5410080"/>
            <a:ext cx="1952640" cy="114012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209680" y="0"/>
            <a:ext cx="0" cy="68580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6858000" cy="662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Private Hospitals and the Treatment of Severe Mental Illness: The Role of the Emergency Department</a:t>
            </a:r>
            <a:r>
              <a:rPr b="1" lang="en-US" sz="2400" spc="-1" strike="noStrike">
                <a:solidFill>
                  <a:srgbClr val="336699"/>
                </a:solidFill>
                <a:latin typeface="Garamond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Presented by: 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Richard C. Lindrooth, Ph.D.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Medical University of South Carolina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Charleston, SC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Co-authors:  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Anouk L. Grubaugh, Ph.D., MUSC </a:t>
            </a: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Walter Jones, Ph. D,  MUSC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Anthony Lo Sasso, Ph. D., University of Illinois, Chicago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336699"/>
                </a:solidFill>
                <a:latin typeface="Garamond"/>
                <a:ea typeface="Times New Roman"/>
              </a:rPr>
              <a:t>B. Christopher Frueh, Ph. D., University of Hawaii, Hilo       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Garamond"/>
              </a:rPr>
              <a:t>Research support: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Garamond"/>
              </a:rPr>
              <a:t> 2 RO1 HS010730-04    (AHRQ PI: Lindrooth)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Garamond"/>
              </a:rPr>
              <a:t> R01 MH074151-01 A2 (NIMH PI: Lindrooth)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Garamond"/>
              </a:rPr>
              <a:t> K24-MH074468           (NIMH PI: Frueh)</a:t>
            </a:r>
            <a:br>
              <a:rPr sz="1800"/>
            </a:br>
            <a:endParaRPr b="0" lang="en-US" sz="18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Garamond"/>
              </a:rPr>
              <a:t>Methods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109" name="Object 6"/>
          <p:cNvGraphicFramePr/>
          <p:nvPr/>
        </p:nvGraphicFramePr>
        <p:xfrm>
          <a:off x="428760" y="1828800"/>
          <a:ext cx="8097840" cy="371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828800"/>
                    <a:ext cx="809784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Garamond"/>
              </a:rPr>
              <a:t>HCUP-SID Data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15998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AZ, CO, FL, NJ, NY, WA, &amp; WI discharge data 97-05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833400" indent="-542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Patients admitted to ED with primary ICD9 Code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833400" indent="-54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Treatment (Common diagnoses for persons w/ SMI) :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2" marL="1189440" indent="-542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CCS Code 659 for Schizophrenia other psychotic disorders (Public payer= Medicare; Medicaid; Other public; Self)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89440" indent="-542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Comparison (Less common diagnoses for person w/ SMI):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89440" indent="-542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CCS Code 653 for Delirium, dementia, and amnestic and other cognitive disorders  (Public Payer) 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89440" indent="-542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CCS 657 Mood disorders (Private Payer)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542160" indent="-542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Sample includes all admissions from ED to acute care hospitals.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542160" indent="-542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Garamond"/>
              </a:rPr>
              <a:t>Methods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Fixed Effect Negative Binomial Regression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Zip code fixed effects (Include runs with State*Year FE)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Sample Year 1997-2005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Pre-period 1997-2000 (</a:t>
            </a:r>
            <a:r>
              <a:rPr b="0" i="1" lang="en-US" sz="2400" spc="-1" strike="noStrike">
                <a:solidFill>
                  <a:srgbClr val="336699"/>
                </a:solidFill>
                <a:latin typeface="Garamond"/>
              </a:rPr>
              <a:t>T</a:t>
            </a: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=0)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Post-period 2001-2005 (</a:t>
            </a:r>
            <a:r>
              <a:rPr b="0" i="1" lang="en-US" sz="2400" spc="-1" strike="noStrike">
                <a:solidFill>
                  <a:srgbClr val="336699"/>
                </a:solidFill>
                <a:latin typeface="Garamond"/>
              </a:rPr>
              <a:t>T</a:t>
            </a: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=Change in beds b/w 97-00)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Unit of analysis:  Counts by zip code per year 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Dependent Variable:  Number of ED Admissions in zip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"/>
              <p:cNvSpPr txBox="1"/>
              <p:nvPr/>
            </p:nvSpPr>
            <p:spPr>
              <a:xfrm>
                <a:off x="457200" y="5562720"/>
                <a:ext cx="8229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zi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d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r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s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r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s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d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440" y="1905120"/>
            <a:ext cx="8001000" cy="4419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-152280" y="-152280"/>
            <a:ext cx="9448560" cy="71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440" y="1905120"/>
            <a:ext cx="8001000" cy="4419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-228600" y="-152280"/>
            <a:ext cx="9524880" cy="71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5440" y="1905120"/>
            <a:ext cx="8001000" cy="4419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-152280" y="-152280"/>
            <a:ext cx="9448560" cy="71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Garamond"/>
              </a:rPr>
              <a:t>Schizophrenia only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0880" y="1295280"/>
          <a:ext cx="8382240" cy="5334120"/>
        </p:xfrm>
        <a:graphic>
          <a:graphicData uri="http://schemas.openxmlformats.org/drawingml/2006/table">
            <a:tbl>
              <a:tblPr/>
              <a:tblGrid>
                <a:gridCol w="2276640"/>
                <a:gridCol w="2035080"/>
                <a:gridCol w="2035080"/>
                <a:gridCol w="2035440"/>
              </a:tblGrid>
              <a:tr h="4921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7-1998 &amp; 2002-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tate Interac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Specialty Psych Beds in HRR (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0148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0004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0263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078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10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079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sych Unit Beds in HRR (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0927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143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01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023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031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023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State Psych Beds Per Cap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236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298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0821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23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15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Psych Emergency in HRR (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213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492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151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26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4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27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Psych Partial Hosp. in HRR (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353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351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221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46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63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50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Ds in HRR (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33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67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88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1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28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2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ee-standing MH Outpatient in HSA ($10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3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956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3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28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41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3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Free-standing MH Residential in HSA ($10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159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203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138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50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72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53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ospital-based Psych Outpatient in HSA (10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70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70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47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49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71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4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Garamond"/>
              </a:rPr>
              <a:t>Schizophrenia versus Dementia/Mood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1474920"/>
          <a:ext cx="8001000" cy="5227560"/>
        </p:xfrm>
        <a:graphic>
          <a:graphicData uri="http://schemas.openxmlformats.org/drawingml/2006/table">
            <a:tbl>
              <a:tblPr/>
              <a:tblGrid>
                <a:gridCol w="2846520"/>
                <a:gridCol w="2446200"/>
                <a:gridCol w="1092240"/>
                <a:gridCol w="1616040"/>
              </a:tblGrid>
              <a:tr h="248760">
                <a:tc gridSpan="4"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ublic Schizophrenia Admissions Relative to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68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chizphr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menti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od Disord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iv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ub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iv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400">
                <a:tc rowSpan="2"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pecialty Psych Bed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333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251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081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093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1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400">
                <a:tc rowSpan="2"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sych Unit Be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009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02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0101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022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024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026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rowSpan="2"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tate Psych Bed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0966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0679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04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23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2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26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 rowSpan="2"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sych Emerg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260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177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259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27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30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33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rowSpan="2"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sych Partial Hos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141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-0.192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45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(0.050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54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rowSpan="2"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227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95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54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20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22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25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760">
                <a:tc rowSpan="2"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ee-standing MH Outpati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1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105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124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29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31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37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 rowSpan="2"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ree-standing MH Residenti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0.136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00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52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57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69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760">
                <a:tc rowSpan="2"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Hospital-based Psych Outpati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191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21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.323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48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52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(0.064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Garamond"/>
              </a:rPr>
              <a:t>Results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44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Partial hospitalization programs reduce admissions through the ED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Especially when combined with a psychiatric emergency department.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Results consistent and robust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Garamond"/>
              </a:rPr>
              <a:t>Results and Conclusions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15998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Results consistent across several different specifications (i.e. discrete changes; closest ED type etc….)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Partial hospitalization programs with Psychiatric emergency consistently reduce admissions through the ED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Access to residential treatment facilities also consistently reduces admissions through ED.   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Access to state beds plays a large role (unsurprising)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Acute bed capacity matters; but not as consistent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Garamond"/>
              </a:rPr>
              <a:t>Background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What is the role of acute psychiatric beds in the continuum of community care? 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Are the a safety valve for the system of community care?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What could stem the observed growth in admissions through the ED?  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Main outcome of this paper is admissions through the ED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Garamond"/>
              </a:rPr>
              <a:t>Research ongoing….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Next steps: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Add more states and years (CA data next)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Endogeneity of Acute Closures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Examine LOS, discharge destination, and court-ordered admissions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Garamond"/>
              </a:rPr>
              <a:t>Inpatient Psychiatric Care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State Inpatient Beds 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Treatment of the severely mentally ill (SMI)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Deinstitutionalizaion began in the 1960s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Shifted patients to community care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Better treatments enabled patients to function in the community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Role of Acute Care Beds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Acute episodes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A safety valve? 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Garamond"/>
              </a:rPr>
              <a:t>Community Psychiatric Care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Partial Hospitalization Programs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Stabilize patients avoid admissions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Psychiatric specialty emergency care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ED staffed by psychiatric specialists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Residential and Foster Care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Long-term care 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Outpatient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Psychiatrists (MD); psychologists; case-managers; therapists; etc….  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336699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336699"/>
                </a:solidFill>
                <a:latin typeface="Garamond"/>
              </a:rPr>
              <a:t>Policy Question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16761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To what extent can ED admissions to acute care hospitals be prevented with access to community alternatives?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Outpatient MHSA Clinic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MHSA Residential Care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Community housing Services/Shelter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Partial hospitalization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Psychiatric emergency facilitie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Supply of long-term bed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Garamond"/>
              </a:rPr>
              <a:t>Prevalence of SMI in Community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16761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Cannot observe directly…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Use the closure of state beds to proxy for an increase in SMI.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Garamond"/>
              </a:rPr>
              <a:t>In the context of a large reduction in beds: 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What aspects of community care prevent psychiatric admissions through the ED?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Hospital outpatient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Psychiatric Emergency /partial hospitalization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MHSA residential option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Acute Bed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Garamond"/>
              </a:rPr>
              <a:t>Identification Strategy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56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Treatment group:  </a:t>
            </a: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Patients with public insurance in states that experience major downsizing in state beds 1997-2000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Schizophrenia and other psychoses represented the largest portion of the SMI.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Control Group: </a:t>
            </a: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Zip codes within a state that experienced little change in the supply of state beds between 1997-2000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Public dementia patients and private mood disorder patients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Pre-period: 1997-2000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Post-period: 2001-2005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440" y="1905120"/>
            <a:ext cx="8001000" cy="4419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-152280" y="-152280"/>
            <a:ext cx="9448560" cy="71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52280" y="1599840"/>
            <a:ext cx="876312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322920" indent="-3229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Garamond"/>
              </a:rPr>
              <a:t>Measured spatially based on the patient’s zip code:</a:t>
            </a: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534960" indent="-3229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534960" indent="-3229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Indicate whether a hospital-based ED, Psychiatric Unit, or Stabilization/Partial Hospitalization Unit is in the HRR (</a:t>
            </a:r>
            <a:r>
              <a:rPr b="0" i="1" lang="en-US" sz="2400" spc="-1" strike="noStrike">
                <a:solidFill>
                  <a:srgbClr val="336699"/>
                </a:solidFill>
                <a:latin typeface="Garamond"/>
              </a:rPr>
              <a:t>HRR</a:t>
            </a: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534960" indent="-322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534960" indent="-3229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Number of long term/state psychiatric beds (</a:t>
            </a:r>
            <a:r>
              <a:rPr b="0" i="1" lang="en-US" sz="2400" spc="-1" strike="noStrike">
                <a:solidFill>
                  <a:srgbClr val="336699"/>
                </a:solidFill>
                <a:latin typeface="Garamond"/>
              </a:rPr>
              <a:t>beds</a:t>
            </a: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534960" indent="-322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        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534960" indent="-3229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Indicate whether hospital outpatient, freestanding outpatient or freestanding MHSA Residential is within the patient’s HSA (</a:t>
            </a:r>
            <a:r>
              <a:rPr b="0" i="1" lang="en-US" sz="2400" spc="-1" strike="noStrike">
                <a:solidFill>
                  <a:srgbClr val="336699"/>
                </a:solidFill>
                <a:latin typeface="Garamond"/>
              </a:rPr>
              <a:t>HSA</a:t>
            </a: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534960" indent="-322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Garamond"/>
              </a:rPr>
              <a:t>Data from AHA Annual Survey (cleaned and smoothed) and Census of Economic Activity</a:t>
            </a: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534960" indent="-3229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534960" indent="-3229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2" marL="747000" indent="-322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ahoma"/>
            </a:endParaRPr>
          </a:p>
          <a:p>
            <a:pPr lvl="1" marL="534960" indent="-3229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534960" indent="-3229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lvl="1" marL="534960" indent="-3229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Tahoma"/>
            </a:endParaRPr>
          </a:p>
          <a:p>
            <a:pPr marL="322920" indent="-322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  <a:p>
            <a:pPr marL="322920" indent="-322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7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45720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336699"/>
                </a:solidFill>
                <a:latin typeface="Garamond"/>
              </a:rPr>
              <a:t>      </a:t>
            </a:r>
            <a:r>
              <a:rPr b="0" lang="en-US" sz="3600" spc="-1" strike="noStrike">
                <a:solidFill>
                  <a:srgbClr val="336699"/>
                </a:solidFill>
                <a:latin typeface="Garamond"/>
              </a:rPr>
              <a:t>Access to Ca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6:37:24Z</dcterms:created>
  <dc:creator>Antitrust Division</dc:creator>
  <dc:description/>
  <dc:language>en-US</dc:language>
  <cp:lastModifiedBy>Ibukun_2</cp:lastModifiedBy>
  <dcterms:modified xsi:type="dcterms:W3CDTF">2008-10-09T18:39:28Z</dcterms:modified>
  <cp:revision>796</cp:revision>
  <dc:subject/>
  <dc:title>PowerPoint Presentation</dc:title>
</cp:coreProperties>
</file>