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7144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1000" cy="41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57480" y="881856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5F0319-2D2D-4589-AAFB-9929B7F49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1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57480" y="88185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CC406B-7E15-4E23-911F-44A34704F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1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57480" y="88185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7EE6A9-5829-4ADF-9E52-11E94F289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1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57480" y="88185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09BC6E-F857-4525-88FD-84D57802E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1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57480" y="88185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16E916-D130-4476-9F23-D4298229E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1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57480" y="88185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10B755-94A9-4D8C-BD5E-4D64784E3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2134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051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051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2134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2134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2134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828440" y="30492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512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42134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512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90840" y="19051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6240" y="19051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42134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90840" y="42134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6240" y="42134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28440" y="30492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" name="Line 4"/>
          <p:cNvSpPr/>
          <p:nvPr/>
        </p:nvSpPr>
        <p:spPr>
          <a:xfrm flipH="1">
            <a:off x="0" y="1523880"/>
            <a:ext cx="9144000" cy="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Picture 5" descr="CHEPS Brochure Logo"/>
          <p:cNvPicPr/>
          <p:nvPr/>
        </p:nvPicPr>
        <p:blipFill>
          <a:blip r:embed="rId2"/>
          <a:stretch/>
        </p:blipFill>
        <p:spPr>
          <a:xfrm>
            <a:off x="304920" y="152280"/>
            <a:ext cx="1482480" cy="124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CHEPS Brochure Logo"/>
          <p:cNvPicPr/>
          <p:nvPr/>
        </p:nvPicPr>
        <p:blipFill>
          <a:blip r:embed="rId2"/>
          <a:stretch/>
        </p:blipFill>
        <p:spPr>
          <a:xfrm>
            <a:off x="0" y="0"/>
            <a:ext cx="2209680" cy="31240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musclogo"/>
          <p:cNvPicPr/>
          <p:nvPr/>
        </p:nvPicPr>
        <p:blipFill>
          <a:blip r:embed="rId3"/>
          <a:stretch/>
        </p:blipFill>
        <p:spPr>
          <a:xfrm>
            <a:off x="152280" y="5410080"/>
            <a:ext cx="1952640" cy="114012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209680" y="0"/>
            <a:ext cx="0" cy="68580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858000" cy="662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Private Hospitals and the Treatment of Severe Mental Illness: The Role of the Emergency Department</a:t>
            </a:r>
            <a:r>
              <a:rPr b="1" lang="en-US" sz="2400" spc="-1" strike="noStrike">
                <a:solidFill>
                  <a:srgbClr val="336699"/>
                </a:solidFill>
                <a:latin typeface="Garamond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Presented by: 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Richard C. Lindrooth, Ph.D.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Medical University of South Carolina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Charleston, SC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Co-authors:  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Anouk L. Grubaugh, Ph.D., MUSC 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Walter Jones, Ph. D,  MUSC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Anthony Lo Sasso, Ph. D., University of Illinois, Chicago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B. Christopher Frueh, Ph. D., University of Hawaii, Hilo      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</a:rPr>
              <a:t>Research support: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</a:rPr>
              <a:t> 2 RO1 HS010730-04    (AHRQ PI: Lindrooth)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</a:rPr>
              <a:t> R01 MH074151-01 A2 (NIMH PI: Lindrooth)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</a:rPr>
              <a:t> K24-MH074468           (NIMH PI: Frueh)</a:t>
            </a: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Method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428760" y="1828800"/>
          <a:ext cx="809784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828800"/>
                    <a:ext cx="809784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HCUP-SID Data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AZ, CO, FL, NJ, NY, WA, &amp; WI discharge data 97-05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833400" indent="-542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Patients admitted to ED with primary ICD9 Code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833400" indent="-54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Treatment (Common diagnoses for persons w/ SMI) :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1189440" indent="-542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CCS Code 659 for Schizophrenia other psychotic disorders (Public payer= Medicare; Medicaid; Other public; Self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89440" indent="-54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Comparison (Less common diagnoses for person w/ SMI):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89440" indent="-542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CCS Code 653 for Delirium, dementia, and amnestic and other cognitive disorders  (Public Payer) 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89440" indent="-542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CCS 657 Mood disorders (Private Payer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542160" indent="-542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Sample includes all admissions from ED to acute care hospitals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542160" indent="-542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Method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Fixed Effect Negative Binomial Regression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Zip code fixed effects (Include runs with State*Year FE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Sample Year 1997-2005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Pre-period 1997-2000 (</a:t>
            </a:r>
            <a:r>
              <a:rPr b="0" i="1" lang="en-US" sz="2400" spc="-1" strike="noStrike">
                <a:solidFill>
                  <a:srgbClr val="336699"/>
                </a:solidFill>
                <a:latin typeface="Garamond"/>
              </a:rPr>
              <a:t>T</a:t>
            </a: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=0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Post-period 2001-2005 (</a:t>
            </a:r>
            <a:r>
              <a:rPr b="0" i="1" lang="en-US" sz="2400" spc="-1" strike="noStrike">
                <a:solidFill>
                  <a:srgbClr val="336699"/>
                </a:solidFill>
                <a:latin typeface="Garamond"/>
              </a:rPr>
              <a:t>T</a:t>
            </a: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=Change in beds b/w 97-00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Unit of analysis:  Counts by zip code per year 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Dependent Variable:  Number of ED Admissions in zip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"/>
              <p:cNvSpPr txBox="1"/>
              <p:nvPr/>
            </p:nvSpPr>
            <p:spPr>
              <a:xfrm>
                <a:off x="457200" y="5562720"/>
                <a:ext cx="8229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i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d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r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s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r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s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d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440" y="1905120"/>
            <a:ext cx="8001000" cy="4419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-152280" y="-152280"/>
            <a:ext cx="944856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440" y="1905120"/>
            <a:ext cx="8001000" cy="4419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-228600" y="-152280"/>
            <a:ext cx="952488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440" y="1905120"/>
            <a:ext cx="8001000" cy="441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-152280" y="-152280"/>
            <a:ext cx="944856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Schizophrenia only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880" y="1295280"/>
          <a:ext cx="8382240" cy="5334120"/>
        </p:xfrm>
        <a:graphic>
          <a:graphicData uri="http://schemas.openxmlformats.org/drawingml/2006/table">
            <a:tbl>
              <a:tblPr/>
              <a:tblGrid>
                <a:gridCol w="2276640"/>
                <a:gridCol w="2035080"/>
                <a:gridCol w="2035080"/>
                <a:gridCol w="2035440"/>
              </a:tblGrid>
              <a:tr h="4921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7-1998 &amp; 2002-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ate Intera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Specialty Psych Beds in HRR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0148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0004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026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078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10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079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sych Unit Beds in HRR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927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4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023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03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02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State Psych Beds Per Cap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236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298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082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2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15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Psych Emergency in HRR (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21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492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15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26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4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27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Psych Partial Hosp. in HRR (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35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35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22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46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63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5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Ds in HRR (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3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67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88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1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28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2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ee-standing MH Outpatient in HSA ($1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956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2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41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3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Free-standing MH Residential in HSA ($1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159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20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138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50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7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53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spital-based Psych Outpatient in HSA (10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70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70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47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49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7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4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Garamond"/>
              </a:rPr>
              <a:t>Schizophrenia versus Dementia/Mood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1474920"/>
          <a:ext cx="8001000" cy="5227560"/>
        </p:xfrm>
        <a:graphic>
          <a:graphicData uri="http://schemas.openxmlformats.org/drawingml/2006/table">
            <a:tbl>
              <a:tblPr/>
              <a:tblGrid>
                <a:gridCol w="2846520"/>
                <a:gridCol w="2446200"/>
                <a:gridCol w="1092240"/>
                <a:gridCol w="1616040"/>
              </a:tblGrid>
              <a:tr h="248760">
                <a:tc gridSpan="4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ublic Schizophrenia Admissions Relative t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68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chizphr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ment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od Disor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iv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ub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iv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pecialty Psych Be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33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51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08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09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1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sych Unit Be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00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02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10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022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024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026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ate Psych Be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0966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0679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23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2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26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sych Emerg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260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177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259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27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3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33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sych Partial Hos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14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192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45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5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54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27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95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54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2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22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25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ee-standing MH Outpati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05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24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29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3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37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ee-standing MH Resident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36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5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57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69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spital-based Psych Outpati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9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2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2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48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52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64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Result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Partial hospitalization programs reduce admissions through the ED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Especially when combined with a psychiatric emergency department.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Results consistent and robust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Results and Conclusion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Results consistent across several different specifications (i.e. discrete changes; closest ED type etc….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Partial hospitalization programs with Psychiatric emergency consistently reduce admissions through the ED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Access to residential treatment facilities also consistently reduces admissions through ED.   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Access to state beds plays a large role (unsurprising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Acute bed capacity matters; but not as consistent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Background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What is the role of acute psychiatric beds in the continuum of community care? 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Are the a safety valve for the system of community care?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What could stem the observed growth in admissions through the ED?  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Main outcome of this paper is admissions through the ED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Research ongoing….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Next steps: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Add more states and years (CA data next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Endogeneity of Acute Closures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Examine LOS, discharge destination, and court-ordered admissions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Inpatient Psychiatric Care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State Inpatient Beds 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Treatment of the severely mentally ill (SMI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Deinstitutionalizaion began in the 1960s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Shifted patients to community care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Better treatments enabled patients to function in the community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Role of Acute Care Beds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Acute episodes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A safety valve? 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Community Psychiatric Care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Partial Hospitalization Programs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Stabilize patients avoid admissions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Psychiatric specialty emergency care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ED staffed by psychiatric specialists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Residential and Foster Care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Long-term care 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Outpatient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Psychiatrists (MD); psychologists; case-managers; therapists; etc….  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Policy Question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16761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To what extent can ED admissions to acute care hospitals be prevented with access to community alternatives?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Outpatient MHSA Clinic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MHSA Residential Care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Community housing Services/Shelter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Partial hospitalization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Psychiatric emergency faciliti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Supply of long-term bed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Prevalence of SMI in Community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6761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Cannot observe directly…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Use the closure of state beds to proxy for an increase in SMI.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In the context of a large reduction in beds: 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What aspects of community care prevent psychiatric admissions through the ED?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Hospital outpatien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Psychiatric Emergency /partial hospitalization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MHSA residential option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Acute Bed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Identification Strategy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Treatment group:  </a:t>
            </a: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Patients with public insurance in states that experience major downsizing in state beds 1997-2000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Schizophrenia and other psychoses represented the largest portion of the SMI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Control Group: </a:t>
            </a: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Zip codes within a state that experienced little change in the supply of state beds between 1997-2000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Public dementia patients and private mood disorder patient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Pre-period: 1997-2000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Post-period: 2001-2005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440" y="1905120"/>
            <a:ext cx="8001000" cy="441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2280" y="-152280"/>
            <a:ext cx="944856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280" y="1599840"/>
            <a:ext cx="876312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322920" indent="-322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Measured spatially based on the patient’s zip code: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Indicate whether a hospital-based ED, Psychiatric Unit, or Stabilization/Partial Hospitalization Unit is in the HRR (</a:t>
            </a:r>
            <a:r>
              <a:rPr b="0" i="1" lang="en-US" sz="2400" spc="-1" strike="noStrike">
                <a:solidFill>
                  <a:srgbClr val="336699"/>
                </a:solidFill>
                <a:latin typeface="Garamond"/>
              </a:rPr>
              <a:t>HRR</a:t>
            </a: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Number of long term/state psychiatric beds (</a:t>
            </a:r>
            <a:r>
              <a:rPr b="0" i="1" lang="en-US" sz="2400" spc="-1" strike="noStrike">
                <a:solidFill>
                  <a:srgbClr val="336699"/>
                </a:solidFill>
                <a:latin typeface="Garamond"/>
              </a:rPr>
              <a:t>beds</a:t>
            </a: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        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Indicate whether hospital outpatient, freestanding outpatient or freestanding MHSA Residential is within the patient’s HSA (</a:t>
            </a:r>
            <a:r>
              <a:rPr b="0" i="1" lang="en-US" sz="2400" spc="-1" strike="noStrike">
                <a:solidFill>
                  <a:srgbClr val="336699"/>
                </a:solidFill>
                <a:latin typeface="Garamond"/>
              </a:rPr>
              <a:t>HSA</a:t>
            </a: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Data from AHA Annual Survey (cleaned and smoothed) and Census of Economic Activity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747000" indent="-322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22920" indent="-322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22920" indent="-322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7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45720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336699"/>
                </a:solidFill>
                <a:latin typeface="Garamond"/>
              </a:rPr>
              <a:t>      </a:t>
            </a:r>
            <a:r>
              <a:rPr b="0" lang="en-US" sz="3600" spc="-1" strike="noStrike">
                <a:solidFill>
                  <a:srgbClr val="336699"/>
                </a:solidFill>
                <a:latin typeface="Garamond"/>
              </a:rPr>
              <a:t>Access to C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6:37:24Z</dcterms:created>
  <dc:creator>Antitrust Division</dc:creator>
  <dc:description/>
  <dc:language>en-US</dc:language>
  <cp:lastModifiedBy>Ibukun_2</cp:lastModifiedBy>
  <dcterms:modified xsi:type="dcterms:W3CDTF">2008-10-09T18:39:28Z</dcterms:modified>
  <cp:revision>796</cp:revision>
  <dc:subject/>
  <dc:title>PowerPoint Presentation</dc:title>
</cp:coreProperties>
</file>