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EBE4-9A10-4068-8B80-023D88169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E1B0-A2E5-4E20-B940-3218F8175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717E-BC60-44FB-B7D3-97DE08A89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6B2C-768C-414E-8831-D33D7BC9A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228E-7A67-45D8-86FF-7EACE8C32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B5F1-2312-40A3-8283-C2CBB7B69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C0FB-C101-4CE4-B13A-5828DB61D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BBFB-C513-492B-B706-0179BF44A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F1BC-FAE2-49B9-8653-82233EFCC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412-D261-4DAE-8BF3-085780CA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D40-E645-4C3B-B296-2AA3B2F3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9B63-9B31-42BC-8FE9-DFF09BE9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A4B-0155-4E0C-B2EF-9942F58F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DCDC-DB90-47C5-B1EF-4075C4B6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FE15-2D7E-47C3-9D63-13CDDABB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D67D-9AC9-4D84-BE0B-7C7515CA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6068-4AD2-41AD-98A9-1CF814CF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96B9-AF9C-401D-8E85-7E713435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40D6-E638-42DF-BD35-5D244EAE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D94D-16A0-4FC0-926C-BC277EC7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731-B0DC-4F54-9123-16FA02FB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BF85-44B1-45C3-A4D1-7EB1F06C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A9D9-D3C5-420B-978D-C913237F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8A81-C464-4051-886F-154A6170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7BAB-BABA-419C-889E-3714322D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71F1-5029-4B53-9C83-72A7C088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27A-5C47-48DD-9FF1-8972B34F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D70-E91B-4AAC-BC79-C0A31B12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637-3BE5-4B3D-9251-77961F54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7F6-F6BB-4A4E-BE4D-213E5BD6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15D-B8F7-4C85-8629-BF8B89B0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60F-E213-434D-B544-F5AD19F8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7BB5-549C-442C-87D7-1340C97B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2196-3DBB-44E9-B090-3758A9160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1E31-2945-4E9E-A45C-2E44BE632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ng.buffalo.edu/Media/HealthcareResearch/simulation/index.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velopment of an Immersive Simulation Environment for the Study of IT impact in the Emergency Departmen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ed by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 Lin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essor of Industrial and Systems Engine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ity at Buffalo, State University of New Y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HRQ Annual Conference - September 8, 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HRQ Grant U18 HS16672-02 (Patient Safety and Simulation Research): Emergency Department Simulation for Research and Training in Health Care 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iscrete-event Simul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5410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-of-the-art computer software that mimics operational details of complex system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Pac-M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like animated simulation conveys reality in pictur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stently ranked as one of top methods for operations analysts and industrial engineer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7" descr="Pac-man"/>
          <p:cNvPicPr/>
          <p:nvPr/>
        </p:nvPicPr>
        <p:blipFill>
          <a:blip r:embed="rId1"/>
          <a:stretch/>
        </p:blipFill>
        <p:spPr>
          <a:xfrm>
            <a:off x="6019920" y="380880"/>
            <a:ext cx="2689200" cy="3456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457200" y="4006800"/>
            <a:ext cx="813132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in computer represent real operations and test them for performance under different condi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ful in studying system performance - answe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WHAT IF’s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investing and making chang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manufacturing, transportation, service industries, and many other applic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mulation of an 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3" name="Object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990720"/>
            <a:ext cx="830556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807696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ample ED Discrete-event Simulation Results (1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1487520" y="1600200"/>
          <a:ext cx="7122960" cy="47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7520" y="1600200"/>
                    <a:ext cx="712296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Oval 4"/>
          <p:cNvSpPr/>
          <p:nvPr/>
        </p:nvSpPr>
        <p:spPr>
          <a:xfrm>
            <a:off x="5562720" y="2362320"/>
            <a:ext cx="2666880" cy="5331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600200" y="1752480"/>
            <a:ext cx="9144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Utilizatio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572000" y="6324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ample ED Discrete-event Simulation Results (2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1" name="Object 2"/>
          <p:cNvGraphicFramePr/>
          <p:nvPr/>
        </p:nvGraphicFramePr>
        <p:xfrm>
          <a:off x="1154160" y="1219320"/>
          <a:ext cx="7684920" cy="51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219320"/>
                    <a:ext cx="768492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Oval 4"/>
          <p:cNvSpPr/>
          <p:nvPr/>
        </p:nvSpPr>
        <p:spPr>
          <a:xfrm>
            <a:off x="5410080" y="2438280"/>
            <a:ext cx="266724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2590920" y="2438280"/>
            <a:ext cx="175248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572000" y="6095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066680" y="1981080"/>
            <a:ext cx="990720" cy="52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Utilizatio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43800" y="1584360"/>
            <a:ext cx="1143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No. of Physician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uilding the ED Patient Tracking System Simulator (PTSS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43000" y="1585800"/>
            <a:ext cx="7848720" cy="47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 scri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al information for simulated patients in the 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seudo patient names, age, gender, chief complaints, events and or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ief compla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rity based on hospital ED-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al progress information &amp; Medical realis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ripted by physicians at relevant ev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lidation for medical realis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ing a patient rec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into an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ED Event Calenda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discrete time points for an immersive simulation experiment (simulated white boar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520" y="243000"/>
            <a:ext cx="5867280" cy="8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ample Patient Scrip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295280"/>
          <a:ext cx="8381880" cy="4675320"/>
        </p:xfrm>
        <a:graphic>
          <a:graphicData uri="http://schemas.openxmlformats.org/drawingml/2006/table">
            <a:tbl>
              <a:tblPr/>
              <a:tblGrid>
                <a:gridCol w="1371600"/>
                <a:gridCol w="1523880"/>
                <a:gridCol w="1828800"/>
                <a:gridCol w="2514600"/>
                <a:gridCol w="11430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News Gothic MT"/>
                          <a:ea typeface="ＭＳ Ｐゴシック"/>
                        </a:rPr>
                        <a:t>Patient 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News Gothic MT"/>
                          <a:ea typeface="ＭＳ Ｐゴシック"/>
                        </a:rPr>
                        <a:t>Severity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News Gothic MT"/>
                          <a:ea typeface="ＭＳ Ｐゴシック"/>
                        </a:rPr>
                        <a:t>Comments for ED-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News Gothic MT"/>
                          <a:ea typeface="ＭＳ Ｐゴシック"/>
                        </a:rPr>
                        <a:t>Description of Ev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News Gothic MT"/>
                          <a:ea typeface="ＭＳ Ｐゴシック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Time of Arri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96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Triage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Triage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99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Resp 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Registration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111.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Registration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117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d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Chief Compla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First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Last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Difficulty brea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He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Water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s Gothic MT"/>
                          <a:ea typeface="ＭＳ Ｐゴシック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3280" y="242640"/>
            <a:ext cx="5867280" cy="59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ample Event Calend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3" name="Content Placeholder 8" descr="event calendar fig.jpg"/>
          <p:cNvPicPr/>
          <p:nvPr/>
        </p:nvPicPr>
        <p:blipFill>
          <a:blip r:embed="rId1"/>
          <a:srcRect l="-12974" t="0" r="-12974" b="0"/>
          <a:stretch/>
        </p:blipFill>
        <p:spPr>
          <a:xfrm>
            <a:off x="23760" y="990720"/>
            <a:ext cx="90964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40840"/>
            <a:ext cx="739152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tient Tracking System Simulat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5" name="Content Placeholder 6" descr="ED screenshot.jpg"/>
          <p:cNvPicPr/>
          <p:nvPr/>
        </p:nvPicPr>
        <p:blipFill>
          <a:blip r:embed="rId1"/>
          <a:srcRect l="0" t="-1667" r="0" b="-1667"/>
          <a:stretch/>
        </p:blipFill>
        <p:spPr>
          <a:xfrm>
            <a:off x="152280" y="1219320"/>
            <a:ext cx="8690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udy Desig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371600" y="1801800"/>
            <a:ext cx="7315200" cy="42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ge nurses, secretaries from emergency depart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 nurses, 10 secreta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play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ktop, Large screen disp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and levels (patient volu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, hig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2-hour sessions, 1 to 2 weeks ap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s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scenarios with varying ED demand lev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asks and Meas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040" y="1782720"/>
            <a:ext cx="807732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ypical ED paper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ne/pager prompts to mimic real ED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tuation awareness meas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ing Situation Awareness Global Assessment Techniqu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GAT, Endsley 1995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b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ying information updates and devi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failures or “blanking out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lity to respond, recover from fail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dio and screen recor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-system interaction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SA-TLX (a subjective workload assessment techniqu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1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xperiments being completed, data analysis to beg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1320"/>
            <a:ext cx="7464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ckground: ED Status Boar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y easel board (“whiteboard”) centrally located and publicly available to all ED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(with colors, symbols, stickers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graph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egiver (physicians, R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cal(symptoms, status, processes, &amp; plan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ssion, discharge, transfers (AD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s coordination, communication, workflow and trac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tional whiteboards being replaced by computerized systems and displ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act of IT use to efficiency, quality of care, flexibility, communication, patient safety and staff workload remains to be stud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586764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8960" y="1553760"/>
            <a:ext cx="74674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queness of our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a mannequin simulator, but simulation of ED for assessing design issues in technology 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standing interaction, human factors meas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mersive ED environment useful for staff training in technology 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ves as a case of technology design for complex systems, within a controlled set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amework for use of ED simulation in future  studies on IT design and use in health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-disciplinary team with industrial engineering and medical expertise in developing integrated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724280" y="32130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4495680" cy="2743200"/>
          </a:xfrm>
          <a:prstGeom prst="rect">
            <a:avLst/>
          </a:prstGeom>
          <a:ln w="0">
            <a:noFill/>
          </a:ln>
        </p:spPr>
      </p:pic>
      <p:cxnSp>
        <p:nvCxnSpPr>
          <p:cNvPr id="103" name="Elbow Connector 12"/>
          <p:cNvCxnSpPr/>
          <p:nvPr/>
        </p:nvCxnSpPr>
        <p:spPr>
          <a:xfrm flipH="1" rot="16200000">
            <a:off x="2516760" y="3312360"/>
            <a:ext cx="2439000" cy="2062440"/>
          </a:xfrm>
          <a:prstGeom prst="bentConnector3">
            <a:avLst>
              <a:gd name="adj1" fmla="val 100000"/>
            </a:avLst>
          </a:prstGeom>
          <a:ln w="47520">
            <a:solidFill>
              <a:srgbClr val="33cccc"/>
            </a:solidFill>
            <a:round/>
            <a:tailEnd len="med" type="arrow" w="med"/>
          </a:ln>
        </p:spPr>
      </p:cxnSp>
      <p:sp>
        <p:nvSpPr>
          <p:cNvPr id="104" name="TextBox 17"/>
          <p:cNvSpPr/>
          <p:nvPr/>
        </p:nvSpPr>
        <p:spPr>
          <a:xfrm>
            <a:off x="2719800" y="51814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laced wi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361800" y="55627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ctronic patient tracking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4851360" y="1600200"/>
            <a:ext cx="35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ual patient tracking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mpact of IT Implement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71600" y="17524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y replac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idly designed into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equences on patient care and safet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ant to understand impact of IT solution before implementation through testing &amp; de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ion studies can help avert safety concerns with technology implementation and prevent adverse events due to technology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tiv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616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solutions can bring financial benefits, but their impact to healthcare quality, efficiency and patient safety is issue for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 to study critical human behavioral processes and performance with technology limi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ion can facilitate study of medical professionals’ behavior and performance in a controlled lab set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llenges in creating a realistic ED by simul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peration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linic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alis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search Objectiv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6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develop a discrete-event simulation (of operational processes) based immersive experimental environment (i.e., the Patient Tracking System Simulator) that represents an ED white bo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test ED staff’s performance in a dynamic ED environment using IT (contrasting different workload and desig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nts: ED nurses and secretar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y to asses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egivers’ aware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ruptions and distra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overy from system fail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ponse to critical ev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73137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Multi-disciplinary Research Tea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University at Buffal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I: Li Lin, Ph.D., Co-I: Ann Bisantz, Ph.D. (Department of Industrial &amp; Systems Engineering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-I: Jennifer Brown, M.D. (Department of Emergency Medicine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h.D. students: Priya Pennathur and Dapeng Cao (Department of Industrial &amp; Systems Engineering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University of Roches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. J. “Terry” Fairbanks, M.D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University of Florid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 Jacksonvil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obert Wears, M.D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awna Perry, M.D. (now at Medical College of Virgini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Meeting the challenges: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perational dynamics and situation awareness – industrial engineering and human facto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nical realism – ED physicia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mulation Stud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6" name="Object 7"/>
          <p:cNvGraphicFramePr/>
          <p:nvPr/>
        </p:nvGraphicFramePr>
        <p:xfrm>
          <a:off x="708120" y="2895480"/>
          <a:ext cx="31780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2895480"/>
                    <a:ext cx="31780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9"/>
          <p:cNvGraphicFramePr/>
          <p:nvPr/>
        </p:nvGraphicFramePr>
        <p:xfrm>
          <a:off x="1752480" y="1600200"/>
          <a:ext cx="1166760" cy="10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600200"/>
                    <a:ext cx="116676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1"/>
          <p:cNvGraphicFramePr/>
          <p:nvPr/>
        </p:nvGraphicFramePr>
        <p:xfrm>
          <a:off x="838080" y="4495680"/>
          <a:ext cx="2936880" cy="160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95680"/>
                    <a:ext cx="293688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3"/>
          <p:cNvGraphicFramePr/>
          <p:nvPr/>
        </p:nvGraphicFramePr>
        <p:xfrm>
          <a:off x="5105520" y="2590920"/>
          <a:ext cx="2603520" cy="14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2590920"/>
                    <a:ext cx="260352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5"/>
          <p:cNvGraphicFramePr/>
          <p:nvPr/>
        </p:nvGraphicFramePr>
        <p:xfrm>
          <a:off x="5181480" y="990720"/>
          <a:ext cx="2408400" cy="1485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990720"/>
                    <a:ext cx="24084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6"/>
          <p:cNvGraphicFramePr/>
          <p:nvPr/>
        </p:nvGraphicFramePr>
        <p:xfrm>
          <a:off x="5029200" y="4226040"/>
          <a:ext cx="3067200" cy="2631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4226040"/>
                    <a:ext cx="3067200" cy="26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Line 18"/>
          <p:cNvSpPr/>
          <p:nvPr/>
        </p:nvSpPr>
        <p:spPr>
          <a:xfrm>
            <a:off x="22860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19"/>
          <p:cNvSpPr/>
          <p:nvPr/>
        </p:nvSpPr>
        <p:spPr>
          <a:xfrm flipV="1">
            <a:off x="3733920" y="1676160"/>
            <a:ext cx="137160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0"/>
          <p:cNvSpPr/>
          <p:nvPr/>
        </p:nvSpPr>
        <p:spPr>
          <a:xfrm flipH="1">
            <a:off x="3733560" y="2057400"/>
            <a:ext cx="144756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57913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57150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70102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24"/>
          <p:cNvSpPr/>
          <p:nvPr/>
        </p:nvSpPr>
        <p:spPr>
          <a:xfrm flipV="1">
            <a:off x="69343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228600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imulation for Design Supp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6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rative user-centered desig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atic investigation of key design parame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es realistic characteristics of emergency department (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s evaluate usability and performance measures under no-risk lab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ED staff training in use of technologies under realistic ED conditions without compromising care and 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6:50:41Z</dcterms:created>
  <dc:creator>bisantz</dc:creator>
  <dc:description/>
  <dc:language>en-US</dc:language>
  <cp:lastModifiedBy>UB</cp:lastModifiedBy>
  <dcterms:modified xsi:type="dcterms:W3CDTF">2008-09-07T01:53:57Z</dcterms:modified>
  <cp:revision>698</cp:revision>
  <dc:subject/>
  <dc:title>Assessing the Impact of Computerization on Work Practice:   A Study of Information Technology in Emergency Departments</dc:title>
</cp:coreProperties>
</file>