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ABD-5BCD-4819-8A39-4082845E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21C-3064-498B-BECA-3EA1348E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883-7884-44EF-B03D-B2D08392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FCE-47FA-4651-826E-0DAB3DB1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8CB-7891-4CDA-847A-CD78454A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375-FC50-4386-9EAC-4E76E6C4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BFD-52BA-4ADD-AA98-9E3D10CA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91ED-78A5-4941-994C-61502A98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EB7-B80B-45A4-8709-3D5CDADE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ECD-7497-40F7-90C1-A0A9EE5A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F20-7CFD-4321-8213-71C23F22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FA4-D4DB-42C5-A856-9C668951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7AC-DB54-496C-B5BF-2E8CE1B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0B9-4927-466C-B3F1-7D35AFBA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CD6-9881-4BFE-97E6-CD54982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EE7D-07F2-482F-B18F-02A731C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BB0-B135-47F6-B739-C7376143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2CC-39BF-4327-9769-D4184F2E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9F35-4C18-4129-B39F-F61AABA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91A0-93F3-40B5-8B67-CB24971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89D-FAFF-4EEB-B70F-ACBDA36A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FF58-B739-4DC5-8B06-FFE5DC3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41BA-774E-4183-8325-936EE7C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6DD-7063-4204-B40F-0555CEEE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231-0268-4E4C-852B-10655E7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F84B-46A8-4175-B85E-F245BEC0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D21-E5A9-4367-B4A9-7C88116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178-8311-4B96-B1DE-1DEC641B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2F9-C90C-4037-A3E9-5347F8E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49C-5419-445F-80FC-2AC7ECBA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815-5947-4D60-ADE1-F69F46A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22-D420-4171-88D2-9CCFD80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DE2-B1E9-4AF6-B15B-F9CDD1D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A8C-060B-46D3-AF64-178D24A1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B1B7-60E0-462F-9CD4-6400498D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g.buffalo.edu/Media/HealthcareResearch/simulation/index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velopment of an Immersive Simulation Environment for the Study of IT impact in the Emergency Depart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ed by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 Lin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 of Industrial and Systems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ity at Buffalo, State University of New Y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RQ Annual Conference - September 8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HRQ Grant U18 HS16672-02 (Patient Safety and Simulation Research): Emergency Department Simulation for Research and Training in Health Car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screte-event Sim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of-the-art computer software that mimics operational details of complex system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ac-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like animated simulation conveys reality in pictur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ly ranked as one of top methods for operations analysts and industrial engine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7" descr="Pac-man"/>
          <p:cNvPicPr/>
          <p:nvPr/>
        </p:nvPicPr>
        <p:blipFill>
          <a:blip r:embed="rId1"/>
          <a:stretch/>
        </p:blipFill>
        <p:spPr>
          <a:xfrm>
            <a:off x="6019920" y="380880"/>
            <a:ext cx="2689200" cy="345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457200" y="4006800"/>
            <a:ext cx="81313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in computer represent real operations and test them for performance under different condi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in studying system performance - answ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WHAT IF’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investing and making chan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manufacturing, transportation, service industries, and many other appl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of an 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Objec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990720"/>
            <a:ext cx="83055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0769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ample ED Discrete-event Simulation Results (1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1487520" y="1600200"/>
          <a:ext cx="712296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00200"/>
                    <a:ext cx="71229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4"/>
          <p:cNvSpPr/>
          <p:nvPr/>
        </p:nvSpPr>
        <p:spPr>
          <a:xfrm>
            <a:off x="5562720" y="2362320"/>
            <a:ext cx="2666880" cy="5331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600200" y="1752480"/>
            <a:ext cx="914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tilizatio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572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ample ED Discrete-event Simulation Results (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154160" y="1219320"/>
          <a:ext cx="768492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76849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Oval 4"/>
          <p:cNvSpPr/>
          <p:nvPr/>
        </p:nvSpPr>
        <p:spPr>
          <a:xfrm>
            <a:off x="5410080" y="2438280"/>
            <a:ext cx="266724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2590920" y="2438280"/>
            <a:ext cx="175248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572000" y="6095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066680" y="1981080"/>
            <a:ext cx="99072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tilizatio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43800" y="1584360"/>
            <a:ext cx="1143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. of Physicia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uilding the ED Patient Tracking System Simulator (PTS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585800"/>
            <a:ext cx="784872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 scri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 information for simulated patients in the 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udo patient names, age, gender, chief complaints, events and 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ef compl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rity based on hospital ED-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 progress information &amp; Medical rea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ipted by physicians at relevant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ion for medical real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ing a patient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into a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D Event Calend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discrete time points for an immersive simulation experiment (simulated white boar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243000"/>
            <a:ext cx="586728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 Patient Scrip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295280"/>
          <a:ext cx="8381880" cy="467532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828800"/>
                <a:gridCol w="2514600"/>
                <a:gridCol w="11430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Patient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Severity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Comments for ED-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Descrip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ime of 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riage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riag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9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sp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gistration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11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gistration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11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Chief Compl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Fir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La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Difficulty brea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He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Wat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3280" y="242640"/>
            <a:ext cx="586728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 Event Calend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Content Placeholder 8" descr="event calendar fig.jpg"/>
          <p:cNvPicPr/>
          <p:nvPr/>
        </p:nvPicPr>
        <p:blipFill>
          <a:blip r:embed="rId1"/>
          <a:srcRect l="-12974" t="0" r="-12974" b="0"/>
          <a:stretch/>
        </p:blipFill>
        <p:spPr>
          <a:xfrm>
            <a:off x="23760" y="990720"/>
            <a:ext cx="9096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40840"/>
            <a:ext cx="73915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tient Tracking System Simula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Content Placeholder 6" descr="ED screenshot.jpg"/>
          <p:cNvPicPr/>
          <p:nvPr/>
        </p:nvPicPr>
        <p:blipFill>
          <a:blip r:embed="rId1"/>
          <a:srcRect l="0" t="-1667" r="0" b="-1667"/>
          <a:stretch/>
        </p:blipFill>
        <p:spPr>
          <a:xfrm>
            <a:off x="152280" y="1219320"/>
            <a:ext cx="8690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1600" y="1801800"/>
            <a:ext cx="731520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ge nurses, secretaries from emergency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nurses, 10 secret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lay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ktop, Large screen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levels (patient volu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,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2-hour sessions, 1 to 2 weeks a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scenarios with varying ED demand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sks and Meas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040" y="178272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 ED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/pager prompts to mimic real 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 awareness mea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Situation Awareness Global Assessment Techniqu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GAT, Endsley 199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b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ing information updates and devi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ailures or “blanking ou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lity to respond, recover from fail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dio and screen recor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-system interaction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A-TLX (a subjective workload assessment techni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periments being completed, data analysis t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1320"/>
            <a:ext cx="7464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: ED Status Boa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y easel board (“whiteboard”) centrally located and publicly available to all 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(with colors, symbols, sticker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egiver (physicians, R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l(symptoms, status, processes, &amp; pla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ssion, discharge, transfers (AD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s coordination, communication, workflow and tra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tional whiteboards being replaced by computerized systems and disp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f IT use to efficiency, quality of care, flexibility, communication, patient safety and staff workload remains to be stu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586764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53760"/>
            <a:ext cx="7467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queness of our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mannequin simulator, but simulation of ED for assessing design issues in technology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ing interaction, human factors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rsive ED environment useful for staff training in technology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s as a case of technology design for complex systems, within a controlled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work for use of ED simulation in future  studies on IT design and use in health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-disciplinary team with industrial engineering and medical expertise in developing integrate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724280" y="32130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495680" cy="2743200"/>
          </a:xfrm>
          <a:prstGeom prst="rect">
            <a:avLst/>
          </a:prstGeom>
          <a:ln w="0">
            <a:noFill/>
          </a:ln>
        </p:spPr>
      </p:pic>
      <p:cxnSp>
        <p:nvCxnSpPr>
          <p:cNvPr id="103" name="Elbow Connector 12"/>
          <p:cNvCxnSpPr/>
          <p:nvPr/>
        </p:nvCxnSpPr>
        <p:spPr>
          <a:xfrm flipH="1" rot="16200000">
            <a:off x="2516760" y="3312360"/>
            <a:ext cx="2439000" cy="2062440"/>
          </a:xfrm>
          <a:prstGeom prst="bentConnector3">
            <a:avLst>
              <a:gd name="adj1" fmla="val 100000"/>
            </a:avLst>
          </a:prstGeom>
          <a:ln w="47520">
            <a:solidFill>
              <a:srgbClr val="33cccc"/>
            </a:solidFill>
            <a:round/>
            <a:tailEnd len="med" type="arrow" w="med"/>
          </a:ln>
        </p:spPr>
      </p:cxnSp>
      <p:sp>
        <p:nvSpPr>
          <p:cNvPr id="104" name="TextBox 17"/>
          <p:cNvSpPr/>
          <p:nvPr/>
        </p:nvSpPr>
        <p:spPr>
          <a:xfrm>
            <a:off x="2719800" y="51814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d w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361800" y="55627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nic patient tracking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4851360" y="160020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al patient tracking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mpact of IT Implement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replac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idly designed into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equences on patient care and safe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t to understand impact of IT solution before implementation through testing &amp;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 studies can help avert safety concerns with technology implementation and prevent adverse events due to technology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16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solutions can bring financial benefits, but their impact to healthcare quality, efficiency and patient safety is issue for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to study critical human behavioral processes and performance with technology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 can facilitate study of medical professionals’ behavior and performance in a controlled lab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es in creating a realistic ED by sim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perati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linic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a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earch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6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velop a discrete-event simulation (of operational processes) based immersive experimental environment (i.e., the Patient Tracking System Simulator) that represents an ED whit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st ED staff’s performance in a dynamic ED environment using IT (contrasting different workload and desig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: ED nurses and secreta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o asses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egivers’ awar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ruptions and distr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very from system fail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se to critical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3137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Multi-disciplinary Research Tea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at Buffal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I: Li Lin, Ph.D., Co-I: Ann Bisantz, Ph.D. (Department of Industrial &amp; Systems Engineering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-I: Jennifer Brown, M.D. (Department of Emergency Medicin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h.D. students: Priya Pennathur and Dapeng Cao (Department of Industrial &amp; Systems Engineering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of Roches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. J. “Terry” Fairbanks, M.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of Florid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Jacksonvil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Wears, M.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awna Perry, M.D. (now at Medical College of Virgini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Meeting the challenges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perational dynamics and situation awareness – industrial engineering and human facto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nical realism – ED physicia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708120" y="2895480"/>
          <a:ext cx="31780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895480"/>
                    <a:ext cx="31780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1752480" y="1600200"/>
          <a:ext cx="116676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600200"/>
                    <a:ext cx="11667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1"/>
          <p:cNvGraphicFramePr/>
          <p:nvPr/>
        </p:nvGraphicFramePr>
        <p:xfrm>
          <a:off x="838080" y="4495680"/>
          <a:ext cx="29368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95680"/>
                    <a:ext cx="29368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3"/>
          <p:cNvGraphicFramePr/>
          <p:nvPr/>
        </p:nvGraphicFramePr>
        <p:xfrm>
          <a:off x="5105520" y="2590920"/>
          <a:ext cx="2603520" cy="14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2590920"/>
                    <a:ext cx="2603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5181480" y="990720"/>
          <a:ext cx="2408400" cy="14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990720"/>
                    <a:ext cx="2408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6"/>
          <p:cNvGraphicFramePr/>
          <p:nvPr/>
        </p:nvGraphicFramePr>
        <p:xfrm>
          <a:off x="5029200" y="4226040"/>
          <a:ext cx="3067200" cy="263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4226040"/>
                    <a:ext cx="306720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Line 18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3733920" y="1676160"/>
            <a:ext cx="13716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 flipH="1">
            <a:off x="3733560" y="2057400"/>
            <a:ext cx="144756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791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5715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7010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6934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2860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for Design Sup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 user-centered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investigation of key design para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es realistic characteristics of emergency department (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evaluate usability and performance measures under no-risk lab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ED staff training in use of technologies under realistic ED conditions without compromising care and 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6:50:41Z</dcterms:created>
  <dc:creator>bisantz</dc:creator>
  <dc:description/>
  <dc:language>en-US</dc:language>
  <cp:lastModifiedBy>UB</cp:lastModifiedBy>
  <dcterms:modified xsi:type="dcterms:W3CDTF">2008-09-07T01:53:57Z</dcterms:modified>
  <cp:revision>698</cp:revision>
  <dc:subject/>
  <dc:title>Assessing the Impact of Computerization on Work Practice:   A Study of Information Technology in Emergency Departments</dc:title>
</cp:coreProperties>
</file>