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A73E-620E-4F20-9B83-9C94F629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8E8B-FEE3-432D-A899-726A7683B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5D6657B-43D3-4BF6-B614-B23BB121B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784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7478-8641-4F0A-8493-C3376D8DD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F1BED9-7CA0-401D-9400-0FB0A6419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784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33EB-3485-430A-A08D-B54D2772C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784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F45CA69-533F-42E4-B149-EE5A23A5F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622C-A150-48E6-B49F-D0922E994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A6EB-88EA-42E7-99BE-0EFD86AFB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D702-E400-40E1-B6AF-5854DE113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01062-A160-4958-96DA-74E5343E9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8271-8B30-4088-A7FF-89B7F918B5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B415-1093-4AD5-921D-803595475E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D68CC-C859-4C13-9F15-0E256E235D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5C9E7-67A0-433B-BEAF-8F0025D8F1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ACDE4-12C0-4B6D-B5A8-D39F244A90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0637-156C-48C1-AA57-8D293E6134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4D59-42F7-4B09-8D8D-144CF2BB4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947F-8A18-441D-B541-B3CBD8121B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9403-1626-4338-9096-9DF99637B2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216E-8FD7-4F0C-B2D1-7F03664270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FF164-DC61-47D6-B23A-66769ED753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051C-FF06-45D5-8A04-2AF53B81E2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EFA07-3867-47EE-AED3-CCDA6C174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07EF-9998-4025-A835-545E1F9D7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398B-2FF8-450A-87DB-EF8861750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F567-1E0B-4E48-8068-86781CFFB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8C1C-0AAB-4810-82E7-3790682CF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3B71-4667-4A15-BEEB-BA7A67F7B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2135-4F39-46A1-9B45-3BCE7A27F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B991-062F-4881-BE58-3849933A50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227640"/>
            <a:ext cx="9144000" cy="630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3" descr="LOGO-blue-white"/>
          <p:cNvPicPr/>
          <p:nvPr/>
        </p:nvPicPr>
        <p:blipFill>
          <a:blip r:embed="rId2"/>
          <a:stretch/>
        </p:blipFill>
        <p:spPr>
          <a:xfrm>
            <a:off x="6324480" y="6221520"/>
            <a:ext cx="2743200" cy="61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304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Univer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2C25-2EDA-4EE6-937D-3B9CE049AF3F}" type="slidenum">
              <a:rPr b="0" lang="en-US" sz="1400" spc="-1" strike="noStrike">
                <a:solidFill>
                  <a:srgbClr val="ffffff"/>
                </a:solidFill>
                <a:latin typeface="Univer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4114800"/>
          </a:xfrm>
          <a:prstGeom prst="rect">
            <a:avLst/>
          </a:prstGeom>
          <a:solidFill>
            <a:srgbClr val="005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114800"/>
            <a:ext cx="228600" cy="228600"/>
          </a:xfrm>
          <a:prstGeom prst="rect">
            <a:avLst/>
          </a:prstGeom>
          <a:solidFill>
            <a:srgbClr val="e0f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4343400"/>
            <a:ext cx="22860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0" y="4800600"/>
            <a:ext cx="228600" cy="228600"/>
          </a:xfrm>
          <a:prstGeom prst="rect">
            <a:avLst/>
          </a:prstGeom>
          <a:solidFill>
            <a:srgbClr val="5e94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0" y="5029200"/>
            <a:ext cx="22860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0" y="5257800"/>
            <a:ext cx="228600" cy="228600"/>
          </a:xfrm>
          <a:prstGeom prst="rect">
            <a:avLst/>
          </a:prstGeom>
          <a:solidFill>
            <a:srgbClr val="3c7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0" y="5486400"/>
            <a:ext cx="228600" cy="228600"/>
          </a:xfrm>
          <a:prstGeom prst="rect">
            <a:avLst/>
          </a:prstGeom>
          <a:solidFill>
            <a:srgbClr val="e0f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0" y="5715000"/>
            <a:ext cx="228600" cy="1143000"/>
          </a:xfrm>
          <a:prstGeom prst="rect">
            <a:avLst/>
          </a:prstGeom>
          <a:solidFill>
            <a:srgbClr val="002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8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227640"/>
            <a:ext cx="9144000" cy="6303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LOGO-blue-white"/>
          <p:cNvPicPr/>
          <p:nvPr/>
        </p:nvPicPr>
        <p:blipFill>
          <a:blip r:embed="rId2"/>
          <a:stretch/>
        </p:blipFill>
        <p:spPr>
          <a:xfrm>
            <a:off x="6324480" y="6221520"/>
            <a:ext cx="2743200" cy="617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0" y="0"/>
            <a:ext cx="228600" cy="4114800"/>
          </a:xfrm>
          <a:prstGeom prst="rect">
            <a:avLst/>
          </a:prstGeom>
          <a:solidFill>
            <a:srgbClr val="005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0" y="4114800"/>
            <a:ext cx="228600" cy="228600"/>
          </a:xfrm>
          <a:prstGeom prst="rect">
            <a:avLst/>
          </a:prstGeom>
          <a:solidFill>
            <a:srgbClr val="e0f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4343400"/>
            <a:ext cx="22860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45720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4800600"/>
            <a:ext cx="228600" cy="228600"/>
          </a:xfrm>
          <a:prstGeom prst="rect">
            <a:avLst/>
          </a:prstGeom>
          <a:solidFill>
            <a:srgbClr val="5e94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5029200"/>
            <a:ext cx="228600" cy="228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0" y="5257800"/>
            <a:ext cx="228600" cy="228600"/>
          </a:xfrm>
          <a:prstGeom prst="rect">
            <a:avLst/>
          </a:prstGeom>
          <a:solidFill>
            <a:srgbClr val="3c7a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0" y="5486400"/>
            <a:ext cx="228600" cy="228600"/>
          </a:xfrm>
          <a:prstGeom prst="rect">
            <a:avLst/>
          </a:prstGeom>
          <a:solidFill>
            <a:srgbClr val="e0f0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5715000"/>
            <a:ext cx="228600" cy="1143000"/>
          </a:xfrm>
          <a:prstGeom prst="rect">
            <a:avLst/>
          </a:prstGeom>
          <a:solidFill>
            <a:srgbClr val="0025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304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Univer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0130-2BFE-47FB-BB14-BD7777581914}" type="slidenum">
              <a:rPr b="0" lang="en-US" sz="1400" spc="-1" strike="noStrike">
                <a:solidFill>
                  <a:srgbClr val="ffffff"/>
                </a:solidFill>
                <a:latin typeface="Univer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qbulpjjn[1]"/>
          <p:cNvPicPr/>
          <p:nvPr/>
        </p:nvPicPr>
        <p:blipFill>
          <a:blip r:embed="rId1"/>
          <a:stretch/>
        </p:blipFill>
        <p:spPr>
          <a:xfrm>
            <a:off x="723960" y="2602080"/>
            <a:ext cx="3657600" cy="2414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228600" y="53352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ners in Palliative Care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" descr="Logo 1"/>
          <p:cNvPicPr/>
          <p:nvPr/>
        </p:nvPicPr>
        <p:blipFill>
          <a:blip r:embed="rId2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0"/>
          <p:cNvSpPr/>
          <p:nvPr/>
        </p:nvSpPr>
        <p:spPr>
          <a:xfrm>
            <a:off x="4648320" y="11430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JAMES LEE, 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THE EVERETT CLI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EVERETT, WASHING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VELDA FILZEN, RN, BSN, CHPN, PARTNERS PROGRAM COORD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PROVIDENCE HOSPICE AND HOME CARE OF SNOHOMISH COU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Our Goals</a:t>
            </a: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677600"/>
            <a:ext cx="762156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empower patients in managing their end of life c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increa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imary care office case mgm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tient/provider satisf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 of community resour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ospice and home health referr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 decreas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necessary hospitalizations and ER vis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6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James Lee MD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jlee@everettclinic.co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4479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elda Filzen 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elda.filzen@providenc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What is Palliative Care?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 philosophy of car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event and relieve suffe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Quality of lif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ersonal growt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 organized, highly structured care mod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hancement to disease-based treat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ssist with decision mak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ndered along with life prolonging treatment, or as main focus of car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0021"/>
                </a:solidFill>
                <a:latin typeface="Times New Roman"/>
              </a:rPr>
              <a:t>nationalconsensusproject.org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Question…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Would you be surprised if this patient died in the next one to two years?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6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Current Healthcare State – Crisis Manageme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8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o, where do many patients today turn when they have a health crisis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The HOSPIT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0" name="Picture 4" descr="h4h1c_bc[1]"/>
          <p:cNvPicPr/>
          <p:nvPr/>
        </p:nvPicPr>
        <p:blipFill>
          <a:blip r:embed="rId2"/>
          <a:stretch/>
        </p:blipFill>
        <p:spPr>
          <a:xfrm>
            <a:off x="4800600" y="3048120"/>
            <a:ext cx="29512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One Solution: Palliative Care Program in Primary Care Office Setting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reatment op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ed on patient’s wishes and valu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ace-to-face or electronic communication (EH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roactively avoiding cri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dical and social conditions addresse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ffice visits </a:t>
            </a:r>
            <a:r>
              <a:rPr b="0" i="1" lang="en-US" sz="2400" spc="-1" strike="noStrike" u="sng">
                <a:solidFill>
                  <a:srgbClr val="000066"/>
                </a:solidFill>
                <a:uFillTx/>
                <a:latin typeface="Times New Roman"/>
              </a:rPr>
              <a:t>when appropriat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3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Program Interventions</a:t>
            </a:r>
            <a:endParaRPr b="0" lang="en-US" sz="4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gram Referra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olunte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hapla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are planning w/MD </a:t>
            </a:r>
            <a:r>
              <a:rPr b="0" lang="en-US" sz="3200" spc="-1" strike="noStrike" u="sng">
                <a:solidFill>
                  <a:srgbClr val="a50021"/>
                </a:solidFill>
                <a:uFillTx/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patient/fami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37368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ase/Symptom Managemen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nthly contact by phone or home visi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 collec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7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atisfactions Surveys for Partners Program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atient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Very High (4.8/5.0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rovider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Excellent  (5.0/5.0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0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2007 – Hospice Utilization</a:t>
            </a:r>
            <a:br>
              <a:rPr sz="4000"/>
            </a:b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PROVIDENCE HOSPICE N=898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PARTNERS PROGRAM N=63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32" name="Content Placeholder 5"/>
          <p:cNvGraphicFramePr/>
          <p:nvPr/>
        </p:nvGraphicFramePr>
        <p:xfrm>
          <a:off x="777960" y="1596960"/>
          <a:ext cx="7505640" cy="41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1596960"/>
                    <a:ext cx="750564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Box 7"/>
          <p:cNvSpPr/>
          <p:nvPr/>
        </p:nvSpPr>
        <p:spPr>
          <a:xfrm>
            <a:off x="2362320" y="3657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4038480" y="3809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5181480" y="19051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0" descr="Logo 1"/>
          <p:cNvPicPr/>
          <p:nvPr/>
        </p:nvPicPr>
        <p:blipFill>
          <a:blip r:embed="rId3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spital Admission Rat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54860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Date Range:  8/4/04 – 10/30/0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193"/>
          <p:cNvSpPr/>
          <p:nvPr/>
        </p:nvSpPr>
        <p:spPr>
          <a:xfrm>
            <a:off x="609480" y="243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0" descr="Logo 1"/>
          <p:cNvPicPr/>
          <p:nvPr/>
        </p:nvPicPr>
        <p:blipFill>
          <a:blip r:embed="rId1"/>
          <a:stretch/>
        </p:blipFill>
        <p:spPr>
          <a:xfrm>
            <a:off x="228600" y="6248520"/>
            <a:ext cx="35812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52"/>
          <p:cNvGraphicFramePr/>
          <p:nvPr/>
        </p:nvGraphicFramePr>
        <p:xfrm>
          <a:off x="158760" y="838080"/>
          <a:ext cx="8985240" cy="495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5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760" y="838080"/>
                    <a:ext cx="898524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59:37Z</dcterms:created>
  <dc:creator>Tina Tang</dc:creator>
  <dc:description/>
  <dc:language>en-US</dc:language>
  <cp:lastModifiedBy>1_Mary</cp:lastModifiedBy>
  <dcterms:modified xsi:type="dcterms:W3CDTF">2009-01-02T00:03:09Z</dcterms:modified>
  <cp:revision>16</cp:revision>
  <dc:subject/>
  <dc:title>PowerPoint Presentation</dc:title>
</cp:coreProperties>
</file>