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244-C32C-4070-93F1-BAB20758C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AE9-EF00-4B6F-9ACC-773EACCB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7F8212-D526-44B0-936C-026456D3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784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939A-3EB7-4A8C-A4E3-1535D3A7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348C21-CE10-45F2-B892-5481190D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784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6D3-4C27-4A65-9FB3-126B386D4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784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9EDF72-2F41-4457-B36F-C113A56E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E8E2-F68D-4D7A-B6B8-672E3E821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6D8D-78C1-4DBD-ADAF-B839136B3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9F84-1146-4DEB-B150-E989AD93D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1BF3-835F-4E41-A372-0565247D3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8C8A-FA64-4AAC-B033-F13593956D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8E4A-9103-4761-BC19-83002F3C7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B067-7AA0-417E-A469-C0FAB47B9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A396-104A-4BDF-91BB-E2B6D9F8E4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B381-5E70-4706-8047-F9F68D5964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F2BE-A540-4518-BF61-4DB80101B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F384-0A0A-4265-B2EA-F6A39E195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9AA1-3EF2-47D5-BB9B-32986D8B2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783F-044F-4399-B852-21917866A1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C3BF-5A6F-44C4-8D4A-AC094AAC73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FD46-6628-49C3-B46E-CA5347FDAC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5E8F-7867-458F-BB62-A92C603A7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5D0E-B81D-49E3-8018-59E78A8FD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EFDE-1A53-4662-8544-1B6546A1D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9DBB-EF96-47BF-AAE8-49ECDF874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526C-9DE9-4ACE-84CD-AB82D9030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52B2-72A7-4F0A-BA27-2F6D850E1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ABE8-461E-458A-A98A-82435A6AD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00C8-EAC3-4F9C-862D-C10BC4573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884D-F874-4FDA-B158-A50042FEE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227640"/>
            <a:ext cx="9144000" cy="630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LOGO-blue-white"/>
          <p:cNvPicPr/>
          <p:nvPr/>
        </p:nvPicPr>
        <p:blipFill>
          <a:blip r:embed="rId2"/>
          <a:stretch/>
        </p:blipFill>
        <p:spPr>
          <a:xfrm>
            <a:off x="6324480" y="6221520"/>
            <a:ext cx="2743200" cy="61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04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Univer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0AF-DB31-47A0-B484-91F6833D2898}" type="slidenum">
              <a:rPr b="0" lang="en-US" sz="1400" spc="-1" strike="noStrike">
                <a:solidFill>
                  <a:srgbClr val="ffffff"/>
                </a:solidFill>
                <a:latin typeface="Univer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4114800"/>
          </a:xfrm>
          <a:prstGeom prst="rect">
            <a:avLst/>
          </a:pr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1148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43434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4800600"/>
            <a:ext cx="228600" cy="228600"/>
          </a:xfrm>
          <a:prstGeom prst="rect">
            <a:avLst/>
          </a:prstGeom>
          <a:solidFill>
            <a:srgbClr val="5e9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50292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0" y="5257800"/>
            <a:ext cx="228600" cy="228600"/>
          </a:xfrm>
          <a:prstGeom prst="rect">
            <a:avLst/>
          </a:prstGeom>
          <a:solidFill>
            <a:srgbClr val="3c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54864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5715000"/>
            <a:ext cx="228600" cy="1143000"/>
          </a:xfrm>
          <a:prstGeom prst="rect">
            <a:avLst/>
          </a:prstGeom>
          <a:solidFill>
            <a:srgbClr val="002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227640"/>
            <a:ext cx="9144000" cy="630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LOGO-blue-white"/>
          <p:cNvPicPr/>
          <p:nvPr/>
        </p:nvPicPr>
        <p:blipFill>
          <a:blip r:embed="rId2"/>
          <a:stretch/>
        </p:blipFill>
        <p:spPr>
          <a:xfrm>
            <a:off x="6324480" y="6221520"/>
            <a:ext cx="2743200" cy="617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0"/>
            <a:ext cx="228600" cy="4114800"/>
          </a:xfrm>
          <a:prstGeom prst="rect">
            <a:avLst/>
          </a:pr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41148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43434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4572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4800600"/>
            <a:ext cx="228600" cy="228600"/>
          </a:xfrm>
          <a:prstGeom prst="rect">
            <a:avLst/>
          </a:prstGeom>
          <a:solidFill>
            <a:srgbClr val="5e9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50292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0" y="5257800"/>
            <a:ext cx="228600" cy="228600"/>
          </a:xfrm>
          <a:prstGeom prst="rect">
            <a:avLst/>
          </a:prstGeom>
          <a:solidFill>
            <a:srgbClr val="3c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54864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5715000"/>
            <a:ext cx="228600" cy="1143000"/>
          </a:xfrm>
          <a:prstGeom prst="rect">
            <a:avLst/>
          </a:prstGeom>
          <a:solidFill>
            <a:srgbClr val="002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304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Univer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3F9D-F39D-4221-9C08-9A4F0602E6A5}" type="slidenum">
              <a:rPr b="0" lang="en-US" sz="1400" spc="-1" strike="noStrike">
                <a:solidFill>
                  <a:srgbClr val="ffffff"/>
                </a:solidFill>
                <a:latin typeface="Univer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qbulpjjn[1]"/>
          <p:cNvPicPr/>
          <p:nvPr/>
        </p:nvPicPr>
        <p:blipFill>
          <a:blip r:embed="rId1"/>
          <a:stretch/>
        </p:blipFill>
        <p:spPr>
          <a:xfrm>
            <a:off x="723960" y="260208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228600" y="53352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ners in Palliative Car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Logo 1"/>
          <p:cNvPicPr/>
          <p:nvPr/>
        </p:nvPicPr>
        <p:blipFill>
          <a:blip r:embed="rId2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4648320" y="11430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JAMES LEE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THE EVERETT CLI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VERETT, WASHING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VELDA FILZEN, RN, BSN, CHPN, PARTNERS PROGRAM 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ROVIDENCE HOSPICE AND HOME CARE OF SNOHOMISH COU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Our Goals</a:t>
            </a: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77600"/>
            <a:ext cx="76215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empower patients in managing their end of life c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increa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mary care office case mgm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tient/provider satisf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of community resour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spice and home health referr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decrea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necessary hospitalizations and ER vis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6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ames Lee M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lee@everettclinic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elda Filzen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elda.filzen@providen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What is Palliative Car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philosophy of c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vent and relieve suff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uality of lif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ersonal growt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organized, highly structured care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hancement to disease-based treat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sist with decision ma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ndered along with life prolonging treatment, or as main focus of c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Times New Roman"/>
              </a:rPr>
              <a:t>nationalconsensusproject.org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Question…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ould you be surprised if this patient died in the next one to two years?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6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urrent Healthcare State – Crisis Manageme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8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, where do many patients today turn when they have a health crisi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e HOSPIT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" name="Picture 4" descr="h4h1c_bc[1]"/>
          <p:cNvPicPr/>
          <p:nvPr/>
        </p:nvPicPr>
        <p:blipFill>
          <a:blip r:embed="rId2"/>
          <a:stretch/>
        </p:blipFill>
        <p:spPr>
          <a:xfrm>
            <a:off x="4800600" y="3048120"/>
            <a:ext cx="2951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ne Solution: Palliative Care Program in Primary Care Office Setting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eatment op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ed on patient’s wishes an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e-to-face or electronic communication (EH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actively avoiding cri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dical and social conditions address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ffice visits 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when appropri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3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Program Interventions</a:t>
            </a: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gram Referr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apla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are planning w/MD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patient/fami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37368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ase/Symptom Manag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nthly contact by phone or home visi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coll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7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atisfactions Surveys for Partners Program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tient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ery High (4.8/5.0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vider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cellent  (5.0/5.0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0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2007 – Hospice Utilization</a:t>
            </a:r>
            <a:br>
              <a:rPr sz="4000"/>
            </a:b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PROVIDENCE HOSPICE N=898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PARTNERS PROGRAM N=63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2" name="Content Placeholder 5"/>
          <p:cNvGraphicFramePr/>
          <p:nvPr/>
        </p:nvGraphicFramePr>
        <p:xfrm>
          <a:off x="777960" y="1596960"/>
          <a:ext cx="7505640" cy="41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596960"/>
                    <a:ext cx="750564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7"/>
          <p:cNvSpPr/>
          <p:nvPr/>
        </p:nvSpPr>
        <p:spPr>
          <a:xfrm>
            <a:off x="2362320" y="3657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4038480" y="3809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5181480" y="19051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0" descr="Logo 1"/>
          <p:cNvPicPr/>
          <p:nvPr/>
        </p:nvPicPr>
        <p:blipFill>
          <a:blip r:embed="rId3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spital Admission Rat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54860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Date Range:  8/4/04 – 10/30/0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193"/>
          <p:cNvSpPr/>
          <p:nvPr/>
        </p:nvSpPr>
        <p:spPr>
          <a:xfrm>
            <a:off x="6094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52"/>
          <p:cNvGraphicFramePr/>
          <p:nvPr/>
        </p:nvGraphicFramePr>
        <p:xfrm>
          <a:off x="158760" y="838080"/>
          <a:ext cx="8985240" cy="495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5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760" y="838080"/>
                    <a:ext cx="898524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59:37Z</dcterms:created>
  <dc:creator>Tina Tang</dc:creator>
  <dc:description/>
  <dc:language>en-US</dc:language>
  <cp:lastModifiedBy>1_Mary</cp:lastModifiedBy>
  <dcterms:modified xsi:type="dcterms:W3CDTF">2009-01-02T00:03:09Z</dcterms:modified>
  <cp:revision>16</cp:revision>
  <dc:subject/>
  <dc:title>PowerPoint Presentation</dc:title>
</cp:coreProperties>
</file>