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C16-A4A0-406C-94B4-0D084612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DB1-554C-4FB0-A641-23E1348F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F9A-4337-436A-9EB1-644EE1F6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840-215E-40C8-94EA-CC36A4F9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FEA-39F4-4869-9E45-5B9C9625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3B7-DB3C-4A03-B4ED-0A3F25CA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D5C-0FDA-4077-90B4-A3F12B49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68F-DBB9-42F5-99DB-1556444C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964-7C19-4C68-BB39-4592F1FA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63B-AEBB-46F1-8693-A9F6959C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F6E-8E25-47C5-B4D3-D3B4BB52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4C4-0BA4-4456-94B8-59E4581F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EBDC-3FAA-4D87-980A-43D18D125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ethodological Issues in Systematic Review</a:t>
            </a:r>
            <a:br>
              <a:rPr sz="4000"/>
            </a:br>
            <a:br>
              <a:rPr sz="2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Formulating Questions -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eph Lau, M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fts Medical Center E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Annual Mee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10,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udy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-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sec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cri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, language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ditional inclusion crite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ed English language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 or observational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ed original CVD outcome data and evaluated any potential source of omega-3 fatty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east 5 human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east 1-year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ssues in formulating a 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row versus broad (for individual or popul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ly meaningful and useful (based on sound biological and epidemiological princip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broadly defined questions may be criticized for mixing apples and or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narrowly focused questions may have no data or have limited generalizability and sometimes may lead to misinterpre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1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nalytic framework for omega-3 FA intake and CVD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4880" y="12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806400"/>
          <a:ext cx="8153280" cy="603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06400"/>
                    <a:ext cx="81532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ific Key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  <a:ea typeface="Arial"/>
              </a:rPr>
              <a:t>What is the efficacy or association of omega-3 fatty acids (DHA, EPA or ALA supplements, and fish consumption) in reducing CVD events (including all-cause mortality, CVD mortality, non-fatal CVD events, and new diagnosis of CVD)? In patients without known CVD (primary prevention) and with known CVD (secondary preventio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ific Key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  <a:ea typeface="Arial"/>
              </a:rPr>
              <a:t>2.   Relative effects of omega-3 fatty acid sources, with specific emphasis on compositions, dosages, the ratio of omega-6 to omega-3 fatty acids, and potential interactions due to duration of intervention or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  <a:ea typeface="Arial"/>
              </a:rPr>
              <a:t>What adverse events related to omega-3 fatty acid dietary supplements are reported in studie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rticipa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revention - patients without prior history of cardio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 d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Prevention – patients with prior history of cardio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ven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kinds, preparation, amount, how intake was est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 oil supple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cosapentaenoic acid (EPA) / Docosahexaenoic acid (DH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olenic acid [ALA] (walnut, canola oil, flax seed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s (endpoint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outcomes (ev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mort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infar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de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scula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ogate/intermediate outcomes (biomarkers, measurem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pid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PICO method to formulate research question on interven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1676520"/>
          <a:ext cx="8839440" cy="4624200"/>
        </p:xfrm>
        <a:graphic>
          <a:graphicData uri="http://schemas.openxmlformats.org/drawingml/2006/table">
            <a:tbl>
              <a:tblPr/>
              <a:tblGrid>
                <a:gridCol w="2210040"/>
                <a:gridCol w="2290680"/>
                <a:gridCol w="2128680"/>
                <a:gridCol w="2210040"/>
              </a:tblGrid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articip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Intervention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ompar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utco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ary pre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sh, fish oil, A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morta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ary pre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contr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dden dea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kground inta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compar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ascular-iz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k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press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00:01:27Z</dcterms:created>
  <dc:creator>JL</dc:creator>
  <dc:description/>
  <dc:language>en-US</dc:language>
  <cp:lastModifiedBy>bcambridge</cp:lastModifiedBy>
  <dcterms:modified xsi:type="dcterms:W3CDTF">2008-10-17T13:45:23Z</dcterms:modified>
  <cp:revision>101</cp:revision>
  <dc:subject/>
  <dc:title>Uses and Impact of systematic reviews and meta-analyses on clinical practice and health policies   Joseph Lau, MD  February 28, 2005  Tokyo, Japan</dc:title>
</cp:coreProperties>
</file>