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FECC-8C0B-4103-AAB5-513E4BF4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F12-0B19-4D57-A5E6-E82AD206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C7A-E8AF-4758-A99A-653ADF6C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A3A-3DF8-4BC9-96F6-3AC95EDE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F8C-9B07-4E96-B2D7-B00663F3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73E-C6C2-4655-B600-A8441B24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572-B7F8-4FC1-B04E-FD0B1FCD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F22-9FAB-4416-B682-D0869BE0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1B7-91C1-45E7-9354-DD52D706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BDA-AA89-494A-9873-39D72FB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4F2-FAAE-494D-8873-3E8E8614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A78-B5E5-4455-A817-5BA830DB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65A4-05CD-4375-8262-ED44F5AC5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thodological Issues in Systematic Review</a:t>
            </a:r>
            <a:br>
              <a:rPr sz="4000"/>
            </a:br>
            <a:br>
              <a:rPr sz="2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- Formulating Questions -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seph Lau, 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fts Medical Center E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nnual Mee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tember 10,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udy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h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-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sec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cri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ar, language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itional inclusion criter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shed English language liter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or observational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ed original CVD outcome data and evaluated any potential source of omega-3 fatty ac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5 human sub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1-year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ssues in formulating a ques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ow versus broad (for individual or popul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ly meaningful and useful (based on sound biological and epidemiological princip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broadly defined questions may be criticized for mixing apples and or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narrowly focused questions may have no data or have limited generalizability and sometimes may lead to misinterpre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1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Analytic framework for omega-3 FA intake and CVD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488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33520" y="806400"/>
          <a:ext cx="8153280" cy="603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06400"/>
                    <a:ext cx="81532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ific Key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  <a:ea typeface="Arial"/>
              </a:rPr>
              <a:t>What is the efficacy or association of omega-3 fatty acids (DHA, EPA or ALA supplements, and fish consumption) in reducing CVD events (including all-cause mortality, CVD mortality, non-fatal CVD events, and new diagnosis of CVD)? In patients without known CVD (primary prevention) and with known CVD (secondary preventio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ific Key 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  <a:ea typeface="Arial"/>
              </a:rPr>
              <a:t>2.   Relative effects of omega-3 fatty acid sources, with specific emphasis on compositions, dosages, the ratio of omega-6 to omega-3 fatty acids, and potential interactions due to duration of intervention or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ffffff"/>
                </a:solidFill>
                <a:latin typeface="Arial"/>
                <a:ea typeface="Arial"/>
              </a:rPr>
              <a:t>What adverse events related to omega-3 fatty acid dietary supplements are reported in studies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rticipan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Prevention - patients without prior history of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 d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Prevention – patients with prior history of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ven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kinds, preparation, amount, how intake was est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h oil supple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cosapentaenoic acid (EPA) / Docosahexaenoic acid (DH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olenic acid [ALA] (walnut, canola oil, flax seed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utcomes (endpoint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outcomes (ev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mort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ocardial infar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dden de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scula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ogate/intermediate outcomes (biomarkers, measurem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pid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PICO method to formulate research question on interven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1676520"/>
          <a:ext cx="8839440" cy="4624200"/>
        </p:xfrm>
        <a:graphic>
          <a:graphicData uri="http://schemas.openxmlformats.org/drawingml/2006/table">
            <a:tbl>
              <a:tblPr/>
              <a:tblGrid>
                <a:gridCol w="2210040"/>
                <a:gridCol w="2290680"/>
                <a:gridCol w="2128680"/>
                <a:gridCol w="2210040"/>
              </a:tblGrid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articip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Interven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ompar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utco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 pre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sh, fish oil, AL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mort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ondary pre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ontro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dden dea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kground inta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comparat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ascular-iz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k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press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00:01:27Z</dcterms:created>
  <dc:creator>JL</dc:creator>
  <dc:description/>
  <dc:language>en-US</dc:language>
  <cp:lastModifiedBy>bcambridge</cp:lastModifiedBy>
  <dcterms:modified xsi:type="dcterms:W3CDTF">2008-10-17T13:45:23Z</dcterms:modified>
  <cp:revision>101</cp:revision>
  <dc:subject/>
  <dc:title>Uses and Impact of systematic reviews and meta-analyses on clinical practice and health policies   Joseph Lau, MD  February 28, 2005  Tokyo, Japan</dc:title>
</cp:coreProperties>
</file>