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8195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ing Simulation and Decision Modeling to Inform Decision Mak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1148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12720" y="3986280"/>
            <a:ext cx="377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. 8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Morning’s Se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linical Trials really answer all relevant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patient is older/younger/sicker/ better/etc. than in the tri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the technology has chan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f management strategy has chang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imulation modeling help fill in the ga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om the Modeler’s S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decision models in the l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use “one off”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global natural history models designed for wide range of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ecision models inform decis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with the decision makers to deter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t alternatives and inpu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vant outco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 today of working with the US Preventive Services Task Force to examine Cancer Scre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day’s 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a Petitti, MD, MPH (brief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essor of Biomedical Informatics, Arizona State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ce Chair, USPST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ta-Analysis, Decision Analysis, and Cost-Effectiveness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 Zauber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ial Sloan-Kettering Cancer Center, 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ordinator of CISNET Colorectal Cancer Modeling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lini Kulasingam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Minnes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igator on the Duke Cervical Cancer Mode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na Peti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Zau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Kulasing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etit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Emily Moser</cp:lastModifiedBy>
  <cp:lastPrinted>2003-01-21T20:19:23Z</cp:lastPrinted>
  <dcterms:modified xsi:type="dcterms:W3CDTF">2009-06-08T17:24:44Z</dcterms:modified>
  <cp:revision>129</cp:revision>
  <dc:subject/>
  <dc:title>AHRQ Slide Template 2004</dc:title>
</cp:coreProperties>
</file>