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926400" cy="9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02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924360" y="-360"/>
            <a:ext cx="30002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61720" y="690480"/>
            <a:ext cx="4605480" cy="345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23400" y="4375080"/>
            <a:ext cx="50770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8749800"/>
            <a:ext cx="30002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924360" y="8749800"/>
            <a:ext cx="30002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EEDF-D40B-405A-9919-A5ED2E832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924360" y="8750160"/>
            <a:ext cx="3000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ABF7-F69F-4432-8050-907DDF936A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23400" y="4375080"/>
            <a:ext cx="507708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24360" y="8750160"/>
            <a:ext cx="3000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AB50-68A9-4F65-BBCA-94B3EC6818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3400" y="4375080"/>
            <a:ext cx="507708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24360" y="8750160"/>
            <a:ext cx="3000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1600-72BB-41FD-93F9-CB94C68949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23400" y="4375080"/>
            <a:ext cx="507708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924360" y="8750160"/>
            <a:ext cx="3000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F5A7-061C-427E-8B5D-FAB93DC5D3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3400" y="4375080"/>
            <a:ext cx="507708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24360" y="8750160"/>
            <a:ext cx="3000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465B-DF91-4E48-AA47-CF2808C10D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23400" y="4375080"/>
            <a:ext cx="507708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24360" y="8750160"/>
            <a:ext cx="3000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5633-7EA5-41DE-88FF-D7E59A3364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23400" y="4375080"/>
            <a:ext cx="507708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24360" y="8750160"/>
            <a:ext cx="3000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8864-FC6F-49F6-B8FD-88FE36707C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23400" y="4375080"/>
            <a:ext cx="507708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24360" y="8750160"/>
            <a:ext cx="3000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992B-8771-4CCD-B35B-776875B7E9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3400" y="4375080"/>
            <a:ext cx="507708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24360" y="8750160"/>
            <a:ext cx="3000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C03B-86AA-40BD-B3A7-B67DF653F1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23400" y="4375080"/>
            <a:ext cx="507708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24360" y="8750160"/>
            <a:ext cx="3000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01D5-B3D8-481D-8636-F39FBBCA46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3400" y="4375080"/>
            <a:ext cx="507708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24360" y="8750160"/>
            <a:ext cx="3000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9AFF-4129-4876-8972-4D2DF59221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23400" y="4375080"/>
            <a:ext cx="507708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98F98-D4A2-4BBC-9DD1-5BC2E169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AFC40-E544-4950-9C15-1D06D068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0BF6C-9E0A-453C-AED4-9EC1E67F3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8DDF9-9AA3-4B6A-BBA9-B4CB969F5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62C8-B0C7-4182-B0ED-8F63A263F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BBF1-366D-4143-9B5F-DD9BF29F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B2D3-F61D-45C3-95EC-81FD4EE1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D669-49EA-48BC-A5FB-980057A9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CC68-DA07-45A1-B87C-F4B158BA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61E7-B878-47C3-8FA3-6B0358B7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934E-42B5-4043-A19B-85C201F8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E5EF5-8242-4524-8D7D-9E658939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43C0-7B1E-4440-A533-48763D75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452F-23DB-4823-AC17-2083C874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1820-F178-462D-BDD7-3B89A0BE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1E2B-31F5-4ACC-9E8B-B94A45E7E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0204-43D0-42D4-9BFF-E99B8AA1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C22AD-7CB8-40B7-9035-D3F8BDE9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6FCFA-5825-493C-83B2-8902020C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C4C9E-9B35-4B77-86F4-C1A16BB5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4BAE8-5C86-4F8D-83A7-76B329D0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102D4-6DA7-4F5B-B0FF-4D524CEE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DDBF0-3361-493B-A493-B937B0AE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421AD-AC3D-4067-8851-8CCC10D4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17F2-AC6B-41BD-A20C-4B542B5B6E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7BEF-D21A-4B61-9C0F-F5F94CCD54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60240" y="635040"/>
            <a:ext cx="7780320" cy="23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eorgia"/>
              </a:rPr>
              <a:t>Use of EPC Evidence Reviews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eorgia"/>
              </a:rPr>
              <a:t>NIH Consensus Development Program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10800" y="3384360"/>
            <a:ext cx="7327800" cy="13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Garamond"/>
              </a:rPr>
              <a:t>Barnett Kramer, MD, MP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Garamond"/>
              </a:rPr>
              <a:t>Associate Director for Disease Prevention, NI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982800" y="5197320"/>
            <a:ext cx="836640" cy="838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2"/>
          <a:stretch/>
        </p:blipFill>
        <p:spPr>
          <a:xfrm>
            <a:off x="7332840" y="5234040"/>
            <a:ext cx="76176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eorgia"/>
              </a:rPr>
              <a:t>The Pane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7" name="Picture 3" descr="Supreme_Court_US_2006"/>
          <p:cNvPicPr/>
          <p:nvPr/>
        </p:nvPicPr>
        <p:blipFill>
          <a:blip r:embed="rId1"/>
          <a:stretch/>
        </p:blipFill>
        <p:spPr>
          <a:xfrm>
            <a:off x="1270080" y="1560600"/>
            <a:ext cx="64134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12920" y="1868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On Behalf of NIH,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hank You!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eorgia"/>
              </a:rPr>
              <a:t>Consensus Development Program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87320" y="3594240"/>
            <a:ext cx="7772400" cy="28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eorgia"/>
              </a:rPr>
              <a:t>GO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e5e5ff"/>
                </a:solidFill>
                <a:latin typeface="Georgia"/>
              </a:rPr>
              <a:t>Produce an unbiased, evidence-based assessment of a complex/controversial medical issue that will advance understanding for health professionals and the publi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6" descr="greenlogo"/>
          <p:cNvPicPr/>
          <p:nvPr/>
        </p:nvPicPr>
        <p:blipFill>
          <a:blip r:embed="rId1"/>
          <a:stretch/>
        </p:blipFill>
        <p:spPr>
          <a:xfrm>
            <a:off x="3936960" y="2071800"/>
            <a:ext cx="151920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71440" y="998280"/>
            <a:ext cx="8585280" cy="4707000"/>
          </a:xfrm>
          <a:prstGeom prst="rect">
            <a:avLst/>
          </a:prstGeom>
          <a:solidFill>
            <a:srgbClr val="eaeaea"/>
          </a:solidFill>
          <a:ln w="9360">
            <a:solidFill>
              <a:srgbClr val="3366ff"/>
            </a:solidFill>
            <a:miter/>
          </a:ln>
        </p:spPr>
        <p:txBody>
          <a:bodyPr anchor="t">
            <a:normAutofit fontScale="89000"/>
          </a:bodyPr>
          <a:p>
            <a:pPr marL="1428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61840"/>
                <a:tab algn="l" pos="434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Garamond"/>
              </a:rPr>
              <a:t>Level I:  </a:t>
            </a:r>
            <a:r>
              <a:rPr b="1" lang="en-US" sz="1600" spc="-1" strike="noStrike">
                <a:solidFill>
                  <a:srgbClr val="000099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Garamond"/>
              </a:rPr>
              <a:t>	</a:t>
            </a:r>
            <a:r>
              <a:rPr b="1" i="1" lang="en-US" sz="1600" spc="-1" strike="noStrike">
                <a:solidFill>
                  <a:srgbClr val="000099"/>
                </a:solidFill>
                <a:latin typeface="Garamond"/>
              </a:rPr>
              <a:t>“Would you have this done for yourself or for someone else in your immediate family?”</a:t>
            </a:r>
            <a:r>
              <a:rPr b="0" lang="en-US" sz="1600" spc="-1" strike="noStrike">
                <a:solidFill>
                  <a:srgbClr val="000099"/>
                </a:solidFill>
                <a:latin typeface="Garamond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428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61840"/>
                <a:tab algn="l" pos="434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514"/>
                </a:solidFill>
                <a:latin typeface="Garamond"/>
              </a:rPr>
              <a:t>Influenced by one’s personal experience with the disease and capacity to deal with risk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428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61840"/>
                <a:tab algn="l" pos="434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cc0000"/>
                </a:solidFill>
                <a:latin typeface="Garamond"/>
              </a:rPr>
              <a:t>Affects few peopl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4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1840"/>
                <a:tab algn="l" pos="434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14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61840"/>
                <a:tab algn="l" pos="434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Garamond"/>
              </a:rPr>
              <a:t>Level II:</a:t>
            </a:r>
            <a:r>
              <a:rPr b="1" lang="en-US" sz="1800" spc="-1" strike="noStrike">
                <a:solidFill>
                  <a:srgbClr val="00009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Garamond"/>
              </a:rPr>
              <a:t>	</a:t>
            </a:r>
            <a:r>
              <a:rPr b="1" i="1" lang="en-US" sz="1800" spc="-1" strike="noStrike">
                <a:solidFill>
                  <a:srgbClr val="000099"/>
                </a:solidFill>
                <a:latin typeface="Garamond"/>
              </a:rPr>
              <a:t>“What would I recommend to my patient/client?”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14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61840"/>
                <a:tab algn="l" pos="434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Physician making a recommendation for his/her patients.  Influenced by prior experience, but the scientific evidence may play a greater role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14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61840"/>
                <a:tab algn="l" pos="434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Garamond"/>
              </a:rPr>
              <a:t>Affects possibly hundreds of people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1428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861840"/>
                <a:tab algn="l" pos="434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 marL="1428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1840"/>
                <a:tab algn="l" pos="434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Garamond"/>
              </a:rPr>
              <a:t>Level III:</a:t>
            </a:r>
            <a:r>
              <a:rPr b="1" lang="en-US" sz="2200" spc="-1" strike="noStrike">
                <a:solidFill>
                  <a:srgbClr val="000099"/>
                </a:solidFill>
                <a:latin typeface="Garamond"/>
              </a:rPr>
              <a:t>	</a:t>
            </a:r>
            <a:r>
              <a:rPr b="1" i="1" lang="en-US" sz="2200" spc="-1" strike="noStrike">
                <a:solidFill>
                  <a:srgbClr val="000099"/>
                </a:solidFill>
                <a:latin typeface="Garamond"/>
              </a:rPr>
              <a:t>“What would I recommend to the nation, the world?”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1428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1840"/>
                <a:tab algn="l" pos="434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Across-the-board recommendations for a population. 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1428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1840"/>
                <a:tab algn="l" pos="434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Must be based on rigorous assessment of the scientific evidence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1428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1840"/>
                <a:tab algn="l" pos="434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Garamond"/>
              </a:rPr>
              <a:t>Affects hundreds of thousands, even millions of people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1428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61840"/>
                <a:tab algn="l" pos="434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lide courtesy of Leon Gordis, M.D.., Johns Hopkins Universit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1428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61840"/>
                <a:tab algn="l" pos="434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03040" y="210960"/>
            <a:ext cx="865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eorgia"/>
              </a:rPr>
              <a:t>Levels of Decision Mak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eorgia"/>
              </a:rPr>
              <a:t>Consensus Development Program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97040" y="1942920"/>
            <a:ext cx="7873920" cy="41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Georgia"/>
              </a:rPr>
              <a:t>Audien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Georgia"/>
              </a:rPr>
              <a:t>Health Professional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Georgia"/>
              </a:rPr>
              <a:t>Publi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Georgia"/>
              </a:rPr>
              <a:t>Research Agenc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PC reports for OMA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85720" y="1733040"/>
            <a:ext cx="7888320" cy="40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0440" indent="-460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steoporosi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0440" indent="-460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RCP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0440" indent="-460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nagement of Hepatitis 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0440" indent="-460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nagement of Cancer Symptom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0440" indent="-460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nagement of Clinically Inapparent Adrenal Mas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0440" indent="-460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tal Knee Replacem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0440" indent="-460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th Violen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0440" indent="-460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mproving End-of-life Ca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0440" indent="-460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nagement of Menopausal Symptom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0440" indent="-460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esarean Delivery on Maternal Reque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0440" indent="-460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ultivitamin/Mineral Supplements and Chronic Disea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0440" indent="-460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bacco Prevention, Cessation, and Contro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0440" indent="-460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d More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A Consensus Development Conference is NOT simply an evidence report…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2131920" y="3470400"/>
            <a:ext cx="46306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N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771480" y="2438280"/>
            <a:ext cx="201600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ert speaker testimon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3206880" y="2454120"/>
            <a:ext cx="24541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ystematic evidence review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6081840" y="2454120"/>
            <a:ext cx="20602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(audience) inpu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Line 12"/>
          <p:cNvSpPr/>
          <p:nvPr/>
        </p:nvSpPr>
        <p:spPr>
          <a:xfrm>
            <a:off x="1868400" y="3111480"/>
            <a:ext cx="53820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Line 13"/>
          <p:cNvSpPr/>
          <p:nvPr/>
        </p:nvSpPr>
        <p:spPr>
          <a:xfrm>
            <a:off x="4411800" y="3106800"/>
            <a:ext cx="0" cy="376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Line 14"/>
          <p:cNvSpPr/>
          <p:nvPr/>
        </p:nvSpPr>
        <p:spPr>
          <a:xfrm flipH="1">
            <a:off x="6350040" y="3106800"/>
            <a:ext cx="442800" cy="317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4440240" y="3875040"/>
            <a:ext cx="0" cy="88596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2511360" y="4773600"/>
            <a:ext cx="38466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ensus Statemen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e5ff"/>
                </a:solidFill>
                <a:latin typeface="Georgia"/>
              </a:rPr>
              <a:t>Selection Criteria:</a:t>
            </a:r>
            <a:br>
              <a:rPr sz="3200"/>
            </a:br>
            <a:r>
              <a:rPr b="1" lang="en-US" sz="2400" spc="-1" strike="noStrike">
                <a:solidFill>
                  <a:srgbClr val="e5e5ff"/>
                </a:solidFill>
                <a:latin typeface="Georgia"/>
              </a:rPr>
              <a:t>NIH Consensus Development Conference</a:t>
            </a:r>
            <a:br>
              <a:rPr sz="2400"/>
            </a:br>
            <a:r>
              <a:rPr b="1" lang="en-US" sz="2400" spc="-1" strike="noStrike">
                <a:solidFill>
                  <a:srgbClr val="e5e5ff"/>
                </a:solidFill>
                <a:latin typeface="Georgia"/>
              </a:rPr>
              <a:t>vs.</a:t>
            </a:r>
            <a:br>
              <a:rPr sz="2400"/>
            </a:br>
            <a:r>
              <a:rPr b="1" lang="en-US" sz="2400" spc="-1" strike="noStrike">
                <a:solidFill>
                  <a:srgbClr val="e5e5ff"/>
                </a:solidFill>
                <a:latin typeface="Georgia"/>
              </a:rPr>
              <a:t>State-of-the-Science Conference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ublic health importa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ap between knowledge and practi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menable to clarific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rength of available evide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76560" y="1980720"/>
            <a:ext cx="42670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ate-of-the-Science      Consens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7315200" y="1981080"/>
            <a:ext cx="0" cy="3657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Line 6"/>
          <p:cNvSpPr/>
          <p:nvPr/>
        </p:nvSpPr>
        <p:spPr>
          <a:xfrm>
            <a:off x="325440" y="2362320"/>
            <a:ext cx="8666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Line 7"/>
          <p:cNvSpPr/>
          <p:nvPr/>
        </p:nvSpPr>
        <p:spPr>
          <a:xfrm>
            <a:off x="4952880" y="1981080"/>
            <a:ext cx="0" cy="3657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304920" y="5638680"/>
            <a:ext cx="863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Line 9"/>
          <p:cNvSpPr/>
          <p:nvPr/>
        </p:nvSpPr>
        <p:spPr>
          <a:xfrm>
            <a:off x="331920" y="1981080"/>
            <a:ext cx="8637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304920" y="3048120"/>
            <a:ext cx="8607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Line 11"/>
          <p:cNvSpPr/>
          <p:nvPr/>
        </p:nvSpPr>
        <p:spPr>
          <a:xfrm>
            <a:off x="304920" y="4038480"/>
            <a:ext cx="8650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Line 12"/>
          <p:cNvSpPr/>
          <p:nvPr/>
        </p:nvSpPr>
        <p:spPr>
          <a:xfrm>
            <a:off x="304920" y="4876920"/>
            <a:ext cx="8607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4876920" y="251460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4876920" y="33526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4876920" y="42670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Rectangle 16"/>
          <p:cNvSpPr/>
          <p:nvPr/>
        </p:nvSpPr>
        <p:spPr>
          <a:xfrm>
            <a:off x="4876920" y="51055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66ff33"/>
                </a:solidFill>
                <a:latin typeface="Garamond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17"/>
          <p:cNvGrpSpPr/>
          <p:nvPr/>
        </p:nvGrpSpPr>
        <p:grpSpPr>
          <a:xfrm>
            <a:off x="812880" y="209520"/>
            <a:ext cx="7168680" cy="2914200"/>
            <a:chOff x="812880" y="209520"/>
            <a:chExt cx="7168680" cy="2914200"/>
          </a:xfrm>
        </p:grpSpPr>
        <p:sp>
          <p:nvSpPr>
            <p:cNvPr id="146" name="AutoShape 2"/>
            <p:cNvSpPr/>
            <p:nvPr/>
          </p:nvSpPr>
          <p:spPr>
            <a:xfrm>
              <a:off x="812880" y="209520"/>
              <a:ext cx="7168680" cy="29142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" name="Line 3"/>
            <p:cNvSpPr/>
            <p:nvPr/>
          </p:nvSpPr>
          <p:spPr>
            <a:xfrm>
              <a:off x="1210680" y="2808720"/>
              <a:ext cx="6372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" name="Line 4"/>
            <p:cNvSpPr/>
            <p:nvPr/>
          </p:nvSpPr>
          <p:spPr>
            <a:xfrm>
              <a:off x="1708920" y="2414880"/>
              <a:ext cx="5376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9" name="Line 6"/>
            <p:cNvSpPr/>
            <p:nvPr/>
          </p:nvSpPr>
          <p:spPr>
            <a:xfrm>
              <a:off x="2206440" y="2021400"/>
              <a:ext cx="4422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0" name="Line 7"/>
            <p:cNvSpPr/>
            <p:nvPr/>
          </p:nvSpPr>
          <p:spPr>
            <a:xfrm>
              <a:off x="2646360" y="1627200"/>
              <a:ext cx="3484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1" name="Line 8"/>
            <p:cNvSpPr/>
            <p:nvPr/>
          </p:nvSpPr>
          <p:spPr>
            <a:xfrm>
              <a:off x="3135960" y="1233360"/>
              <a:ext cx="2513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2" name="Line 9"/>
            <p:cNvSpPr/>
            <p:nvPr/>
          </p:nvSpPr>
          <p:spPr>
            <a:xfrm>
              <a:off x="3600360" y="839880"/>
              <a:ext cx="1593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53" name="Text Box 10"/>
          <p:cNvSpPr/>
          <p:nvPr/>
        </p:nvSpPr>
        <p:spPr>
          <a:xfrm>
            <a:off x="3590280" y="2838600"/>
            <a:ext cx="170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Ideas &amp; Opinion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3768120" y="249876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Case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3836160" y="2097000"/>
            <a:ext cx="116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Case Serie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3449520" y="1731960"/>
            <a:ext cx="200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Case Control Studie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3699720" y="1293840"/>
            <a:ext cx="148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imes New Roman"/>
              </a:rPr>
              <a:t>Cohort Studie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4070520" y="91116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imes New Roman"/>
              </a:rPr>
              <a:t>RC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3890160" y="325440"/>
            <a:ext cx="102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imes New Roman"/>
              </a:rPr>
              <a:t>RC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imes New Roman"/>
              </a:rPr>
              <a:t>Dbl Blind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AutoShape 20"/>
          <p:cNvSpPr/>
          <p:nvPr/>
        </p:nvSpPr>
        <p:spPr>
          <a:xfrm>
            <a:off x="220680" y="1574640"/>
            <a:ext cx="558720" cy="1557360"/>
          </a:xfrm>
          <a:custGeom>
            <a:avLst/>
            <a:gdLst>
              <a:gd name="textAreaLeft" fmla="*/ 357120 w 558720"/>
              <a:gd name="textAreaRight" fmla="*/ 558720 w 558720"/>
              <a:gd name="textAreaTop" fmla="*/ 40320 h 1557360"/>
              <a:gd name="textAreaBottom" fmla="*/ 1517040 h 15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AutoShape 21"/>
          <p:cNvSpPr/>
          <p:nvPr/>
        </p:nvSpPr>
        <p:spPr>
          <a:xfrm>
            <a:off x="6265800" y="220680"/>
            <a:ext cx="1695600" cy="1338120"/>
          </a:xfrm>
          <a:custGeom>
            <a:avLst/>
            <a:gdLst>
              <a:gd name="textAreaLeft" fmla="*/ 0 w 1695600"/>
              <a:gd name="textAreaRight" fmla="*/ 612360 w 1695600"/>
              <a:gd name="textAreaTop" fmla="*/ 79560 h 1338120"/>
              <a:gd name="textAreaBottom" fmla="*/ 1258560 h 133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57"/>
                  <a:pt x="10800" y="4113"/>
                </a:cubicBezTo>
                <a:lnTo>
                  <a:pt x="10800" y="6937"/>
                </a:lnTo>
                <a:cubicBezTo>
                  <a:pt x="10800" y="8994"/>
                  <a:pt x="16200" y="11050"/>
                  <a:pt x="21600" y="11050"/>
                </a:cubicBezTo>
                <a:cubicBezTo>
                  <a:pt x="16200" y="11050"/>
                  <a:pt x="10800" y="13107"/>
                  <a:pt x="10800" y="15163"/>
                </a:cubicBezTo>
                <a:lnTo>
                  <a:pt x="10800" y="17487"/>
                </a:lnTo>
                <a:cubicBezTo>
                  <a:pt x="10800" y="19544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25"/>
          <p:cNvSpPr/>
          <p:nvPr/>
        </p:nvSpPr>
        <p:spPr>
          <a:xfrm>
            <a:off x="764640" y="3206880"/>
            <a:ext cx="3656880" cy="398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tate-of-the-Science Conferen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26"/>
          <p:cNvSpPr/>
          <p:nvPr/>
        </p:nvSpPr>
        <p:spPr>
          <a:xfrm>
            <a:off x="5221800" y="3206880"/>
            <a:ext cx="2637360" cy="398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Consensus Conferen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AutoShape 28"/>
          <p:cNvSpPr/>
          <p:nvPr/>
        </p:nvSpPr>
        <p:spPr>
          <a:xfrm>
            <a:off x="2722680" y="4389480"/>
            <a:ext cx="3570120" cy="976320"/>
          </a:xfrm>
          <a:prstGeom prst="downArrowCallout">
            <a:avLst>
              <a:gd name="adj1" fmla="val 91426"/>
              <a:gd name="adj2" fmla="val 91418"/>
              <a:gd name="adj3" fmla="val 16667"/>
              <a:gd name="adj4" fmla="val 66667"/>
            </a:avLst>
          </a:prstGeom>
          <a:solidFill>
            <a:srgbClr val="ddddd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29"/>
          <p:cNvSpPr/>
          <p:nvPr/>
        </p:nvSpPr>
        <p:spPr>
          <a:xfrm>
            <a:off x="2703600" y="4497480"/>
            <a:ext cx="34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Identical Conference Proces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30"/>
          <p:cNvSpPr/>
          <p:nvPr/>
        </p:nvSpPr>
        <p:spPr>
          <a:xfrm>
            <a:off x="382320" y="5959440"/>
            <a:ext cx="3516840" cy="7038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tate-of-the-Science Statem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Focused on Research Agend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1"/>
          <p:cNvSpPr/>
          <p:nvPr/>
        </p:nvSpPr>
        <p:spPr>
          <a:xfrm>
            <a:off x="4325760" y="5883120"/>
            <a:ext cx="4434120" cy="7038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Consensus Conference Statem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Focused on Practice Recommendatio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68" name="AutoShape 32"/>
          <p:cNvCxnSpPr/>
          <p:nvPr/>
        </p:nvCxnSpPr>
        <p:spPr>
          <a:xfrm flipH="1" rot="16200000">
            <a:off x="-95400" y="2655360"/>
            <a:ext cx="1060920" cy="457920"/>
          </a:xfrm>
          <a:prstGeom prst="bentConnector2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</p:cxnSp>
      <p:cxnSp>
        <p:nvCxnSpPr>
          <p:cNvPr id="169" name="AutoShape 33"/>
          <p:cNvCxnSpPr>
            <a:stCxn id="161" idx="1"/>
            <a:endCxn id="163" idx="3"/>
          </p:cNvCxnSpPr>
          <p:nvPr/>
        </p:nvCxnSpPr>
        <p:spPr>
          <a:xfrm flipH="1">
            <a:off x="7875000" y="904680"/>
            <a:ext cx="100440" cy="2510280"/>
          </a:xfrm>
          <a:prstGeom prst="bentConnector3">
            <a:avLst>
              <a:gd name="adj1" fmla="val -214028"/>
            </a:avLst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  <p:sp>
        <p:nvSpPr>
          <p:cNvPr id="170" name="Line 36"/>
          <p:cNvSpPr/>
          <p:nvPr/>
        </p:nvSpPr>
        <p:spPr>
          <a:xfrm flipH="1">
            <a:off x="1953720" y="5372280"/>
            <a:ext cx="2584440" cy="563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Line 37"/>
          <p:cNvSpPr/>
          <p:nvPr/>
        </p:nvSpPr>
        <p:spPr>
          <a:xfrm>
            <a:off x="4525920" y="5378400"/>
            <a:ext cx="2863800" cy="504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Text Box 41"/>
          <p:cNvSpPr/>
          <p:nvPr/>
        </p:nvSpPr>
        <p:spPr>
          <a:xfrm>
            <a:off x="5637960" y="536400"/>
            <a:ext cx="116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Strong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Eviden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42"/>
          <p:cNvSpPr/>
          <p:nvPr/>
        </p:nvSpPr>
        <p:spPr>
          <a:xfrm>
            <a:off x="469080" y="1768320"/>
            <a:ext cx="116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Weak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Eviden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Line 47"/>
          <p:cNvSpPr/>
          <p:nvPr/>
        </p:nvSpPr>
        <p:spPr>
          <a:xfrm flipH="1">
            <a:off x="4533840" y="3619440"/>
            <a:ext cx="1943280" cy="762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Line 48"/>
          <p:cNvSpPr/>
          <p:nvPr/>
        </p:nvSpPr>
        <p:spPr>
          <a:xfrm>
            <a:off x="2209680" y="3619440"/>
            <a:ext cx="2298960" cy="762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60240" y="1519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eorgia"/>
              </a:rPr>
              <a:t>NIH Consensus Development Proces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2608200" y="1757520"/>
            <a:ext cx="38386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e5ff"/>
                </a:solidFill>
                <a:latin typeface="Times New Roman"/>
              </a:rPr>
              <a:t>NIH Organizational Meetin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2829960" y="3882960"/>
            <a:ext cx="3398040" cy="1038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5e5ff"/>
                </a:solidFill>
                <a:latin typeface="Times New Roman"/>
              </a:rPr>
              <a:t>Panelists Meet Pre-Conferen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e5ff"/>
                </a:solidFill>
                <a:latin typeface="Times New Roman"/>
              </a:rPr>
              <a:t>(Panelists are independent, non-DHHS,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e5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e5e5ff"/>
                </a:solidFill>
                <a:latin typeface="Times New Roman"/>
              </a:rPr>
              <a:t>general expertise, but not doing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e5ff"/>
                </a:solidFill>
                <a:latin typeface="Times New Roman"/>
              </a:rPr>
              <a:t>research on the issues at hand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3157560" y="2585880"/>
            <a:ext cx="3019320" cy="76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Planning Committee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(Experts, Institutes, Agencies)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2982960" y="5316480"/>
            <a:ext cx="308916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e5ff"/>
                </a:solidFill>
                <a:latin typeface="Times New Roman"/>
              </a:rPr>
              <a:t>Conference</a:t>
            </a:r>
            <a:r>
              <a:rPr b="1" lang="en-US" sz="2800" spc="-1" strike="noStrike">
                <a:solidFill>
                  <a:srgbClr val="e5e5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6410160" y="5300640"/>
            <a:ext cx="2078280" cy="64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e5ff"/>
                </a:solidFill>
                <a:latin typeface="Times New Roman"/>
              </a:rPr>
              <a:t>Expert Testimony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e5ff"/>
                </a:solidFill>
                <a:latin typeface="Times New Roman"/>
              </a:rPr>
              <a:t>(Speakers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611640" y="5311800"/>
            <a:ext cx="1867680" cy="64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e5ff"/>
                </a:solidFill>
                <a:latin typeface="Times New Roman"/>
              </a:rPr>
              <a:t>Public Inpu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e5ff"/>
                </a:solidFill>
                <a:latin typeface="Times New Roman"/>
              </a:rPr>
              <a:t>(Discussion Periods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Line 16"/>
          <p:cNvSpPr/>
          <p:nvPr/>
        </p:nvSpPr>
        <p:spPr>
          <a:xfrm>
            <a:off x="2489040" y="5634000"/>
            <a:ext cx="470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Line 17"/>
          <p:cNvSpPr/>
          <p:nvPr/>
        </p:nvSpPr>
        <p:spPr>
          <a:xfrm flipH="1" flipV="1">
            <a:off x="6078240" y="5613120"/>
            <a:ext cx="320760" cy="6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19"/>
          <p:cNvSpPr/>
          <p:nvPr/>
        </p:nvSpPr>
        <p:spPr>
          <a:xfrm>
            <a:off x="6846840" y="2301840"/>
            <a:ext cx="1873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Times New Roman"/>
              </a:rPr>
              <a:t>Finalize Question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Times New Roman"/>
              </a:rPr>
              <a:t>Nominate Speaker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Times New Roman"/>
              </a:rPr>
              <a:t>Nominate Panelis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Times New Roman"/>
              </a:rPr>
              <a:t>Set Agend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Times New Roman"/>
              </a:rPr>
              <a:t>Set Conference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Times New Roman"/>
              </a:rPr>
              <a:t>Title/Dat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Line 20"/>
          <p:cNvSpPr/>
          <p:nvPr/>
        </p:nvSpPr>
        <p:spPr>
          <a:xfrm flipV="1">
            <a:off x="6195960" y="2498760"/>
            <a:ext cx="641520" cy="45864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Line 21"/>
          <p:cNvSpPr/>
          <p:nvPr/>
        </p:nvSpPr>
        <p:spPr>
          <a:xfrm flipV="1">
            <a:off x="6232680" y="2736720"/>
            <a:ext cx="630000" cy="23832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6199200" y="2943360"/>
            <a:ext cx="654120" cy="1260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Line 23"/>
          <p:cNvSpPr/>
          <p:nvPr/>
        </p:nvSpPr>
        <p:spPr>
          <a:xfrm>
            <a:off x="6199200" y="2948040"/>
            <a:ext cx="671400" cy="26172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Text Box 24"/>
          <p:cNvSpPr/>
          <p:nvPr/>
        </p:nvSpPr>
        <p:spPr>
          <a:xfrm>
            <a:off x="657360" y="2779560"/>
            <a:ext cx="22852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Times New Roman"/>
              </a:rPr>
              <a:t>AHRQ Evidence Repor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Line 25"/>
          <p:cNvSpPr/>
          <p:nvPr/>
        </p:nvSpPr>
        <p:spPr>
          <a:xfrm flipH="1">
            <a:off x="2954160" y="2984400"/>
            <a:ext cx="21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92" name="AutoShape 26"/>
          <p:cNvCxnSpPr>
            <a:stCxn id="190" idx="2"/>
            <a:endCxn id="178" idx="1"/>
          </p:cNvCxnSpPr>
          <p:nvPr/>
        </p:nvCxnSpPr>
        <p:spPr>
          <a:xfrm flipH="1" rot="16200000">
            <a:off x="1673280" y="3251880"/>
            <a:ext cx="1280160" cy="102780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3" name="Line 28"/>
          <p:cNvSpPr/>
          <p:nvPr/>
        </p:nvSpPr>
        <p:spPr>
          <a:xfrm>
            <a:off x="4527720" y="2138400"/>
            <a:ext cx="12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Line 29"/>
          <p:cNvSpPr/>
          <p:nvPr/>
        </p:nvSpPr>
        <p:spPr>
          <a:xfrm>
            <a:off x="4527720" y="3367080"/>
            <a:ext cx="0" cy="507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Line 36"/>
          <p:cNvSpPr/>
          <p:nvPr/>
        </p:nvSpPr>
        <p:spPr>
          <a:xfrm>
            <a:off x="4521240" y="4906800"/>
            <a:ext cx="1260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Line 37"/>
          <p:cNvSpPr/>
          <p:nvPr/>
        </p:nvSpPr>
        <p:spPr>
          <a:xfrm>
            <a:off x="4525920" y="5869080"/>
            <a:ext cx="3240" cy="438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38"/>
          <p:cNvSpPr/>
          <p:nvPr/>
        </p:nvSpPr>
        <p:spPr>
          <a:xfrm>
            <a:off x="865080" y="6297480"/>
            <a:ext cx="784512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5ff"/>
                </a:solidFill>
                <a:latin typeface="Times New Roman"/>
              </a:rPr>
              <a:t>Press Conference &amp; Draft Statement Posted on Web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e5e5ff"/>
                </a:solidFill>
                <a:latin typeface="Times New Roman"/>
              </a:rPr>
              <a:t>(http://consensus.nih.gov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Rectangle 40"/>
          <p:cNvSpPr/>
          <p:nvPr/>
        </p:nvSpPr>
        <p:spPr>
          <a:xfrm>
            <a:off x="2552760" y="812880"/>
            <a:ext cx="3949560" cy="419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Text Box 41"/>
          <p:cNvSpPr/>
          <p:nvPr/>
        </p:nvSpPr>
        <p:spPr>
          <a:xfrm>
            <a:off x="2624400" y="830160"/>
            <a:ext cx="38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e5ff"/>
                </a:solidFill>
                <a:latin typeface="Times New Roman"/>
              </a:rPr>
              <a:t>Topic Proposal from Institute or Cente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Line 42"/>
          <p:cNvSpPr/>
          <p:nvPr/>
        </p:nvSpPr>
        <p:spPr>
          <a:xfrm>
            <a:off x="4521240" y="1249200"/>
            <a:ext cx="12600" cy="495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Line 51"/>
          <p:cNvSpPr/>
          <p:nvPr/>
        </p:nvSpPr>
        <p:spPr>
          <a:xfrm>
            <a:off x="6167520" y="2976480"/>
            <a:ext cx="682560" cy="4492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Text Box 60"/>
          <p:cNvSpPr/>
          <p:nvPr/>
        </p:nvSpPr>
        <p:spPr>
          <a:xfrm>
            <a:off x="6808680" y="4186080"/>
            <a:ext cx="184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Times New Roman"/>
              </a:rPr>
              <a:t>Review AHRQ report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Line 62"/>
          <p:cNvSpPr/>
          <p:nvPr/>
        </p:nvSpPr>
        <p:spPr>
          <a:xfrm flipV="1">
            <a:off x="6249960" y="4365720"/>
            <a:ext cx="585720" cy="144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AutoShape 68"/>
          <p:cNvSpPr/>
          <p:nvPr/>
        </p:nvSpPr>
        <p:spPr>
          <a:xfrm>
            <a:off x="520560" y="2685960"/>
            <a:ext cx="219240" cy="4019760"/>
          </a:xfrm>
          <a:custGeom>
            <a:avLst/>
            <a:gdLst>
              <a:gd name="textAreaLeft" fmla="*/ 64440 w 219240"/>
              <a:gd name="textAreaRight" fmla="*/ 219600 w 219240"/>
              <a:gd name="textAreaTop" fmla="*/ 167400 h 4019760"/>
              <a:gd name="textAreaBottom" fmla="*/ 3852360 h 4019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69"/>
          <p:cNvSpPr/>
          <p:nvPr/>
        </p:nvSpPr>
        <p:spPr>
          <a:xfrm rot="16200000">
            <a:off x="-669960" y="44229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cc"/>
                </a:solidFill>
                <a:latin typeface="Times New Roman"/>
              </a:rPr>
              <a:t>14 Month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30T11:26:24Z</dcterms:created>
  <dc:creator>NIH USER</dc:creator>
  <dc:description/>
  <dc:language>en-US</dc:language>
  <cp:lastModifiedBy>1_Mary</cp:lastModifiedBy>
  <cp:lastPrinted>2001-12-12T14:09:13Z</cp:lastPrinted>
  <dcterms:modified xsi:type="dcterms:W3CDTF">2009-01-02T00:07:15Z</dcterms:modified>
  <cp:revision>185</cp:revision>
  <dc:subject/>
  <dc:title>No Slide Title</dc:title>
</cp:coreProperties>
</file>