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26263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926400" cy="92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924360" y="-36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61720" y="690480"/>
            <a:ext cx="4605480" cy="345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74980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924360" y="8749800"/>
            <a:ext cx="300024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9159-DEBD-46E3-BFCA-49FEF533C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2D5F-D1CD-4109-A45D-4212F1BEAF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E01-A943-4A44-B848-81B75BC96A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8FC0-6FEB-492F-ADBD-C4ACA546C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6A75-9E03-4F79-A3E2-A64E2C09C7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34D-9231-4A84-8AE6-BB2E344DD9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3BD8-DAB9-489F-A13F-0E8D16DCA5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D031-16A8-4EA9-945E-AFD7332A45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3D79-E4D0-41C2-BA21-504A03A5E9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B04F-77D9-4F7F-BD6D-6F9127515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C826-5632-4F9C-B0B5-526A9897FC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24360" y="8750160"/>
            <a:ext cx="3000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6CD0-23B7-4D5A-BEE4-8F5B1310E5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23400" y="4375080"/>
            <a:ext cx="507708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5F22C-7A02-4C94-B586-290DAB3F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4F41A-943B-4938-96A3-FF700300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497A0-8284-4644-A510-C70F548A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B0370-1C49-4536-BFA8-E6934C64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13A1-120A-4046-9F31-A027B35C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7381-CCD4-4775-81FC-56726A63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0C1A-72A5-4FBA-AB5F-6D0D52E9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BFA3-9F1F-4DDD-A2FD-CF018531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4370-E498-4580-B08F-D1B5517D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107D-2DAA-40AA-AC5D-A331F7FC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D018-C2C2-4A47-833F-133BBE7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7F5A-8CC3-42D5-A4D7-7C2932D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AC29-4C3B-420B-BEE6-751CE9D1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5E73-64F9-4180-AA08-D31CE093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5F30-3716-4BAA-86A9-308B339B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D94-B0FD-43F6-851C-2E5DD2C8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9815-FCE4-49F5-A433-9528EB0D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B3F2-9864-4B5B-AC0B-D67F00F1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2736-9BE4-46EF-84B1-D0C180C8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3FD4-10A2-470D-AEC2-596045A9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5BC2-34B4-416E-80D8-654BA479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5B0AA-B148-4AF6-BB83-912BFD7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BD86-B979-4952-A1B3-A258724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EB479-FDA8-4E2F-B9C4-3CB7E39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C7F2-4CB4-4983-978B-6F94832BDD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1E8E-D991-4796-9672-1077D9935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0240" y="635040"/>
            <a:ext cx="7780320" cy="23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eorgia"/>
              </a:rPr>
              <a:t>Use of EPC Evidence Reviews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eorgia"/>
              </a:rPr>
              <a:t>NIH Consensus Development Program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0800" y="3384360"/>
            <a:ext cx="7327800" cy="13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Barnett Kramer, MD, MP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Associate Director for Disease Prevention, NI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982800" y="5197320"/>
            <a:ext cx="836640" cy="838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7332840" y="5234040"/>
            <a:ext cx="761760" cy="7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eorgia"/>
              </a:rPr>
              <a:t>The Pa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3" descr="Supreme_Court_US_2006"/>
          <p:cNvPicPr/>
          <p:nvPr/>
        </p:nvPicPr>
        <p:blipFill>
          <a:blip r:embed="rId1"/>
          <a:stretch/>
        </p:blipFill>
        <p:spPr>
          <a:xfrm>
            <a:off x="1270080" y="1560600"/>
            <a:ext cx="64134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2920" y="1868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n Behalf of NIH,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ank You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eorgia"/>
              </a:rPr>
              <a:t>Consensus Development Progr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87320" y="3594240"/>
            <a:ext cx="777240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eorgia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Produce an unbiased, evidence-based assessment of a complex/controversial medical issue that will advance understanding for health professionals and the publ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6" descr="greenlogo"/>
          <p:cNvPicPr/>
          <p:nvPr/>
        </p:nvPicPr>
        <p:blipFill>
          <a:blip r:embed="rId1"/>
          <a:stretch/>
        </p:blipFill>
        <p:spPr>
          <a:xfrm>
            <a:off x="3936960" y="2071800"/>
            <a:ext cx="15192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71440" y="998280"/>
            <a:ext cx="8585280" cy="4707000"/>
          </a:xfrm>
          <a:prstGeom prst="rect">
            <a:avLst/>
          </a:prstGeom>
          <a:solidFill>
            <a:srgbClr val="eaeaea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 fontScale="89000"/>
          </a:bodyPr>
          <a:p>
            <a:pPr marL="14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Level I:  </a:t>
            </a: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i="1" lang="en-US" sz="1600" spc="-1" strike="noStrike">
                <a:solidFill>
                  <a:srgbClr val="000099"/>
                </a:solidFill>
                <a:latin typeface="Garamond"/>
              </a:rPr>
              <a:t>“Would you have this done for yourself or for someone else in your immediate family?”</a:t>
            </a:r>
            <a:r>
              <a:rPr b="0" lang="en-US" sz="1600" spc="-1" strike="noStrike">
                <a:solidFill>
                  <a:srgbClr val="000099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000514"/>
                </a:solidFill>
                <a:latin typeface="Garamond"/>
              </a:rPr>
              <a:t>Influenced by one’s personal experience with the disease and capacity to deal with risk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Garamond"/>
              </a:rPr>
              <a:t>Affects few people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Level II: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i="1" lang="en-US" sz="1800" spc="-1" strike="noStrike">
                <a:solidFill>
                  <a:srgbClr val="000099"/>
                </a:solidFill>
                <a:latin typeface="Garamond"/>
              </a:rPr>
              <a:t>“What would I recommend to my patient/client?”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000514"/>
                </a:solidFill>
                <a:latin typeface="Garamond"/>
              </a:rPr>
              <a:t>Physician making a recommendation for his/her patients.  Influenced by prior experience, but the scientific evidence may play a greater ro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Garamond"/>
              </a:rPr>
              <a:t>Affects possibly hundreds of peopl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Garamond"/>
              </a:rPr>
              <a:t>Level III:</a:t>
            </a:r>
            <a:r>
              <a:rPr b="1" lang="en-US" sz="2200" spc="-1" strike="noStrike">
                <a:solidFill>
                  <a:srgbClr val="000099"/>
                </a:solidFill>
                <a:latin typeface="Garamond"/>
              </a:rPr>
              <a:t>	</a:t>
            </a:r>
            <a:r>
              <a:rPr b="1" i="1" lang="en-US" sz="2200" spc="-1" strike="noStrike">
                <a:solidFill>
                  <a:srgbClr val="000099"/>
                </a:solidFill>
                <a:latin typeface="Garamond"/>
              </a:rPr>
              <a:t>“What would I recommend to the nation, the world?”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Across-the-board recommendations for a population.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000514"/>
                </a:solidFill>
                <a:latin typeface="Garamond"/>
              </a:rPr>
              <a:t>Must be based on rigorous assessment of the scientific evidence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200" spc="-1" strike="noStrike">
                <a:solidFill>
                  <a:srgbClr val="cc0000"/>
                </a:solidFill>
                <a:latin typeface="Garamond"/>
              </a:rPr>
              <a:t>Affects hundreds of thousands, even millions of people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 courtesy of Leon Gordis, M.D.., Johns Hopkins Univers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1428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184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03040" y="210960"/>
            <a:ext cx="86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eorgia"/>
              </a:rPr>
              <a:t>Levels of Decision M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eorgia"/>
              </a:rPr>
              <a:t>Consensus Development Progra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942920"/>
            <a:ext cx="7873920" cy="41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eorgia"/>
              </a:rPr>
              <a:t>Audi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Health Professional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Publ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eorgia"/>
              </a:rPr>
              <a:t>Research Agenc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PC reports for OMA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5720" y="1733040"/>
            <a:ext cx="788832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steoporos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C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Hepatitis 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Cancer Sympto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Clinically Inapparent Adrenal Ma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tal Knee Replac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th Viol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roving End-of-life C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 of Menopausal Symptom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esarean Delivery on Maternal Reque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ltivitamin/Mineral Supplements and Chronic Disea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obacco Prevention, Cessation, and Contro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-4604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More…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0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A Consensus Development Conference is NOT simply an evidence report…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31920" y="3470400"/>
            <a:ext cx="4630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N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71480" y="2438280"/>
            <a:ext cx="20160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rt speaker testimon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3206880" y="2454120"/>
            <a:ext cx="2454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Systematic evidence review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6081840" y="2454120"/>
            <a:ext cx="20602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(audience) inpu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868400" y="3111480"/>
            <a:ext cx="53820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411800" y="3106800"/>
            <a:ext cx="0" cy="376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14"/>
          <p:cNvSpPr/>
          <p:nvPr/>
        </p:nvSpPr>
        <p:spPr>
          <a:xfrm flipH="1">
            <a:off x="6350040" y="3106800"/>
            <a:ext cx="442800" cy="317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4440240" y="3875040"/>
            <a:ext cx="0" cy="88596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2511360" y="4773600"/>
            <a:ext cx="38466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ensus Stat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e5ff"/>
                </a:solidFill>
                <a:latin typeface="Georgia"/>
              </a:rPr>
              <a:t>Selection Criteria:</a:t>
            </a:r>
            <a:br>
              <a:rPr sz="3200"/>
            </a:br>
            <a:r>
              <a:rPr b="1" lang="en-US" sz="2400" spc="-1" strike="noStrike">
                <a:solidFill>
                  <a:srgbClr val="e5e5ff"/>
                </a:solidFill>
                <a:latin typeface="Georgia"/>
              </a:rPr>
              <a:t>NIH Consensus Development Conference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eorgia"/>
              </a:rPr>
              <a:t>vs.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eorgia"/>
              </a:rPr>
              <a:t>State-of-the-Science Conference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blic health importa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ap between knowledge and pract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menable to clarific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ength of available evid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98072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te-of-the-Science      Consens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7315200" y="198108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325440" y="2362320"/>
            <a:ext cx="8666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4952880" y="1981080"/>
            <a:ext cx="0" cy="36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304920" y="5638680"/>
            <a:ext cx="863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331920" y="1981080"/>
            <a:ext cx="8637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304920" y="3048120"/>
            <a:ext cx="860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304920" y="4038480"/>
            <a:ext cx="8650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2"/>
          <p:cNvSpPr/>
          <p:nvPr/>
        </p:nvSpPr>
        <p:spPr>
          <a:xfrm>
            <a:off x="304920" y="4876920"/>
            <a:ext cx="860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4876920" y="251460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4876920" y="33526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876920" y="4267080"/>
            <a:ext cx="426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876920" y="5105520"/>
            <a:ext cx="426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7"/>
          <p:cNvGrpSpPr/>
          <p:nvPr/>
        </p:nvGrpSpPr>
        <p:grpSpPr>
          <a:xfrm>
            <a:off x="812880" y="209520"/>
            <a:ext cx="7168680" cy="2914200"/>
            <a:chOff x="812880" y="209520"/>
            <a:chExt cx="7168680" cy="2914200"/>
          </a:xfrm>
        </p:grpSpPr>
        <p:sp>
          <p:nvSpPr>
            <p:cNvPr id="146" name="AutoShape 2"/>
            <p:cNvSpPr/>
            <p:nvPr/>
          </p:nvSpPr>
          <p:spPr>
            <a:xfrm>
              <a:off x="812880" y="209520"/>
              <a:ext cx="7168680" cy="291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" name="Line 3"/>
            <p:cNvSpPr/>
            <p:nvPr/>
          </p:nvSpPr>
          <p:spPr>
            <a:xfrm>
              <a:off x="1210680" y="2808720"/>
              <a:ext cx="637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" name="Line 4"/>
            <p:cNvSpPr/>
            <p:nvPr/>
          </p:nvSpPr>
          <p:spPr>
            <a:xfrm>
              <a:off x="1708920" y="2414880"/>
              <a:ext cx="5376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206440" y="2021400"/>
              <a:ext cx="4422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2646360" y="1627200"/>
              <a:ext cx="3484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3135960" y="1233360"/>
              <a:ext cx="251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3600360" y="839880"/>
              <a:ext cx="1593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3" name="Text Box 10"/>
          <p:cNvSpPr/>
          <p:nvPr/>
        </p:nvSpPr>
        <p:spPr>
          <a:xfrm>
            <a:off x="3590280" y="283860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Ideas &amp; Opin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3768120" y="249876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ase Repor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3836160" y="209700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ase Ser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449520" y="1731960"/>
            <a:ext cx="20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imes New Roman"/>
              </a:rPr>
              <a:t>Case Control Stud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3699720" y="129384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Cohort Studi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070520" y="9111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RC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890160" y="325440"/>
            <a:ext cx="10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RC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Dbl Blin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AutoShape 20"/>
          <p:cNvSpPr/>
          <p:nvPr/>
        </p:nvSpPr>
        <p:spPr>
          <a:xfrm>
            <a:off x="220680" y="1574640"/>
            <a:ext cx="558720" cy="1557360"/>
          </a:xfrm>
          <a:custGeom>
            <a:avLst/>
            <a:gdLst>
              <a:gd name="textAreaLeft" fmla="*/ 357120 w 558720"/>
              <a:gd name="textAreaRight" fmla="*/ 558720 w 558720"/>
              <a:gd name="textAreaTop" fmla="*/ 40320 h 1557360"/>
              <a:gd name="textAreaBottom" fmla="*/ 1517040 h 15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6265800" y="220680"/>
            <a:ext cx="1695600" cy="1338120"/>
          </a:xfrm>
          <a:custGeom>
            <a:avLst/>
            <a:gdLst>
              <a:gd name="textAreaLeft" fmla="*/ 0 w 1695600"/>
              <a:gd name="textAreaRight" fmla="*/ 612360 w 1695600"/>
              <a:gd name="textAreaTop" fmla="*/ 79560 h 1338120"/>
              <a:gd name="textAreaBottom" fmla="*/ 1258560 h 13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7"/>
                  <a:pt x="10800" y="4113"/>
                </a:cubicBezTo>
                <a:lnTo>
                  <a:pt x="10800" y="6937"/>
                </a:lnTo>
                <a:cubicBezTo>
                  <a:pt x="10800" y="8994"/>
                  <a:pt x="16200" y="11050"/>
                  <a:pt x="21600" y="11050"/>
                </a:cubicBezTo>
                <a:cubicBezTo>
                  <a:pt x="16200" y="11050"/>
                  <a:pt x="10800" y="13107"/>
                  <a:pt x="10800" y="15163"/>
                </a:cubicBezTo>
                <a:lnTo>
                  <a:pt x="10800" y="17487"/>
                </a:lnTo>
                <a:cubicBezTo>
                  <a:pt x="10800" y="1954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764640" y="3206880"/>
            <a:ext cx="3656880" cy="398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te-of-the-Science Confer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6"/>
          <p:cNvSpPr/>
          <p:nvPr/>
        </p:nvSpPr>
        <p:spPr>
          <a:xfrm>
            <a:off x="5221800" y="3206880"/>
            <a:ext cx="2637360" cy="398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Consensus Confer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AutoShape 28"/>
          <p:cNvSpPr/>
          <p:nvPr/>
        </p:nvSpPr>
        <p:spPr>
          <a:xfrm>
            <a:off x="2722680" y="4389480"/>
            <a:ext cx="3570120" cy="976320"/>
          </a:xfrm>
          <a:prstGeom prst="downArrowCallout">
            <a:avLst>
              <a:gd name="adj1" fmla="val 91426"/>
              <a:gd name="adj2" fmla="val 91418"/>
              <a:gd name="adj3" fmla="val 16667"/>
              <a:gd name="adj4" fmla="val 66667"/>
            </a:avLst>
          </a:prstGeom>
          <a:solidFill>
            <a:srgbClr val="dddddd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29"/>
          <p:cNvSpPr/>
          <p:nvPr/>
        </p:nvSpPr>
        <p:spPr>
          <a:xfrm>
            <a:off x="2703600" y="449748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Identical Conference Proc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30"/>
          <p:cNvSpPr/>
          <p:nvPr/>
        </p:nvSpPr>
        <p:spPr>
          <a:xfrm>
            <a:off x="382320" y="5959440"/>
            <a:ext cx="3516840" cy="703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tate-of-the-Science Stat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cused on Research Agend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4325760" y="5883120"/>
            <a:ext cx="4434120" cy="703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Consensus Conference Stat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Focused on Practice Recommenda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68" name="AutoShape 32"/>
          <p:cNvCxnSpPr/>
          <p:nvPr/>
        </p:nvCxnSpPr>
        <p:spPr>
          <a:xfrm flipH="1" rot="16200000">
            <a:off x="-95400" y="2655360"/>
            <a:ext cx="1060920" cy="457920"/>
          </a:xfrm>
          <a:prstGeom prst="bentConnector2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</p:cxnSp>
      <p:cxnSp>
        <p:nvCxnSpPr>
          <p:cNvPr id="169" name="AutoShape 33"/>
          <p:cNvCxnSpPr>
            <a:stCxn id="161" idx="1"/>
            <a:endCxn id="163" idx="3"/>
          </p:cNvCxnSpPr>
          <p:nvPr/>
        </p:nvCxnSpPr>
        <p:spPr>
          <a:xfrm flipH="1">
            <a:off x="7875000" y="904680"/>
            <a:ext cx="100440" cy="2510280"/>
          </a:xfrm>
          <a:prstGeom prst="bentConnector3">
            <a:avLst>
              <a:gd name="adj1" fmla="val -214028"/>
            </a:avLst>
          </a:prstGeom>
          <a:ln w="28440">
            <a:solidFill>
              <a:srgbClr val="66ff33"/>
            </a:solidFill>
            <a:miter/>
            <a:tailEnd len="med" type="triangle" w="med"/>
          </a:ln>
        </p:spPr>
      </p:cxnSp>
      <p:sp>
        <p:nvSpPr>
          <p:cNvPr id="170" name="Line 36"/>
          <p:cNvSpPr/>
          <p:nvPr/>
        </p:nvSpPr>
        <p:spPr>
          <a:xfrm flipH="1">
            <a:off x="1953720" y="5372280"/>
            <a:ext cx="2584440" cy="563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4525920" y="5378400"/>
            <a:ext cx="2863800" cy="5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5637960" y="53640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Strong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469080" y="1768320"/>
            <a:ext cx="116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Wea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47"/>
          <p:cNvSpPr/>
          <p:nvPr/>
        </p:nvSpPr>
        <p:spPr>
          <a:xfrm flipH="1">
            <a:off x="4533840" y="3619440"/>
            <a:ext cx="1943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48"/>
          <p:cNvSpPr/>
          <p:nvPr/>
        </p:nvSpPr>
        <p:spPr>
          <a:xfrm>
            <a:off x="2209680" y="3619440"/>
            <a:ext cx="229896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60240" y="15192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eorgia"/>
              </a:rPr>
              <a:t>NIH Consensus Development Proces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608200" y="1757520"/>
            <a:ext cx="38386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NIH Organizational Mee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829960" y="3882960"/>
            <a:ext cx="3398040" cy="103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Panelists Meet Pre-Conferen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(Panelists are independent, non-DHHS,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general expertise, but not doing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e5ff"/>
                </a:solidFill>
                <a:latin typeface="Times New Roman"/>
              </a:rPr>
              <a:t>research on the issues at hand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157560" y="2585880"/>
            <a:ext cx="3019320" cy="76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lanning Committe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(Experts, Institutes, Agencies)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982960" y="5316480"/>
            <a:ext cx="30891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5e5ff"/>
                </a:solidFill>
                <a:latin typeface="Times New Roman"/>
              </a:rPr>
              <a:t>Conference</a:t>
            </a:r>
            <a:r>
              <a:rPr b="1" lang="en-US" sz="2800" spc="-1" strike="noStrike">
                <a:solidFill>
                  <a:srgbClr val="e5e5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410160" y="5300640"/>
            <a:ext cx="2078280" cy="64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Expert Testimon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(Speakers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1640" y="5311800"/>
            <a:ext cx="1867680" cy="642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e5ff"/>
                </a:solidFill>
                <a:latin typeface="Times New Roman"/>
              </a:rPr>
              <a:t>Public Inpu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e5ff"/>
                </a:solidFill>
                <a:latin typeface="Times New Roman"/>
              </a:rPr>
              <a:t>(Discussion Periods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2489040" y="5634000"/>
            <a:ext cx="470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17"/>
          <p:cNvSpPr/>
          <p:nvPr/>
        </p:nvSpPr>
        <p:spPr>
          <a:xfrm flipH="1" flipV="1">
            <a:off x="6078240" y="5613120"/>
            <a:ext cx="320760" cy="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6846840" y="2301840"/>
            <a:ext cx="187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Finalize Question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Nominate Speaker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Nominate Panelist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Set Agend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Set Conferenc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Title/D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20"/>
          <p:cNvSpPr/>
          <p:nvPr/>
        </p:nvSpPr>
        <p:spPr>
          <a:xfrm flipV="1">
            <a:off x="6195960" y="2498760"/>
            <a:ext cx="641520" cy="458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6232680" y="2736720"/>
            <a:ext cx="630000" cy="238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6199200" y="2943360"/>
            <a:ext cx="654120" cy="126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6199200" y="2948040"/>
            <a:ext cx="671400" cy="2617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657360" y="2779560"/>
            <a:ext cx="22852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Times New Roman"/>
              </a:rPr>
              <a:t>AHRQ Evidence Repor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Line 25"/>
          <p:cNvSpPr/>
          <p:nvPr/>
        </p:nvSpPr>
        <p:spPr>
          <a:xfrm flipH="1">
            <a:off x="2954160" y="2984400"/>
            <a:ext cx="21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92" name="AutoShape 26"/>
          <p:cNvCxnSpPr>
            <a:stCxn id="190" idx="2"/>
            <a:endCxn id="178" idx="1"/>
          </p:cNvCxnSpPr>
          <p:nvPr/>
        </p:nvCxnSpPr>
        <p:spPr>
          <a:xfrm flipH="1" rot="16200000">
            <a:off x="1673280" y="3251880"/>
            <a:ext cx="1280160" cy="1027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3" name="Line 28"/>
          <p:cNvSpPr/>
          <p:nvPr/>
        </p:nvSpPr>
        <p:spPr>
          <a:xfrm>
            <a:off x="4527720" y="2138400"/>
            <a:ext cx="12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Line 29"/>
          <p:cNvSpPr/>
          <p:nvPr/>
        </p:nvSpPr>
        <p:spPr>
          <a:xfrm>
            <a:off x="4527720" y="3367080"/>
            <a:ext cx="0" cy="507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Line 36"/>
          <p:cNvSpPr/>
          <p:nvPr/>
        </p:nvSpPr>
        <p:spPr>
          <a:xfrm>
            <a:off x="4521240" y="4906800"/>
            <a:ext cx="1260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Line 37"/>
          <p:cNvSpPr/>
          <p:nvPr/>
        </p:nvSpPr>
        <p:spPr>
          <a:xfrm>
            <a:off x="4525920" y="5869080"/>
            <a:ext cx="3240" cy="438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865080" y="6297480"/>
            <a:ext cx="7845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Press Conference &amp; Draft Statement Posted on Web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5e5ff"/>
                </a:solidFill>
                <a:latin typeface="Times New Roman"/>
              </a:rPr>
              <a:t>(http://consensus.nih.gov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2552760" y="812880"/>
            <a:ext cx="3949560" cy="41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41"/>
          <p:cNvSpPr/>
          <p:nvPr/>
        </p:nvSpPr>
        <p:spPr>
          <a:xfrm>
            <a:off x="2624400" y="83016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Times New Roman"/>
              </a:rPr>
              <a:t>Topic Proposal from Institute or Center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4521240" y="1249200"/>
            <a:ext cx="12600" cy="495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Line 51"/>
          <p:cNvSpPr/>
          <p:nvPr/>
        </p:nvSpPr>
        <p:spPr>
          <a:xfrm>
            <a:off x="6167520" y="2976480"/>
            <a:ext cx="682560" cy="4492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Text Box 60"/>
          <p:cNvSpPr/>
          <p:nvPr/>
        </p:nvSpPr>
        <p:spPr>
          <a:xfrm>
            <a:off x="6808680" y="41860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imes New Roman"/>
              </a:rPr>
              <a:t>Review AHRQ report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Line 62"/>
          <p:cNvSpPr/>
          <p:nvPr/>
        </p:nvSpPr>
        <p:spPr>
          <a:xfrm flipV="1">
            <a:off x="6249960" y="4365720"/>
            <a:ext cx="585720" cy="14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AutoShape 68"/>
          <p:cNvSpPr/>
          <p:nvPr/>
        </p:nvSpPr>
        <p:spPr>
          <a:xfrm>
            <a:off x="520560" y="2685960"/>
            <a:ext cx="219240" cy="4019760"/>
          </a:xfrm>
          <a:custGeom>
            <a:avLst/>
            <a:gdLst>
              <a:gd name="textAreaLeft" fmla="*/ 64440 w 219240"/>
              <a:gd name="textAreaRight" fmla="*/ 219600 w 219240"/>
              <a:gd name="textAreaTop" fmla="*/ 167400 h 4019760"/>
              <a:gd name="textAreaBottom" fmla="*/ 3852360 h 4019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69"/>
          <p:cNvSpPr/>
          <p:nvPr/>
        </p:nvSpPr>
        <p:spPr>
          <a:xfrm rot="16200000">
            <a:off x="-669960" y="44229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cc"/>
                </a:solidFill>
                <a:latin typeface="Times New Roman"/>
              </a:rPr>
              <a:t>14 Month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30T11:26:24Z</dcterms:created>
  <dc:creator>NIH USER</dc:creator>
  <dc:description/>
  <dc:language>en-US</dc:language>
  <cp:lastModifiedBy>1_Mary</cp:lastModifiedBy>
  <cp:lastPrinted>2001-12-12T14:09:13Z</cp:lastPrinted>
  <dcterms:modified xsi:type="dcterms:W3CDTF">2009-01-02T00:07:15Z</dcterms:modified>
  <cp:revision>185</cp:revision>
  <dc:subject/>
  <dc:title>No Slide Title</dc:title>
</cp:coreProperties>
</file>