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01821-0127-45E3-A25D-B48225BFFE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SM Health Care is indebted to AHRQ for the development of TeamSTEPPS and the training that has been provided both by AHRQ and the American Institute of Resear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SM Health Care is a non-profit Catholic system with 20 hospitals in Mo, OK, Il., and WI – we have 5000 physicians on staff and 23,000 employees. Like many other health care organizations, we have been very active in safety improvement initiatives but TeamSTEPPS has now become the center of this work.</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believe teamwork training IS particularly important in the current health care environment becaus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re is unprecedented fragmentation of care – </a:t>
            </a:r>
            <a:r>
              <a:rPr b="0" lang="en-US" sz="1200" spc="-1" strike="noStrike">
                <a:solidFill>
                  <a:srgbClr val="000000"/>
                </a:solidFill>
                <a:latin typeface="Arial"/>
              </a:rPr>
              <a:t>multiple doctors and nurses care for each patient – this lends itself to handoff problems and errors related to communication. STEPPS directly addresses these problems of fragmented car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ltiple safety initiatives – are patients safer? </a:t>
            </a:r>
            <a:r>
              <a:rPr b="0" lang="en-US" sz="1200" spc="-1" strike="noStrike">
                <a:solidFill>
                  <a:srgbClr val="000000"/>
                </a:solidFill>
                <a:latin typeface="Arial"/>
              </a:rPr>
              <a:t>SSM, like other health care organizations has embraced safety improvement but there’s scarce evidence that our care is really better for this huge effort.  We need more fundamental change to become truly safe and I believe STEPPS is the ke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ectronic Health Records</a:t>
            </a:r>
            <a:r>
              <a:rPr b="0" lang="en-US" sz="1200" spc="-1" strike="noStrike">
                <a:solidFill>
                  <a:srgbClr val="000000"/>
                </a:solidFill>
                <a:latin typeface="Arial"/>
              </a:rPr>
              <a:t> – many of us have or are in the process of having EHR’s – while they have remarkable benefits for patient care and safety, </a:t>
            </a:r>
            <a:r>
              <a:rPr b="1" lang="en-US" sz="1200" spc="-1" strike="noStrike">
                <a:solidFill>
                  <a:srgbClr val="000000"/>
                </a:solidFill>
                <a:latin typeface="Arial"/>
              </a:rPr>
              <a:t>EHR’s tend to isolate caregivers from each other</a:t>
            </a:r>
            <a:r>
              <a:rPr b="0" lang="en-US" sz="1200" spc="-1" strike="noStrike">
                <a:solidFill>
                  <a:srgbClr val="000000"/>
                </a:solidFill>
                <a:latin typeface="Arial"/>
              </a:rPr>
              <a:t>. So the need for teamwork training is even more pressing with EHR’s to emphasize the need for exquisite communication. Together the EHR and teamwork training will be a remarkable combination for safe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Care giving docs and nurses are the heart of a safety culture – </a:t>
            </a:r>
            <a:r>
              <a:rPr b="0" lang="en-US" sz="1200" spc="-1" strike="noStrike">
                <a:solidFill>
                  <a:srgbClr val="000000"/>
                </a:solidFill>
                <a:latin typeface="Arial"/>
              </a:rPr>
              <a:t>to much of our safety improvement is removed from the actual caregivers ( quality directors, administrators etc.) – only when doctors and nurses are key participants and contributors can we truly have a culture of safet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SM Health care was invited to participate in some of AHRQ’s earliest Master Trainer classes. We started actual training in October, 2007 and have now trained 400 clinicians on three pilot units. This includes 130 physicians – none of the physicians were paid to participate. We have developed a simple outcome measurement plan and anticipate training 300-400 more doctors, nurses, and other clinicians before the close of 2008.</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our outcome measurement plan for all clinical STEPPS trained units. The trigger tool adds additional data elements about adverse events to the small number of serious and sentinel event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rtainly, STEPPS is first and foremost  teamwork training but we see it as much more.  . One of the strongest points of STEPPS is the emphasis on all aspects of communication – something sorely needed in today’s healthcare.  . I would run into significant resistance suggesting communication training on many units – but for some reason its acceptable when wrapped in communication trai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PS creates standards of care agreed upon by the caregivers . In a STEPPS environment  the best teamwork and communication is the norm. There is no longer a place for disruption and poor handoffs because the community won’t tolerate it any lon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 fairly set plan of training and implementation. To this date all our units are volunteers. Initially we make a 45 minute STEPPS introduction to the hospital Administrative Council to assure there consent and active support. But just this nod from the AC is not enough. Then we go to the doctors and nurses of the pilot unit and give another 45 minute introduction and hope that at least 60% of the practitioners will agree to proceed. We then do a pre-STEPPS measurement and begin training. The training takes more sessions than expected as the unit needs to be staffed during the training. Once training is completed, we train selected doctors and nurses to be coaches – the coaches are crucial to sustaining implementation. The coaches, the unit director, and various others for a STEPPS steering team that meets monthly to discuss problems in implementation and decide on sequential concrete teamwork concepts and tools to be used on the unit. After 6-8 months of implementation, we then collect outcome data and will feed it back to the un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odically we provide training for new doctors, nurses, and resident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focused on Core Teams in our training because we believe that this is where the greatest benefit lies – though we tell people that whatever their function is they should use their teamwork skills. On each unit trained, we select serious or sentinel events from that unit to highlight that problems occur locally. We then use those case histories in the final module (summing it all up) as an exercise and ask the trainees to use their new skills to make these cases turn out differently. We have made the Fundamentals training 4 hrs. long so its reasonable for busy clinicians. And, we have elected to use STEPPS as a foundation for safety and care rather than directed at a specific improvement project or a particular unit dysfunc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Doctors and nurses on both sides of the podium – </a:t>
            </a:r>
            <a:r>
              <a:rPr b="0" lang="en-US" sz="1200" spc="-1" strike="noStrike">
                <a:solidFill>
                  <a:srgbClr val="ffff00"/>
                </a:solidFill>
                <a:latin typeface="Arial"/>
              </a:rPr>
              <a:t>in our version of STEPPS, then training is very clinical and requires doctors and nurses to teach the training. We have found that its much more valuable to have classes of trainees that include doctors and nurses together and not separate the disciplines. We encourage quality directors, risk managers, and educators to become trainers to support implementation but not to do the initial training of doctors and nurs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Training is the easy part – </a:t>
            </a:r>
            <a:r>
              <a:rPr b="0" lang="en-US" sz="1200" spc="-1" strike="noStrike">
                <a:solidFill>
                  <a:srgbClr val="ffff00"/>
                </a:solidFill>
                <a:latin typeface="Arial"/>
              </a:rPr>
              <a:t>although it doesn’t see like it during the training, this is the easiest phase. Implementation is slow and there must be a concerted, deliberate effort to make teamwork stick. Without that effort, the teamwork will fai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Not all STEPPS trainers are trainers –</a:t>
            </a:r>
            <a:r>
              <a:rPr b="0" lang="en-US" sz="1200" spc="-1" strike="noStrike">
                <a:solidFill>
                  <a:srgbClr val="ffff00"/>
                </a:solidFill>
                <a:latin typeface="Arial"/>
              </a:rPr>
              <a:t>it is quite difficult to be a teamwork trainer and the training is critical. Good initial training sessions improve attendance at subsequent session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Train STEPPS coaches early – </a:t>
            </a:r>
            <a:r>
              <a:rPr b="0" lang="en-US" sz="1200" spc="-1" strike="noStrike">
                <a:solidFill>
                  <a:srgbClr val="ffff00"/>
                </a:solidFill>
                <a:latin typeface="Arial"/>
              </a:rPr>
              <a:t>local coaches are critical to sustain implementation. These coaches ge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an additional 1.5 hrs training and should be in place early in teamwork implement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Understand advocacy and assertion clearly – </a:t>
            </a:r>
            <a:r>
              <a:rPr b="0" lang="en-US" sz="1200" spc="-1" strike="noStrike">
                <a:solidFill>
                  <a:srgbClr val="ffff00"/>
                </a:solidFill>
                <a:latin typeface="Arial"/>
              </a:rPr>
              <a:t>one of the most important and tricky concepts in teamwork is advocacy and assertion – the idea that any team member can “stop the action” when a serious safety issue arises until that issue is resolved. While this is a central concept there are a couple of importa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points to clarify:</a:t>
            </a:r>
            <a:endParaRPr b="0" lang="en-US" sz="1200" spc="-1" strike="noStrike">
              <a:solidFill>
                <a:srgbClr val="000000"/>
              </a:solidFill>
              <a:latin typeface="Arial"/>
            </a:endParaRPr>
          </a:p>
          <a:p>
            <a:pPr marL="228600" indent="-228600">
              <a:spcBef>
                <a:spcPts val="45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This type of intervention MUST only be used for very serious safety breeches</a:t>
            </a:r>
            <a:endParaRPr b="0" lang="en-US" sz="1200" spc="-1" strike="noStrike">
              <a:solidFill>
                <a:srgbClr val="000000"/>
              </a:solidFill>
              <a:latin typeface="Arial"/>
            </a:endParaRPr>
          </a:p>
          <a:p>
            <a:pPr marL="228600" indent="-228600">
              <a:spcBef>
                <a:spcPts val="45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The team leader is still the final decision maker – clinical care cannot occur by democratic vo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Separate teamwork training from EHR implementation – </a:t>
            </a:r>
            <a:r>
              <a:rPr b="0" lang="en-US" sz="1200" spc="-1" strike="noStrike">
                <a:solidFill>
                  <a:srgbClr val="ffff00"/>
                </a:solidFill>
                <a:latin typeface="Arial"/>
              </a:rPr>
              <a:t>as mentioned earlier, the combination of</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an EHR and teamwork training are two of the most important innovations in safety BUT we realize th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These initiatives must be separated in time. Both EHR and teamwork implementation are major culture changes and nobody can handle such changes in close proximity. We now require that EHR “go live” and teamwork training be separated by at least 6 months so that each initiative can have everybody’s full atten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Intensive support for all trained units -  </a:t>
            </a:r>
            <a:r>
              <a:rPr b="0" lang="en-US" sz="1200" spc="-1" strike="noStrike">
                <a:solidFill>
                  <a:srgbClr val="ffff00"/>
                </a:solidFill>
                <a:latin typeface="Arial"/>
              </a:rPr>
              <a:t>I mentioned the training is the easy part. In order to make teamwork stick after training there has to be intensive support. This support comes from the directors of units, hospital administration, and the coaches. Failure to design and operationalize this support will lead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inevitable failure of the initia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Train our own trainers – </a:t>
            </a:r>
            <a:r>
              <a:rPr b="0" lang="en-US" sz="1200" spc="-1" strike="noStrike">
                <a:solidFill>
                  <a:srgbClr val="ffff00"/>
                </a:solidFill>
                <a:latin typeface="Arial"/>
              </a:rPr>
              <a:t>as we expand the teamwork program at SSM, we need to increase our training capacity and have decided to train our own trainers in a day long training s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Simulation training – </a:t>
            </a:r>
            <a:r>
              <a:rPr b="0" lang="en-US" sz="1200" spc="-1" strike="noStrike">
                <a:solidFill>
                  <a:srgbClr val="ffff00"/>
                </a:solidFill>
                <a:latin typeface="Arial"/>
              </a:rPr>
              <a:t>this seems to be the next logical step – to test our teamwork in critical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Broad use of STEPPS on all clinical units – </a:t>
            </a:r>
            <a:r>
              <a:rPr b="0" lang="en-US" sz="1200" spc="-1" strike="noStrike">
                <a:solidFill>
                  <a:srgbClr val="ffff00"/>
                </a:solidFill>
                <a:latin typeface="Arial"/>
              </a:rPr>
              <a:t>because of the initial positive responses to teamwork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SM is expanding the use of this training to all types of hospital units. While teamwork training was originally earmarked for high risk units ( labor and delivery, OR’s, ED’s , ICU’s), we see great value in all our clinic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being trained so that teamwork becomes the foundation of safety and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CEFA71-D36F-4DC2-AB2C-3BDC929A61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90F4D9-2B8E-4FFC-BB14-ED23322EE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4AC81E-010B-44B6-AD45-764F05FC94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AA4364-66E8-4E3A-9AEE-BC738331C7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52CC34-6411-4C33-9182-FB82AD145D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F26F01-F648-4794-93DC-7525E5C63F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706B98-D3F1-48FE-A45F-0896FE364E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9AB24D-1901-437C-804B-AAA705BADF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242FF2-E110-4DC3-AC1E-AEEE5F395D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FC0BD-0A11-46EA-B84D-BA1184C368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0A482-F8E5-4EFD-B13A-5088BAE7FF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52AEF-BA23-46A5-9647-D589D74E96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F92F2-AAD0-4AB9-9AA2-55A873C78D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mailto:Andy_Kosseff_MD@ssmhc.com"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2627280" y="2144880"/>
            <a:ext cx="3809880" cy="495000"/>
          </a:xfrm>
          <a:prstGeom prst="rect">
            <a:avLst/>
          </a:prstGeom>
          <a:ln w="0">
            <a:noFill/>
          </a:ln>
        </p:spPr>
      </p:pic>
      <p:pic>
        <p:nvPicPr>
          <p:cNvPr id="49" name="" descr=""/>
          <p:cNvPicPr/>
          <p:nvPr/>
        </p:nvPicPr>
        <p:blipFill>
          <a:blip r:embed="rId2"/>
          <a:stretch/>
        </p:blipFill>
        <p:spPr>
          <a:xfrm>
            <a:off x="3505320" y="304920"/>
            <a:ext cx="2054160" cy="1646280"/>
          </a:xfrm>
          <a:prstGeom prst="rect">
            <a:avLst/>
          </a:prstGeom>
          <a:ln w="0">
            <a:noFill/>
          </a:ln>
        </p:spPr>
      </p:pic>
      <p:sp>
        <p:nvSpPr>
          <p:cNvPr id="50" name=""/>
          <p:cNvSpPr/>
          <p:nvPr/>
        </p:nvSpPr>
        <p:spPr>
          <a:xfrm>
            <a:off x="914400" y="2819520"/>
            <a:ext cx="7315200" cy="3700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3200" spc="-1" strike="noStrike">
                <a:solidFill>
                  <a:srgbClr val="99ccff"/>
                </a:solidFill>
                <a:latin typeface="Book Antiqua"/>
              </a:rPr>
              <a:t>SSM Health Care’s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Book Antiqua"/>
              </a:rPr>
              <a:t>         </a:t>
            </a:r>
            <a:r>
              <a:rPr b="0" lang="en-US" sz="3200" spc="-1" strike="noStrike">
                <a:solidFill>
                  <a:srgbClr val="99ccff"/>
                </a:solidFill>
                <a:latin typeface="Book Antiqua"/>
              </a:rPr>
              <a:t>Foundation of Safety and Care</a:t>
            </a:r>
            <a:endParaRPr b="0" lang="en-US" sz="32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         </a:t>
            </a:r>
            <a:r>
              <a:rPr b="0" lang="en-US" sz="2000" spc="-1" strike="noStrike">
                <a:solidFill>
                  <a:srgbClr val="ffff00"/>
                </a:solidFill>
                <a:latin typeface="Arial"/>
              </a:rPr>
              <a:t>STEPPS: Producing Effective Medical Teams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to Achieve Optimal Patient Outcom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HRQ Annual Conference  Sept. 10, 2008</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ffffff"/>
                </a:solidFill>
                <a:latin typeface="Arial"/>
              </a:rPr>
              <a:t>Andy Kosseff, MD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SM Health Care Medical Direct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67" name=""/>
          <p:cNvSpPr txBox="1"/>
          <p:nvPr/>
        </p:nvSpPr>
        <p:spPr>
          <a:xfrm>
            <a:off x="3048120" y="2057400"/>
            <a:ext cx="2619360" cy="14540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he End</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8" name=""/>
          <p:cNvSpPr/>
          <p:nvPr/>
        </p:nvSpPr>
        <p:spPr>
          <a:xfrm>
            <a:off x="1800" y="4114800"/>
            <a:ext cx="8924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lease contact Andy Kosseff for further information or discuss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u="sng">
                <a:solidFill>
                  <a:srgbClr val="009999"/>
                </a:solidFill>
                <a:uFillTx/>
                <a:latin typeface="Arial"/>
                <a:hlinkClick r:id="rId1"/>
              </a:rPr>
              <a:t>Andy_Kosseff_MD@ssmhc.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608-238-133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Arial"/>
              </a:rPr>
              <a:t>Why is STEPPS So Important Now</a:t>
            </a:r>
            <a:endParaRPr b="0" lang="en-US" sz="32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ragmentation of car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ultiple initiatives – are patients safe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lectronic health record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are giving doctors and nurses are th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heart of a safety cul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Book Antiqua"/>
              </a:rPr>
              <a:t>SSM’s Progres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arted TeamSTEPPS training in Oct., 2007</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ave trained 400 clinicians on 3 pilot unit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stablished outcomes measurement plan for each unit trained</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Will train another 300 clinicians in 2008</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Book Antiqua"/>
              </a:rPr>
              <a:t>STEPPS Outcome Measures</a:t>
            </a:r>
            <a:endParaRPr b="0" lang="en-US" sz="32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umber of serious and sentinel event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dverse Outcome Index (OB) /Trigger tool</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HRQ Patient Safety Culture Survey</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atient, physician, and nurse satisfaction survey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urse turnover r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Book Antiqua"/>
              </a:rPr>
              <a:t> </a:t>
            </a:r>
            <a:r>
              <a:rPr b="0" lang="en-US" sz="3200" spc="-1" strike="noStrike">
                <a:solidFill>
                  <a:srgbClr val="99ccff"/>
                </a:solidFill>
                <a:latin typeface="Book Antiqua"/>
              </a:rPr>
              <a:t>Additional Aspects of STEPPS Training</a:t>
            </a:r>
            <a:endParaRPr b="0" lang="en-US" sz="3200" spc="-1" strike="noStrike">
              <a:solidFill>
                <a:srgbClr val="000000"/>
              </a:solidFill>
              <a:latin typeface="Arial"/>
            </a:endParaRPr>
          </a:p>
        </p:txBody>
      </p:sp>
      <p:sp>
        <p:nvSpPr>
          <p:cNvPr id="58"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t is acceptable communication train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t sets a standard for performance 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clinical units – agreed upon by bedside clinicia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Book Antiqua"/>
              </a:rPr>
              <a:t>Operationalizing STEPPS</a:t>
            </a:r>
            <a:endParaRPr b="0" lang="en-US" sz="32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rework</a:t>
            </a:r>
            <a:endParaRPr b="0" lang="en-US" sz="2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ffffff"/>
                </a:solidFill>
                <a:latin typeface="Arial"/>
              </a:rPr>
              <a:t>Introduction to Administrative Counci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ntroduction to doctors and nurses on unit to be traine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easuremen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tart training</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mplementation</a:t>
            </a:r>
            <a:endParaRPr b="0" lang="en-US" sz="2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0" lang="en-US" sz="1800" spc="-1" strike="noStrike">
                <a:solidFill>
                  <a:srgbClr val="ffffff"/>
                </a:solidFill>
                <a:latin typeface="Arial"/>
              </a:rPr>
              <a:t>Coaches to sustain implementa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ffffff"/>
                </a:solidFill>
                <a:latin typeface="Arial"/>
              </a:rPr>
              <a:t>Monthly STEPPS Steering Team meeting</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equential tools and concepts implementa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Outcome data feedback</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rain new doctors and nurs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Book Antiqua"/>
              </a:rPr>
              <a:t>SSM Customization</a:t>
            </a:r>
            <a:endParaRPr b="0" lang="en-US" sz="32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cus on core team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Use clinical cases from units being train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Make initial Fundamentals training 4 hour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Use as a foundation of safety and car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Book Antiqua"/>
              </a:rPr>
              <a:t>What We Should Have Known</a:t>
            </a:r>
            <a:endParaRPr b="0" lang="en-US" sz="32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octors and nurses on both sides of the podium</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raining is the easy part</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ot all STEPPS trainers are trainer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Understand advocacy and assertion clearly</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eparate teamwork training from EHR implement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Book Antiqua"/>
              </a:rPr>
              <a:t>SSM’s STEPPS Future</a:t>
            </a:r>
            <a:endParaRPr b="0" lang="en-US" sz="3200" spc="-1" strike="noStrike">
              <a:solidFill>
                <a:srgbClr val="000000"/>
              </a:solidFill>
              <a:latin typeface="Arial"/>
            </a:endParaRPr>
          </a:p>
        </p:txBody>
      </p:sp>
      <p:sp>
        <p:nvSpPr>
          <p:cNvPr id="66"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tensive support for all trained uni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rain our own traine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imulation train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road use of STEPPS on all clinical uni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1T01:33:37Z</dcterms:created>
  <dc:creator>Andy Kosseff</dc:creator>
  <dc:description/>
  <dc:language>en-US</dc:language>
  <cp:lastModifiedBy>bcambridge</cp:lastModifiedBy>
  <dcterms:modified xsi:type="dcterms:W3CDTF">2008-10-16T13:38:20Z</dcterms:modified>
  <cp:revision>87</cp:revision>
  <dc:subject/>
  <dc:title>Slide 1</dc:title>
</cp:coreProperties>
</file>