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01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3280" cy="341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4"/>
          </p:nvPr>
        </p:nvSpPr>
        <p:spPr>
          <a:xfrm>
            <a:off x="-3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5"/>
          </p:nvPr>
        </p:nvSpPr>
        <p:spPr>
          <a:xfrm>
            <a:off x="388440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288CB66-0000-4AE9-A730-FB9B770B3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38A626E-BF97-4C09-B618-C13930FE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4834BA5-34FF-4113-B0AC-9020496FA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15449BF-2A1D-4A9E-BCDF-838E3045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46DDE06-7B69-4F6F-91E6-0C52B12A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F2B2462-F115-49CC-A1A2-026FF00E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F4519AF-7184-415D-96C3-9B51A7D2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4633D49-55F3-4879-B9E7-474C666A8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4540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ABE7961-AA27-4366-AC8D-8AAEBA94B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4160" y="684360"/>
            <a:ext cx="4549680" cy="3412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24320"/>
            <a:ext cx="5486400" cy="40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49392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D3B-92A2-42BE-8400-82067918B9FE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106200" y="33480"/>
            <a:ext cx="8972640" cy="512640"/>
            <a:chOff x="106200" y="33480"/>
            <a:chExt cx="8972640" cy="512640"/>
          </a:xfrm>
        </p:grpSpPr>
        <p:pic>
          <p:nvPicPr>
            <p:cNvPr id="5" name="Picture 10" descr=""/>
            <p:cNvPicPr/>
            <p:nvPr/>
          </p:nvPicPr>
          <p:blipFill>
            <a:blip r:embed="rId2"/>
            <a:stretch/>
          </p:blipFill>
          <p:spPr>
            <a:xfrm>
              <a:off x="106200" y="33480"/>
              <a:ext cx="134172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11"/>
            <p:cNvSpPr/>
            <p:nvPr/>
          </p:nvSpPr>
          <p:spPr>
            <a:xfrm>
              <a:off x="1574640" y="76320"/>
              <a:ext cx="1143000" cy="4572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12"/>
            <p:cNvSpPr/>
            <p:nvPr/>
          </p:nvSpPr>
          <p:spPr>
            <a:xfrm>
              <a:off x="3583080" y="76320"/>
              <a:ext cx="582480" cy="45720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3"/>
            <p:cNvSpPr/>
            <p:nvPr/>
          </p:nvSpPr>
          <p:spPr>
            <a:xfrm>
              <a:off x="4191120" y="74520"/>
              <a:ext cx="1191960" cy="192240"/>
            </a:xfrm>
            <a:prstGeom prst="rect">
              <a:avLst/>
            </a:prstGeom>
            <a:solidFill>
              <a:srgbClr val="dbe9fd"/>
            </a:solidFill>
            <a:ln w="9360">
              <a:solidFill>
                <a:srgbClr val="dbe9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4"/>
            <p:cNvSpPr/>
            <p:nvPr/>
          </p:nvSpPr>
          <p:spPr>
            <a:xfrm>
              <a:off x="4192560" y="304920"/>
              <a:ext cx="735120" cy="22860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5"/>
            <p:cNvSpPr/>
            <p:nvPr/>
          </p:nvSpPr>
          <p:spPr>
            <a:xfrm>
              <a:off x="4952880" y="304920"/>
              <a:ext cx="1054080" cy="2286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6"/>
            <p:cNvSpPr/>
            <p:nvPr/>
          </p:nvSpPr>
          <p:spPr>
            <a:xfrm>
              <a:off x="2744640" y="76320"/>
              <a:ext cx="811440" cy="45720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7"/>
            <p:cNvSpPr/>
            <p:nvPr/>
          </p:nvSpPr>
          <p:spPr>
            <a:xfrm>
              <a:off x="6032520" y="76320"/>
              <a:ext cx="723960" cy="20304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8"/>
            <p:cNvSpPr/>
            <p:nvPr/>
          </p:nvSpPr>
          <p:spPr>
            <a:xfrm>
              <a:off x="6781680" y="76320"/>
              <a:ext cx="1270080" cy="45720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9"/>
            <p:cNvSpPr/>
            <p:nvPr/>
          </p:nvSpPr>
          <p:spPr>
            <a:xfrm>
              <a:off x="6021360" y="304920"/>
              <a:ext cx="735120" cy="22860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8077320" y="76320"/>
              <a:ext cx="523800" cy="177840"/>
            </a:xfrm>
            <a:prstGeom prst="rect">
              <a:avLst/>
            </a:prstGeom>
            <a:solidFill>
              <a:srgbClr val="0c39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21"/>
            <p:cNvSpPr/>
            <p:nvPr/>
          </p:nvSpPr>
          <p:spPr>
            <a:xfrm>
              <a:off x="8077320" y="268200"/>
              <a:ext cx="525240" cy="265320"/>
            </a:xfrm>
            <a:prstGeom prst="rect">
              <a:avLst/>
            </a:prstGeom>
            <a:solidFill>
              <a:srgbClr val="dbe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22"/>
            <p:cNvSpPr/>
            <p:nvPr/>
          </p:nvSpPr>
          <p:spPr>
            <a:xfrm>
              <a:off x="5421240" y="74520"/>
              <a:ext cx="584280" cy="19368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3"/>
            <p:cNvSpPr/>
            <p:nvPr/>
          </p:nvSpPr>
          <p:spPr>
            <a:xfrm>
              <a:off x="8629560" y="77760"/>
              <a:ext cx="449280" cy="455760"/>
            </a:xfrm>
            <a:prstGeom prst="rect">
              <a:avLst/>
            </a:prstGeom>
            <a:solidFill>
              <a:srgbClr val="a2c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Line 24"/>
          <p:cNvSpPr/>
          <p:nvPr/>
        </p:nvSpPr>
        <p:spPr>
          <a:xfrm>
            <a:off x="228600" y="1295280"/>
            <a:ext cx="8686800" cy="0"/>
          </a:xfrm>
          <a:prstGeom prst="line">
            <a:avLst/>
          </a:prstGeom>
          <a:ln w="38160">
            <a:solidFill>
              <a:srgbClr val="1e3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hyperlink" Target="http://www.mailman.hs.columbia.edu/" TargetMode="External"/><Relationship Id="rId11" Type="http://schemas.openxmlformats.org/officeDocument/2006/relationships/image" Target="../media/image7.png"/><Relationship Id="rId12" Type="http://schemas.openxmlformats.org/officeDocument/2006/relationships/hyperlink" Target="http://www.nyu.edu/dental/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www.opendoormedical.org/index.php" TargetMode="External"/><Relationship Id="rId15" Type="http://schemas.openxmlformats.org/officeDocument/2006/relationships/image" Target="../media/image3.png"/><Relationship Id="rId16" Type="http://schemas.openxmlformats.org/officeDocument/2006/relationships/hyperlink" Target="http://www.opendoormedical.org/index.php" TargetMode="External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F0B3-4C14-4CD6-AF3A-5E61774E437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 Condensed"/>
              </a:rPr>
              <a:t>Evaluation of a CDSS and EMR-Based Registry to Improve Management of Hypertension in a Community Health Center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4266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ene Kopal, MPA, M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or, Primary Care Developmen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F49-D456-4C22-8187-5604D18F49F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New York Area Map"/>
          <p:cNvPicPr/>
          <p:nvPr/>
        </p:nvPicPr>
        <p:blipFill>
          <a:blip r:embed="rId1"/>
          <a:stretch/>
        </p:blipFill>
        <p:spPr>
          <a:xfrm>
            <a:off x="1066680" y="1447920"/>
            <a:ext cx="5334120" cy="49338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3885480" y="2590920"/>
            <a:ext cx="228600" cy="152280"/>
            <a:chOff x="3885480" y="2590920"/>
            <a:chExt cx="228600" cy="152280"/>
          </a:xfrm>
        </p:grpSpPr>
        <p:pic>
          <p:nvPicPr>
            <p:cNvPr id="70" name="Picture 6" descr="toplogo"/>
            <p:cNvPicPr/>
            <p:nvPr/>
          </p:nvPicPr>
          <p:blipFill>
            <a:blip r:embed="rId2"/>
            <a:stretch/>
          </p:blipFill>
          <p:spPr>
            <a:xfrm>
              <a:off x="3886200" y="25909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7" descr="toplogo"/>
            <p:cNvPicPr/>
            <p:nvPr/>
          </p:nvPicPr>
          <p:blipFill>
            <a:blip r:embed="rId3"/>
            <a:stretch/>
          </p:blipFill>
          <p:spPr>
            <a:xfrm flipH="1" rot="10800000">
              <a:off x="3885480" y="26762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Group 8"/>
          <p:cNvGrpSpPr/>
          <p:nvPr/>
        </p:nvGrpSpPr>
        <p:grpSpPr>
          <a:xfrm>
            <a:off x="4266360" y="2438280"/>
            <a:ext cx="228600" cy="152640"/>
            <a:chOff x="4266360" y="2438280"/>
            <a:chExt cx="228600" cy="152640"/>
          </a:xfrm>
        </p:grpSpPr>
        <p:pic>
          <p:nvPicPr>
            <p:cNvPr id="73" name="Picture 9" descr="toplogo"/>
            <p:cNvPicPr/>
            <p:nvPr/>
          </p:nvPicPr>
          <p:blipFill>
            <a:blip r:embed="rId4"/>
            <a:stretch/>
          </p:blipFill>
          <p:spPr>
            <a:xfrm>
              <a:off x="4267080" y="2438280"/>
              <a:ext cx="227880" cy="8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0" descr="toplogo"/>
            <p:cNvPicPr/>
            <p:nvPr/>
          </p:nvPicPr>
          <p:blipFill>
            <a:blip r:embed="rId5"/>
            <a:stretch/>
          </p:blipFill>
          <p:spPr>
            <a:xfrm flipH="1" rot="10800000">
              <a:off x="4266360" y="252396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14"/>
          <p:cNvGrpSpPr/>
          <p:nvPr/>
        </p:nvGrpSpPr>
        <p:grpSpPr>
          <a:xfrm>
            <a:off x="4342680" y="3048120"/>
            <a:ext cx="228600" cy="152280"/>
            <a:chOff x="4342680" y="3048120"/>
            <a:chExt cx="228600" cy="152280"/>
          </a:xfrm>
        </p:grpSpPr>
        <p:pic>
          <p:nvPicPr>
            <p:cNvPr id="76" name="Picture 15" descr="toplogo"/>
            <p:cNvPicPr/>
            <p:nvPr/>
          </p:nvPicPr>
          <p:blipFill>
            <a:blip r:embed="rId6"/>
            <a:stretch/>
          </p:blipFill>
          <p:spPr>
            <a:xfrm>
              <a:off x="4343400" y="30481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6" descr="toplogo"/>
            <p:cNvPicPr/>
            <p:nvPr/>
          </p:nvPicPr>
          <p:blipFill>
            <a:blip r:embed="rId7"/>
            <a:stretch/>
          </p:blipFill>
          <p:spPr>
            <a:xfrm flipH="1" rot="10800000">
              <a:off x="4342680" y="31334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19" descr=""/>
          <p:cNvPicPr/>
          <p:nvPr/>
        </p:nvPicPr>
        <p:blipFill>
          <a:blip r:embed="rId8"/>
          <a:stretch/>
        </p:blipFill>
        <p:spPr>
          <a:xfrm>
            <a:off x="6553080" y="1600200"/>
            <a:ext cx="218628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2" descr="2linelogo.jpg"/>
          <p:cNvPicPr/>
          <p:nvPr/>
        </p:nvPicPr>
        <p:blipFill>
          <a:blip r:embed="rId9"/>
          <a:stretch/>
        </p:blipFill>
        <p:spPr>
          <a:xfrm>
            <a:off x="6477120" y="2757600"/>
            <a:ext cx="2334960" cy="1128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3" descr="MSPH Logo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553080" y="5334120"/>
            <a:ext cx="2352960" cy="522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31"/>
          <p:cNvGrpSpPr/>
          <p:nvPr/>
        </p:nvGrpSpPr>
        <p:grpSpPr>
          <a:xfrm>
            <a:off x="6553080" y="4343400"/>
            <a:ext cx="4572000" cy="609480"/>
            <a:chOff x="6553080" y="4343400"/>
            <a:chExt cx="4572000" cy="609480"/>
          </a:xfrm>
        </p:grpSpPr>
        <p:pic>
          <p:nvPicPr>
            <p:cNvPr id="82" name="Picture 17" descr="New York University - College of Dentistry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6553080" y="4419360"/>
              <a:ext cx="4496040" cy="4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24"/>
            <p:cNvSpPr/>
            <p:nvPr/>
          </p:nvSpPr>
          <p:spPr>
            <a:xfrm>
              <a:off x="8915400" y="4343400"/>
              <a:ext cx="220968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3885480" y="2819520"/>
            <a:ext cx="228600" cy="152280"/>
            <a:chOff x="3885480" y="2819520"/>
            <a:chExt cx="228600" cy="152280"/>
          </a:xfrm>
        </p:grpSpPr>
        <p:pic>
          <p:nvPicPr>
            <p:cNvPr id="85" name="Picture 6" descr="toplogo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3886200" y="2819520"/>
              <a:ext cx="227880" cy="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toplogo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 flipH="1" rot="10800000">
              <a:off x="3885480" y="2904840"/>
              <a:ext cx="228600" cy="6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30"/>
          <p:cNvGrpSpPr/>
          <p:nvPr/>
        </p:nvGrpSpPr>
        <p:grpSpPr>
          <a:xfrm>
            <a:off x="1300320" y="1763640"/>
            <a:ext cx="3805200" cy="1741680"/>
            <a:chOff x="1300320" y="1763640"/>
            <a:chExt cx="3805200" cy="1741680"/>
          </a:xfrm>
        </p:grpSpPr>
        <p:sp>
          <p:nvSpPr>
            <p:cNvPr id="88" name="Oval 28"/>
            <p:cNvSpPr/>
            <p:nvPr/>
          </p:nvSpPr>
          <p:spPr>
            <a:xfrm>
              <a:off x="3429000" y="2133000"/>
              <a:ext cx="1676520" cy="1372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1300320" y="176364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estchester County, 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066A-84A7-4B6A-B9E9-29BD6748F499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57680" y="58248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roject Design and Time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31"/>
          <p:cNvGrpSpPr/>
          <p:nvPr/>
        </p:nvGrpSpPr>
        <p:grpSpPr>
          <a:xfrm>
            <a:off x="154440" y="1733400"/>
            <a:ext cx="3340080" cy="3234960"/>
            <a:chOff x="154440" y="1733400"/>
            <a:chExt cx="3340080" cy="3234960"/>
          </a:xfrm>
        </p:grpSpPr>
        <p:sp>
          <p:nvSpPr>
            <p:cNvPr id="93" name="Text Box 7"/>
            <p:cNvSpPr/>
            <p:nvPr/>
          </p:nvSpPr>
          <p:spPr>
            <a:xfrm>
              <a:off x="154440" y="17334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 ‘0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2"/>
            <p:cNvSpPr/>
            <p:nvPr/>
          </p:nvSpPr>
          <p:spPr>
            <a:xfrm>
              <a:off x="304920" y="2819520"/>
              <a:ext cx="28954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3"/>
            <p:cNvSpPr/>
            <p:nvPr/>
          </p:nvSpPr>
          <p:spPr>
            <a:xfrm>
              <a:off x="304920" y="23940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1985040" y="1752480"/>
              <a:ext cx="15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v -  Dec ‘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20"/>
            <p:cNvSpPr/>
            <p:nvPr/>
          </p:nvSpPr>
          <p:spPr>
            <a:xfrm>
              <a:off x="304920" y="2927520"/>
              <a:ext cx="251460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RB &amp; FW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t Objectiv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 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 Baseline 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Invento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21"/>
            <p:cNvSpPr/>
            <p:nvPr/>
          </p:nvSpPr>
          <p:spPr>
            <a:xfrm>
              <a:off x="517680" y="2406600"/>
              <a:ext cx="26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Baseline &amp; Develop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2"/>
          <p:cNvGrpSpPr/>
          <p:nvPr/>
        </p:nvGrpSpPr>
        <p:grpSpPr>
          <a:xfrm>
            <a:off x="2939760" y="1733400"/>
            <a:ext cx="6183000" cy="4285080"/>
            <a:chOff x="2939760" y="1733400"/>
            <a:chExt cx="6183000" cy="4285080"/>
          </a:xfrm>
        </p:grpSpPr>
        <p:sp>
          <p:nvSpPr>
            <p:cNvPr id="100" name="Line 4"/>
            <p:cNvSpPr/>
            <p:nvPr/>
          </p:nvSpPr>
          <p:spPr>
            <a:xfrm>
              <a:off x="4495680" y="199404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>
              <a:off x="3200400" y="519444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 User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 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ptance Perio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2" name="AutoShape 13"/>
            <p:cNvCxnSpPr>
              <a:endCxn id="101" idx="1"/>
            </p:cNvCxnSpPr>
            <p:nvPr/>
          </p:nvCxnSpPr>
          <p:spPr>
            <a:xfrm flipH="1" rot="16200000">
              <a:off x="1416960" y="3823200"/>
              <a:ext cx="3566160" cy="2160"/>
            </a:xfrm>
            <a:prstGeom prst="bentConnector4">
              <a:avLst>
                <a:gd name="adj1" fmla="val 41675"/>
                <a:gd name="adj2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" name="Text Box 15"/>
            <p:cNvSpPr/>
            <p:nvPr/>
          </p:nvSpPr>
          <p:spPr>
            <a:xfrm>
              <a:off x="4422240" y="17334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 ‘0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17"/>
            <p:cNvSpPr/>
            <p:nvPr/>
          </p:nvSpPr>
          <p:spPr>
            <a:xfrm>
              <a:off x="3200400" y="2832120"/>
              <a:ext cx="1371600" cy="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22"/>
            <p:cNvSpPr/>
            <p:nvPr/>
          </p:nvSpPr>
          <p:spPr>
            <a:xfrm>
              <a:off x="3124080" y="24066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Arial"/>
                </a:rPr>
                <a:t>Acceptanc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3809880" y="3886200"/>
              <a:ext cx="2743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 Post-Intervention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der 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" name="AutoShape 12"/>
            <p:cNvCxnSpPr/>
            <p:nvPr/>
          </p:nvCxnSpPr>
          <p:spPr>
            <a:xfrm flipH="1">
              <a:off x="7390800" y="2070000"/>
              <a:ext cx="1080" cy="1067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8" name="Text Box 16"/>
            <p:cNvSpPr/>
            <p:nvPr/>
          </p:nvSpPr>
          <p:spPr>
            <a:xfrm>
              <a:off x="7013160" y="173340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un ‘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8"/>
            <p:cNvSpPr/>
            <p:nvPr/>
          </p:nvSpPr>
          <p:spPr>
            <a:xfrm>
              <a:off x="4495680" y="2832120"/>
              <a:ext cx="2895840" cy="0"/>
            </a:xfrm>
            <a:prstGeom prst="line">
              <a:avLst/>
            </a:prstGeom>
            <a:ln w="316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5109840" y="2374920"/>
              <a:ext cx="133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Text Box 9"/>
            <p:cNvSpPr/>
            <p:nvPr/>
          </p:nvSpPr>
          <p:spPr>
            <a:xfrm>
              <a:off x="8231760" y="17334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 ‘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6781680" y="5194440"/>
              <a:ext cx="228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rite-u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semination pl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3" name="AutoShape 11"/>
            <p:cNvCxnSpPr>
              <a:endCxn id="112" idx="0"/>
            </p:cNvCxnSpPr>
            <p:nvPr/>
          </p:nvCxnSpPr>
          <p:spPr>
            <a:xfrm rot="5400000">
              <a:off x="6780960" y="3212640"/>
              <a:ext cx="3125160" cy="839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4" name="Line 19"/>
            <p:cNvSpPr/>
            <p:nvPr/>
          </p:nvSpPr>
          <p:spPr>
            <a:xfrm>
              <a:off x="7391520" y="2832120"/>
              <a:ext cx="1371600" cy="0"/>
            </a:xfrm>
            <a:prstGeom prst="line">
              <a:avLst/>
            </a:prstGeom>
            <a:ln w="316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Text Box 24"/>
            <p:cNvSpPr/>
            <p:nvPr/>
          </p:nvSpPr>
          <p:spPr>
            <a:xfrm>
              <a:off x="7238880" y="22510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66"/>
                  </a:solidFill>
                  <a:latin typeface="Arial"/>
                  <a:ea typeface="Arial"/>
                </a:rPr>
                <a:t>Post-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6E7C-9EAA-45DD-8A1E-228D8CB69F90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atient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% Hisp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%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at or below 150% of pover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Baselines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4% screened for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% reported with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C8E9-366D-4E5F-80DF-7CBA55E6C08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1160640" y="1600200"/>
          <a:ext cx="68227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0640" y="1600200"/>
                    <a:ext cx="68227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atient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526760" y="3429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ver 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831680" y="51814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5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7880" y="22860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2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35800" y="1371600"/>
            <a:ext cx="59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 Control Among Hypertens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251040" y="60199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9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3B4-2091-4CAD-88E1-92CB0AFBFA8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rovider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graphicFrame>
        <p:nvGraphicFramePr>
          <p:cNvPr id="130" name="Object 10"/>
          <p:cNvGraphicFramePr/>
          <p:nvPr/>
        </p:nvGraphicFramePr>
        <p:xfrm>
          <a:off x="990720" y="1843200"/>
          <a:ext cx="6629400" cy="47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43200"/>
                    <a:ext cx="6629400" cy="47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7"/>
          <p:cNvSpPr/>
          <p:nvPr/>
        </p:nvSpPr>
        <p:spPr>
          <a:xfrm>
            <a:off x="935280" y="535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935280" y="21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516400" y="3505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596200" y="3505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35080" y="13716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Attitudes Towards Guide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8231760" y="60339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890-5B53-4F6B-80A9-10B6E57906C8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Our Providers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graphicFrame>
        <p:nvGraphicFramePr>
          <p:cNvPr id="140" name="Object 11"/>
          <p:cNvGraphicFramePr/>
          <p:nvPr/>
        </p:nvGraphicFramePr>
        <p:xfrm>
          <a:off x="4924440" y="1981080"/>
          <a:ext cx="368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4440" y="1981080"/>
                    <a:ext cx="368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5"/>
          <p:cNvGraphicFramePr/>
          <p:nvPr/>
        </p:nvGraphicFramePr>
        <p:xfrm>
          <a:off x="747720" y="1981080"/>
          <a:ext cx="368604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7720" y="1981080"/>
                    <a:ext cx="368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18"/>
          <p:cNvSpPr/>
          <p:nvPr/>
        </p:nvSpPr>
        <p:spPr>
          <a:xfrm>
            <a:off x="5828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5828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4758120" y="5343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4758120" y="2214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233532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529680" y="3657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371600" y="5791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tisfied with EC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487692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W Made Clin Tasks Eas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233280" y="1447920"/>
            <a:ext cx="65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isfaction with eClinicalWorks EM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8231760" y="60339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CC71-8849-4CED-8F10-E7D5F617B46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Developing the Intervention</a:t>
            </a:r>
            <a:endParaRPr b="0" lang="en-US" sz="40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04920" y="1447920"/>
            <a:ext cx="1523880" cy="163836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1. Identify Clinical Obje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1828800" y="1447920"/>
            <a:ext cx="1733400" cy="1638360"/>
            <a:chOff x="1828800" y="1447920"/>
            <a:chExt cx="1733400" cy="1638360"/>
          </a:xfrm>
        </p:grpSpPr>
        <p:sp>
          <p:nvSpPr>
            <p:cNvPr id="158" name="AutoShape 4"/>
            <p:cNvSpPr/>
            <p:nvPr/>
          </p:nvSpPr>
          <p:spPr>
            <a:xfrm>
              <a:off x="203832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. Identify Objective Cla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>
              <a:off x="182880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3581280" y="1447920"/>
            <a:ext cx="1714680" cy="1638360"/>
            <a:chOff x="3581280" y="1447920"/>
            <a:chExt cx="1714680" cy="1638360"/>
          </a:xfrm>
        </p:grpSpPr>
        <p:sp>
          <p:nvSpPr>
            <p:cNvPr id="161" name="AutoShape 5"/>
            <p:cNvSpPr/>
            <p:nvPr/>
          </p:nvSpPr>
          <p:spPr>
            <a:xfrm>
              <a:off x="377208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. Identify Type &amp; Workflow Ste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f CD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358128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20"/>
          <p:cNvGrpSpPr/>
          <p:nvPr/>
        </p:nvGrpSpPr>
        <p:grpSpPr>
          <a:xfrm>
            <a:off x="5257800" y="1447920"/>
            <a:ext cx="1771560" cy="1638360"/>
            <a:chOff x="5257800" y="1447920"/>
            <a:chExt cx="1771560" cy="1638360"/>
          </a:xfrm>
        </p:grpSpPr>
        <p:sp>
          <p:nvSpPr>
            <p:cNvPr id="164" name="AutoShape 6"/>
            <p:cNvSpPr/>
            <p:nvPr/>
          </p:nvSpPr>
          <p:spPr>
            <a:xfrm>
              <a:off x="5505480" y="1447920"/>
              <a:ext cx="152388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.  Selec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D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v’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5257800" y="22478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16"/>
          <p:cNvSpPr/>
          <p:nvPr/>
        </p:nvSpPr>
        <p:spPr>
          <a:xfrm>
            <a:off x="457200" y="5531040"/>
            <a:ext cx="8153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heroff, Jerome A., MD, FACP, FACMI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mproving Outcomes with Clinical Decision Support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n Implementer’s Guid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Chicago: Healthcare and Information Management System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ety, 2005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6324480" y="3429000"/>
            <a:ext cx="1447920" cy="163836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Create Use-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2"/>
          <p:cNvGrpSpPr/>
          <p:nvPr/>
        </p:nvGrpSpPr>
        <p:grpSpPr>
          <a:xfrm>
            <a:off x="7010280" y="1447920"/>
            <a:ext cx="1752840" cy="1638360"/>
            <a:chOff x="7010280" y="1447920"/>
            <a:chExt cx="1752840" cy="1638360"/>
          </a:xfrm>
        </p:grpSpPr>
        <p:sp>
          <p:nvSpPr>
            <p:cNvPr id="169" name="AutoShape 7"/>
            <p:cNvSpPr/>
            <p:nvPr/>
          </p:nvSpPr>
          <p:spPr>
            <a:xfrm>
              <a:off x="7238880" y="1447920"/>
              <a:ext cx="1524240" cy="16383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. Specify &amp; Validate Each Intv’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>
              <a:off x="7010280" y="2286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0T21:51:35Z</dcterms:created>
  <dc:creator>Helene</dc:creator>
  <dc:description/>
  <dc:language>en-US</dc:language>
  <cp:lastModifiedBy>rac</cp:lastModifiedBy>
  <dcterms:modified xsi:type="dcterms:W3CDTF">2008-09-08T18:55:27Z</dcterms:modified>
  <cp:revision>194</cp:revision>
  <dc:subject/>
  <dc:title>PowerPoint Presentation</dc:title>
</cp:coreProperties>
</file>