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3280" cy="34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4"/>
          </p:nvPr>
        </p:nvSpPr>
        <p:spPr>
          <a:xfrm>
            <a:off x="-3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5"/>
          </p:nvPr>
        </p:nvSpPr>
        <p:spPr>
          <a:xfrm>
            <a:off x="388440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2403F63-1FAA-4653-A028-D92DBF4A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FA9E2A3-E9A9-4475-8724-E8DC185A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8AF28DC-D321-4FB8-A580-F31AF7D1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08AA710-F211-4B68-A690-7FE232D5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400A62F-1EF2-4DB5-95A8-D0048FD5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44864B5-E622-425C-932C-2BA95AE2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8382565-7CDF-4A3E-859B-105A18B1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94156EF-C7AC-4818-9DFA-E72EFF15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C9ED743-640D-435B-9087-95331258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3AA3-F1D1-4D2F-B502-C7DE50DD08D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106200" y="33480"/>
            <a:ext cx="8972640" cy="512640"/>
            <a:chOff x="106200" y="33480"/>
            <a:chExt cx="8972640" cy="512640"/>
          </a:xfrm>
        </p:grpSpPr>
        <p:pic>
          <p:nvPicPr>
            <p:cNvPr id="5" name="Picture 10" descr=""/>
            <p:cNvPicPr/>
            <p:nvPr/>
          </p:nvPicPr>
          <p:blipFill>
            <a:blip r:embed="rId2"/>
            <a:stretch/>
          </p:blipFill>
          <p:spPr>
            <a:xfrm>
              <a:off x="106200" y="33480"/>
              <a:ext cx="1341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1"/>
            <p:cNvSpPr/>
            <p:nvPr/>
          </p:nvSpPr>
          <p:spPr>
            <a:xfrm>
              <a:off x="1574640" y="76320"/>
              <a:ext cx="1143000" cy="4572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2"/>
            <p:cNvSpPr/>
            <p:nvPr/>
          </p:nvSpPr>
          <p:spPr>
            <a:xfrm>
              <a:off x="3583080" y="76320"/>
              <a:ext cx="582480" cy="45720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3"/>
            <p:cNvSpPr/>
            <p:nvPr/>
          </p:nvSpPr>
          <p:spPr>
            <a:xfrm>
              <a:off x="4191120" y="74520"/>
              <a:ext cx="1191960" cy="192240"/>
            </a:xfrm>
            <a:prstGeom prst="rect">
              <a:avLst/>
            </a:prstGeom>
            <a:solidFill>
              <a:srgbClr val="dbe9fd"/>
            </a:solidFill>
            <a:ln w="9360">
              <a:solidFill>
                <a:srgbClr val="dbe9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4"/>
            <p:cNvSpPr/>
            <p:nvPr/>
          </p:nvSpPr>
          <p:spPr>
            <a:xfrm>
              <a:off x="4192560" y="304920"/>
              <a:ext cx="735120" cy="22860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5"/>
            <p:cNvSpPr/>
            <p:nvPr/>
          </p:nvSpPr>
          <p:spPr>
            <a:xfrm>
              <a:off x="4952880" y="304920"/>
              <a:ext cx="1054080" cy="2286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6"/>
            <p:cNvSpPr/>
            <p:nvPr/>
          </p:nvSpPr>
          <p:spPr>
            <a:xfrm>
              <a:off x="2744640" y="76320"/>
              <a:ext cx="811440" cy="45720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6032520" y="76320"/>
              <a:ext cx="723960" cy="20304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6781680" y="76320"/>
              <a:ext cx="1270080" cy="45720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21360" y="304920"/>
              <a:ext cx="735120" cy="2286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8077320" y="76320"/>
              <a:ext cx="523800" cy="17784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8077320" y="268200"/>
              <a:ext cx="525240" cy="26532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5421240" y="74520"/>
              <a:ext cx="584280" cy="19368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8629560" y="77760"/>
              <a:ext cx="449280" cy="45576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Line 24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38160">
            <a:solidFill>
              <a:srgbClr val="1e3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hyperlink" Target="http://www.mailman.hs.columbia.edu/" TargetMode="External"/><Relationship Id="rId11" Type="http://schemas.openxmlformats.org/officeDocument/2006/relationships/image" Target="../media/image7.png"/><Relationship Id="rId12" Type="http://schemas.openxmlformats.org/officeDocument/2006/relationships/hyperlink" Target="http://www.nyu.edu/dental/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opendoormedical.org/index.php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www.opendoormedical.org/index.php" TargetMode="External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154-8C06-42E3-9448-0D1E9F7B35B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 Condensed"/>
              </a:rPr>
              <a:t>Evaluation of a CDSS and EMR-Based Registry to Improve Management of Hypertension in a Community Health Center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e Kopal, MPA, 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, Primary Care Developmen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C43D-E466-46E8-B062-5434A9DE9B1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New York Area Map"/>
          <p:cNvPicPr/>
          <p:nvPr/>
        </p:nvPicPr>
        <p:blipFill>
          <a:blip r:embed="rId1"/>
          <a:stretch/>
        </p:blipFill>
        <p:spPr>
          <a:xfrm>
            <a:off x="1066680" y="1447920"/>
            <a:ext cx="5334120" cy="49338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3885480" y="2590920"/>
            <a:ext cx="228600" cy="152280"/>
            <a:chOff x="3885480" y="2590920"/>
            <a:chExt cx="228600" cy="152280"/>
          </a:xfrm>
        </p:grpSpPr>
        <p:pic>
          <p:nvPicPr>
            <p:cNvPr id="70" name="Picture 6" descr="toplogo"/>
            <p:cNvPicPr/>
            <p:nvPr/>
          </p:nvPicPr>
          <p:blipFill>
            <a:blip r:embed="rId2"/>
            <a:stretch/>
          </p:blipFill>
          <p:spPr>
            <a:xfrm>
              <a:off x="3886200" y="25909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7" descr="toplogo"/>
            <p:cNvPicPr/>
            <p:nvPr/>
          </p:nvPicPr>
          <p:blipFill>
            <a:blip r:embed="rId3"/>
            <a:stretch/>
          </p:blipFill>
          <p:spPr>
            <a:xfrm flipH="1" rot="10800000">
              <a:off x="3885480" y="26762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8"/>
          <p:cNvGrpSpPr/>
          <p:nvPr/>
        </p:nvGrpSpPr>
        <p:grpSpPr>
          <a:xfrm>
            <a:off x="4266360" y="2438280"/>
            <a:ext cx="228600" cy="152640"/>
            <a:chOff x="4266360" y="2438280"/>
            <a:chExt cx="228600" cy="152640"/>
          </a:xfrm>
        </p:grpSpPr>
        <p:pic>
          <p:nvPicPr>
            <p:cNvPr id="73" name="Picture 9" descr="toplogo"/>
            <p:cNvPicPr/>
            <p:nvPr/>
          </p:nvPicPr>
          <p:blipFill>
            <a:blip r:embed="rId4"/>
            <a:stretch/>
          </p:blipFill>
          <p:spPr>
            <a:xfrm>
              <a:off x="4267080" y="2438280"/>
              <a:ext cx="2278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0" descr="toplogo"/>
            <p:cNvPicPr/>
            <p:nvPr/>
          </p:nvPicPr>
          <p:blipFill>
            <a:blip r:embed="rId5"/>
            <a:stretch/>
          </p:blipFill>
          <p:spPr>
            <a:xfrm flipH="1" rot="10800000">
              <a:off x="4266360" y="252396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4"/>
          <p:cNvGrpSpPr/>
          <p:nvPr/>
        </p:nvGrpSpPr>
        <p:grpSpPr>
          <a:xfrm>
            <a:off x="4342680" y="3048120"/>
            <a:ext cx="228600" cy="152280"/>
            <a:chOff x="4342680" y="3048120"/>
            <a:chExt cx="228600" cy="152280"/>
          </a:xfrm>
        </p:grpSpPr>
        <p:pic>
          <p:nvPicPr>
            <p:cNvPr id="76" name="Picture 15" descr="toplogo"/>
            <p:cNvPicPr/>
            <p:nvPr/>
          </p:nvPicPr>
          <p:blipFill>
            <a:blip r:embed="rId6"/>
            <a:stretch/>
          </p:blipFill>
          <p:spPr>
            <a:xfrm>
              <a:off x="4343400" y="30481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6" descr="toplogo"/>
            <p:cNvPicPr/>
            <p:nvPr/>
          </p:nvPicPr>
          <p:blipFill>
            <a:blip r:embed="rId7"/>
            <a:stretch/>
          </p:blipFill>
          <p:spPr>
            <a:xfrm flipH="1" rot="10800000">
              <a:off x="4342680" y="31334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19" descr=""/>
          <p:cNvPicPr/>
          <p:nvPr/>
        </p:nvPicPr>
        <p:blipFill>
          <a:blip r:embed="rId8"/>
          <a:stretch/>
        </p:blipFill>
        <p:spPr>
          <a:xfrm>
            <a:off x="6553080" y="1600200"/>
            <a:ext cx="218628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2linelogo.jpg"/>
          <p:cNvPicPr/>
          <p:nvPr/>
        </p:nvPicPr>
        <p:blipFill>
          <a:blip r:embed="rId9"/>
          <a:stretch/>
        </p:blipFill>
        <p:spPr>
          <a:xfrm>
            <a:off x="6477120" y="2757600"/>
            <a:ext cx="2334960" cy="112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MSPH Logo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53080" y="5334120"/>
            <a:ext cx="2352960" cy="522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1"/>
          <p:cNvGrpSpPr/>
          <p:nvPr/>
        </p:nvGrpSpPr>
        <p:grpSpPr>
          <a:xfrm>
            <a:off x="6553080" y="4343400"/>
            <a:ext cx="4572000" cy="609480"/>
            <a:chOff x="6553080" y="4343400"/>
            <a:chExt cx="4572000" cy="609480"/>
          </a:xfrm>
        </p:grpSpPr>
        <p:pic>
          <p:nvPicPr>
            <p:cNvPr id="82" name="Picture 17" descr="New York University - College of Dentistry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553080" y="4419360"/>
              <a:ext cx="4496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24"/>
            <p:cNvSpPr/>
            <p:nvPr/>
          </p:nvSpPr>
          <p:spPr>
            <a:xfrm>
              <a:off x="8915400" y="4343400"/>
              <a:ext cx="2209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3885480" y="2819520"/>
            <a:ext cx="228600" cy="152280"/>
            <a:chOff x="3885480" y="2819520"/>
            <a:chExt cx="228600" cy="152280"/>
          </a:xfrm>
        </p:grpSpPr>
        <p:pic>
          <p:nvPicPr>
            <p:cNvPr id="85" name="Picture 6" descr="toplogo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3886200" y="28195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toplogo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 flipH="1" rot="10800000">
              <a:off x="3885480" y="29048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30"/>
          <p:cNvGrpSpPr/>
          <p:nvPr/>
        </p:nvGrpSpPr>
        <p:grpSpPr>
          <a:xfrm>
            <a:off x="1300320" y="1763640"/>
            <a:ext cx="3805200" cy="1741680"/>
            <a:chOff x="1300320" y="1763640"/>
            <a:chExt cx="3805200" cy="1741680"/>
          </a:xfrm>
        </p:grpSpPr>
        <p:sp>
          <p:nvSpPr>
            <p:cNvPr id="88" name="Oval 28"/>
            <p:cNvSpPr/>
            <p:nvPr/>
          </p:nvSpPr>
          <p:spPr>
            <a:xfrm>
              <a:off x="3429000" y="2133000"/>
              <a:ext cx="1676520" cy="1372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1300320" y="176364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stchester County, 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29F8-F5A1-4143-B2C0-AA095EFE99A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57680" y="58248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ject Design and Time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154440" y="1733400"/>
            <a:ext cx="3340080" cy="3234960"/>
            <a:chOff x="154440" y="1733400"/>
            <a:chExt cx="3340080" cy="3234960"/>
          </a:xfrm>
        </p:grpSpPr>
        <p:sp>
          <p:nvSpPr>
            <p:cNvPr id="93" name="Text Box 7"/>
            <p:cNvSpPr/>
            <p:nvPr/>
          </p:nvSpPr>
          <p:spPr>
            <a:xfrm>
              <a:off x="154440" y="17334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 ‘0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"/>
            <p:cNvSpPr/>
            <p:nvPr/>
          </p:nvSpPr>
          <p:spPr>
            <a:xfrm>
              <a:off x="304920" y="2819520"/>
              <a:ext cx="2895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"/>
            <p:cNvSpPr/>
            <p:nvPr/>
          </p:nvSpPr>
          <p:spPr>
            <a:xfrm>
              <a:off x="304920" y="2394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1985040" y="1752480"/>
              <a:ext cx="15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v -  Dec ‘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20"/>
            <p:cNvSpPr/>
            <p:nvPr/>
          </p:nvSpPr>
          <p:spPr>
            <a:xfrm>
              <a:off x="304920" y="2927520"/>
              <a:ext cx="25146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B &amp; FW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 Objecti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 Baseline 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Invento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517680" y="2406600"/>
              <a:ext cx="26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seline &amp; Develop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2939760" y="1733400"/>
            <a:ext cx="6183000" cy="4285080"/>
            <a:chOff x="2939760" y="1733400"/>
            <a:chExt cx="6183000" cy="4285080"/>
          </a:xfrm>
        </p:grpSpPr>
        <p:sp>
          <p:nvSpPr>
            <p:cNvPr id="100" name="Line 4"/>
            <p:cNvSpPr/>
            <p:nvPr/>
          </p:nvSpPr>
          <p:spPr>
            <a:xfrm>
              <a:off x="4495680" y="19940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3200400" y="51944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 Us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 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ptance Peri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2" name="AutoShape 13"/>
            <p:cNvCxnSpPr>
              <a:endCxn id="101" idx="1"/>
            </p:cNvCxnSpPr>
            <p:nvPr/>
          </p:nvCxnSpPr>
          <p:spPr>
            <a:xfrm flipH="1" rot="16200000">
              <a:off x="1416960" y="3823200"/>
              <a:ext cx="3566160" cy="2160"/>
            </a:xfrm>
            <a:prstGeom prst="bentConnector4">
              <a:avLst>
                <a:gd name="adj1" fmla="val 41675"/>
                <a:gd name="adj2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" name="Text Box 15"/>
            <p:cNvSpPr/>
            <p:nvPr/>
          </p:nvSpPr>
          <p:spPr>
            <a:xfrm>
              <a:off x="4422240" y="17334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 ‘0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3200400" y="2832120"/>
              <a:ext cx="137160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>
              <a:off x="3124080" y="2406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cceptanc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3809880" y="3886200"/>
              <a:ext cx="2743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 Post-Intervention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12"/>
            <p:cNvCxnSpPr/>
            <p:nvPr/>
          </p:nvCxnSpPr>
          <p:spPr>
            <a:xfrm flipH="1">
              <a:off x="7390800" y="2070000"/>
              <a:ext cx="1080" cy="10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8" name="Text Box 16"/>
            <p:cNvSpPr/>
            <p:nvPr/>
          </p:nvSpPr>
          <p:spPr>
            <a:xfrm>
              <a:off x="7013160" y="173340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n ‘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4495680" y="2832120"/>
              <a:ext cx="289584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5109840" y="2374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8231760" y="17334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 ‘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6781680" y="519444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rite-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semination pl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endCxn id="112" idx="0"/>
            </p:cNvCxnSpPr>
            <p:nvPr/>
          </p:nvCxnSpPr>
          <p:spPr>
            <a:xfrm rot="5400000">
              <a:off x="6780960" y="3212640"/>
              <a:ext cx="3125160" cy="839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4" name="Line 19"/>
            <p:cNvSpPr/>
            <p:nvPr/>
          </p:nvSpPr>
          <p:spPr>
            <a:xfrm>
              <a:off x="7391520" y="2832120"/>
              <a:ext cx="137160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7238880" y="22510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  <a:ea typeface="Arial"/>
                </a:rPr>
                <a:t>Post-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0A1-1F57-4B7A-82C1-929AEEF61A3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atient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% Hisp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%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at or below 150% of pover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Baselines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% screened for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% reported with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178-0568-430C-8517-1480585CA7C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1160640" y="1600200"/>
          <a:ext cx="68227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1600200"/>
                    <a:ext cx="6822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atient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526760" y="3429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831680" y="51814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7880" y="22860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2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35800" y="1371600"/>
            <a:ext cx="59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 Control Among Hyperten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25104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9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2D5-5CED-4655-B363-1FFF751483D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rovider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graphicFrame>
        <p:nvGraphicFramePr>
          <p:cNvPr id="130" name="Object 10"/>
          <p:cNvGraphicFramePr/>
          <p:nvPr/>
        </p:nvGraphicFramePr>
        <p:xfrm>
          <a:off x="990720" y="1843200"/>
          <a:ext cx="662940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43200"/>
                    <a:ext cx="66294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7"/>
          <p:cNvSpPr/>
          <p:nvPr/>
        </p:nvSpPr>
        <p:spPr>
          <a:xfrm>
            <a:off x="935280" y="535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935280" y="21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516400" y="3505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596200" y="3505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35080" y="13716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Attitudes Towards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8231760" y="60339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147-DAAE-4B93-AF50-F922DB81FFF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rovider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graphicFrame>
        <p:nvGraphicFramePr>
          <p:cNvPr id="140" name="Object 11"/>
          <p:cNvGraphicFramePr/>
          <p:nvPr/>
        </p:nvGraphicFramePr>
        <p:xfrm>
          <a:off x="4924440" y="1981080"/>
          <a:ext cx="368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4440" y="1981080"/>
                    <a:ext cx="368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5"/>
          <p:cNvGraphicFramePr/>
          <p:nvPr/>
        </p:nvGraphicFramePr>
        <p:xfrm>
          <a:off x="747720" y="1981080"/>
          <a:ext cx="368604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720" y="1981080"/>
                    <a:ext cx="368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8"/>
          <p:cNvSpPr/>
          <p:nvPr/>
        </p:nvSpPr>
        <p:spPr>
          <a:xfrm>
            <a:off x="5828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5828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4758120" y="534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4758120" y="2214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33532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52968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371600" y="5791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ied with EC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487692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W Made Clin Tasks Eas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33280" y="1447920"/>
            <a:ext cx="65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isfaction with eClinicalWorks E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8231760" y="60339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6C27-A2C0-41F2-A1B4-959B40A3D33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Developing the Intervention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04920" y="1447920"/>
            <a:ext cx="1523880" cy="163836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. Identify Clinical Obj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1828800" y="1447920"/>
            <a:ext cx="1733400" cy="1638360"/>
            <a:chOff x="1828800" y="1447920"/>
            <a:chExt cx="1733400" cy="1638360"/>
          </a:xfrm>
        </p:grpSpPr>
        <p:sp>
          <p:nvSpPr>
            <p:cNvPr id="158" name="AutoShape 4"/>
            <p:cNvSpPr/>
            <p:nvPr/>
          </p:nvSpPr>
          <p:spPr>
            <a:xfrm>
              <a:off x="203832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. Identify Objective Cl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182880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3581280" y="1447920"/>
            <a:ext cx="1714680" cy="1638360"/>
            <a:chOff x="3581280" y="1447920"/>
            <a:chExt cx="1714680" cy="1638360"/>
          </a:xfrm>
        </p:grpSpPr>
        <p:sp>
          <p:nvSpPr>
            <p:cNvPr id="161" name="AutoShape 5"/>
            <p:cNvSpPr/>
            <p:nvPr/>
          </p:nvSpPr>
          <p:spPr>
            <a:xfrm>
              <a:off x="377208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. Identify Type &amp; Workflow Ste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f CD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358128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5257800" y="1447920"/>
            <a:ext cx="1771560" cy="1638360"/>
            <a:chOff x="5257800" y="1447920"/>
            <a:chExt cx="1771560" cy="1638360"/>
          </a:xfrm>
        </p:grpSpPr>
        <p:sp>
          <p:nvSpPr>
            <p:cNvPr id="164" name="AutoShape 6"/>
            <p:cNvSpPr/>
            <p:nvPr/>
          </p:nvSpPr>
          <p:spPr>
            <a:xfrm>
              <a:off x="550548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.  Sel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D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v’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525780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16"/>
          <p:cNvSpPr/>
          <p:nvPr/>
        </p:nvSpPr>
        <p:spPr>
          <a:xfrm>
            <a:off x="457200" y="5531040"/>
            <a:ext cx="8153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heroff, Jerome A., MD, FACP, FACMI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proving Outcomes with Clinical Decision Support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 Implementer’s Gui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hicago: Healthcare and Information Management Syste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ety, 200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6324480" y="3429000"/>
            <a:ext cx="1447920" cy="163836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reate Use-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7010280" y="1447920"/>
            <a:ext cx="1752840" cy="1638360"/>
            <a:chOff x="7010280" y="1447920"/>
            <a:chExt cx="1752840" cy="1638360"/>
          </a:xfrm>
        </p:grpSpPr>
        <p:sp>
          <p:nvSpPr>
            <p:cNvPr id="169" name="AutoShape 7"/>
            <p:cNvSpPr/>
            <p:nvPr/>
          </p:nvSpPr>
          <p:spPr>
            <a:xfrm>
              <a:off x="7238880" y="1447920"/>
              <a:ext cx="152424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. Specify &amp; Validate Each Intv’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7010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1:51:35Z</dcterms:created>
  <dc:creator>Helene</dc:creator>
  <dc:description/>
  <dc:language>en-US</dc:language>
  <cp:lastModifiedBy>rac</cp:lastModifiedBy>
  <dcterms:modified xsi:type="dcterms:W3CDTF">2008-09-08T18:55:27Z</dcterms:modified>
  <cp:revision>194</cp:revision>
  <dc:subject/>
  <dc:title>PowerPoint Presentation</dc:title>
</cp:coreProperties>
</file>