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977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96360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963600" y="88297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BB8612-A99C-472E-BA6B-92AFCD8C9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of set of patient brochures on USPSTF recommendations for cardiovascular disease. There are 2 brochures about aspirin – one for men (to prevent heart attacks) and one for women (to prevent strok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of the outside of the patient brochure for screening for abdominal aortic aneury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of the inside of the patient brochure for screening for abdominal aortic aneury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of the Provider Fact Sheets, which complement the patient brochures on USPSTF cardiovascular disease screening recommend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page of provider fact sheet on screening for abdominal aortic aneurys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page of provider fact sheet on screening for abdominal aortic aneurys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graphic of website listing an “At-A-Glance Summary” of VHA Clinical Preventive Services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graphic of website providing details about VHA Clinical Preventive Services Policy stat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VHA’s use of USPSTF recommendations – this one about screening for obe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in VA improved from 2000 to 2004. In both years, VA rates were higher than non-VA. Data from the Behavioral Risk Factor Surveillance Survey (self-report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website for VA National Center for Health Promotion and Disease Prevention: www.prevention.va.g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747F-9B21-44A0-970B-24A19FD55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CC8D-03D7-4C3E-BD1C-78778B33A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9041-43C6-4112-B62A-1216CFBAB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0E6E-2AA1-4D0E-BC31-FDD5F11A6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47D43-B728-4EBB-B987-AC691963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6EC2E-E1C3-469E-A035-A97211D7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528CC-4908-4A7E-8C96-CD09CF5A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6DCE0-2D04-4349-8734-D88EF613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4876D-5698-4BAA-AE75-72F2CBD7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485C7-41D3-4DFC-918C-451371D6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1EBB4-0FAA-4D73-B5AF-75B54413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F534-4406-4C37-B6C1-4DBD496BE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9FEC2-7F2F-41F6-BE1A-FDE554BA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356DF-CD23-44EE-838E-AF2A16D0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0DE61-D67D-4BD3-B4F8-CD146C32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7BE6A-FD9C-4E0A-B4DB-0D469629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4C87F-345F-4612-AE04-1F30D4B9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8467-D4FC-4FB9-9815-8B868E000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CD6B-1D56-4C44-9662-305F749D3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2C57-2F11-421B-9754-86D6B0DC7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C834-DE89-4F94-8627-9CD20A427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0AFD-017D-4863-9B05-262480A8A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2741-B056-4535-9FCA-43BEB89D8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22B9-21C2-442F-8852-B2E7CDEEB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04560" y="6245280"/>
            <a:ext cx="83818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AF12-5467-4565-9B59-36553E478BFD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38088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2E1A-78C1-4F97-9A5C-980D7F20E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33960"/>
            <a:ext cx="44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 National Center for Health Promotion and Disease Pre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ve.va.gov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66720" y="76176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ing USPSTF Recommendation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VHA Clinical Practi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266720" y="2971440"/>
            <a:ext cx="4496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da Kinsinger, MD, MP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ef Consultant for Preventive Medici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fice of Patient Care Servic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16600" y="287640"/>
            <a:ext cx="8110800" cy="11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Prevention Policy and Practic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PSTF Cardiovascular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-agency agreement with AHRQ to develop patient and provider resources on USPSTF cardiovascular preventive services recommendat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neral CVD Recommendations (HTN, Lipids) (patient onl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creening for Abdominal Aortic Aneurys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pirin for Primary Prevention of CV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creening for Peripheral Arterial Disease and Carotid Artery Steno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creening for Coronary Heart Dis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tient Broch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icture of patient resour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86868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tient Brochure for Screening for AA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655308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tient Brochure for Screening for AA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64008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r Fact She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30592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r Fact Sheet on Screening for A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10185" t="11478" r="17594" b="13117"/>
          <a:stretch/>
        </p:blipFill>
        <p:spPr>
          <a:xfrm>
            <a:off x="304920" y="1600200"/>
            <a:ext cx="85341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r Fact Sheet on Screening for A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10185" t="11478" r="17594" b="13117"/>
          <a:stretch/>
        </p:blipFill>
        <p:spPr>
          <a:xfrm>
            <a:off x="228600" y="1600200"/>
            <a:ext cx="86104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16600" y="287640"/>
            <a:ext cx="8568000" cy="11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HA Adaption of UPSPTF Recommendation for Screening for AA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daptations for VHA implement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ltrasound preferred but CT or MRI accept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uidelines on re-screening interv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screening needed if had negative study between ages 60 and 6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rge number of patients in target population – no deadline set for accomplishing screening of currently eligible pati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ample clinical reminder develop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tient education brochure being develop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Prevention Policy and Practic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PSTF Cardiovascular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valuation plan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ilot-testing of resources with small group of patient health educators and provid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utside facilitator to gather feedba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al edits, then production of materials and  wide dissemination to VHA staf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rvey of providers about 6 months after dissemin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semination by AHRQ for broad u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60720" y="207720"/>
            <a:ext cx="84988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Prevention Policy and Practic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Clinical Preventive Services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 one VHA policy or set of guidelines addressing all recommended clinical preventive servi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CP developing a dynamic website with: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HA recommendations (most based on USPSTF recommendation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formation about implementation in VH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tient education materi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vider information/resour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terans Health Adminis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’s largest integrated health care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cilities in all 50 sta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53 medical centers, 745 out-patient clin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5.5 million active pati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ique popul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lder (half over age 65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orer (~70% with annual incomes &lt;$26,00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cker (more physical and mental health diagnos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ly men (5% women now but % increasin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Prevention Policy and Practic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Clinical Preventive Services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16667" t="24590" r="5556" b="15731"/>
          <a:stretch/>
        </p:blipFill>
        <p:spPr>
          <a:xfrm>
            <a:off x="228600" y="1676520"/>
            <a:ext cx="8610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Prevention Policy and Practic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Clinical Preventive Services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16110" t="22951" r="6290" b="16395"/>
          <a:stretch/>
        </p:blipFill>
        <p:spPr>
          <a:xfrm>
            <a:off x="228600" y="1676520"/>
            <a:ext cx="8686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VE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eight Management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prehensive weight management program for veterans (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www.move.va.gov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)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vailable in every VA facil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ed on NIH and USPSTF guidelines for screening and treatment of obes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PSTF recommends that clinicians screen all adult patients for obesity and offer intensive counseling and behavioral interventions to promote sustained weight loss for obese adults (B rating)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VA endorses and supports USPSTF recommendations in many clinical area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look forward to on-going collaboration with AHRQ and the USPSTF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6600" y="287640"/>
            <a:ext cx="8110800" cy="11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Features that Support Delivery of Preventi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puterized patient record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nical practice guidelin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~ 20 clinical topic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ress both prevention and treat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nical remind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erformance measu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16600" y="287640"/>
            <a:ext cx="8110800" cy="11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formanc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Process measures, based on evidence-based guideline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Prevention-related measures based on USPSTF recommendations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ncer screening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eas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rvica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orect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obacco use screening and counseling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lcohol use screening and counseling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-Related Performanc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ther prevention-related measur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rdiovascula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ypertension control, LDL in ischemic heart disea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abe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ypertension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ot sensory ex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bA1c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DL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inal ex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fectious Disea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luenza immuniz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neumococcal immuniz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livery of Clinical Preventive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76520"/>
          <a:ext cx="8229600" cy="4263840"/>
        </p:xfrm>
        <a:graphic>
          <a:graphicData uri="http://schemas.openxmlformats.org/drawingml/2006/table">
            <a:tbl>
              <a:tblPr/>
              <a:tblGrid>
                <a:gridCol w="3110040"/>
                <a:gridCol w="1279440"/>
                <a:gridCol w="1281240"/>
                <a:gridCol w="1279440"/>
                <a:gridCol w="127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C scre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st cancer scre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vical cancer scre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lesterol scre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ular aspirin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oking cessation cou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luenza vacc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neumococcal v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13440" y="617220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et al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ch Intern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2008;168:950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6600" y="287640"/>
            <a:ext cx="8110800" cy="11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 National Center for Health Promotion and Disease 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eld-based program office of the Office of Patient Care Services, V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ocated in Durham, N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20 staff (physicians, nurses, psychologists, health educators, dietitian, physical therapist, program analysts, administrative staff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16600" y="287640"/>
            <a:ext cx="8110800" cy="11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CP Program Are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nical Prevention Policy and Practic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MOVE!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Weight Management Progra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ealthierUS Veterans Initiativ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ealth Promotion/Employee Wellnes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Veterans Health Education and Information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valuation and Resear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44302" b="230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4:49:28Z</dcterms:created>
  <dc:creator>Linda Kinsinger</dc:creator>
  <dc:description/>
  <dc:language>en-US</dc:language>
  <cp:lastModifiedBy>rac</cp:lastModifiedBy>
  <dcterms:modified xsi:type="dcterms:W3CDTF">2008-10-02T14:57:58Z</dcterms:modified>
  <cp:revision>10</cp:revision>
  <dc:subject/>
  <dc:title>Using USPSTF Recommendations  in VHA Clinical Practice</dc:title>
</cp:coreProperties>
</file>