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9977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96360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597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82972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963600" y="882972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658FB99-7FF0-4B7A-9C25-5AAACDDC9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597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of set of patient brochures on USPSTF recommendations for cardiovascular disease. There are 2 brochures about aspirin – one for men (to prevent heart attacks) and one for women (to prevent strok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597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of the outside of the patient brochure for screening for abdominal aortic aneury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597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of the inside of the patient brochure for screening for abdominal aortic aneury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597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of the Provider Fact Sheets, which complement the patient brochures on USPSTF cardiovascular disease screening recommend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597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page of provider fact sheet on screening for abdominal aortic aneurys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597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page of provider fact sheet on screening for abdominal aortic aneurys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597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ft graphic of website listing an “At-A-Glance Summary” of VHA Clinical Preventive Services Poli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597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ft graphic of website providing details about VHA Clinical Preventive Services Policy stat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597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example of VHA’s use of USPSTF recommendations – this one about screening for obe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597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in VA improved from 2000 to 2004. In both years, VA rates were higher than non-VA. Data from the Behavioral Risk Factor Surveillance Survey (self-reporte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46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5972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 website for VA National Center for Health Promotion and Disease Prevention: www.prevention.va.go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0C6E-D63D-465A-803E-951DD7EC4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040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13C1-F0FA-48C7-BFED-FC9B8FF7C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040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FFAE-F71A-418E-976C-0E0BB1EA89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040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040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040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A3DC-8544-4820-89C5-27A58059E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861CC-2DFC-41FB-8CAC-88650828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80B55-3897-4AA0-B110-D7989812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9CAAB-3BB2-454C-83CD-19014495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07887-499A-48A1-BB06-2866D140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0E542-0593-4772-ADFF-397A2C24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79C3A-A7DD-4910-9F12-C62D8ED1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CEFB3-0B41-419A-B4AE-13FF7A38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2A73D-26B9-486E-B1D4-763A5C7C8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1040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A2B7F-87F4-4378-A0AB-7F5D1B6C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9D959-71EC-4C6F-A15A-E12DBBCD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040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B9C40-D137-469F-BC80-ABF19A3F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1040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42F69-D2B1-4A70-B3D7-C0838AD2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040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1040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1040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02C14-FB48-4B27-860A-C385D466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F0F7C-2464-4F77-AE30-EDDD0C44E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7D16-D3B9-4BF1-9C43-0B5A91F77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AE61-E850-496F-B09E-E1B388C46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4C0B-474E-4F61-B7D4-A398A4EFEC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0C0A-3485-488C-9028-CE6474D743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040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5031-9FEE-4CCB-B73B-F14B3F720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1DF7-54D5-47E0-A208-0A1962BBA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04560" y="6245280"/>
            <a:ext cx="838188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343E-0A3C-49DD-B806-848938C27241}" type="slidenum"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6720" y="380880"/>
            <a:ext cx="4419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2604-A462-40D9-84A7-E6172C9B9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5133960"/>
            <a:ext cx="449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 National Center for Health Promotion and Disease Prev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ove.va.gov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66720" y="76176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sing USPSTF Recommendation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 VHA Clinical Practi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266720" y="2971440"/>
            <a:ext cx="4496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inda Kinsinger, MD, MP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ief Consultant for Preventive Medicin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ffice of Patient Care Servic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16600" y="287640"/>
            <a:ext cx="8110800" cy="11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Prevention Policy and Practic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PSTF Cardiovascular Recomme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-agency agreement with AHRQ to develop patient and provider resources on USPSTF cardiovascular preventive services recommendation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neral CVD Recommendations (HTN, Lipids) (patient only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creening for Abdominal Aortic Aneurys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pirin for Primary Prevention of CVD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creening for Peripheral Arterial Disease and Carotid Artery Stenosi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creening for Coronary Heart Disea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tient Broch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icture of patient resour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868680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tient Brochure for Screening for AA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655308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tient Brochure for Screening for AA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64008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er Fact Shee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830592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r Fact Sheet on Screening for A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10185" t="11478" r="17594" b="13117"/>
          <a:stretch/>
        </p:blipFill>
        <p:spPr>
          <a:xfrm>
            <a:off x="304920" y="1600200"/>
            <a:ext cx="85341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r Fact Sheet on Screening for AA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rcRect l="10185" t="11478" r="17594" b="13117"/>
          <a:stretch/>
        </p:blipFill>
        <p:spPr>
          <a:xfrm>
            <a:off x="228600" y="1600200"/>
            <a:ext cx="861048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16600" y="287640"/>
            <a:ext cx="8568000" cy="11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HA Adaption of UPSPTF Recommendation for Screening for AA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daptations for VHA implementation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ltrasound preferred but CT or MRI acceptab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uidelines on re-screening interv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 screening needed if had negative study between ages 60 and 65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arge number of patients in target population – no deadline set for accomplishing screening of currently eligible pati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ample clinical reminder develop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tient education brochure being develop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Prevention Policy and Practic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PSTF Cardiovascular Recomme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valuation plan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ilot-testing of resources with small group of patient health educators and provid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utside facilitator to gather feedbac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nal edits, then production of materials and  wide dissemination to VHA staff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urvey of providers about 6 months after dissemin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semination by AHRQ for broad u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60720" y="207720"/>
            <a:ext cx="84988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Prevention Policy and Practice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hensive Clinical Preventive Services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o one VHA policy or set of guidelines addressing all recommended clinical preventive servic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CP developing a dynamic website with: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HA recommendations (most based on USPSTF recommendation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formation about implementation in VH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tient education materi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vider information/resour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eterans Health Administ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S’s largest integrated health care 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acilities in all 50 sta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53 medical centers, 745 out-patient clinic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5.5 million active pati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nique popul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lder (half over age 65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orer (~70% with annual incomes &lt;$26,000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cker (more physical and mental health diagnose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ostly men (5% women now but % increasing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Prevention Policy and Practice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hensive Clinical Preventive Services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16667" t="24590" r="5556" b="15731"/>
          <a:stretch/>
        </p:blipFill>
        <p:spPr>
          <a:xfrm>
            <a:off x="228600" y="1676520"/>
            <a:ext cx="8610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Prevention Policy and Practice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hensive Clinical Preventive Services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16110" t="22951" r="6290" b="16395"/>
          <a:stretch/>
        </p:blipFill>
        <p:spPr>
          <a:xfrm>
            <a:off x="228600" y="1676520"/>
            <a:ext cx="8686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VE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eight Management Pro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mprehensive weight management program for veterans (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  <a:hlinkClick r:id="rId2"/>
              </a:rPr>
              <a:t>www.move.va.gov</a:t>
            </a:r>
            <a:r>
              <a:rPr b="0" lang="en-US" sz="3200" spc="-1" strike="noStrike" u="sng">
                <a:solidFill>
                  <a:srgbClr val="000066"/>
                </a:solidFill>
                <a:uFillTx/>
                <a:latin typeface="Arial"/>
              </a:rPr>
              <a:t>)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vailable in every VA facilit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ased on NIH and USPSTF guidelines for screening and treatment of obesit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SPSTF recommends that clinicians screen all adult patients for obesity and offer intensive counseling and behavioral interventions to promote sustained weight loss for obese adults (B rating)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VA endorses and supports USPSTF recommendations in many clinical areas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 look forward to on-going collaboration with AHRQ and the USPSTF.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16600" y="287640"/>
            <a:ext cx="8110800" cy="11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 Features that Support Delivery of Preventive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160" y="18284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mputerized patient record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nical practice guidelin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ver ~ 20 clinical topic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ress both prevention and treat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nical remind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erformance measur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16600" y="287640"/>
            <a:ext cx="8110800" cy="11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formance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Process measures, based on evidence-based guidelines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Prevention-related measures based on USPSTF recommendations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ancer screening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east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rvical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lorect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obacco use screening and counseling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lcohol use screening and counseling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ion-Related Performanc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ther prevention-related measur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rdiovascula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ypertension control, LDL in ischemic heart disea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abet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ypertension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ot sensory exa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bA1c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DL contro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tinal exa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fectious Disea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fluenza immuniz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neumococcal immuniz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livery of Clinical Preventive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676520"/>
          <a:ext cx="8229600" cy="4263840"/>
        </p:xfrm>
        <a:graphic>
          <a:graphicData uri="http://schemas.openxmlformats.org/drawingml/2006/table">
            <a:tbl>
              <a:tblPr/>
              <a:tblGrid>
                <a:gridCol w="3110040"/>
                <a:gridCol w="1279440"/>
                <a:gridCol w="1281240"/>
                <a:gridCol w="1279440"/>
                <a:gridCol w="1279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-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-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C scre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ast cancer scre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vical cancer scre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olesterol scree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ular aspirin 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moking cessation cou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luenza vacc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neumococcal v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613440" y="6172200"/>
            <a:ext cx="46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et al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ch Intern M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2008;168:950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16600" y="287640"/>
            <a:ext cx="8110800" cy="11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 National Center for Health Promotion and Disease Pre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eld-based program office of the Office of Patient Care Services, VH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ocated in Durham, N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20 staff (physicians, nurses, psychologists, health educators, dietitian, physical therapist, program analysts, administrative staff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16600" y="287640"/>
            <a:ext cx="8110800" cy="11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CP Program Are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nical Prevention Policy and Practic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MOVE!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Weight Management Progra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ealthierUS Veterans Initiativ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ealth Promotion/Employee Wellnes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Veterans Health Education and Information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valuation and Resear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0" t="0" r="44302" b="230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4:49:28Z</dcterms:created>
  <dc:creator>Linda Kinsinger</dc:creator>
  <dc:description/>
  <dc:language>en-US</dc:language>
  <cp:lastModifiedBy>rac</cp:lastModifiedBy>
  <dcterms:modified xsi:type="dcterms:W3CDTF">2008-10-02T14:57:58Z</dcterms:modified>
  <cp:revision>10</cp:revision>
  <dc:subject/>
  <dc:title>Using USPSTF Recommendations  in VHA Clinical Practice</dc:title>
</cp:coreProperties>
</file>