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0288588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844560" y="691920"/>
            <a:ext cx="5170320" cy="344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32600" y="8803800"/>
            <a:ext cx="930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sp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C5E9B6-CD53-4C16-B0F4-8B9B01AA8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44560" y="69228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is Einstein at the black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44560" y="69228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44560" y="69228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80% of AHRQ’s work takes place in the context of 6 portfolios, which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44560" y="69228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 is the entrance to the new stadium for the 2008 Olympics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44560" y="69228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 is the entrance to the new stadium for the 2008 Olympics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44560" y="690480"/>
            <a:ext cx="5172120" cy="3448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70040"/>
            <a:ext cx="5029200" cy="4140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shows stakeholder (EG, IBM) and customers and a new paradigm for 2015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56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7658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4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256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7658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628280" y="228600"/>
            <a:ext cx="7534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256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658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4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256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7658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28280" y="228600"/>
            <a:ext cx="7534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8985240" cy="19080"/>
            <a:chOff x="0" y="1333440"/>
            <a:chExt cx="8985240" cy="19080"/>
          </a:xfrm>
        </p:grpSpPr>
        <p:sp>
          <p:nvSpPr>
            <p:cNvPr id="3" name=""/>
            <p:cNvSpPr/>
            <p:nvPr/>
          </p:nvSpPr>
          <p:spPr>
            <a:xfrm>
              <a:off x="6480" y="135252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2491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91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" name=""/>
          <p:cNvGrpSpPr/>
          <p:nvPr/>
        </p:nvGrpSpPr>
        <p:grpSpPr>
          <a:xfrm>
            <a:off x="0" y="1333440"/>
            <a:ext cx="8985240" cy="19080"/>
            <a:chOff x="0" y="1333440"/>
            <a:chExt cx="8985240" cy="19080"/>
          </a:xfrm>
        </p:grpSpPr>
        <p:sp>
          <p:nvSpPr>
            <p:cNvPr id="8" name=""/>
            <p:cNvSpPr/>
            <p:nvPr/>
          </p:nvSpPr>
          <p:spPr>
            <a:xfrm>
              <a:off x="6480" y="135252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133344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3867120"/>
            <a:ext cx="8985240" cy="19080"/>
            <a:chOff x="0" y="3867120"/>
            <a:chExt cx="8985240" cy="19080"/>
          </a:xfrm>
        </p:grpSpPr>
        <p:sp>
          <p:nvSpPr>
            <p:cNvPr id="48" name=""/>
            <p:cNvSpPr/>
            <p:nvPr/>
          </p:nvSpPr>
          <p:spPr>
            <a:xfrm>
              <a:off x="6480" y="388620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86712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1562040" y="380880"/>
          <a:ext cx="71643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2040" y="380880"/>
                    <a:ext cx="71643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"/>
          <p:cNvGrpSpPr/>
          <p:nvPr/>
        </p:nvGrpSpPr>
        <p:grpSpPr>
          <a:xfrm>
            <a:off x="0" y="3867120"/>
            <a:ext cx="8985240" cy="19080"/>
            <a:chOff x="0" y="3867120"/>
            <a:chExt cx="8985240" cy="19080"/>
          </a:xfrm>
        </p:grpSpPr>
        <p:sp>
          <p:nvSpPr>
            <p:cNvPr id="53" name=""/>
            <p:cNvSpPr/>
            <p:nvPr/>
          </p:nvSpPr>
          <p:spPr>
            <a:xfrm>
              <a:off x="6480" y="388620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6712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080" y="2438280"/>
            <a:ext cx="98298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ard-won Wisdom from Successful Healthcare Services Research Innovators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allenges, Opportunities and Solution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19040" y="42670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keh J. Kaftarian, Ph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ior Advisor, Women's Health and Gender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Annual Con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 8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71840" y="2209680"/>
            <a:ext cx="514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81630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oal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680" y="1676520"/>
            <a:ext cx="4533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ideas substantiall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ffer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those pursued elsewhere &amp; bef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 innovative solutions to existing conditions and pressing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care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lerated improvement in healthcare and its fina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57440" y="16765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72280" y="1752480"/>
            <a:ext cx="4190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ur Thoughts So Fa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16761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 for ideas from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wn hall meetings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esday, 10-11:30 a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ding announce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wards for innovative approaches to emerging issues and methodologies in HS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from oth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arn From Others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did they…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new/emerging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processes, methods, mechanisms, financing sour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pproaches with successful technical, economic, managerial and organizational face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 with important challenges, opportunities and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idate/confirm value of innovative approach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Plena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gel Smith, AA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lly Evenson, Carnegie Mellon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ew Maleska, Mayo Cli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 Ogilvie, Peer Ins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/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Plena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gel Smith, AA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ber-centric approach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turing emerging areas of member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ough concept mapping 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lly Evenson, Carnegie Mellon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 think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ch HS needs of clients to technology, viable business options, value and opport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ew Maleska, Mayo Cli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“lab” model @ Mayo cli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 HS experience through innovative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ng new services into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86040" y="228600"/>
            <a:ext cx="753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HRQ’s Mis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86280" y="1523880"/>
            <a:ext cx="4371840" cy="3019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14560" y="4952880"/>
            <a:ext cx="814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 the quality, safety, efficiency and effectiveness of health care for all America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r Challeng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4610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te an innovative culture in health services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 the cost-quality g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34040" y="1828800"/>
            <a:ext cx="2667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HRQ Portfolios of Wor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9105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5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ative Effect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5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information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5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5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on/Care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5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5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MERGING ISSUES &amp; INNOVATION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496360" y="4800600"/>
            <a:ext cx="2009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85840" y="228600"/>
            <a:ext cx="58010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Vi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10287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/capture emerging issues to be included in HS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ster and nurture ideas and approaches that have the potential for highl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novative solutions 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thcare challe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96160" y="3809880"/>
            <a:ext cx="3124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Visio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9040" y="1676160"/>
            <a:ext cx="56390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fast-paced and customer-centered innovations in healthcare to impro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515280" y="3733920"/>
            <a:ext cx="358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85840" y="228600"/>
            <a:ext cx="58010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Vi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677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pport researchers wh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innovative ideas with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for high imp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ing a diverse &amp; non-traditio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ray of discip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210360" y="2209680"/>
            <a:ext cx="28195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Vi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67360" y="1599840"/>
            <a:ext cx="44575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 &amp; stakeholder centered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d risks &amp; rew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aradigms of HS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440" y="1600200"/>
            <a:ext cx="4667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705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amples of Specific Target Area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clude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279000" indent="-279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care workforce/t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9000" indent="-279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ng appr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9000" indent="-279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9000" indent="-279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izontal networks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5720" indent="-2379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c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5720" indent="-2379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llness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9000" indent="-279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d responsibility/accountabili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5720" indent="-2379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5720" indent="-2379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5720" indent="-2379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Shakeh Kaftarian</cp:lastModifiedBy>
  <cp:lastPrinted>2003-01-21T20:19:23Z</cp:lastPrinted>
  <dcterms:modified xsi:type="dcterms:W3CDTF">2008-09-08T12:34:47Z</dcterms:modified>
  <cp:revision>303</cp:revision>
  <dc:subject/>
  <dc:title>AHRQ Slide Template 2004</dc:title>
</cp:coreProperties>
</file>