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288588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844560" y="691920"/>
            <a:ext cx="5170320" cy="34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32600" y="8803800"/>
            <a:ext cx="93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B19E1-D2BF-4139-A2C8-979567E78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is Einstein at the black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80% of AHRQ’s work takes place in the context of 6 portfolios, which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is the entrance to the new stadium for the 2008 Olympic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44560" y="692280"/>
            <a:ext cx="5170320" cy="344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 is the entrance to the new stadium for the 2008 Olympic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44560" y="690480"/>
            <a:ext cx="5172120" cy="3448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shows stakeholder (EG, IBM) and customers and a new paradigm for 2015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28280" y="228600"/>
            <a:ext cx="7534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28280" y="228600"/>
            <a:ext cx="7534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3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2491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91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8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48" name="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1562040" y="380880"/>
          <a:ext cx="71643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2040" y="380880"/>
                    <a:ext cx="71643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53" name="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080" y="2438280"/>
            <a:ext cx="9829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ard-won Wisdom from Successful Healthcare Services Research Innovator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allenges, Opportunities and Solution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9040" y="42670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keh J. Kaftarian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Advisor, Women's Health and Gender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nnual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8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71840" y="2209680"/>
            <a:ext cx="514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8163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al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680" y="1676520"/>
            <a:ext cx="453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deas substantial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om those pursued elsewhere &amp; bef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innovative solutions to existing conditions and pressin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car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ed improvement in healthcare and its fin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57440" y="167652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72280" y="1752480"/>
            <a:ext cx="4190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r Thoughts So Fa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272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 for ideas from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wn hall meetings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esday, 10-11:30 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ing announce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wards for innovative approaches to emerging issues and methodologies in H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from oth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 From Other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did they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new/emerging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processes, methods, mechanisms, financing sou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pproaches with successful technical, economic, managerial and organizational face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 with important challenges, opportunities and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idate/confirm value of innovative approach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Plen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el Smith, A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lly Evenson, Carnegie Mellon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Maleska, Mayo Cli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 Ogilvie, Peer Ins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/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is Plen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el Smith, A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ber-centric approach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turing emerging areas of member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ugh concept mapping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lly Evenson, Carnegie Mellon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think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ch HS needs of clients to technology, viable business options, value and opportun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hew Maleska, Mayo Cli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“lab” model @ Mayo cli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 HS experience through innovative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 new services into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86040" y="228600"/>
            <a:ext cx="7534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’s Mi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86280" y="1523880"/>
            <a:ext cx="4371840" cy="301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4560" y="4952880"/>
            <a:ext cx="8143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 the quality, safety, efficiency and effectiveness of health care for all America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r Challen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6101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 an innovative culture in health services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 the cost-quality g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34040" y="1828800"/>
            <a:ext cx="2667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 Portfolios of Wor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9105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information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/Car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MERGING ISSUES &amp; INNOVATION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496360" y="4800600"/>
            <a:ext cx="20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85840" y="228600"/>
            <a:ext cx="58010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10287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y/capture emerging issues to be included in HS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ster and nurture ideas and approaches that have the potential for high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novative solutions 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care 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96160" y="3809880"/>
            <a:ext cx="3124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Vis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676160"/>
            <a:ext cx="5639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fast-paced and customer-centered innovations in healthcare to impro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i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515280" y="3733920"/>
            <a:ext cx="358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85840" y="228600"/>
            <a:ext cx="58010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677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pport researchers wh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innovative ideas with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for high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vering a diverse &amp; non-traditi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ay of discip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10360" y="2209680"/>
            <a:ext cx="28195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534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67360" y="1599840"/>
            <a:ext cx="44575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 &amp; stakeholder centered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risks &amp; re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aradigms of H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440" y="1600200"/>
            <a:ext cx="4667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28280" y="228600"/>
            <a:ext cx="7705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amples of Specific Target Area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clude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are workforce/t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ng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izontal network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ness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9000" indent="-2790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d responsibility/accountabil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5720" indent="-2379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Shakeh Kaftarian</cp:lastModifiedBy>
  <cp:lastPrinted>2003-01-21T20:19:23Z</cp:lastPrinted>
  <dcterms:modified xsi:type="dcterms:W3CDTF">2008-09-08T12:34:47Z</dcterms:modified>
  <cp:revision>303</cp:revision>
  <dc:subject/>
  <dc:title>AHRQ Slide Template 2004</dc:title>
</cp:coreProperties>
</file>