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57B3-90DD-4694-B151-DA2F7F9D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1DB-106E-47A7-8E61-0D456CE9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C04-19C2-4C42-83B0-BE9B9DDC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9BB-1881-442F-8744-39579C0A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9F2C-6489-468B-8903-023CC460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F313-71A2-405F-8842-463DD2AD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6DD7-DC1B-4652-808E-24E1CBFE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0025-371B-4709-A93B-C41842EE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27FB-8121-4D22-952C-0B9BC15D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03A4-4B4A-44C1-8134-890510D1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1D06-29AE-4B82-87F7-2CBC7160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C73B-D518-445B-AA7D-60E61471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8904-1291-4768-AEB1-2482F204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07C4-BC8A-4D0E-AC53-A2AB5424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DE93-7106-42D8-AA3C-9591B4AA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D8ED-2EAD-40F8-B163-E5B8271A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2839-0F94-493F-B0AE-45D2E694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CDB-750E-4DC3-96F8-C15AB290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A57-31C0-4A63-BFD7-939BDA31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1120-B215-454A-8443-753316EC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6E56-94AC-4020-BE4F-2A1F728D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121-7602-4814-8C56-C4C06786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2C58-1C5D-403D-8A29-E213B936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616-267B-4C2E-8DA1-52663E81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A346-5D81-4552-B541-687126AA423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BDAA-85AF-4D13-89E9-EB7E3C60536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Effective Health Care Program Stakeholder Group – A Perspective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 Juhn, MD,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ackgrou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m of the Effective Health Care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current unbiased comparative evidence on health care interven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ze scientific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new evidence and analyt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evidence findings for practica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MA Section 1013 legislation of 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outcomes, comparative effectiveness and appropriateness of medical interventions for patients in Medicare, Medicaid and S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ll ensure that there is broad and ongoing consultation with relevant stakeholders in identifying the highest priorities for researc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keholder Grou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input 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tical evidence g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semination of research re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edback from report us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quality impr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hancing impact of the EHC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Stakeholder Meeting – Oct.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wo-year cyc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embers in the fir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keholder Grou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8 current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provi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ient advoc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lo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urnal edi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work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prior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disse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267080" y="1787400"/>
            <a:ext cx="46227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me Observ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cycle different than second 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cycle – start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cycle – increase momen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perspectives, same 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ial and constru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program leadership and enthusiastic sta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an Slutsky and Mark Helf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ible, responsive and recep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ellent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st scientific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hensive and transparent review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me Challeng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semin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beyond the publication or the website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incorporation into clinical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ctical relev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on actual practice and not just coverage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ment of practitioner evidence needs with program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ently long cycle times of scientifically rigorou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f-life of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and sc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much more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little comparative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me Takeaway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for first and second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erse view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recruitment of broadly representativ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lightened leader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o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quality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er workgrou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deliver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ng su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eyond products, get to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rate Stakeholder’s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3:06:16Z</dcterms:created>
  <dc:creator>p310pj</dc:creator>
  <dc:description/>
  <dc:language>en-US</dc:language>
  <cp:lastModifiedBy>bcambridge</cp:lastModifiedBy>
  <dcterms:modified xsi:type="dcterms:W3CDTF">2008-10-16T19:58:56Z</dcterms:modified>
  <cp:revision>11</cp:revision>
  <dc:subject/>
  <dc:title>Effective Health Care Program – Stakeholder Group</dc:title>
</cp:coreProperties>
</file>