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8A9-94A8-452E-BF49-8FC22DCD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6A4-A730-49B4-BA81-741B9D70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165-40A1-4260-8015-7870755B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262-8EF8-4688-A1AD-70D10760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0026-717F-4DA7-B0F8-2323C61F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E272-5653-4BD6-95E3-4907ECF1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E938-7077-4050-9C22-9814B2F7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1AD9-89B0-4E31-9C28-1EB35222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9D8F-A164-4342-B612-05D4C98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396F-3A78-4182-8DD1-51B4777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67A6-BF9B-4E30-B498-9CB16D5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4E1-2B66-4CC0-BC96-AE662C91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55AD-46FB-4EFE-8563-26A615AC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0B63-AF80-4724-9598-6D1AFD21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16B5-A9DE-411A-A81A-E6272258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39DB-CDB0-4CB5-98F0-3F59299A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21FA-9986-406D-8F39-A4CDA7BF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8B6-4C18-4F76-88C7-662E521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A17-D74D-43AB-AB21-09961A59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19F-DA01-4D62-B272-28756B0D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691-5E12-4840-B8EC-378A0C97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E3B-1DCB-4C09-8D0D-783D15E4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FF0-A62B-4289-903E-AA8385ED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870-724C-486B-B2CC-09D9EB58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9585-CCD7-4856-9604-B4392E00E78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BC64-E041-493D-8751-93D3258C895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Effective Health Care Program Stakeholder Group – A Perspectiv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Juhn, MD, M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ckgrou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m of the Effective Health Car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current unbiased comparative evidence on health care interven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ze scientific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new evidence and analytic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evidence findings for practic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MA Section 1013 legislation of 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outcomes, comparative effectiveness and appropriateness of medical interventions for patients in Medicare, Medicaid and S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ll ensure that there is broad and ongoing consultation with relevant stakeholders in identifying the highest priorities for research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keholder Gro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put 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itical evidence g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ion of research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from report us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quality improv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hancing impact of the EHC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Stakeholder Meeting – Oct.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wo-year cyc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embers in the fir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keholder Gro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 current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provi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ient advoc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lo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urnal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work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disse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267080" y="1787400"/>
            <a:ext cx="46227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Observ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cycle different than second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cycle – star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cycle – increase momen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perspectives, same objec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ial and constru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program leadership and enthusiastic sta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an Slutsky and Mark Helf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ible, responsive and recep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st scientifi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hensive and transparent review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Challeng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semin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beyond the publication or the websit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incorporation into clinic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actical relev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n actual practice and not just coverage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of practitioner evidence needs with program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ly long cycle times of scientifically rigorou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f-life of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and sco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much more to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little comparative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me Takeaway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 first and second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e viewpo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recruitment of broadly representativ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lightened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o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qual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er work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ng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eyond products, get to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rate Stakeholder’s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3:06:16Z</dcterms:created>
  <dc:creator>p310pj</dc:creator>
  <dc:description/>
  <dc:language>en-US</dc:language>
  <cp:lastModifiedBy>bcambridge</cp:lastModifiedBy>
  <dcterms:modified xsi:type="dcterms:W3CDTF">2008-10-16T19:58:56Z</dcterms:modified>
  <cp:revision>11</cp:revision>
  <dc:subject/>
  <dc:title>Effective Health Care Program – Stakeholder Group</dc:title>
</cp:coreProperties>
</file>