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3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40E6-E568-499C-956A-008375E6E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8557-2C36-41C6-BA0E-EBF725798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360360" indent="-360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Study was conducted at a large, public, urban hospital in Atlanta, 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Intervention site: main hospital  pharm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ntrol site: satellite clinic pharm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0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atients recruited through systematic random samp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173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patients enrolled at the intervention s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102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patients enrolled at the control s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0360" indent="-3603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All patients completed a baseline survey at the time of enroll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0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60360"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6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4D83-D5D9-4F0D-91DF-591D457C7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7E60-A636-4633-889B-B375F5331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487440" indent="-428760">
              <a:lnSpc>
                <a:spcPct val="80000"/>
              </a:lnSpc>
              <a:spcBef>
                <a:spcPts val="1437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All patients received an illustrated medication schedule, called a Picture Rx</a:t>
            </a:r>
            <a:r>
              <a:rPr b="1" lang="en-US" sz="2300" spc="-1" strike="noStrike" baseline="40000">
                <a:solidFill>
                  <a:srgbClr val="000000"/>
                </a:solidFill>
                <a:latin typeface="Calibri"/>
              </a:rPr>
              <a:t>®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428760">
              <a:lnSpc>
                <a:spcPct val="80000"/>
              </a:lnSpc>
              <a:spcBef>
                <a:spcPts val="1437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known to the patients as their “pill card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87440" indent="-428760">
              <a:lnSpc>
                <a:spcPct val="80000"/>
              </a:lnSpc>
              <a:spcBef>
                <a:spcPts val="1437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icture Rx</a:t>
            </a:r>
            <a:r>
              <a:rPr b="1" lang="en-US" sz="2300" spc="-1" strike="noStrike" baseline="40000">
                <a:solidFill>
                  <a:srgbClr val="000000"/>
                </a:solidFill>
                <a:latin typeface="Calibri"/>
              </a:rPr>
              <a:t>®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 cards created automatically through a software program and personalized for each pati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87440" indent="-428760">
              <a:lnSpc>
                <a:spcPct val="80000"/>
              </a:lnSpc>
              <a:spcBef>
                <a:spcPts val="1437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Patients received a new card each time     they picked up a medication from the pharmac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87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0116-E3F3-4FA2-B0B6-FF3F6A849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Uses pictures of pills and medication supplies and images to represent indications and times of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Includes a tear-off wallet card listing all medications which the patient can carry with th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Dosing instructions provided in simple, non-medical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5E6F-E873-4E3C-A24C-516AB843B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0B40-9CDF-4BF6-84F3-B614324B8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A3C9-4FA8-40E0-A7F5-760E20EF4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BB77-2BB6-4C62-BA99-A0DAB487F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he impact of the intervention was assessed through both quantitative and qualitative meas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his secondary outcome measure was to assess patients perceptions of the pill cards as well as any self-reported changes in medication adh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EB83-0236-464F-A6B9-A86FD29C4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o measure secondary outcomes (patient self- reported adherence, medication understand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8534-A95E-4A1E-9EA3-28F620097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98F8-BE08-4172-92CD-9D76A2F04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44440" indent="-24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Raise staff awareness of health literacy iss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4440" indent="-24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Detect barriers that may prevent individuals with limited literacy skills from accessing, comprehending, and taking advantage of the health information and services provided by the organiz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44440" indent="-24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Identify opportunities for improv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3EFE-EB12-4C09-8F5E-6C8425340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Clear signs and symbols direct people from the building entrance to the pharm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he walls and bulletin boards in the pharmacy are not covered with a lot of printed notices.  It’s easy for anyone to pick out the important information on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EB1D-4205-4395-B36F-8DCDC109E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4A8A-5CAA-422A-B8A3-33EA8F08B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C764-27A1-48A9-AD6D-147E10EBF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A002-D442-4311-BBE5-683AF16B1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BD25-DCED-4B1A-A05E-4F267C40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6C5-C387-4C57-83D0-64515FC7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69D-F5A3-4839-BA36-E870988B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A8BD-2606-4EA0-B463-F08788B4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A584-A994-4FBA-940D-0A2B9C7A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867-0EB8-4A0C-9287-EEBC3CFA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F42D-74EB-4B58-ACC4-ED1659DB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2C4-4421-4CFC-840F-35D5AC91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97F-3AF5-4891-9AD6-6C29FA80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77B9-8172-47D3-A621-EF2514A1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EBD-377B-45DE-9A10-9F561E2F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709-BB58-49B6-A80F-512C0421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9991-3262-4729-B150-64673CF30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ppt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219320" y="2362320"/>
            <a:ext cx="6705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3520" y="2133360"/>
            <a:ext cx="6248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harmacy Intervention for Limited Lite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eorgia"/>
              </a:rPr>
              <a:t>PIL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2133720" y="3657600"/>
            <a:ext cx="49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Kara L. Jacobson, MPH, 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ulie A. Gazmararian, PhD,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nil Kripalani, MD,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Karen J. McMorris,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rah Blake, 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5" descr="rwjf1"/>
          <p:cNvPicPr/>
          <p:nvPr/>
        </p:nvPicPr>
        <p:blipFill>
          <a:blip r:embed="rId2"/>
          <a:stretch/>
        </p:blipFill>
        <p:spPr>
          <a:xfrm>
            <a:off x="6248520" y="6095880"/>
            <a:ext cx="1137960" cy="56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6" descr="Color no DHHS"/>
          <p:cNvPicPr/>
          <p:nvPr/>
        </p:nvPicPr>
        <p:blipFill>
          <a:blip r:embed="rId3"/>
          <a:stretch/>
        </p:blipFill>
        <p:spPr>
          <a:xfrm>
            <a:off x="1371600" y="6095880"/>
            <a:ext cx="1781280" cy="52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7" descr="rsphlogo4"/>
          <p:cNvPicPr/>
          <p:nvPr/>
        </p:nvPicPr>
        <p:blipFill>
          <a:blip r:embed="rId4"/>
          <a:stretch/>
        </p:blipFill>
        <p:spPr>
          <a:xfrm>
            <a:off x="3713040" y="5938920"/>
            <a:ext cx="185112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Study Phase 2: Interven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990720" y="2362320"/>
            <a:ext cx="76960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ILL Study intervention involved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3-P” 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armacist training in clear health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cture Rx (or “pill card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. Automated remind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n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Intervention Part 1: Pharmacist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762120" y="2133720"/>
            <a:ext cx="685800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raining kit include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owerPoint slid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andouts for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ands-on practic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vailable at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tp://www.ahrq.gov/qual/pharmlit/pharmtrai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6629400" y="2362320"/>
          <a:ext cx="2057400" cy="15332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2362320"/>
                    <a:ext cx="2057400" cy="15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Intervention Part 2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Pill C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990720" y="1905120"/>
            <a:ext cx="77724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06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tients called this their “pill car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06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ted automatically through a softwar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06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ersonalized for each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06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w card was created each time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tient picked up m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Pill C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pillcard10"/>
          <p:cNvPicPr/>
          <p:nvPr/>
        </p:nvPicPr>
        <p:blipFill>
          <a:blip r:embed="rId1"/>
          <a:stretch/>
        </p:blipFill>
        <p:spPr>
          <a:xfrm>
            <a:off x="0" y="1523880"/>
            <a:ext cx="412416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4114800" y="1676520"/>
          <a:ext cx="5232240" cy="4952880"/>
        </p:xfrm>
        <a:graphic>
          <a:graphicData uri="http://schemas.openxmlformats.org/drawingml/2006/table">
            <a:tbl>
              <a:tblPr/>
              <a:tblGrid>
                <a:gridCol w="804960"/>
                <a:gridCol w="755640"/>
                <a:gridCol w="922320"/>
                <a:gridCol w="689040"/>
                <a:gridCol w="718920"/>
                <a:gridCol w="671760"/>
                <a:gridCol w="669600"/>
              </a:tblGrid>
              <a:tr h="841320">
                <a:tc gridSpan="7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ame: Sarah Smith                                                              Date Created: 12/15/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harmacy phone number: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123-456-7890                           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988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Used F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struc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or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fterno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ve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igh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imvastat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20m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holesterol      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ake 1 pill at nigh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880"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Furosemi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20m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Flui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ake 2 pills in the morning and 2 pills in the eve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520"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sulin 70/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iabetes (Suga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ject 24 units before breakfast and 12 units before dinn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24 un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12 un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Picture 1" descr="MCBD08078_0000[1]"/>
          <p:cNvPicPr/>
          <p:nvPr/>
        </p:nvPicPr>
        <p:blipFill>
          <a:blip r:embed="rId2"/>
          <a:stretch/>
        </p:blipFill>
        <p:spPr>
          <a:xfrm>
            <a:off x="6553080" y="2743200"/>
            <a:ext cx="752760" cy="476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MCj04124640000[1]"/>
          <p:cNvPicPr/>
          <p:nvPr/>
        </p:nvPicPr>
        <p:blipFill>
          <a:blip r:embed="rId3"/>
          <a:stretch/>
        </p:blipFill>
        <p:spPr>
          <a:xfrm>
            <a:off x="7315200" y="2666880"/>
            <a:ext cx="619200" cy="609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MCNA00661_0000[1]"/>
          <p:cNvPicPr/>
          <p:nvPr/>
        </p:nvPicPr>
        <p:blipFill>
          <a:blip r:embed="rId4"/>
          <a:stretch/>
        </p:blipFill>
        <p:spPr>
          <a:xfrm>
            <a:off x="8077320" y="2743200"/>
            <a:ext cx="571320" cy="561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MCj02989130000[1]"/>
          <p:cNvPicPr/>
          <p:nvPr/>
        </p:nvPicPr>
        <p:blipFill>
          <a:blip r:embed="rId5"/>
          <a:stretch/>
        </p:blipFill>
        <p:spPr>
          <a:xfrm>
            <a:off x="8582040" y="2666880"/>
            <a:ext cx="561960" cy="581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MCj02334910000[1]"/>
          <p:cNvPicPr/>
          <p:nvPr/>
        </p:nvPicPr>
        <p:blipFill>
          <a:blip r:embed="rId6"/>
          <a:stretch/>
        </p:blipFill>
        <p:spPr>
          <a:xfrm>
            <a:off x="4952880" y="3657600"/>
            <a:ext cx="619200" cy="533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MPj04000150000[1]"/>
          <p:cNvPicPr/>
          <p:nvPr/>
        </p:nvPicPr>
        <p:blipFill>
          <a:blip r:embed="rId7"/>
          <a:stretch/>
        </p:blipFill>
        <p:spPr>
          <a:xfrm>
            <a:off x="5029200" y="5029200"/>
            <a:ext cx="609480" cy="406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MCj02909420000[1]"/>
          <p:cNvPicPr/>
          <p:nvPr/>
        </p:nvPicPr>
        <p:blipFill>
          <a:blip r:embed="rId8"/>
          <a:stretch/>
        </p:blipFill>
        <p:spPr>
          <a:xfrm>
            <a:off x="4267080" y="5867280"/>
            <a:ext cx="505080" cy="65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MCj03253760000[1]"/>
          <p:cNvPicPr/>
          <p:nvPr/>
        </p:nvPicPr>
        <p:blipFill>
          <a:blip r:embed="rId9"/>
          <a:stretch/>
        </p:blipFill>
        <p:spPr>
          <a:xfrm>
            <a:off x="4952880" y="5867280"/>
            <a:ext cx="619200" cy="685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MCj02909420000[1]"/>
          <p:cNvPicPr/>
          <p:nvPr/>
        </p:nvPicPr>
        <p:blipFill>
          <a:blip r:embed="rId10"/>
          <a:stretch/>
        </p:blipFill>
        <p:spPr>
          <a:xfrm>
            <a:off x="6705720" y="5867280"/>
            <a:ext cx="504720" cy="65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MCj02909420000[1]"/>
          <p:cNvPicPr/>
          <p:nvPr/>
        </p:nvPicPr>
        <p:blipFill>
          <a:blip r:embed="rId11"/>
          <a:stretch/>
        </p:blipFill>
        <p:spPr>
          <a:xfrm>
            <a:off x="8077320" y="5867280"/>
            <a:ext cx="504720" cy="657360"/>
          </a:xfrm>
          <a:prstGeom prst="rect">
            <a:avLst/>
          </a:prstGeom>
          <a:ln w="0">
            <a:noFill/>
          </a:ln>
        </p:spPr>
      </p:pic>
      <p:sp>
        <p:nvSpPr>
          <p:cNvPr id="153" name="Oval 16"/>
          <p:cNvSpPr/>
          <p:nvPr/>
        </p:nvSpPr>
        <p:spPr>
          <a:xfrm>
            <a:off x="6934320" y="4876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8077320" y="4876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4267080" y="4952880"/>
            <a:ext cx="457200" cy="4572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20"/>
          <p:cNvSpPr/>
          <p:nvPr/>
        </p:nvSpPr>
        <p:spPr>
          <a:xfrm>
            <a:off x="6629400" y="4876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7"/>
          <p:cNvSpPr/>
          <p:nvPr/>
        </p:nvSpPr>
        <p:spPr>
          <a:xfrm>
            <a:off x="8381880" y="48769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Interested in Creating a Pill C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990720" y="1905120"/>
            <a:ext cx="777240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0644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o learn how to create a pill card using a word processor, please view the guide created during the PILL study at: 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http://www.ahrq.gov/qual/pillcard/ pillcard.ht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1880" indent="-40644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Intervention Part 3: Automated Reminder Phone Ca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914400" y="2241720"/>
            <a:ext cx="7772400" cy="31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0644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alls were placed through an automated system using a script written for a low-literate audi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61880" indent="-406440">
              <a:lnSpc>
                <a:spcPct val="100000"/>
              </a:lnSpc>
              <a:spcBef>
                <a:spcPts val="1687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reminder system was linked to the   existing medication refill system to allow patients to refill their prescriptions right    awa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Interested in Using Automated Reminder Phone Calls with a Low-Literate Pop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990720" y="2286000"/>
            <a:ext cx="77724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064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view the phone call script developed during the PILL study, please visit: http://www.ahrq.gov/qual/callscrip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06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064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61760" y="7617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Phase 3: Outcome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762120" y="1447920"/>
            <a:ext cx="8153280" cy="35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Patients felt that the card presented their medicines and dosing schedules in a way that was accessible to th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ou know what, my pill card made me excited about knowing about my medicines, it excited me because I didn’t understand my medicines. I took it because the doctor told me to take it but I am proud of the pill card... I love my pill card.  That’s the only reason… because I’m excited about the pill card.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may15excited.wav" descr=""/>
          <p:cNvPicPr/>
          <p:nvPr/>
        </p:nvPicPr>
        <p:blipFill>
          <a:blip r:embed="rId2"/>
          <a:stretch/>
        </p:blipFill>
        <p:spPr>
          <a:xfrm>
            <a:off x="5943600" y="4495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91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838080" y="1752480"/>
            <a:ext cx="762012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o improve medication adherence in pharmacy patients with limited health literac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o use a systems-level approach to improving  patient adh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Purpose of HL Too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eorgia"/>
              </a:rPr>
              <a:t>Phases of the Stu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066680" y="1981080"/>
            <a:ext cx="746784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hase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ealth literacy assessment of the pharmacy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hase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mplementation of a 3 “P” interve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hase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utcome evaluation of 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14040" y="7621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Study Phase 1: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838080" y="1752480"/>
            <a:ext cx="75438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aluated the extent to which the existing pharmacy environment accommodated patients with limited health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luded 3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art 1: Pharmacy assessment 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art 2: Pharmacy staff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art 3: Patient focus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dapted from Literacy Alberta’s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Health Literacy Audit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914400" y="63244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Literacy-Alberta. 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The Literacy Audit Kit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. Calgary: Literacy Alberta; 1997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Part 1: Assessment 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838080" y="1476360"/>
            <a:ext cx="7543800" cy="63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Objective assessors identified existing barriers in these are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romotion of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rint Mate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lear Verbal 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ssessment conducted by trained, objective assessors who we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amiliar with the principles of clear health communic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Not pharmacy staff or pat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ble to blend in with patients who use the  pharm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362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KLJacobson\Pictures\Grady\P3020246.JPG"/>
          <p:cNvPicPr/>
          <p:nvPr/>
        </p:nvPicPr>
        <p:blipFill>
          <a:blip r:embed="rId1"/>
          <a:stretch/>
        </p:blipFill>
        <p:spPr>
          <a:xfrm>
            <a:off x="2133720" y="0"/>
            <a:ext cx="5333760" cy="711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Part 2: Survey of Pharmacy Sta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914400" y="2014560"/>
            <a:ext cx="7924680" cy="40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aluated staff opinions of pharmacy’s sensitivity to the needs of limited-literacy patients in three a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2160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int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2160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ear Verb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2160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nsitivity to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216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788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eorgia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Part 3: Pharmacy Patient Focus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90720" y="1981080"/>
            <a:ext cx="7543800" cy="29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harmacy patients discussed their personal experiences in 4 a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hysic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re Process and Work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perwork and Written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MCj02507610000[1]"/>
          <p:cNvPicPr/>
          <p:nvPr/>
        </p:nvPicPr>
        <p:blipFill>
          <a:blip r:embed="rId1"/>
          <a:stretch/>
        </p:blipFill>
        <p:spPr>
          <a:xfrm>
            <a:off x="7535880" y="5029200"/>
            <a:ext cx="1608120" cy="16765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533520"/>
            <a:ext cx="457200" cy="6324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457200" y="533520"/>
            <a:ext cx="86868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57200" y="762120"/>
            <a:ext cx="228600" cy="609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Interested in Conducting a Health Literacy Assessm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066680" y="198108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ssessment guide developed during the PILL study  is available at http://www.ahrq.gov/qual/pharmli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2"/>
          <a:srcRect l="33377" t="19340" r="31493" b="7809"/>
          <a:stretch/>
        </p:blipFill>
        <p:spPr>
          <a:xfrm>
            <a:off x="3505320" y="3048120"/>
            <a:ext cx="256068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LJacobson</dc:creator>
  <dc:description/>
  <dc:language>en-US</dc:language>
  <cp:lastModifiedBy>rac</cp:lastModifiedBy>
  <dcterms:modified xsi:type="dcterms:W3CDTF">2008-10-03T17:39:27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