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DF57-3C2C-4B81-9272-387129EF9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3782-1E62-4E70-B2AF-A5D44E086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udy was conducted at a large, public, urban hospital in Atlanta, 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ntervention site: main hospital  pharm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ntrol site: satellite clinic pharm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tients recruited through systematic random samp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173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patients enrolled at the intervention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102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patients enrolled at the control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ll patients completed a baseline survey at the time of enroll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6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D987-3D46-46D6-B110-1C548BBDF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3A27-4D45-4B7F-AE9A-5180EC085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487440" indent="-428760">
              <a:lnSpc>
                <a:spcPct val="80000"/>
              </a:lnSpc>
              <a:spcBef>
                <a:spcPts val="143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ll patients received an illustrated medication schedule, called a Picture Rx</a:t>
            </a:r>
            <a:r>
              <a:rPr b="1" lang="en-US" sz="2300" spc="-1" strike="noStrike" baseline="40000">
                <a:solidFill>
                  <a:srgbClr val="000000"/>
                </a:solidFill>
                <a:latin typeface="Calibri"/>
              </a:rPr>
              <a:t>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28760">
              <a:lnSpc>
                <a:spcPct val="80000"/>
              </a:lnSpc>
              <a:spcBef>
                <a:spcPts val="1437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known to the patients as their “pill card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87440" indent="-428760">
              <a:lnSpc>
                <a:spcPct val="80000"/>
              </a:lnSpc>
              <a:spcBef>
                <a:spcPts val="143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icture Rx</a:t>
            </a:r>
            <a:r>
              <a:rPr b="1" lang="en-US" sz="2300" spc="-1" strike="noStrike" baseline="4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cards created automatically through a software program and personalized for each pati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87440" indent="-428760">
              <a:lnSpc>
                <a:spcPct val="80000"/>
              </a:lnSpc>
              <a:spcBef>
                <a:spcPts val="143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atients received a new card each time     they picked up a medication from the pharmac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AC9C-A5EB-4A58-9BEB-2782317BC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Uses pictures of pills and medication supplies and images to represent indications and times of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ncludes a tear-off wallet card listing all medications which the patient can carry with th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Dosing instructions provided in simple, non-medical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92D8-C8C6-436B-B51B-36B5B6CBA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2C9B-0BF1-4EC6-A7D0-DF9A75F34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47B3-7DBE-4D32-A9A2-ACEA2021F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CCA4-591B-4946-862A-AB858C242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he impact of the intervention was assessed through both quantitative and qualitative meas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his secondary outcome measure was to assess patients perceptions of the pill cards as well as any self-reported changes in medication adh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C509-AD83-4C3B-9570-FF55D72E2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o measure secondary outcomes (patient self- reported adherence, medication understand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6F2C-3B64-478F-914C-90A2BB949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50A4-1C65-4A51-A8E6-7AB3FB58B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44440" indent="-24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Raise staff awareness of health literacy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4440" indent="-24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Detect barriers that may prevent individuals with limited literacy skills from accessing, comprehending, and taking advantage of the health information and services provided by the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4440" indent="-24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dentify opportunities for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1EE0-B67D-460E-A663-6BAFD6700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ear signs and symbols direct people from the building entrance to the phar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walls and bulletin boards in the pharmacy are not covered with a lot of printed notices.  It’s easy for anyone to pick out the important information on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037D-22AD-4DD0-A526-6C413FFFC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FD9-D428-4849-94B0-34BA14B8D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8103-1746-467E-BF29-74B4FBF69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9548-357A-4F96-BC2C-FFF582CA9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B37-FDE1-4A21-868F-A7D570F7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CB9-2CB3-457D-AF28-B6BBD64B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75B-5557-41E2-BEE9-466B078C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FFC-69D8-4A3A-96CA-16E988C4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D98-05CF-449E-900E-7360D7A8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739-BC8E-453E-97C7-0EF1929F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292-57F9-4186-A54C-AFE8EFE0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193-8BB3-4AAA-B46C-E4E4E594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F28-B096-4F22-9C42-E3169CBE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16E-BA66-4C05-BF8F-B255CD53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F6B-8027-491B-B63F-B6FB4B5F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C9E-5B45-4689-8923-EB5CBDCE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644-DB86-44BE-B9C9-70E61678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219320" y="2362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3520" y="213336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harmacy Intervention for Limited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PI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2133720" y="365760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ara L. Jacobson, MPH, 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ulie A. Gazmararian, Ph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nil Kripalani, MD,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aren J. McMorris,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rah Blake,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5" descr="rwjf1"/>
          <p:cNvPicPr/>
          <p:nvPr/>
        </p:nvPicPr>
        <p:blipFill>
          <a:blip r:embed="rId2"/>
          <a:stretch/>
        </p:blipFill>
        <p:spPr>
          <a:xfrm>
            <a:off x="6248520" y="6095880"/>
            <a:ext cx="1137960" cy="56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Color no DHHS"/>
          <p:cNvPicPr/>
          <p:nvPr/>
        </p:nvPicPr>
        <p:blipFill>
          <a:blip r:embed="rId3"/>
          <a:stretch/>
        </p:blipFill>
        <p:spPr>
          <a:xfrm>
            <a:off x="1371600" y="6095880"/>
            <a:ext cx="1781280" cy="52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rsphlogo4"/>
          <p:cNvPicPr/>
          <p:nvPr/>
        </p:nvPicPr>
        <p:blipFill>
          <a:blip r:embed="rId4"/>
          <a:stretch/>
        </p:blipFill>
        <p:spPr>
          <a:xfrm>
            <a:off x="3713040" y="5938920"/>
            <a:ext cx="18511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Study Phase 2: Interv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990720" y="2362320"/>
            <a:ext cx="7696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LL Study intervention involved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3-P”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rmacist training in clear health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cture Rx (or “pill card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. Automated remind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n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ntervention Part 1: Pharmacist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62120" y="2133720"/>
            <a:ext cx="685800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ining kit includ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owerPoint sli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andouts fo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ands-on practic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vailable at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ahrq.gov/qual/pharmlit/pharmtrai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6629400" y="2362320"/>
          <a:ext cx="2057400" cy="15332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2362320"/>
                    <a:ext cx="20574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ntervention Part 2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Pill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990720" y="1905120"/>
            <a:ext cx="77724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tients called this their “pill c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d automatically through a softwar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sonalized for each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w card was created each time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tient picked up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ill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pillcard10"/>
          <p:cNvPicPr/>
          <p:nvPr/>
        </p:nvPicPr>
        <p:blipFill>
          <a:blip r:embed="rId1"/>
          <a:stretch/>
        </p:blipFill>
        <p:spPr>
          <a:xfrm>
            <a:off x="0" y="1523880"/>
            <a:ext cx="41241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4114800" y="1676520"/>
          <a:ext cx="5232240" cy="4952880"/>
        </p:xfrm>
        <a:graphic>
          <a:graphicData uri="http://schemas.openxmlformats.org/drawingml/2006/table">
            <a:tbl>
              <a:tblPr/>
              <a:tblGrid>
                <a:gridCol w="804960"/>
                <a:gridCol w="755640"/>
                <a:gridCol w="922320"/>
                <a:gridCol w="689040"/>
                <a:gridCol w="718920"/>
                <a:gridCol w="671760"/>
                <a:gridCol w="669600"/>
              </a:tblGrid>
              <a:tr h="841320">
                <a:tc gridSpan="7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me: Sarah Smith                                                              Date Created: 12/15/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harmacy phone number: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123-456-7890                  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sed 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struc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o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fterno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ve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imvastat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0m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holesterol      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ake 1 pill at n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urosemi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0m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lu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ake 2 pills in the morning and 2 pills in the eve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sulin 70/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iabetes (Sug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ject 24 units before breakfast and 12 units before dinn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4 un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12 un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1" descr="MCBD08078_0000[1]"/>
          <p:cNvPicPr/>
          <p:nvPr/>
        </p:nvPicPr>
        <p:blipFill>
          <a:blip r:embed="rId2"/>
          <a:stretch/>
        </p:blipFill>
        <p:spPr>
          <a:xfrm>
            <a:off x="6553080" y="2743200"/>
            <a:ext cx="7527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MCj04124640000[1]"/>
          <p:cNvPicPr/>
          <p:nvPr/>
        </p:nvPicPr>
        <p:blipFill>
          <a:blip r:embed="rId3"/>
          <a:stretch/>
        </p:blipFill>
        <p:spPr>
          <a:xfrm>
            <a:off x="7315200" y="2666880"/>
            <a:ext cx="619200" cy="60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MCNA00661_0000[1]"/>
          <p:cNvPicPr/>
          <p:nvPr/>
        </p:nvPicPr>
        <p:blipFill>
          <a:blip r:embed="rId4"/>
          <a:stretch/>
        </p:blipFill>
        <p:spPr>
          <a:xfrm>
            <a:off x="8077320" y="2743200"/>
            <a:ext cx="571320" cy="56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MCj02989130000[1]"/>
          <p:cNvPicPr/>
          <p:nvPr/>
        </p:nvPicPr>
        <p:blipFill>
          <a:blip r:embed="rId5"/>
          <a:stretch/>
        </p:blipFill>
        <p:spPr>
          <a:xfrm>
            <a:off x="8582040" y="2666880"/>
            <a:ext cx="561960" cy="581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MCj02334910000[1]"/>
          <p:cNvPicPr/>
          <p:nvPr/>
        </p:nvPicPr>
        <p:blipFill>
          <a:blip r:embed="rId6"/>
          <a:stretch/>
        </p:blipFill>
        <p:spPr>
          <a:xfrm>
            <a:off x="4952880" y="3657600"/>
            <a:ext cx="619200" cy="533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MPj04000150000[1]"/>
          <p:cNvPicPr/>
          <p:nvPr/>
        </p:nvPicPr>
        <p:blipFill>
          <a:blip r:embed="rId7"/>
          <a:stretch/>
        </p:blipFill>
        <p:spPr>
          <a:xfrm>
            <a:off x="5029200" y="502920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Cj02909420000[1]"/>
          <p:cNvPicPr/>
          <p:nvPr/>
        </p:nvPicPr>
        <p:blipFill>
          <a:blip r:embed="rId8"/>
          <a:stretch/>
        </p:blipFill>
        <p:spPr>
          <a:xfrm>
            <a:off x="4267080" y="5867280"/>
            <a:ext cx="505080" cy="65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MCj03253760000[1]"/>
          <p:cNvPicPr/>
          <p:nvPr/>
        </p:nvPicPr>
        <p:blipFill>
          <a:blip r:embed="rId9"/>
          <a:stretch/>
        </p:blipFill>
        <p:spPr>
          <a:xfrm>
            <a:off x="4952880" y="5867280"/>
            <a:ext cx="6192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MCj02909420000[1]"/>
          <p:cNvPicPr/>
          <p:nvPr/>
        </p:nvPicPr>
        <p:blipFill>
          <a:blip r:embed="rId10"/>
          <a:stretch/>
        </p:blipFill>
        <p:spPr>
          <a:xfrm>
            <a:off x="6705720" y="5867280"/>
            <a:ext cx="504720" cy="65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MCj02909420000[1]"/>
          <p:cNvPicPr/>
          <p:nvPr/>
        </p:nvPicPr>
        <p:blipFill>
          <a:blip r:embed="rId11"/>
          <a:stretch/>
        </p:blipFill>
        <p:spPr>
          <a:xfrm>
            <a:off x="8077320" y="5867280"/>
            <a:ext cx="504720" cy="657360"/>
          </a:xfrm>
          <a:prstGeom prst="rect">
            <a:avLst/>
          </a:prstGeom>
          <a:ln w="0">
            <a:noFill/>
          </a:ln>
        </p:spPr>
      </p:pic>
      <p:sp>
        <p:nvSpPr>
          <p:cNvPr id="153" name="Oval 16"/>
          <p:cNvSpPr/>
          <p:nvPr/>
        </p:nvSpPr>
        <p:spPr>
          <a:xfrm>
            <a:off x="693432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807732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4267080" y="4952880"/>
            <a:ext cx="45720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0"/>
          <p:cNvSpPr/>
          <p:nvPr/>
        </p:nvSpPr>
        <p:spPr>
          <a:xfrm>
            <a:off x="662940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7"/>
          <p:cNvSpPr/>
          <p:nvPr/>
        </p:nvSpPr>
        <p:spPr>
          <a:xfrm>
            <a:off x="838188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nterested in Creating a Pill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990720" y="1905120"/>
            <a:ext cx="77724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644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o learn how to create a pill card using a word processor, please view the guide created during the PILL study at: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ttp://www.ahrq.gov/qual/pillcard/ pillcard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ntervention Part 3: Automated Reminder Phone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14400" y="2241720"/>
            <a:ext cx="777240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644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lls were placed through an automated system using a script written for a low-literate aud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eminder system was linked to the   existing medication refill system to allow patients to refill their prescriptions right    a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nterested in Using Automated Reminder Phone Calls with a Low-Literate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990720" y="2286000"/>
            <a:ext cx="77724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view the phone call script developed during the PILL study, please visit: http://www.ahrq.gov/qual/callscrip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6176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Phase 3: Outcome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762120" y="1447920"/>
            <a:ext cx="815328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atients felt that the card presented their medicines and dosing schedules in a way that was accessible to th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 know what, my pill card made me excited about knowing about my medicines, it excited me because I didn’t understand my medicines. I took it because the doctor told me to take it but I am proud of the pill card... I love my pill card.  That’s the only reason… because I’m excited about the pill card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may15excited.wav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91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838080" y="1752480"/>
            <a:ext cx="762012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o improve medication adherence in pharmacy patients with limited health literac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o use a systems-level approach to improving  patient adh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Purpose of HL Too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Phases of the Stu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066680" y="1981080"/>
            <a:ext cx="746784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h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alth literacy assessment of the pharmacy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has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mplementation of a 3 “P” inter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has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utcome evaluation of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Study Phase 1: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38080" y="1752480"/>
            <a:ext cx="7543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d the extent to which the existing pharmacy environment accommodated patients with limited health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ded 3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 1: Pharmacy assessment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 2: Pharmacy staff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 3: Patient focu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apted from Literacy Alberta’s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Health Literacy Audi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914400" y="6324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Literacy-Alberta. 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The Literacy Audit Kit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. Calgary: Literacy Alberta; 1997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art 1: Assessment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838080" y="1476360"/>
            <a:ext cx="7543800" cy="63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bjective assessors identified existing barriers in these are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omotion of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int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ear Verbal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ssessment conducted by trained, objective assessors who we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amiliar with the principles of clear health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Not pharmacy staff or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ble to blend in with patients who use the  pharm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KLJacobson\Pictures\Grady\P3020246.JPG"/>
          <p:cNvPicPr/>
          <p:nvPr/>
        </p:nvPicPr>
        <p:blipFill>
          <a:blip r:embed="rId1"/>
          <a:stretch/>
        </p:blipFill>
        <p:spPr>
          <a:xfrm>
            <a:off x="2133720" y="0"/>
            <a:ext cx="533376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art 2: Survey of Pharmacy St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14400" y="2014560"/>
            <a:ext cx="792468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d staff opinions of pharmacy’s sensitivity to the needs of limited-literacy patients in three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int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ear Verb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nsitivity to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art 3: Pharmacy Patient Focus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90720" y="1981080"/>
            <a:ext cx="754380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harmacy patients discussed their personal experiences in 4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re Process and Work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perwork and Written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terested in Conducting a Health Literacy Assess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066680" y="19810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essment guide developed during the PILL study  is available at http://www.ahrq.gov/qual/pharmli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2"/>
          <a:srcRect l="33377" t="19340" r="31493" b="7809"/>
          <a:stretch/>
        </p:blipFill>
        <p:spPr>
          <a:xfrm>
            <a:off x="3505320" y="3048120"/>
            <a:ext cx="256068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LJacobson</dc:creator>
  <dc:description/>
  <dc:language>en-US</dc:language>
  <cp:lastModifiedBy>rac</cp:lastModifiedBy>
  <dcterms:modified xsi:type="dcterms:W3CDTF">2008-10-03T17:39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