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4.wmf" ContentType="image/x-wmf"/>
  <Override PartName="/ppt/media/image10.png" ContentType="image/png"/>
  <Override PartName="/ppt/media/image2.png" ContentType="image/png"/>
  <Override PartName="/ppt/media/image3.png" ContentType="image/png"/>
  <Override PartName="/ppt/media/image14.wmf" ContentType="image/x-wmf"/>
  <Override PartName="/ppt/media/image6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98C3-1D12-47F9-8DA2-3A7B681FE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ordinated post-discharge appointments for primary care, consultants, therapy, and outpatient tests; (2) scheduled appointments at times convenient for the subject and informed subject about what to do if an appointment needed to be changed; (3) helped determine a plan for transportation to appointments; (4) obtained pertinent diagnoses from the hospital record; (5) recorded the subject’s preferred outpatient pharmacy; (6) obtained a list of the subject’s discharge medications that were reconciled by the hospital team and updated in the subject’s ambulatory electronic medical record; (7) identified outstanding test results at the time of discharge; and (8) cross-checked the discharge plan with diagnosis-specific guidelines presented in the training manual, discussing possible discrepancies with the medical team before dischar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DCFD-92E9-4C59-BDB8-469091AE4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C321-A2C7-46F3-9385-23A4F655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0F19-7640-48EC-A710-C2D6D5EAF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6735-5D90-4A78-BED8-B0DE896EE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3C98-1ABC-4DB0-B02B-593F5A53D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A119-C280-4648-8116-483537BB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EC5A-3E4B-4E3D-B496-288B3B9F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87E6-B1A7-423E-BA0E-528211E2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E778-E573-4935-95AD-F2E635E0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49C5-9991-4EB1-AFF2-82855FCA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C5BD-889D-447A-B31F-88220F4E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75D5-D81C-4351-82C1-B3C7C2C8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C4EC-D747-45DB-86A9-4957E96B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A0F5-038D-449F-B577-62EA1600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D175-05BD-4CFD-BCB9-31D8AD0E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B479-BE9F-497A-A700-CC0010F91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D296-22A6-449D-B112-51FF8EDAE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53D66-1859-4114-9A19-903C1D146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FAE44-C1EC-49A6-86B0-9A33CDD2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8222C-8F22-4E43-B2DD-FBA821C6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A5825-3129-4CF2-9740-913EFF63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F656B-6F3B-493F-9BF8-5186ED64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50DA-94C2-49A6-97A0-2FB68F70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5F32D-FC03-4106-A705-957F109C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D913C-73F2-4DCE-AA42-C7990DAF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A653C-543E-40F6-9D42-F2EBC233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A5094-6967-4CBB-AAC2-888960D1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F80DC-076F-4DC7-9CF6-3D02FA83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6E329-DDB9-435F-B8E2-25B3F8E58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641EE-3E6F-40C8-8C53-4153AF289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E1C0E-378E-4FD6-A9A8-70563C700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73EE6-E60C-4B86-AB81-86945404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132BD-C337-4249-A5A6-92BC1D49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59FD-B205-4F2C-8371-D5503978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BB7CC-4961-4AA9-8658-F308CC26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770EB-BAD1-4952-9AC2-94FA361A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BB3B7-3CC7-4EBB-B65F-04232AEA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C9BBB-E838-44D2-A2C7-04DDD889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A1171-4C02-4EFF-9AFF-90CDFB44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D2BBF-09F8-46D7-BBD9-87C2E5DB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CEF27-CD72-4235-8C4C-1324C2CD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4B790-E23C-43A4-95AC-D27004220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3FE12-281E-47D7-B7A2-D440B385A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1F24-D563-4988-975C-F4041471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4C69-3313-4780-9C58-D1E0C653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1CE6-0465-4CDF-BE79-DFE42644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0827-7A90-4D05-9909-0A4C5F4B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604C-A115-48DE-A583-0A3608B6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BCF5-305E-4808-B018-4B634FFDF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884A-3D61-451A-9F1B-025705207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9276-4509-4AFB-9B64-80D134B880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1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2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35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2EF7-F3A0-47AB-9F43-517E3A1657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295280" y="1066680"/>
            <a:ext cx="65534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Arial"/>
              </a:rPr>
              <a:t>Testing the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r>
              <a:rPr b="1" lang="en-US" sz="5400" spc="-1" strike="noStrike">
                <a:solidFill>
                  <a:srgbClr val="d60000"/>
                </a:solidFill>
                <a:latin typeface="Arial"/>
              </a:rPr>
              <a:t>R</a:t>
            </a:r>
            <a:r>
              <a:rPr b="1" lang="en-US" sz="5400" spc="-1" strike="noStrike">
                <a:solidFill>
                  <a:srgbClr val="000066"/>
                </a:solidFill>
                <a:latin typeface="Arial"/>
              </a:rPr>
              <a:t>e-</a:t>
            </a:r>
            <a:r>
              <a:rPr b="1" lang="en-US" sz="5400" spc="-1" strike="noStrike">
                <a:solidFill>
                  <a:srgbClr val="d60000"/>
                </a:solidFill>
                <a:latin typeface="Arial"/>
              </a:rPr>
              <a:t>E</a:t>
            </a:r>
            <a:r>
              <a:rPr b="1" lang="en-US" sz="5400" spc="-1" strike="noStrike">
                <a:solidFill>
                  <a:srgbClr val="000066"/>
                </a:solidFill>
                <a:latin typeface="Arial"/>
              </a:rPr>
              <a:t>ngineered </a:t>
            </a:r>
            <a:r>
              <a:rPr b="1" lang="en-US" sz="4800" spc="-1" strike="noStrike">
                <a:solidFill>
                  <a:srgbClr val="d60000"/>
                </a:solidFill>
                <a:latin typeface="Arial"/>
              </a:rPr>
              <a:t>D</a:t>
            </a: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ischar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162920" y="5165640"/>
            <a:ext cx="1523880" cy="12207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7086600" y="152280"/>
            <a:ext cx="1878120" cy="1143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0" y="4952880"/>
          <a:ext cx="2514600" cy="160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952880"/>
                    <a:ext cx="2514600" cy="16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1371600" y="4572000"/>
            <a:ext cx="5943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ncipal Investigator: Brian Jack M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ociate Professor and Vice Ch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artment of Family Medic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ston Medical Center 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ston University School of Medic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33720" y="3505320"/>
            <a:ext cx="477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s-On Health Lite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ptember 9, 200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762120" y="2133720"/>
            <a:ext cx="77724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Hospital - Discharge Advocate (DA)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r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 with care team – med rec and guidel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pare the After Hospital Discharge Plan (AHC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ach the AHC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fter Discharge – Clinical Pharmac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llow-up call @ 2-3 d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A and Pharm manu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ripts for each tas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629400" y="4343400"/>
            <a:ext cx="2338560" cy="22176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7086600" y="152280"/>
            <a:ext cx="1878120" cy="1143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151920" y="15192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tervention to Administer 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RE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533520" y="2666880"/>
            <a:ext cx="114300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Enroll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N=7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3200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2666880"/>
            <a:ext cx="152388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Rando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191120" y="1600200"/>
            <a:ext cx="18288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RED Inter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91120" y="3886200"/>
            <a:ext cx="190476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Usu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010280" y="2590920"/>
            <a:ext cx="167652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30 d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Garamond"/>
              </a:rPr>
              <a:t>Outcom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elephone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hart Revie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1828800" y="32004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71600" y="4648320"/>
            <a:ext cx="12193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nform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on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8128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09880" y="32004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09880" y="4648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809880" y="21333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09880" y="2133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1992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95880" y="4572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77120" y="213372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477120" y="32767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086600" y="152280"/>
            <a:ext cx="1878120" cy="11430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2d00"/>
                </a:solidFill>
                <a:latin typeface="Arial"/>
              </a:rPr>
              <a:t>Testing the RED Schemati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-304920" y="1981080"/>
          <a:ext cx="10363320" cy="40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4920" y="1981080"/>
                    <a:ext cx="10363320" cy="40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152280" y="13716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2d00"/>
                </a:solidFill>
                <a:latin typeface="Verdana"/>
              </a:rPr>
              <a:t>How useful was the booklet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7086600" y="152280"/>
            <a:ext cx="1878120" cy="1143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HCP Evaluation: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days post-dis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30481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09880" y="4419720"/>
            <a:ext cx="5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87080" y="42670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362320" y="32004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24080" y="25146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28600" y="1295280"/>
            <a:ext cx="67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2d00"/>
                </a:solidFill>
                <a:latin typeface="Verdana"/>
              </a:rPr>
              <a:t>What was the most helpful part of the bookl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7086600" y="152280"/>
            <a:ext cx="1878120" cy="11430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HCP Evaluation: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days post-dis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-1447920" y="2057400"/>
          <a:ext cx="10058400" cy="408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447920" y="2057400"/>
                    <a:ext cx="10058400" cy="40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3200400" y="3886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058480" y="50292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373392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438280" y="28954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990720" y="46483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23880" y="28195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28600" y="1195560"/>
            <a:ext cx="624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2d00"/>
                </a:solidFill>
                <a:latin typeface="Verdana"/>
              </a:rPr>
              <a:t>How helpful was the RED medication calend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7086600" y="152280"/>
            <a:ext cx="1878120" cy="1143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HCP Evaluation: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days post-dis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-1219320" y="2133720"/>
          <a:ext cx="11582640" cy="451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219320" y="2133720"/>
                    <a:ext cx="1158264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2590920" y="27432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505320" y="342900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95480" y="5334120"/>
            <a:ext cx="5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981080" y="304812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3962520"/>
            <a:ext cx="76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"/>
          <p:cNvGraphicFramePr/>
          <p:nvPr/>
        </p:nvGraphicFramePr>
        <p:xfrm>
          <a:off x="990720" y="1752480"/>
          <a:ext cx="7162560" cy="43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716256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7086600" y="152280"/>
            <a:ext cx="1878120" cy="11430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2d00"/>
                </a:solidFill>
                <a:latin typeface="Arial"/>
              </a:rPr>
              <a:t>Self-Perceived</a:t>
            </a:r>
            <a:br>
              <a:rPr sz="4000"/>
            </a:br>
            <a:r>
              <a:rPr b="0" lang="en-US" sz="4000" spc="-1" strike="noStrike">
                <a:solidFill>
                  <a:srgbClr val="ea2d00"/>
                </a:solidFill>
                <a:latin typeface="Arial"/>
              </a:rPr>
              <a:t>Readiness for Discharge</a:t>
            </a:r>
            <a:br>
              <a:rPr sz="2400"/>
            </a:br>
            <a:r>
              <a:rPr b="0" lang="en-US" sz="2400" spc="-1" strike="noStrike">
                <a:solidFill>
                  <a:srgbClr val="ea2d00"/>
                </a:solidFill>
                <a:latin typeface="Arial"/>
              </a:rPr>
              <a:t> 30 days post-dis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"/>
          <p:cNvGraphicFramePr/>
          <p:nvPr/>
        </p:nvGraphicFramePr>
        <p:xfrm>
          <a:off x="304920" y="2133720"/>
          <a:ext cx="8686800" cy="3409920"/>
        </p:xfrm>
        <a:graphic>
          <a:graphicData uri="http://schemas.openxmlformats.org/drawingml/2006/table">
            <a:tbl>
              <a:tblPr/>
              <a:tblGrid>
                <a:gridCol w="2666880"/>
                <a:gridCol w="2362320"/>
                <a:gridCol w="2635200"/>
                <a:gridCol w="10224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2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trol (n=37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tervention (n=37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-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spital Util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 # of visit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2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/100 sub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/100 sub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lt;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 # of vis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2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/100 sub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/100 sub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0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hospitaliz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 # of visit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e2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/100 sub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/100 sub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"/>
          <p:cNvSpPr/>
          <p:nvPr/>
        </p:nvSpPr>
        <p:spPr>
          <a:xfrm>
            <a:off x="152280" y="152280"/>
            <a:ext cx="6096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ahoma"/>
              </a:rPr>
              <a:t>Primary Out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7086600" y="152280"/>
            <a:ext cx="1878120" cy="11430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838680" y="2743200"/>
            <a:ext cx="685800" cy="533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303960" y="2749680"/>
            <a:ext cx="685800" cy="533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52280" y="22860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2d00"/>
                </a:solidFill>
                <a:latin typeface="Arial"/>
              </a:rPr>
              <a:t>Cumulative Hazard of Patients Experiencing an Hospital Utilization in 30d After Index Dis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7086600" y="152280"/>
            <a:ext cx="187812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78" name=""/>
          <p:cNvGrpSpPr/>
          <p:nvPr/>
        </p:nvGrpSpPr>
        <p:grpSpPr>
          <a:xfrm>
            <a:off x="1090440" y="2016720"/>
            <a:ext cx="6787800" cy="4715280"/>
            <a:chOff x="1090440" y="2016720"/>
            <a:chExt cx="6787800" cy="4715280"/>
          </a:xfrm>
        </p:grpSpPr>
        <p:sp>
          <p:nvSpPr>
            <p:cNvPr id="279" name=""/>
            <p:cNvSpPr/>
            <p:nvPr/>
          </p:nvSpPr>
          <p:spPr>
            <a:xfrm>
              <a:off x="1640880" y="2019960"/>
              <a:ext cx="6237360" cy="4111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640880" y="6133320"/>
              <a:ext cx="6237360" cy="180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1637280" y="6134760"/>
              <a:ext cx="0" cy="81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2604600" y="6134760"/>
              <a:ext cx="0" cy="81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3573360" y="6134760"/>
              <a:ext cx="0" cy="81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4542480" y="6134760"/>
              <a:ext cx="0" cy="81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5509800" y="6134760"/>
              <a:ext cx="0" cy="81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478560" y="6134760"/>
              <a:ext cx="0" cy="81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7447680" y="6134760"/>
              <a:ext cx="0" cy="81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595520" y="6297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562480" y="6297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490200" y="62978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458960" y="62978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426280" y="62978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95400" y="62978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64160" y="62978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62240" y="6564240"/>
              <a:ext cx="1395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ays after Dischar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35840" y="5986080"/>
              <a:ext cx="5040" cy="14904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497240" y="5844600"/>
              <a:ext cx="280080" cy="281880"/>
            </a:xfrm>
            <a:custGeom>
              <a:avLst/>
              <a:gdLst/>
              <a:ahLst/>
              <a:rect l="l" t="t" r="r" b="b"/>
              <a:pathLst>
                <a:path w="325" h="326">
                  <a:moveTo>
                    <a:pt x="0" y="311"/>
                  </a:moveTo>
                  <a:lnTo>
                    <a:pt x="14" y="326"/>
                  </a:lnTo>
                  <a:lnTo>
                    <a:pt x="325" y="16"/>
                  </a:lnTo>
                  <a:lnTo>
                    <a:pt x="311" y="0"/>
                  </a:lnTo>
                  <a:lnTo>
                    <a:pt x="0" y="3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35840" y="2016720"/>
              <a:ext cx="5040" cy="3854880"/>
            </a:xfrm>
            <a:prstGeom prst="rect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497240" y="5730120"/>
              <a:ext cx="280080" cy="281880"/>
            </a:xfrm>
            <a:custGeom>
              <a:avLst/>
              <a:gdLst/>
              <a:ahLst/>
              <a:rect l="l" t="t" r="r" b="b"/>
              <a:pathLst>
                <a:path w="325" h="326">
                  <a:moveTo>
                    <a:pt x="0" y="311"/>
                  </a:moveTo>
                  <a:lnTo>
                    <a:pt x="14" y="326"/>
                  </a:lnTo>
                  <a:lnTo>
                    <a:pt x="325" y="16"/>
                  </a:lnTo>
                  <a:lnTo>
                    <a:pt x="311" y="0"/>
                  </a:lnTo>
                  <a:lnTo>
                    <a:pt x="0" y="3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554120" y="5871960"/>
              <a:ext cx="8316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554120" y="5871960"/>
              <a:ext cx="8316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54120" y="5157360"/>
              <a:ext cx="8316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554120" y="4444200"/>
              <a:ext cx="8316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54120" y="3731760"/>
              <a:ext cx="8316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554120" y="3016800"/>
              <a:ext cx="8316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554120" y="2302200"/>
              <a:ext cx="8316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16200000">
              <a:off x="1334520" y="579348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16200000">
              <a:off x="1334520" y="508032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16200000">
              <a:off x="1334520" y="365292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16200000">
              <a:off x="1337760" y="222156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6200000">
              <a:off x="439920" y="3967920"/>
              <a:ext cx="1468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robability of surviv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37280" y="2302200"/>
              <a:ext cx="6003720" cy="2630160"/>
            </a:xfrm>
            <a:custGeom>
              <a:avLst/>
              <a:gdLst/>
              <a:ahLst/>
              <a:rect l="l" t="t" r="r" b="b"/>
              <a:pathLst>
                <a:path w="6940" h="3041">
                  <a:moveTo>
                    <a:pt x="0" y="0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224" y="21"/>
                  </a:lnTo>
                  <a:lnTo>
                    <a:pt x="224" y="229"/>
                  </a:lnTo>
                  <a:lnTo>
                    <a:pt x="448" y="229"/>
                  </a:lnTo>
                  <a:lnTo>
                    <a:pt x="448" y="352"/>
                  </a:lnTo>
                  <a:lnTo>
                    <a:pt x="671" y="352"/>
                  </a:lnTo>
                  <a:lnTo>
                    <a:pt x="671" y="436"/>
                  </a:lnTo>
                  <a:lnTo>
                    <a:pt x="895" y="436"/>
                  </a:lnTo>
                  <a:lnTo>
                    <a:pt x="895" y="456"/>
                  </a:lnTo>
                  <a:lnTo>
                    <a:pt x="1119" y="456"/>
                  </a:lnTo>
                  <a:lnTo>
                    <a:pt x="1119" y="559"/>
                  </a:lnTo>
                  <a:lnTo>
                    <a:pt x="1342" y="559"/>
                  </a:lnTo>
                  <a:lnTo>
                    <a:pt x="1342" y="622"/>
                  </a:lnTo>
                  <a:lnTo>
                    <a:pt x="1568" y="622"/>
                  </a:lnTo>
                  <a:lnTo>
                    <a:pt x="1568" y="765"/>
                  </a:lnTo>
                  <a:lnTo>
                    <a:pt x="1791" y="765"/>
                  </a:lnTo>
                  <a:lnTo>
                    <a:pt x="1791" y="808"/>
                  </a:lnTo>
                  <a:lnTo>
                    <a:pt x="2015" y="808"/>
                  </a:lnTo>
                  <a:lnTo>
                    <a:pt x="2015" y="931"/>
                  </a:lnTo>
                  <a:lnTo>
                    <a:pt x="2238" y="931"/>
                  </a:lnTo>
                  <a:lnTo>
                    <a:pt x="2238" y="1096"/>
                  </a:lnTo>
                  <a:lnTo>
                    <a:pt x="2462" y="1096"/>
                  </a:lnTo>
                  <a:lnTo>
                    <a:pt x="2462" y="1221"/>
                  </a:lnTo>
                  <a:lnTo>
                    <a:pt x="2686" y="1221"/>
                  </a:lnTo>
                  <a:lnTo>
                    <a:pt x="2686" y="1387"/>
                  </a:lnTo>
                  <a:lnTo>
                    <a:pt x="2909" y="1387"/>
                  </a:lnTo>
                  <a:lnTo>
                    <a:pt x="2909" y="1469"/>
                  </a:lnTo>
                  <a:lnTo>
                    <a:pt x="3135" y="1469"/>
                  </a:lnTo>
                  <a:lnTo>
                    <a:pt x="3135" y="1552"/>
                  </a:lnTo>
                  <a:lnTo>
                    <a:pt x="3358" y="1552"/>
                  </a:lnTo>
                  <a:lnTo>
                    <a:pt x="3358" y="1593"/>
                  </a:lnTo>
                  <a:lnTo>
                    <a:pt x="3582" y="1593"/>
                  </a:lnTo>
                  <a:lnTo>
                    <a:pt x="3582" y="1614"/>
                  </a:lnTo>
                  <a:lnTo>
                    <a:pt x="3806" y="1614"/>
                  </a:lnTo>
                  <a:lnTo>
                    <a:pt x="3806" y="1675"/>
                  </a:lnTo>
                  <a:lnTo>
                    <a:pt x="4029" y="1675"/>
                  </a:lnTo>
                  <a:lnTo>
                    <a:pt x="4029" y="1779"/>
                  </a:lnTo>
                  <a:lnTo>
                    <a:pt x="4253" y="1779"/>
                  </a:lnTo>
                  <a:lnTo>
                    <a:pt x="4253" y="1924"/>
                  </a:lnTo>
                  <a:lnTo>
                    <a:pt x="4476" y="1924"/>
                  </a:lnTo>
                  <a:lnTo>
                    <a:pt x="4476" y="1965"/>
                  </a:lnTo>
                  <a:lnTo>
                    <a:pt x="4702" y="1965"/>
                  </a:lnTo>
                  <a:lnTo>
                    <a:pt x="4702" y="2088"/>
                  </a:lnTo>
                  <a:lnTo>
                    <a:pt x="4925" y="2088"/>
                  </a:lnTo>
                  <a:lnTo>
                    <a:pt x="4925" y="2172"/>
                  </a:lnTo>
                  <a:lnTo>
                    <a:pt x="5149" y="2172"/>
                  </a:lnTo>
                  <a:lnTo>
                    <a:pt x="5149" y="2233"/>
                  </a:lnTo>
                  <a:lnTo>
                    <a:pt x="5373" y="2233"/>
                  </a:lnTo>
                  <a:lnTo>
                    <a:pt x="5373" y="2338"/>
                  </a:lnTo>
                  <a:lnTo>
                    <a:pt x="5596" y="2338"/>
                  </a:lnTo>
                  <a:lnTo>
                    <a:pt x="5596" y="2399"/>
                  </a:lnTo>
                  <a:lnTo>
                    <a:pt x="5820" y="2399"/>
                  </a:lnTo>
                  <a:lnTo>
                    <a:pt x="5820" y="2483"/>
                  </a:lnTo>
                  <a:lnTo>
                    <a:pt x="6044" y="2483"/>
                  </a:lnTo>
                  <a:lnTo>
                    <a:pt x="6044" y="2689"/>
                  </a:lnTo>
                  <a:lnTo>
                    <a:pt x="6269" y="2689"/>
                  </a:lnTo>
                  <a:lnTo>
                    <a:pt x="6269" y="2855"/>
                  </a:lnTo>
                  <a:lnTo>
                    <a:pt x="6493" y="2855"/>
                  </a:lnTo>
                  <a:lnTo>
                    <a:pt x="6493" y="2957"/>
                  </a:lnTo>
                  <a:lnTo>
                    <a:pt x="6716" y="2957"/>
                  </a:lnTo>
                  <a:lnTo>
                    <a:pt x="6716" y="3041"/>
                  </a:lnTo>
                  <a:lnTo>
                    <a:pt x="6940" y="3041"/>
                  </a:lnTo>
                  <a:lnTo>
                    <a:pt x="6940" y="3041"/>
                  </a:lnTo>
                </a:path>
              </a:pathLst>
            </a:custGeom>
            <a:noFill/>
            <a:ln w="64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605000" y="4932360"/>
              <a:ext cx="72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641360" y="4896000"/>
              <a:ext cx="0" cy="7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637280" y="2302200"/>
              <a:ext cx="6003720" cy="1913760"/>
            </a:xfrm>
            <a:custGeom>
              <a:avLst/>
              <a:gdLst/>
              <a:ahLst/>
              <a:rect l="l" t="t" r="r" b="b"/>
              <a:pathLst>
                <a:path w="6940" h="2211">
                  <a:moveTo>
                    <a:pt x="0" y="0"/>
                  </a:moveTo>
                  <a:lnTo>
                    <a:pt x="0" y="0"/>
                  </a:lnTo>
                  <a:lnTo>
                    <a:pt x="0" y="69"/>
                  </a:lnTo>
                  <a:lnTo>
                    <a:pt x="224" y="69"/>
                  </a:lnTo>
                  <a:lnTo>
                    <a:pt x="224" y="161"/>
                  </a:lnTo>
                  <a:lnTo>
                    <a:pt x="448" y="161"/>
                  </a:lnTo>
                  <a:lnTo>
                    <a:pt x="448" y="205"/>
                  </a:lnTo>
                  <a:lnTo>
                    <a:pt x="671" y="205"/>
                  </a:lnTo>
                  <a:lnTo>
                    <a:pt x="671" y="344"/>
                  </a:lnTo>
                  <a:lnTo>
                    <a:pt x="895" y="344"/>
                  </a:lnTo>
                  <a:lnTo>
                    <a:pt x="895" y="480"/>
                  </a:lnTo>
                  <a:lnTo>
                    <a:pt x="1119" y="480"/>
                  </a:lnTo>
                  <a:lnTo>
                    <a:pt x="1119" y="548"/>
                  </a:lnTo>
                  <a:lnTo>
                    <a:pt x="1342" y="548"/>
                  </a:lnTo>
                  <a:lnTo>
                    <a:pt x="1342" y="617"/>
                  </a:lnTo>
                  <a:lnTo>
                    <a:pt x="1568" y="617"/>
                  </a:lnTo>
                  <a:lnTo>
                    <a:pt x="1568" y="729"/>
                  </a:lnTo>
                  <a:lnTo>
                    <a:pt x="1791" y="729"/>
                  </a:lnTo>
                  <a:lnTo>
                    <a:pt x="1791" y="822"/>
                  </a:lnTo>
                  <a:lnTo>
                    <a:pt x="2015" y="822"/>
                  </a:lnTo>
                  <a:lnTo>
                    <a:pt x="2015" y="958"/>
                  </a:lnTo>
                  <a:lnTo>
                    <a:pt x="2238" y="958"/>
                  </a:lnTo>
                  <a:lnTo>
                    <a:pt x="2238" y="980"/>
                  </a:lnTo>
                  <a:lnTo>
                    <a:pt x="2462" y="980"/>
                  </a:lnTo>
                  <a:lnTo>
                    <a:pt x="2462" y="1026"/>
                  </a:lnTo>
                  <a:lnTo>
                    <a:pt x="2686" y="1026"/>
                  </a:lnTo>
                  <a:lnTo>
                    <a:pt x="2686" y="1073"/>
                  </a:lnTo>
                  <a:lnTo>
                    <a:pt x="2909" y="1073"/>
                  </a:lnTo>
                  <a:lnTo>
                    <a:pt x="2909" y="1163"/>
                  </a:lnTo>
                  <a:lnTo>
                    <a:pt x="3135" y="1163"/>
                  </a:lnTo>
                  <a:lnTo>
                    <a:pt x="3135" y="1209"/>
                  </a:lnTo>
                  <a:lnTo>
                    <a:pt x="3358" y="1209"/>
                  </a:lnTo>
                  <a:lnTo>
                    <a:pt x="3358" y="1231"/>
                  </a:lnTo>
                  <a:lnTo>
                    <a:pt x="3582" y="1231"/>
                  </a:lnTo>
                  <a:lnTo>
                    <a:pt x="3582" y="1323"/>
                  </a:lnTo>
                  <a:lnTo>
                    <a:pt x="3806" y="1323"/>
                  </a:lnTo>
                  <a:lnTo>
                    <a:pt x="3806" y="1392"/>
                  </a:lnTo>
                  <a:lnTo>
                    <a:pt x="4029" y="1392"/>
                  </a:lnTo>
                  <a:lnTo>
                    <a:pt x="4029" y="1482"/>
                  </a:lnTo>
                  <a:lnTo>
                    <a:pt x="4253" y="1482"/>
                  </a:lnTo>
                  <a:lnTo>
                    <a:pt x="4253" y="1504"/>
                  </a:lnTo>
                  <a:lnTo>
                    <a:pt x="4702" y="1504"/>
                  </a:lnTo>
                  <a:lnTo>
                    <a:pt x="4702" y="1619"/>
                  </a:lnTo>
                  <a:lnTo>
                    <a:pt x="4925" y="1619"/>
                  </a:lnTo>
                  <a:lnTo>
                    <a:pt x="4925" y="1665"/>
                  </a:lnTo>
                  <a:lnTo>
                    <a:pt x="5149" y="1665"/>
                  </a:lnTo>
                  <a:lnTo>
                    <a:pt x="5149" y="1755"/>
                  </a:lnTo>
                  <a:lnTo>
                    <a:pt x="5373" y="1755"/>
                  </a:lnTo>
                  <a:lnTo>
                    <a:pt x="5373" y="1848"/>
                  </a:lnTo>
                  <a:lnTo>
                    <a:pt x="5596" y="1848"/>
                  </a:lnTo>
                  <a:lnTo>
                    <a:pt x="5596" y="1984"/>
                  </a:lnTo>
                  <a:lnTo>
                    <a:pt x="5820" y="1984"/>
                  </a:lnTo>
                  <a:lnTo>
                    <a:pt x="5820" y="2075"/>
                  </a:lnTo>
                  <a:lnTo>
                    <a:pt x="6269" y="2075"/>
                  </a:lnTo>
                  <a:lnTo>
                    <a:pt x="6269" y="2121"/>
                  </a:lnTo>
                  <a:lnTo>
                    <a:pt x="6493" y="2121"/>
                  </a:lnTo>
                  <a:lnTo>
                    <a:pt x="6493" y="2143"/>
                  </a:lnTo>
                  <a:lnTo>
                    <a:pt x="6716" y="2143"/>
                  </a:lnTo>
                  <a:lnTo>
                    <a:pt x="6716" y="2211"/>
                  </a:lnTo>
                  <a:lnTo>
                    <a:pt x="6940" y="2211"/>
                  </a:lnTo>
                  <a:lnTo>
                    <a:pt x="6940" y="2211"/>
                  </a:lnTo>
                </a:path>
              </a:pathLst>
            </a:custGeom>
            <a:noFill/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05000" y="4215960"/>
              <a:ext cx="72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641360" y="4177800"/>
              <a:ext cx="0" cy="7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133720" y="4114800"/>
            <a:ext cx="1904760" cy="80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---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Arial"/>
              </a:rPr>
              <a:t>---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Usual 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i-square p=0.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fully delivered u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H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‘Readiness for Discharge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s hospital u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% re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NT = 7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s high hospital utiliz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0% red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Cost-Eff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329 / pati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 million discharges @ $753 billion x 32% eligible = 4 b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7086600" y="152280"/>
            <a:ext cx="1878120" cy="114300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151920" y="1519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2d00"/>
                </a:solidFill>
                <a:latin typeface="Arial"/>
              </a:rPr>
              <a:t>Conclusions from the R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228600" y="1447560"/>
            <a:ext cx="5867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bodied Conversational Ag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es the AH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ulates face to face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s therapeutic al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ze, posture, ges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ency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drill down in med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s of test sites and CH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 – e.g., Lovenox, Gluco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statio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s to hospital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s AHC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ds” Lou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ordancy Stud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iosk for patient ac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5943600" y="1905120"/>
          <a:ext cx="3657600" cy="31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1905120"/>
                    <a:ext cx="3657600" cy="31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7086600" y="152280"/>
            <a:ext cx="1878120" cy="114300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152280" y="1519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2d00"/>
                </a:solidFill>
                <a:latin typeface="Arial"/>
              </a:rPr>
              <a:t>Major Problem: RN Time</a:t>
            </a:r>
            <a:br>
              <a:rPr sz="4000"/>
            </a:br>
            <a:r>
              <a:rPr b="0" lang="en-US" sz="4000" spc="-1" strike="noStrike">
                <a:solidFill>
                  <a:srgbClr val="ea2d00"/>
                </a:solidFill>
                <a:latin typeface="Arial"/>
              </a:rPr>
              <a:t>Can Health IT Hel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943600" y="5257800"/>
            <a:ext cx="29718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Louise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80880" y="2057400"/>
            <a:ext cx="830592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72c6"/>
                </a:solidFill>
                <a:uFillTx/>
                <a:latin typeface="Arial"/>
              </a:rPr>
              <a:t>Loose End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ups NOT compl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72c6"/>
                </a:solidFill>
                <a:uFillTx/>
                <a:latin typeface="Arial"/>
              </a:rPr>
              <a:t>Communicatio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C summary not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72c6"/>
                </a:solidFill>
                <a:uFillTx/>
                <a:latin typeface="Arial"/>
              </a:rPr>
              <a:t>Poor Quality Info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C summary lack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72c6"/>
                </a:solidFill>
                <a:uFillTx/>
                <a:latin typeface="Arial"/>
              </a:rPr>
              <a:t>Poor Preparation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pts know meds/d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72c6"/>
                </a:solidFill>
                <a:uFillTx/>
                <a:latin typeface="Arial"/>
              </a:rPr>
              <a:t>Fragmentation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is in char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086600" y="152280"/>
            <a:ext cx="1878120" cy="1143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5943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Perfect Storm”</a:t>
            </a:r>
            <a:br>
              <a:rPr sz="4800"/>
            </a:b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of Patient Safety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679040" y="1828800"/>
            <a:ext cx="5897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Social Ch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3046680" y="1828800"/>
            <a:ext cx="3161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Cove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553760" y="1828800"/>
            <a:ext cx="6147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Medication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118880" y="1828800"/>
            <a:ext cx="70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Appointment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2082600" y="1828800"/>
            <a:ext cx="5089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Diagnosi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673360" y="1828800"/>
            <a:ext cx="3908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Closin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4800600" y="2209680"/>
            <a:ext cx="4191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an Ferna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vid Anthony, MD, M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m Bickmore Ph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il Burniske, Phar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evin Casey, M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K Chetty, Ph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yson Correia, 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rry Culpepper, MD, M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haula Forsythe, MPH,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ob Friedman, 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effrey Greenwald, 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na John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and Kartha, 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ristopher Manasseh, 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ulie O’D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" y="2097000"/>
            <a:ext cx="426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I: Brian Jack, 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ichael Paasche-Orlow MD, M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roline Hesko, M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rina Kushn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ana Gershengor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im Visconti, 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ared Kutzin, RN, M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son Simas, 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ry Goodwin, 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ynn Schipelliti, 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ndsey Holl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ggie J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acie Fyrberg, 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imal Jhave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ura Pfei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7086600" y="152280"/>
            <a:ext cx="1878120" cy="114300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ahoma"/>
              </a:rPr>
              <a:t>Thank You AHRQ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52280" y="2362320"/>
            <a:ext cx="8839440" cy="32763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7086600" y="152280"/>
            <a:ext cx="1878120" cy="1143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2d00"/>
                </a:solidFill>
                <a:latin typeface="Arial"/>
              </a:rPr>
              <a:t>Principles of the RED:</a:t>
            </a:r>
            <a:br>
              <a:rPr sz="4000"/>
            </a:br>
            <a:r>
              <a:rPr b="0" lang="en-US" sz="4000" spc="-1" strike="noStrike">
                <a:solidFill>
                  <a:srgbClr val="ea2d00"/>
                </a:solidFill>
                <a:latin typeface="Arial"/>
              </a:rPr>
              <a:t>Creating the Toolk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715000" y="2819520"/>
            <a:ext cx="2801880" cy="2441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dopt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ational Quality Fo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s one of 30 "Safe Practices" (SP-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en mutually reinforcing compon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cation Reconcili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ncile Plan with National Guide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llow-up Appoin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tanding Tests and Stud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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-discharge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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ten discharge p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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to do if a problem a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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ient Edu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ss patient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summary to P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Reinforcem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7086600" y="152280"/>
            <a:ext cx="1878120" cy="1143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52280" y="1519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2d00"/>
                </a:solidFill>
                <a:latin typeface="Tahoma"/>
              </a:rPr>
              <a:t>RED Checklis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934320" y="304920"/>
            <a:ext cx="1877760" cy="11430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763120" cy="594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934320" y="304920"/>
            <a:ext cx="1877760" cy="1143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899172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76312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763120" cy="59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934320" y="304920"/>
            <a:ext cx="1877760" cy="1143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86104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14:47:41Z</dcterms:created>
  <dc:creator>NPSF</dc:creator>
  <dc:description/>
  <dc:language>en-US</dc:language>
  <cp:lastModifiedBy>Emily Moser</cp:lastModifiedBy>
  <dcterms:modified xsi:type="dcterms:W3CDTF">2009-06-04T18:58:30Z</dcterms:modified>
  <cp:revision>120</cp:revision>
  <dc:subject/>
  <dc:title>Slide 1</dc:title>
</cp:coreProperties>
</file>