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1CD5-7593-4003-93B5-53E550E27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ordinated post-discharge appointments for primary care, consultants, therapy, and outpatient tests; (2) scheduled appointments at times convenient for the subject and informed subject about what to do if an appointment needed to be changed; (3) helped determine a plan for transportation to appointments; (4) obtained pertinent diagnoses from the hospital record; (5) recorded the subject’s preferred outpatient pharmacy; (6) obtained a list of the subject’s discharge medications that were reconciled by the hospital team and updated in the subject’s ambulatory electronic medical record; (7) identified outstanding test results at the time of discharge; and (8) cross-checked the discharge plan with diagnosis-specific guidelines presented in the training manual, discussing possible discrepancies with the medical team before dischar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4F06-E2DE-4D1C-8ED3-CB5DB0ED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732D-295F-48F2-AC57-DDC45979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6A4A-5C8E-492A-990F-0E56725F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F0B7-3857-485B-8290-A289A124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9149-83BD-44BF-A17B-489D20EC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D818-6B3F-4AA5-B56C-22656ACF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B8BC-AF9F-4C2F-9033-B10554ED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76D1-712E-4937-B881-158A900D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B73D-E166-4CE4-801A-26C4289A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09D4-3C3F-4F5C-978B-3D4C4DB2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B158-88F9-4A03-886B-DFCA5DC1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E036-AA07-4D7A-A89C-E54DAC34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4C4E-D1D7-493D-B04E-7FBEB302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40CF-9072-4548-8811-86CAAFC2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2B0D-C81C-495A-AE44-B7E6F7D6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27DB-65FA-4D17-B742-5A908D56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2823-37D2-4344-A86C-AB9121A3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AF62C-2309-4A78-8421-77ECCBD2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FC0E2-B77A-49CE-9E52-03AFBC2B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7F7A0-5B82-40F9-A53C-8C204291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28569-FD97-40A9-BB12-1FDF03DB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1703F-9DDA-450B-9F0C-1D41B224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151-B714-4C57-9088-990EA616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02F73-EE94-43E8-8B87-CE455F58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89B1D-A726-434E-AF55-196A3B8E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74240-2F0A-4973-8F77-C249CFCF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23AD0-AFD5-4102-A2B2-5B0704B9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D8EBB-BE1C-495D-8488-C162981A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94754-5CED-4405-A1C8-9B004A37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EB646-6A60-43B0-B44E-74076C0E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7B916-C3DE-4280-9494-D6C28DDF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A800A-AC9A-40C4-A7AB-F42183C4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D6DB5-A904-4C44-A4C8-9F90B6DB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8B78-7C44-4191-9BA8-08608D4F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C9A2E-35BC-4FE9-A146-14BE6304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AFF0D-7CC0-44DE-84BA-640F119B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0225D-BAAB-4A5E-8EB4-26A512BD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7EF0C-4FEB-40FE-BAB2-E54BEDF6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F4F39-052F-4BEA-9186-15EECFDA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6990B-44C1-40D1-A130-974E978C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3C6BC-9A49-45E0-B1A2-17D0E1D5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22A90-9395-4DEC-B399-F633317E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FB87F-A01F-4109-86E5-1AE218C1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1B14-5BDE-4960-8E78-EEAB114D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ABF-0DAC-41B1-9158-77E296FF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00A3-FF2A-4375-928B-7D86EAF2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F0E8-4F19-464E-A22F-01C0DF0C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C4DA-4635-4837-AD20-CDB96E99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A9E0-DEA2-4C02-880C-565C5F8CC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EF1B-9807-4AF7-B971-605142006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C5C6-4396-42E6-A75B-EF2C72073B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1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2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35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337F-26E6-49FB-8602-46127A5EE8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95280" y="1066680"/>
            <a:ext cx="6553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Testing th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d60000"/>
                </a:solidFill>
                <a:latin typeface="Arial"/>
              </a:rPr>
              <a:t>R</a:t>
            </a: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e-</a:t>
            </a:r>
            <a:r>
              <a:rPr b="1" lang="en-US" sz="5400" spc="-1" strike="noStrike">
                <a:solidFill>
                  <a:srgbClr val="d60000"/>
                </a:solidFill>
                <a:latin typeface="Arial"/>
              </a:rPr>
              <a:t>E</a:t>
            </a: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ngineered </a:t>
            </a:r>
            <a:r>
              <a:rPr b="1" lang="en-US" sz="4800" spc="-1" strike="noStrike">
                <a:solidFill>
                  <a:srgbClr val="d600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schar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162920" y="5165640"/>
            <a:ext cx="1523880" cy="1220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878120" cy="1143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4952880"/>
          <a:ext cx="2514600" cy="160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952880"/>
                    <a:ext cx="2514600" cy="16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1371600" y="4572000"/>
            <a:ext cx="594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cipal Investigator: Brian Jack M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ciate Professor and Vice Ch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artment of Family Medi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ston Medical Center 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ston University School of Medi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3505320"/>
            <a:ext cx="477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s-On Health 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tember 9, 200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Hospital - Discharge Advocate (DA)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r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 with care team – med rec and guidel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pare the After Hospital Discharge Plan (AHC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ach the AHC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fter Discharge – Clinical Pharmac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llow-up call @ 2-3 d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A and Pharm man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ripts for each ta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629400" y="4343400"/>
            <a:ext cx="2338560" cy="2217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87812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51920" y="1519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rvention to Administer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RE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33520" y="2666880"/>
            <a:ext cx="114300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nroll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=7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3200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2666880"/>
            <a:ext cx="152388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ando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91120" y="1600200"/>
            <a:ext cx="18288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ED 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91120" y="3886200"/>
            <a:ext cx="190476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Us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10280" y="2590920"/>
            <a:ext cx="167652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30 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Outcom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elephone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hart Re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828800" y="3200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4648320"/>
            <a:ext cx="12193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nform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9880" y="3200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809880" y="21333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9880" y="2133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1992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95880" y="4572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21337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3276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78120" cy="1143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2d00"/>
                </a:solidFill>
                <a:latin typeface="Arial"/>
              </a:rPr>
              <a:t>Testing the RED Schemat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-304920" y="1981080"/>
          <a:ext cx="1036332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1981080"/>
                    <a:ext cx="1036332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152280" y="13716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2d00"/>
                </a:solidFill>
                <a:latin typeface="Verdana"/>
              </a:rPr>
              <a:t>How useful was the booklet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7086600" y="152280"/>
            <a:ext cx="1878120" cy="1143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HCP Evaluation: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days post-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30481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9880" y="4419720"/>
            <a:ext cx="5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87080" y="42670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62320" y="3200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25146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28600" y="129528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2d00"/>
                </a:solidFill>
                <a:latin typeface="Verdana"/>
              </a:rPr>
              <a:t>What was the most helpful part of the bookl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78120" cy="1143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HCP Evaluation: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days post-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-1447920" y="2057400"/>
          <a:ext cx="10058400" cy="408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447920" y="2057400"/>
                    <a:ext cx="10058400" cy="40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3200400" y="3886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058480" y="50292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37339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38280" y="28954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46483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28195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28600" y="119556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2d00"/>
                </a:solidFill>
                <a:latin typeface="Verdana"/>
              </a:rPr>
              <a:t>How helpful was the RED medication calend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78120" cy="1143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HCP Evaluation: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days post-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1219320" y="2133720"/>
          <a:ext cx="11582640" cy="451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219320" y="2133720"/>
                    <a:ext cx="1158264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2590920" y="2743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34290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95480" y="5334120"/>
            <a:ext cx="5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81080" y="30481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3962520"/>
            <a:ext cx="7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990720" y="1752480"/>
          <a:ext cx="71625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71625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7086600" y="152280"/>
            <a:ext cx="1878120" cy="11430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2d00"/>
                </a:solidFill>
                <a:latin typeface="Arial"/>
              </a:rPr>
              <a:t>Self-Perceived</a:t>
            </a:r>
            <a:br>
              <a:rPr sz="4000"/>
            </a:br>
            <a:r>
              <a:rPr b="0" lang="en-US" sz="4000" spc="-1" strike="noStrike">
                <a:solidFill>
                  <a:srgbClr val="ea2d00"/>
                </a:solidFill>
                <a:latin typeface="Arial"/>
              </a:rPr>
              <a:t>Readiness for Discharge</a:t>
            </a:r>
            <a:br>
              <a:rPr sz="2400"/>
            </a:br>
            <a:r>
              <a:rPr b="0" lang="en-US" sz="2400" spc="-1" strike="noStrike">
                <a:solidFill>
                  <a:srgbClr val="ea2d00"/>
                </a:solidFill>
                <a:latin typeface="Arial"/>
              </a:rPr>
              <a:t> 30 days post-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304920" y="2133720"/>
          <a:ext cx="8686800" cy="3409920"/>
        </p:xfrm>
        <a:graphic>
          <a:graphicData uri="http://schemas.openxmlformats.org/drawingml/2006/table">
            <a:tbl>
              <a:tblPr/>
              <a:tblGrid>
                <a:gridCol w="2666880"/>
                <a:gridCol w="2362320"/>
                <a:gridCol w="2635200"/>
                <a:gridCol w="1022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2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trol (n=37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tervention (n=37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spital Ut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# of visi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2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/100 sub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/100 sub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# of vi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2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/100 sub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/100 sub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hospita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# of visi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2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/100 sub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/100 sub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152280" y="152280"/>
            <a:ext cx="609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ahoma"/>
              </a:rPr>
              <a:t>Primary Out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78120" cy="1143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838680" y="2743200"/>
            <a:ext cx="68580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303960" y="2749680"/>
            <a:ext cx="685800" cy="533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52280" y="22860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2d00"/>
                </a:solidFill>
                <a:latin typeface="Arial"/>
              </a:rPr>
              <a:t>Cumulative Hazard of Patients Experiencing an Hospital Utilization in 30d After Index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7812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1090440" y="2016720"/>
            <a:ext cx="6787800" cy="4715280"/>
            <a:chOff x="1090440" y="2016720"/>
            <a:chExt cx="6787800" cy="4715280"/>
          </a:xfrm>
        </p:grpSpPr>
        <p:sp>
          <p:nvSpPr>
            <p:cNvPr id="279" name=""/>
            <p:cNvSpPr/>
            <p:nvPr/>
          </p:nvSpPr>
          <p:spPr>
            <a:xfrm>
              <a:off x="1640880" y="2019960"/>
              <a:ext cx="6237360" cy="4111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40880" y="6133320"/>
              <a:ext cx="6237360" cy="180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1637280" y="6134760"/>
              <a:ext cx="0" cy="81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2604600" y="6134760"/>
              <a:ext cx="0" cy="81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3573360" y="6134760"/>
              <a:ext cx="0" cy="81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542480" y="6134760"/>
              <a:ext cx="0" cy="81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509800" y="6134760"/>
              <a:ext cx="0" cy="81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478560" y="6134760"/>
              <a:ext cx="0" cy="81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7447680" y="6134760"/>
              <a:ext cx="0" cy="81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95520" y="6297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62480" y="6297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90200" y="62978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58960" y="62978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26280" y="62978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95400" y="62978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64160" y="62978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62240" y="6564240"/>
              <a:ext cx="1395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ays after Dischar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35840" y="5986080"/>
              <a:ext cx="5040" cy="14904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97240" y="5844600"/>
              <a:ext cx="280080" cy="281880"/>
            </a:xfrm>
            <a:custGeom>
              <a:avLst/>
              <a:gdLst/>
              <a:ahLst/>
              <a:rect l="l" t="t" r="r" b="b"/>
              <a:pathLst>
                <a:path w="325" h="326">
                  <a:moveTo>
                    <a:pt x="0" y="311"/>
                  </a:moveTo>
                  <a:lnTo>
                    <a:pt x="14" y="326"/>
                  </a:lnTo>
                  <a:lnTo>
                    <a:pt x="325" y="16"/>
                  </a:lnTo>
                  <a:lnTo>
                    <a:pt x="311" y="0"/>
                  </a:lnTo>
                  <a:lnTo>
                    <a:pt x="0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35840" y="2016720"/>
              <a:ext cx="5040" cy="38548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97240" y="5730120"/>
              <a:ext cx="280080" cy="281880"/>
            </a:xfrm>
            <a:custGeom>
              <a:avLst/>
              <a:gdLst/>
              <a:ahLst/>
              <a:rect l="l" t="t" r="r" b="b"/>
              <a:pathLst>
                <a:path w="325" h="326">
                  <a:moveTo>
                    <a:pt x="0" y="311"/>
                  </a:moveTo>
                  <a:lnTo>
                    <a:pt x="14" y="326"/>
                  </a:lnTo>
                  <a:lnTo>
                    <a:pt x="325" y="16"/>
                  </a:lnTo>
                  <a:lnTo>
                    <a:pt x="311" y="0"/>
                  </a:lnTo>
                  <a:lnTo>
                    <a:pt x="0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54120" y="5871960"/>
              <a:ext cx="8316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54120" y="5871960"/>
              <a:ext cx="8316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54120" y="5157360"/>
              <a:ext cx="8316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54120" y="4444200"/>
              <a:ext cx="8316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54120" y="3731760"/>
              <a:ext cx="8316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54120" y="3016800"/>
              <a:ext cx="8316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554120" y="2302200"/>
              <a:ext cx="8316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6200000">
              <a:off x="1334520" y="57934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6200000">
              <a:off x="1334520" y="50803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6200000">
              <a:off x="1334520" y="36529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6200000">
              <a:off x="1337760" y="22215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6200000">
              <a:off x="439920" y="3967920"/>
              <a:ext cx="1468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bability of surviv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37280" y="2302200"/>
              <a:ext cx="6003720" cy="2630160"/>
            </a:xfrm>
            <a:custGeom>
              <a:avLst/>
              <a:gdLst/>
              <a:ahLst/>
              <a:rect l="l" t="t" r="r" b="b"/>
              <a:pathLst>
                <a:path w="6940" h="3041">
                  <a:moveTo>
                    <a:pt x="0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24" y="21"/>
                  </a:lnTo>
                  <a:lnTo>
                    <a:pt x="224" y="229"/>
                  </a:lnTo>
                  <a:lnTo>
                    <a:pt x="448" y="229"/>
                  </a:lnTo>
                  <a:lnTo>
                    <a:pt x="448" y="352"/>
                  </a:lnTo>
                  <a:lnTo>
                    <a:pt x="671" y="352"/>
                  </a:lnTo>
                  <a:lnTo>
                    <a:pt x="671" y="436"/>
                  </a:lnTo>
                  <a:lnTo>
                    <a:pt x="895" y="436"/>
                  </a:lnTo>
                  <a:lnTo>
                    <a:pt x="895" y="456"/>
                  </a:lnTo>
                  <a:lnTo>
                    <a:pt x="1119" y="456"/>
                  </a:lnTo>
                  <a:lnTo>
                    <a:pt x="1119" y="559"/>
                  </a:lnTo>
                  <a:lnTo>
                    <a:pt x="1342" y="559"/>
                  </a:lnTo>
                  <a:lnTo>
                    <a:pt x="1342" y="622"/>
                  </a:lnTo>
                  <a:lnTo>
                    <a:pt x="1568" y="622"/>
                  </a:lnTo>
                  <a:lnTo>
                    <a:pt x="1568" y="765"/>
                  </a:lnTo>
                  <a:lnTo>
                    <a:pt x="1791" y="765"/>
                  </a:lnTo>
                  <a:lnTo>
                    <a:pt x="1791" y="808"/>
                  </a:lnTo>
                  <a:lnTo>
                    <a:pt x="2015" y="808"/>
                  </a:lnTo>
                  <a:lnTo>
                    <a:pt x="2015" y="931"/>
                  </a:lnTo>
                  <a:lnTo>
                    <a:pt x="2238" y="931"/>
                  </a:lnTo>
                  <a:lnTo>
                    <a:pt x="2238" y="1096"/>
                  </a:lnTo>
                  <a:lnTo>
                    <a:pt x="2462" y="1096"/>
                  </a:lnTo>
                  <a:lnTo>
                    <a:pt x="2462" y="1221"/>
                  </a:lnTo>
                  <a:lnTo>
                    <a:pt x="2686" y="1221"/>
                  </a:lnTo>
                  <a:lnTo>
                    <a:pt x="2686" y="1387"/>
                  </a:lnTo>
                  <a:lnTo>
                    <a:pt x="2909" y="1387"/>
                  </a:lnTo>
                  <a:lnTo>
                    <a:pt x="2909" y="1469"/>
                  </a:lnTo>
                  <a:lnTo>
                    <a:pt x="3135" y="1469"/>
                  </a:lnTo>
                  <a:lnTo>
                    <a:pt x="3135" y="1552"/>
                  </a:lnTo>
                  <a:lnTo>
                    <a:pt x="3358" y="1552"/>
                  </a:lnTo>
                  <a:lnTo>
                    <a:pt x="3358" y="1593"/>
                  </a:lnTo>
                  <a:lnTo>
                    <a:pt x="3582" y="1593"/>
                  </a:lnTo>
                  <a:lnTo>
                    <a:pt x="3582" y="1614"/>
                  </a:lnTo>
                  <a:lnTo>
                    <a:pt x="3806" y="1614"/>
                  </a:lnTo>
                  <a:lnTo>
                    <a:pt x="3806" y="1675"/>
                  </a:lnTo>
                  <a:lnTo>
                    <a:pt x="4029" y="1675"/>
                  </a:lnTo>
                  <a:lnTo>
                    <a:pt x="4029" y="1779"/>
                  </a:lnTo>
                  <a:lnTo>
                    <a:pt x="4253" y="1779"/>
                  </a:lnTo>
                  <a:lnTo>
                    <a:pt x="4253" y="1924"/>
                  </a:lnTo>
                  <a:lnTo>
                    <a:pt x="4476" y="1924"/>
                  </a:lnTo>
                  <a:lnTo>
                    <a:pt x="4476" y="1965"/>
                  </a:lnTo>
                  <a:lnTo>
                    <a:pt x="4702" y="1965"/>
                  </a:lnTo>
                  <a:lnTo>
                    <a:pt x="4702" y="2088"/>
                  </a:lnTo>
                  <a:lnTo>
                    <a:pt x="4925" y="2088"/>
                  </a:lnTo>
                  <a:lnTo>
                    <a:pt x="4925" y="2172"/>
                  </a:lnTo>
                  <a:lnTo>
                    <a:pt x="5149" y="2172"/>
                  </a:lnTo>
                  <a:lnTo>
                    <a:pt x="5149" y="2233"/>
                  </a:lnTo>
                  <a:lnTo>
                    <a:pt x="5373" y="2233"/>
                  </a:lnTo>
                  <a:lnTo>
                    <a:pt x="5373" y="2338"/>
                  </a:lnTo>
                  <a:lnTo>
                    <a:pt x="5596" y="2338"/>
                  </a:lnTo>
                  <a:lnTo>
                    <a:pt x="5596" y="2399"/>
                  </a:lnTo>
                  <a:lnTo>
                    <a:pt x="5820" y="2399"/>
                  </a:lnTo>
                  <a:lnTo>
                    <a:pt x="5820" y="2483"/>
                  </a:lnTo>
                  <a:lnTo>
                    <a:pt x="6044" y="2483"/>
                  </a:lnTo>
                  <a:lnTo>
                    <a:pt x="6044" y="2689"/>
                  </a:lnTo>
                  <a:lnTo>
                    <a:pt x="6269" y="2689"/>
                  </a:lnTo>
                  <a:lnTo>
                    <a:pt x="6269" y="2855"/>
                  </a:lnTo>
                  <a:lnTo>
                    <a:pt x="6493" y="2855"/>
                  </a:lnTo>
                  <a:lnTo>
                    <a:pt x="6493" y="2957"/>
                  </a:lnTo>
                  <a:lnTo>
                    <a:pt x="6716" y="2957"/>
                  </a:lnTo>
                  <a:lnTo>
                    <a:pt x="6716" y="3041"/>
                  </a:lnTo>
                  <a:lnTo>
                    <a:pt x="6940" y="3041"/>
                  </a:lnTo>
                  <a:lnTo>
                    <a:pt x="6940" y="3041"/>
                  </a:lnTo>
                </a:path>
              </a:pathLst>
            </a:custGeom>
            <a:noFill/>
            <a:ln w="64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05000" y="4932360"/>
              <a:ext cx="72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41360" y="4896000"/>
              <a:ext cx="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37280" y="2302200"/>
              <a:ext cx="6003720" cy="1913760"/>
            </a:xfrm>
            <a:custGeom>
              <a:avLst/>
              <a:gdLst/>
              <a:ahLst/>
              <a:rect l="l" t="t" r="r" b="b"/>
              <a:pathLst>
                <a:path w="6940" h="2211">
                  <a:moveTo>
                    <a:pt x="0" y="0"/>
                  </a:moveTo>
                  <a:lnTo>
                    <a:pt x="0" y="0"/>
                  </a:lnTo>
                  <a:lnTo>
                    <a:pt x="0" y="69"/>
                  </a:lnTo>
                  <a:lnTo>
                    <a:pt x="224" y="69"/>
                  </a:lnTo>
                  <a:lnTo>
                    <a:pt x="224" y="161"/>
                  </a:lnTo>
                  <a:lnTo>
                    <a:pt x="448" y="161"/>
                  </a:lnTo>
                  <a:lnTo>
                    <a:pt x="448" y="205"/>
                  </a:lnTo>
                  <a:lnTo>
                    <a:pt x="671" y="205"/>
                  </a:lnTo>
                  <a:lnTo>
                    <a:pt x="671" y="344"/>
                  </a:lnTo>
                  <a:lnTo>
                    <a:pt x="895" y="344"/>
                  </a:lnTo>
                  <a:lnTo>
                    <a:pt x="895" y="480"/>
                  </a:lnTo>
                  <a:lnTo>
                    <a:pt x="1119" y="480"/>
                  </a:lnTo>
                  <a:lnTo>
                    <a:pt x="1119" y="548"/>
                  </a:lnTo>
                  <a:lnTo>
                    <a:pt x="1342" y="548"/>
                  </a:lnTo>
                  <a:lnTo>
                    <a:pt x="1342" y="617"/>
                  </a:lnTo>
                  <a:lnTo>
                    <a:pt x="1568" y="617"/>
                  </a:lnTo>
                  <a:lnTo>
                    <a:pt x="1568" y="729"/>
                  </a:lnTo>
                  <a:lnTo>
                    <a:pt x="1791" y="729"/>
                  </a:lnTo>
                  <a:lnTo>
                    <a:pt x="1791" y="822"/>
                  </a:lnTo>
                  <a:lnTo>
                    <a:pt x="2015" y="822"/>
                  </a:lnTo>
                  <a:lnTo>
                    <a:pt x="2015" y="958"/>
                  </a:lnTo>
                  <a:lnTo>
                    <a:pt x="2238" y="958"/>
                  </a:lnTo>
                  <a:lnTo>
                    <a:pt x="2238" y="980"/>
                  </a:lnTo>
                  <a:lnTo>
                    <a:pt x="2462" y="980"/>
                  </a:lnTo>
                  <a:lnTo>
                    <a:pt x="2462" y="1026"/>
                  </a:lnTo>
                  <a:lnTo>
                    <a:pt x="2686" y="1026"/>
                  </a:lnTo>
                  <a:lnTo>
                    <a:pt x="2686" y="1073"/>
                  </a:lnTo>
                  <a:lnTo>
                    <a:pt x="2909" y="1073"/>
                  </a:lnTo>
                  <a:lnTo>
                    <a:pt x="2909" y="1163"/>
                  </a:lnTo>
                  <a:lnTo>
                    <a:pt x="3135" y="1163"/>
                  </a:lnTo>
                  <a:lnTo>
                    <a:pt x="3135" y="1209"/>
                  </a:lnTo>
                  <a:lnTo>
                    <a:pt x="3358" y="1209"/>
                  </a:lnTo>
                  <a:lnTo>
                    <a:pt x="3358" y="1231"/>
                  </a:lnTo>
                  <a:lnTo>
                    <a:pt x="3582" y="1231"/>
                  </a:lnTo>
                  <a:lnTo>
                    <a:pt x="3582" y="1323"/>
                  </a:lnTo>
                  <a:lnTo>
                    <a:pt x="3806" y="1323"/>
                  </a:lnTo>
                  <a:lnTo>
                    <a:pt x="3806" y="1392"/>
                  </a:lnTo>
                  <a:lnTo>
                    <a:pt x="4029" y="1392"/>
                  </a:lnTo>
                  <a:lnTo>
                    <a:pt x="4029" y="1482"/>
                  </a:lnTo>
                  <a:lnTo>
                    <a:pt x="4253" y="1482"/>
                  </a:lnTo>
                  <a:lnTo>
                    <a:pt x="4253" y="1504"/>
                  </a:lnTo>
                  <a:lnTo>
                    <a:pt x="4702" y="1504"/>
                  </a:lnTo>
                  <a:lnTo>
                    <a:pt x="4702" y="1619"/>
                  </a:lnTo>
                  <a:lnTo>
                    <a:pt x="4925" y="1619"/>
                  </a:lnTo>
                  <a:lnTo>
                    <a:pt x="4925" y="1665"/>
                  </a:lnTo>
                  <a:lnTo>
                    <a:pt x="5149" y="1665"/>
                  </a:lnTo>
                  <a:lnTo>
                    <a:pt x="5149" y="1755"/>
                  </a:lnTo>
                  <a:lnTo>
                    <a:pt x="5373" y="1755"/>
                  </a:lnTo>
                  <a:lnTo>
                    <a:pt x="5373" y="1848"/>
                  </a:lnTo>
                  <a:lnTo>
                    <a:pt x="5596" y="1848"/>
                  </a:lnTo>
                  <a:lnTo>
                    <a:pt x="5596" y="1984"/>
                  </a:lnTo>
                  <a:lnTo>
                    <a:pt x="5820" y="1984"/>
                  </a:lnTo>
                  <a:lnTo>
                    <a:pt x="5820" y="2075"/>
                  </a:lnTo>
                  <a:lnTo>
                    <a:pt x="6269" y="2075"/>
                  </a:lnTo>
                  <a:lnTo>
                    <a:pt x="6269" y="2121"/>
                  </a:lnTo>
                  <a:lnTo>
                    <a:pt x="6493" y="2121"/>
                  </a:lnTo>
                  <a:lnTo>
                    <a:pt x="6493" y="2143"/>
                  </a:lnTo>
                  <a:lnTo>
                    <a:pt x="6716" y="2143"/>
                  </a:lnTo>
                  <a:lnTo>
                    <a:pt x="6716" y="2211"/>
                  </a:lnTo>
                  <a:lnTo>
                    <a:pt x="6940" y="2211"/>
                  </a:lnTo>
                  <a:lnTo>
                    <a:pt x="6940" y="2211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05000" y="4215960"/>
              <a:ext cx="72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41360" y="4177800"/>
              <a:ext cx="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133720" y="4114800"/>
            <a:ext cx="1904760" cy="80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---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---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Usual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-square p=0.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fully delivered u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‘Readiness for Discharg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hospital 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%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NT = 7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high hospital utiliz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% re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ost-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29 / pat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 million discharges @ $753 billion x 32% eligible = 4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78120" cy="11430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151920" y="1519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2d00"/>
                </a:solidFill>
                <a:latin typeface="Arial"/>
              </a:rPr>
              <a:t>Conclusions from the R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228600" y="1447560"/>
            <a:ext cx="5867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bodied Conversational Ag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s the A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ulates face to fac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s therapeutic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ze, posture, ges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ency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drill down in med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s of test sites and CH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– e.g., Lovenox, Gluco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ta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s to hospital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s AHC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s” Lou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ordancy Stud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osk for patient ac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5943600" y="1905120"/>
          <a:ext cx="3657600" cy="31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905120"/>
                    <a:ext cx="3657600" cy="31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7086600" y="152280"/>
            <a:ext cx="1878120" cy="114300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1522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2d00"/>
                </a:solidFill>
                <a:latin typeface="Arial"/>
              </a:rPr>
              <a:t>Major Problem: RN Time</a:t>
            </a:r>
            <a:br>
              <a:rPr sz="4000"/>
            </a:br>
            <a:r>
              <a:rPr b="0" lang="en-US" sz="4000" spc="-1" strike="noStrike">
                <a:solidFill>
                  <a:srgbClr val="ea2d00"/>
                </a:solidFill>
                <a:latin typeface="Arial"/>
              </a:rPr>
              <a:t>Can Health IT Hel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943600" y="5257800"/>
            <a:ext cx="29718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Louise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0880" y="2057400"/>
            <a:ext cx="83059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72c6"/>
                </a:solidFill>
                <a:uFillTx/>
                <a:latin typeface="Arial"/>
              </a:rPr>
              <a:t>Loose End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ups NOT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72c6"/>
                </a:solidFill>
                <a:uFillTx/>
                <a:latin typeface="Arial"/>
              </a:rPr>
              <a:t>Communicati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C summary not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72c6"/>
                </a:solidFill>
                <a:uFillTx/>
                <a:latin typeface="Arial"/>
              </a:rPr>
              <a:t>Poor Quality Info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C summary lack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72c6"/>
                </a:solidFill>
                <a:uFillTx/>
                <a:latin typeface="Arial"/>
              </a:rPr>
              <a:t>Poor Preparation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pts know meds/d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72c6"/>
                </a:solidFill>
                <a:uFillTx/>
                <a:latin typeface="Arial"/>
              </a:rPr>
              <a:t>Fragmentation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in char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878120" cy="1143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5943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Perfect Storm”</a:t>
            </a:r>
            <a:br>
              <a:rPr sz="4800"/>
            </a:b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of Patient Safet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679040" y="1828800"/>
            <a:ext cx="5897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Social Ch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046680" y="1828800"/>
            <a:ext cx="316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Cov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553760" y="1828800"/>
            <a:ext cx="6147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Medication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118880" y="1828800"/>
            <a:ext cx="70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Appointment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082600" y="1828800"/>
            <a:ext cx="508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673360" y="1828800"/>
            <a:ext cx="390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Clos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800600" y="2209680"/>
            <a:ext cx="4191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an Ferna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vid Anthony, MD, M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m Bickmore P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il Burniske, Phar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vin Casey, M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K Chetty, P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yson Correia, 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rry Culpepper, MD, M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haula Forsythe, MPH,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b Friedman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effrey Greenwald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na Joh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and Kartha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ristopher Manasseh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ulie O’D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2097000"/>
            <a:ext cx="426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: Brian Jack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chael Paasche-Orlow MD, M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roline Hesko, M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ina Kushn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ana Gershengo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im Visconti, 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ared Kutzin, RN, M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son Simas, 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ry Goodwin, 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ynn Schipelliti, 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ndsey Holl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ggie J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acie Fyrberg, 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imal Jhav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ura Pfei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78120" cy="11430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ahoma"/>
              </a:rPr>
              <a:t>Thank You AHRQ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8839440" cy="3276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87812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2d00"/>
                </a:solidFill>
                <a:latin typeface="Arial"/>
              </a:rPr>
              <a:t>Principles of the RED:</a:t>
            </a:r>
            <a:br>
              <a:rPr sz="4000"/>
            </a:br>
            <a:r>
              <a:rPr b="0" lang="en-US" sz="4000" spc="-1" strike="noStrike">
                <a:solidFill>
                  <a:srgbClr val="ea2d00"/>
                </a:solidFill>
                <a:latin typeface="Arial"/>
              </a:rPr>
              <a:t>Creating the Toolk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715000" y="2819520"/>
            <a:ext cx="2801880" cy="2441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op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Quality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 one of 30 "Safe Practices" (SP-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en mutually reinforcing compon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cation Reconcili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ncile Plan with National Guide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llow-up Appoin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tanding Tests and Stud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discharge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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ten discharge p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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to do if a problem a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ient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ss patient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summary to P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Reinforcem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78120" cy="1143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522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2d00"/>
                </a:solidFill>
                <a:latin typeface="Tahoma"/>
              </a:rPr>
              <a:t>RED Checklis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877760" cy="1143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763120" cy="594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877760" cy="1143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899172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76312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763120" cy="59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877760" cy="1143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61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4:47:41Z</dcterms:created>
  <dc:creator>NPSF</dc:creator>
  <dc:description/>
  <dc:language>en-US</dc:language>
  <cp:lastModifiedBy>Emily Moser</cp:lastModifiedBy>
  <dcterms:modified xsi:type="dcterms:W3CDTF">2009-06-04T18:58:30Z</dcterms:modified>
  <cp:revision>120</cp:revision>
  <dc:subject/>
  <dc:title>Slide 1</dc:title>
</cp:coreProperties>
</file>