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3560" y="390600"/>
            <a:ext cx="0" cy="623880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153280" y="6600960"/>
            <a:ext cx="838440" cy="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5943600" y="6343560"/>
            <a:ext cx="2286000" cy="514440"/>
          </a:xfrm>
          <a:prstGeom prst="rect">
            <a:avLst/>
          </a:prstGeom>
          <a:ln w="0">
            <a:noFill/>
          </a:ln>
        </p:spPr>
      </p:pic>
      <p:pic>
        <p:nvPicPr>
          <p:cNvPr id="3" name="" descr=""/>
          <p:cNvPicPr/>
          <p:nvPr/>
        </p:nvPicPr>
        <p:blipFill>
          <a:blip r:embed="rId3">
            <a:lum bright="16000"/>
          </a:blip>
          <a:stretch/>
        </p:blipFill>
        <p:spPr>
          <a:xfrm>
            <a:off x="2655720" y="1593720"/>
            <a:ext cx="3832560" cy="3668760"/>
          </a:xfrm>
          <a:prstGeom prst="rect">
            <a:avLst/>
          </a:prstGeom>
          <a:ln w="0">
            <a:noFill/>
          </a:ln>
        </p:spPr>
      </p:pic>
      <p:sp>
        <p:nvSpPr>
          <p:cNvPr id="4" name=""/>
          <p:cNvSpPr/>
          <p:nvPr/>
        </p:nvSpPr>
        <p:spPr>
          <a:xfrm>
            <a:off x="762120" y="380880"/>
            <a:ext cx="8229600" cy="0"/>
          </a:xfrm>
          <a:prstGeom prst="line">
            <a:avLst/>
          </a:prstGeom>
          <a:ln w="7632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4"/>
          <a:stretch/>
        </p:blipFill>
        <p:spPr>
          <a:xfrm>
            <a:off x="152280" y="76320"/>
            <a:ext cx="1130400" cy="672840"/>
          </a:xfrm>
          <a:prstGeom prst="rect">
            <a:avLst/>
          </a:prstGeom>
          <a:ln w="0">
            <a:noFill/>
          </a:ln>
        </p:spPr>
      </p:pic>
      <p:sp>
        <p:nvSpPr>
          <p:cNvPr id="6" name=""/>
          <p:cNvSpPr/>
          <p:nvPr/>
        </p:nvSpPr>
        <p:spPr>
          <a:xfrm>
            <a:off x="228600" y="609480"/>
            <a:ext cx="868680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ennessee Medicaid Transformation Grant</a:t>
            </a:r>
            <a:endParaRPr b="0" lang="en-US" sz="33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1447920"/>
            <a:ext cx="8153640" cy="42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lectronic prescrib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momentum</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lerate deployment in rural counties</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 counties</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riers</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nefits</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tional counties</a:t>
            </a:r>
            <a:endParaRPr b="0" lang="en-US" sz="3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e healthcare quality and patient saf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1143000"/>
            <a:ext cx="815364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lang="en-US" sz="3100" spc="-1" strike="noStrike">
                <a:solidFill>
                  <a:srgbClr val="000000"/>
                </a:solidFill>
                <a:latin typeface="Arial"/>
              </a:rPr>
              <a:t>We believe the lessons learned from this pilot project can be used to exhibit the advantages of technology in medical care and allow for greater acceptance </a:t>
            </a:r>
            <a:endParaRPr b="0"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mong the provider community. The awarding of the grant adds to the momentum seen in the past years by the eHealth advisory council, a public-private collaboration of health care executives in Tennessee.” </a:t>
            </a:r>
            <a:br>
              <a:rPr sz="3100"/>
            </a:br>
            <a:br>
              <a:rPr sz="1200"/>
            </a:br>
            <a:r>
              <a:rPr b="0" lang="en-US" sz="2400" spc="-1" strike="noStrike">
                <a:solidFill>
                  <a:srgbClr val="000000"/>
                </a:solidFill>
                <a:latin typeface="Arial"/>
              </a:rPr>
              <a:t>Brent Antony, TennCare Chief Information Offic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905120"/>
            <a:ext cx="8153640" cy="292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grant will allow us to provide the right infrastructure, equipment and application to accelerate the deployment in rural counties.”</a:t>
            </a:r>
            <a:br>
              <a:rPr sz="3200"/>
            </a:b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oine Agassi, eHealth Advisory Council Chairm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Ten original counties selected for participation."/>
          <p:cNvPicPr/>
          <p:nvPr/>
        </p:nvPicPr>
        <p:blipFill>
          <a:blip r:embed="rId1"/>
          <a:stretch/>
        </p:blipFill>
        <p:spPr>
          <a:xfrm>
            <a:off x="304920" y="2514600"/>
            <a:ext cx="8534160" cy="2103480"/>
          </a:xfrm>
          <a:prstGeom prst="rect">
            <a:avLst/>
          </a:prstGeom>
          <a:ln w="0">
            <a:noFill/>
          </a:ln>
        </p:spPr>
      </p:pic>
      <p:sp>
        <p:nvSpPr>
          <p:cNvPr id="49" name=""/>
          <p:cNvSpPr/>
          <p:nvPr/>
        </p:nvSpPr>
        <p:spPr>
          <a:xfrm>
            <a:off x="457200" y="5454720"/>
            <a:ext cx="8153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 original counties selected for particip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1949400"/>
            <a:ext cx="320040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ARRI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e</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1949400"/>
            <a:ext cx="3200400" cy="428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ENEFI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a:t>
            </a:r>
            <a:endParaRPr b="0" lang="en-US" sz="3200" spc="-1" strike="noStrike">
              <a:solidFill>
                <a:srgbClr val="000000"/>
              </a:solidFill>
              <a:latin typeface="Arial"/>
            </a:endParaRPr>
          </a:p>
          <a:p>
            <a:pPr marL="343080" indent="-34308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5454720"/>
            <a:ext cx="8153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een counties selected for participation.</a:t>
            </a:r>
            <a:endParaRPr b="0" lang="en-US" sz="2600" spc="-1" strike="noStrike">
              <a:solidFill>
                <a:srgbClr val="000000"/>
              </a:solidFill>
              <a:latin typeface="Arial"/>
            </a:endParaRPr>
          </a:p>
        </p:txBody>
      </p:sp>
      <p:pic>
        <p:nvPicPr>
          <p:cNvPr id="53" name="" descr="Fourteen counties selected for participation."/>
          <p:cNvPicPr/>
          <p:nvPr/>
        </p:nvPicPr>
        <p:blipFill>
          <a:blip r:embed="rId1"/>
          <a:stretch/>
        </p:blipFill>
        <p:spPr>
          <a:xfrm>
            <a:off x="301680" y="2513160"/>
            <a:ext cx="8537400" cy="210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09480" y="1371600"/>
            <a:ext cx="8153640" cy="512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Electronic prescribing can be an important tool for health care providers by increasing access to information on drugs that have been ordered by other prescribers and by making drug formulary information readily available. In addition, electronic prescribing reduces the potential for errors associated with interpreting doctor’s handwritten prescriptions and provide real-time information on dangerous drug interactions. These benefits hold the potential to improve health care quality and represent a significant advancement in the area of patient safet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Wendy Long, MD, MPH, TennCare Chief Medical Offic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5T13:40:06Z</dcterms:created>
  <dc:creator>DCV1387</dc:creator>
  <dc:description/>
  <dc:language>en-US</dc:language>
  <cp:lastModifiedBy>rac</cp:lastModifiedBy>
  <dcterms:modified xsi:type="dcterms:W3CDTF">2008-09-08T20:26:12Z</dcterms:modified>
  <cp:revision>371</cp:revision>
  <dc:subject/>
  <dc:title>Slide 1</dc:title>
</cp:coreProperties>
</file>