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plaining Racial and Ethnic Differences in Children’s Use of Stimulant Medic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.L. Hud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E. Mill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.B. Kir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 8,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xaca-Blinder Wag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used to study wage discrimination between men and women in 1970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were less likely to have college degree than men (me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wage regressions by gender - having a college degree provided a larger boost to wage for men (coeffici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sign of discrimination because men and women with same level of education were not paid the sa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xaca-Blinde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means and coefficients – can calculate what percent of gap in stimulant use is due to differences in a particular characteri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 characteristic to explain difference in outcome – it MUST have a significant impact on the outcome in ques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eye color and Male-Female w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omen were more likely to have brown eyes than 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having brown eyes makes no difference in a wage reg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ces in eye color cannot explain differences in w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near Probability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– all children 5-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ressions run separately by race/ethn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 Variable – Any Stimulant Use in the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pendent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Income as percent of poverty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al Edu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rance Status (private, public, uninsur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sus Reg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re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ual Source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r/Poor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r/Poor Ment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ild Lim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umbia Impairment Scale – behavioral health mea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an Characteristics by Race/Ethnicity - Famil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676520"/>
          <a:ext cx="7993080" cy="4437000"/>
        </p:xfrm>
        <a:graphic>
          <a:graphicData uri="http://schemas.openxmlformats.org/drawingml/2006/table">
            <a:tbl>
              <a:tblPr/>
              <a:tblGrid>
                <a:gridCol w="1998720"/>
                <a:gridCol w="1998720"/>
                <a:gridCol w="1996920"/>
                <a:gridCol w="199872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pa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HS degree (paren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15.8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37.6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ow 100% Pover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32.5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27.0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o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39.8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68.1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523800" y="61722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* Significantly different from whites at 5%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an Characteristics by Race/Ethnicity - Insura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09480" y="1676520"/>
          <a:ext cx="7993080" cy="2408040"/>
        </p:xfrm>
        <a:graphic>
          <a:graphicData uri="http://schemas.openxmlformats.org/drawingml/2006/table">
            <a:tbl>
              <a:tblPr/>
              <a:tblGrid>
                <a:gridCol w="1998720"/>
                <a:gridCol w="1998720"/>
                <a:gridCol w="1996920"/>
                <a:gridCol w="199872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pa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l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40.4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36.1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vat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52.0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44.1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nsur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19.9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84280" y="57564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* Significantly different from whites at 5%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an Characteristics by Race/Ethnicity – Health Statu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09480" y="1676520"/>
          <a:ext cx="7993080" cy="4014720"/>
        </p:xfrm>
        <a:graphic>
          <a:graphicData uri="http://schemas.openxmlformats.org/drawingml/2006/table">
            <a:tbl>
              <a:tblPr/>
              <a:tblGrid>
                <a:gridCol w="2438640"/>
                <a:gridCol w="1904760"/>
                <a:gridCol w="1828800"/>
                <a:gridCol w="1820880"/>
              </a:tblGrid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pa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/poor Heal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3.5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3.8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/Poor Mental Heal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 Limi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4.7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 Behavio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19.2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584280" y="575640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* Significantly different from whites at 5%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efficients by Race/Ethnicity - Famil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09480" y="1676520"/>
          <a:ext cx="7993080" cy="3924360"/>
        </p:xfrm>
        <a:graphic>
          <a:graphicData uri="http://schemas.openxmlformats.org/drawingml/2006/table">
            <a:tbl>
              <a:tblPr/>
              <a:tblGrid>
                <a:gridCol w="1998720"/>
                <a:gridCol w="1998720"/>
                <a:gridCol w="1996920"/>
                <a:gridCol w="1998720"/>
              </a:tblGrid>
              <a:tr h="57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pa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HS degree (paren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statistically signific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ow 100% Pover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o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efficients by Race/Ethnicity - Insura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09480" y="1676520"/>
          <a:ext cx="7993080" cy="4159080"/>
        </p:xfrm>
        <a:graphic>
          <a:graphicData uri="http://schemas.openxmlformats.org/drawingml/2006/table">
            <a:tbl>
              <a:tblPr/>
              <a:tblGrid>
                <a:gridCol w="1998720"/>
                <a:gridCol w="1998720"/>
                <a:gridCol w="1996920"/>
                <a:gridCol w="199872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pa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bl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029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034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signific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vate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027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014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signific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nsur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e catego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85360" y="575640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Significantly significant at 5%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efficients by Race/Ethnicity – Health Statu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09480" y="1676520"/>
          <a:ext cx="7993080" cy="4014720"/>
        </p:xfrm>
        <a:graphic>
          <a:graphicData uri="http://schemas.openxmlformats.org/drawingml/2006/table">
            <a:tbl>
              <a:tblPr/>
              <a:tblGrid>
                <a:gridCol w="2514600"/>
                <a:gridCol w="1828800"/>
                <a:gridCol w="1828800"/>
                <a:gridCol w="1820880"/>
              </a:tblGrid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pa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/poor Heal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signific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signific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.05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/Poor Mental Heal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4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signific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5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 Limi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1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07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07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 Behavio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07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04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06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85360" y="575640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Significantly significant at 5%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xaca Blinder Calcul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s in mean characteristics expl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e of the gap for whites – bl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% of gap for whites – Hispa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of the differences between the groups had no significant impact on stimulant use (family, health statu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pa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ces can be explained by whites faring better in terms of Insurance Status and Health Stat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blished Resear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esentation is based on the results from the following published pap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dson, J., Miller, G.E. and Kirby, J.B. (2007).  “Explaining Racial and Ethnic Differences in Children’s Use of Stimulant Medications.”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edical C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45(1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arative Means &amp; Coefficients for Health Status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09480" y="1676520"/>
          <a:ext cx="8458200" cy="4024080"/>
        </p:xfrm>
        <a:graphic>
          <a:graphicData uri="http://schemas.openxmlformats.org/drawingml/2006/table">
            <a:tbl>
              <a:tblPr/>
              <a:tblGrid>
                <a:gridCol w="2438640"/>
                <a:gridCol w="1447560"/>
                <a:gridCol w="1371600"/>
                <a:gridCol w="1371600"/>
                <a:gridCol w="18288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effici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/Poor Mental Healt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14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significa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ld Limi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11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07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S Behavio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07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04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585360" y="575640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Significantly significant at 5%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ace/Ethnicity Interacted Model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alth Status Meas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r all of racial/ethnic differences are due to differences in the way these groups respond to the same characteristic in terms of stimulant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a new Linear Probability Regression that includes all children in a singl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has interactions of race/ethnicity with the following Mental Health meas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/Poor Mental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 Lim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S - Behavi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eracted Model Finding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difference in how whites and blacks with the same mental health status use stimu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ignificant difference between whites and Hispa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children reported to be in Fair/Poor Mental Health are 10% points less likely to use stimulants than white children in Fair/poor Mental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children reported to have Behavioral Issues are 4% points less likely to use stimulants than whites with Behavioral Issu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explanations for differences in “effect” of Mental Health characteristics on stimulant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al Differences across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 to behavioral c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st of medical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iefs – Willingness to “medicat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 Differences across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Policies in reporting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l Treatment of AD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paper is the first to quantitatively explore differences in stimulant use by race/ethn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h of the difference is due to how racial/ethnic groups respond to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are consistent with case studies suggesting cultural differences in treatment of mental health issues and corresponding use of 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are consistent with research from 90’s finding Black families are reluctant to use medications to treat psychiatric disord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ti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p increase in stimulant use by children in early 199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lighted concerns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de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studies report over/under prescribing of stimu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differences across race/ethn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ur Resear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to understand factors that contribute to racial/ethnic differences in stimulant use among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MEPS with secondary data source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differences in characteristics across racial/ethnic grou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tify the role these characteristics play in differential use of stimu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tera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s and Hispanic differ from Whites on the following dimens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 Source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X Expendi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l Use of Stimulants found 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id Claim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ly Representative Surv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Children ages 5-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l Expenditure Panel Survey 2000-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mulant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characteris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rance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ce (Hispanic, Non-Hispanic White, Non-Hispanic Blac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 identified using National Drug Code to link to Multum Lexicon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Area Characteristics at Block Level from 2000 Decennial Cens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p Selling Stimulants among US Children 5-17, MEPS 2000-200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523880"/>
          <a:ext cx="8305920" cy="4907160"/>
        </p:xfrm>
        <a:graphic>
          <a:graphicData uri="http://schemas.openxmlformats.org/drawingml/2006/table">
            <a:tbl>
              <a:tblPr/>
              <a:tblGrid>
                <a:gridCol w="3429000"/>
                <a:gridCol w="2133720"/>
                <a:gridCol w="1676160"/>
                <a:gridCol w="1067040"/>
              </a:tblGrid>
              <a:tr h="861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Dru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Common Brand Name(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Annual Purcha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Total  (million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cf4ea"/>
                          </a:solidFill>
                          <a:latin typeface="Arial"/>
                        </a:rPr>
                        <a:t>Pc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imula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ylpheni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rta Ritil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phetamine-Dextroamphetam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erall Adderall X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xtroamphetami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xedrine Dexost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imulant Use &amp; Treatment for ADHD Children 5-17  -   MEPS 2000-200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676520"/>
          <a:ext cx="7993080" cy="2960640"/>
        </p:xfrm>
        <a:graphic>
          <a:graphicData uri="http://schemas.openxmlformats.org/drawingml/2006/table">
            <a:tbl>
              <a:tblPr/>
              <a:tblGrid>
                <a:gridCol w="1828800"/>
                <a:gridCol w="1368720"/>
                <a:gridCol w="1598400"/>
                <a:gridCol w="1598760"/>
                <a:gridCol w="1598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a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pan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 Stimulan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  (0.2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  (0.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.8*  (0.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.1*  (0.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 Treatment for ADH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  (0.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8  (0.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.8*  (0.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.4*  (0.3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517680" y="529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9160" y="5222880"/>
            <a:ext cx="59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Statistically different from whites at 5%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xaca-Blinder De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ession based decom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differences in stimulant use across two groups must result from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 in characteristics of the groups (me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 in how characteristics affect stimulant use across the two groups (coeffici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JHudson</cp:lastModifiedBy>
  <cp:lastPrinted>2003-01-21T20:19:23Z</cp:lastPrinted>
  <dcterms:modified xsi:type="dcterms:W3CDTF">2008-09-08T15:23:35Z</dcterms:modified>
  <cp:revision>117</cp:revision>
  <dc:subject/>
  <dc:title>AHRQ Slide Template 2004</dc:title>
</cp:coreProperties>
</file>