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9356725" cy="7051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356400" cy="70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54320" cy="352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5299200" y="-360"/>
            <a:ext cx="4055760" cy="352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2914200" y="528120"/>
            <a:ext cx="352908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6360" y="3349440"/>
            <a:ext cx="7483320" cy="3174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6698880"/>
            <a:ext cx="4054320" cy="352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5299200" y="6698880"/>
            <a:ext cx="4055760" cy="352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0225A90-FF77-448E-B9E5-0480946D8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5299200" y="6699240"/>
            <a:ext cx="40557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5A7B0D91-E70F-4BA0-A251-52D13AF87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914560" y="528480"/>
            <a:ext cx="3529080" cy="2646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6360" y="3349440"/>
            <a:ext cx="748332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5299200" y="6699240"/>
            <a:ext cx="40557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A3FD512-ABD8-4295-9C32-AF12C3FFA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914560" y="528480"/>
            <a:ext cx="3529080" cy="2646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6360" y="3349440"/>
            <a:ext cx="748332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5299200" y="6699240"/>
            <a:ext cx="40557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0D6FC0FC-2B46-41AA-91B0-0BBC0EB0B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14560" y="528480"/>
            <a:ext cx="3529080" cy="2646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6360" y="3349440"/>
            <a:ext cx="748332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5299200" y="6699240"/>
            <a:ext cx="40557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75DF9185-CC04-4AD5-9744-4534EDAF6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914560" y="528480"/>
            <a:ext cx="3529080" cy="2646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6360" y="3349440"/>
            <a:ext cx="748332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5299200" y="6699240"/>
            <a:ext cx="40557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7C18F9B-5328-44CA-BECE-88D962184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14560" y="528480"/>
            <a:ext cx="3529080" cy="2646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6360" y="3349440"/>
            <a:ext cx="748332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5299200" y="6699240"/>
            <a:ext cx="40557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4ED6FA4-AF6B-4DC8-A7D2-FF51DCD79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914560" y="528480"/>
            <a:ext cx="3529080" cy="2646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6360" y="3349440"/>
            <a:ext cx="748332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5299200" y="6699240"/>
            <a:ext cx="40557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4F1BAF2-66D4-41C9-A178-6B113B6AA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914560" y="528480"/>
            <a:ext cx="3529080" cy="2646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6360" y="3349440"/>
            <a:ext cx="748332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5299200" y="6699240"/>
            <a:ext cx="40557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8FFF9990-A906-4091-AE3C-4FDCAFF54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917800" y="530280"/>
            <a:ext cx="3522600" cy="2641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6360" y="3349440"/>
            <a:ext cx="748332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5299200" y="6699240"/>
            <a:ext cx="40557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34E2015-A255-4DB6-BF0E-EF6A5C5C8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917800" y="530280"/>
            <a:ext cx="3522600" cy="26416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3350880"/>
            <a:ext cx="7480440" cy="317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(provide probabilities, summary preferences in literature or by other patients or list of advantages disadvantages, coached steps toward decis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all of above plus one or more of the following: customized risk tools, probabilities that adjust with risk level, explicit values clarification,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(provide probabilities, summary preferences in literature or by other patients or list of advantages disadvantages, coached steps toward decis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all of above plus one or more of the following: customized risk tools, probabilities that adjust with risk level, explicit values clarification,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39020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604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39020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6040" y="39020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0960" y="17524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920" y="17524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39020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0960" y="39020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920" y="39020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56040" y="17524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56040" y="17524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360" y="39020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5604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56040" y="39020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5604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360" y="39020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90360" y="39020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5604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90360" y="39020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56040" y="39020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40960" y="17524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1920" y="17524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90360" y="39020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40960" y="39020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91920" y="39020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6040" y="17524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6040" y="17524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39020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604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6040" y="39020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604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39020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6"/>
          <p:cNvSpPr/>
          <p:nvPr/>
        </p:nvSpPr>
        <p:spPr>
          <a:xfrm rot="16200000">
            <a:off x="3848040" y="-3847680"/>
            <a:ext cx="1447920" cy="9144000"/>
          </a:xfrm>
          <a:prstGeom prst="parallelogram">
            <a:avLst>
              <a:gd name="adj" fmla="val 0"/>
            </a:avLst>
          </a:prstGeom>
          <a:solidFill>
            <a:srgbClr val="2a568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AutoShape 15"/>
          <p:cNvSpPr/>
          <p:nvPr/>
        </p:nvSpPr>
        <p:spPr>
          <a:xfrm rot="10800000">
            <a:off x="0" y="0"/>
            <a:ext cx="533520" cy="6858000"/>
          </a:xfrm>
          <a:prstGeom prst="parallelogram">
            <a:avLst>
              <a:gd name="adj" fmla="val 0"/>
            </a:avLst>
          </a:prstGeom>
          <a:solidFill>
            <a:srgbClr val="2a568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7" descr="OHSU_logo"/>
          <p:cNvPicPr/>
          <p:nvPr/>
        </p:nvPicPr>
        <p:blipFill>
          <a:blip r:embed="rId2"/>
          <a:stretch/>
        </p:blipFill>
        <p:spPr>
          <a:xfrm>
            <a:off x="8381880" y="6172200"/>
            <a:ext cx="639720" cy="57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 rot="16200000">
            <a:off x="3314520" y="-3314880"/>
            <a:ext cx="2514600" cy="9144000"/>
          </a:xfrm>
          <a:prstGeom prst="parallelogram">
            <a:avLst>
              <a:gd name="adj" fmla="val 0"/>
            </a:avLst>
          </a:prstGeom>
          <a:solidFill>
            <a:srgbClr val="2a568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AutoShape 3"/>
          <p:cNvSpPr/>
          <p:nvPr/>
        </p:nvSpPr>
        <p:spPr>
          <a:xfrm rot="10800000">
            <a:off x="0" y="0"/>
            <a:ext cx="533520" cy="6858000"/>
          </a:xfrm>
          <a:prstGeom prst="parallelogram">
            <a:avLst>
              <a:gd name="adj" fmla="val 0"/>
            </a:avLst>
          </a:prstGeom>
          <a:solidFill>
            <a:srgbClr val="2a568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3" name="Picture 8" descr="OHSU_logo"/>
          <p:cNvPicPr/>
          <p:nvPr/>
        </p:nvPicPr>
        <p:blipFill>
          <a:blip r:embed="rId2"/>
          <a:stretch/>
        </p:blipFill>
        <p:spPr>
          <a:xfrm>
            <a:off x="8001000" y="6248520"/>
            <a:ext cx="685800" cy="44424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10"/>
          <p:cNvSpPr/>
          <p:nvPr/>
        </p:nvSpPr>
        <p:spPr>
          <a:xfrm rot="5400000">
            <a:off x="4305240" y="-4305240"/>
            <a:ext cx="533520" cy="9144000"/>
          </a:xfrm>
          <a:prstGeom prst="parallelogram">
            <a:avLst>
              <a:gd name="adj" fmla="val 0"/>
            </a:avLst>
          </a:prstGeom>
          <a:solidFill>
            <a:srgbClr val="2a568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isenberg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855360"/>
            <a:ext cx="8610480" cy="2003400"/>
          </a:xfrm>
          <a:prstGeom prst="rect">
            <a:avLst/>
          </a:prstGeom>
          <a:solidFill>
            <a:srgbClr val="2a5682">
              <a:alpha val="1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moting Patient Involvement in Medication Decisions </a:t>
            </a:r>
            <a:br>
              <a:rPr sz="36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276720" y="3276360"/>
            <a:ext cx="5410080" cy="2895480"/>
          </a:xfrm>
          <a:prstGeom prst="rect">
            <a:avLst/>
          </a:prstGeom>
          <a:solidFill>
            <a:srgbClr val="ffffff">
              <a:alpha val="24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vid H. Hickam, MD,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essor, Dept. of 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egon Health &amp; Scienc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tland, Ore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ferences for Content of Information Sour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nsus that information about benefits is the most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understand benefit/harm trade-off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 that side effect information be tho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to “non-medical” treat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spective about Interactions with Provid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543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nsus on value of shared decision ma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participants reported collaborative, trusting relationships with clinici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 visits tend to be rus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felt pressure to make hurried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epticism about recommendations to “talk to your docto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rsement of tools that provide new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nciples for the Use of Evidence in Decision Too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evidence about both benefits and harms of the alterna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 where the evidence in inconclu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he information action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clarity about what the decisions are and how to approach thos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Features of Eisenberg Center Summary Guid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 &amp; focused on key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itly designed for aud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, Risks, Trade-o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in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literacy &amp; numeracy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abl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 Front Bottom Lin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2392200" y="1625760"/>
            <a:ext cx="3160800" cy="4227480"/>
          </a:xfrm>
          <a:prstGeom prst="rect">
            <a:avLst/>
          </a:prstGeom>
          <a:ln w="64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erstanding the Benefi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865080" y="1574640"/>
            <a:ext cx="7413840" cy="4849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5189760"/>
          </a:xfrm>
          <a:prstGeom prst="rect">
            <a:avLst/>
          </a:prstGeom>
          <a:ln w="64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4" name="Text Box 3"/>
          <p:cNvSpPr/>
          <p:nvPr/>
        </p:nvSpPr>
        <p:spPr>
          <a:xfrm>
            <a:off x="533520" y="304920"/>
            <a:ext cx="78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cision Coach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able Numeric Dat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treatments of early stage prostate canc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rtion of men reporting impotence following each treatment, at 2 yea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8% after radical prostatect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% after radiation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6% with hormonal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% with watchful wa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s about Evidence Transl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clinicians and consumers are interested in evidence and believe that it influences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bility is cru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o not know very much about how clinicians and patients communicate about evi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s perceive that evidence-based decision tools might be use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als of this Sess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oncepts of shared decision m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results of fous groups to assess consumers’ perceptions of sources of medical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our work developing tools to promote shared decision m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Role of Evidence in Shared Decision Mak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evid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evidence inform medical deci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linicians and patients communicate about evid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imple evidence-based decision tools use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nical Problems for which Decision Aids are Usefu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609480" y="1981080"/>
            <a:ext cx="79250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Decisions that are complicated because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There is no single best choic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People vary in the values or personal importance that                        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they place on the benefits vs the harms 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associated with each of the option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There is scientific uncertainty about the benefits and 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harms associated with option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80880" y="5791320"/>
            <a:ext cx="782964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'Connor A et al. Decision aids for people facing health treatment or screening decisions. The Cochrane Library 2006;Issue 4.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tions for Tools to Promote Shared Decision Mak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762120" y="167652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79360" indent="-279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al/Informationa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79360" indent="-279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decision aid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517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probabilities, preference information, coached steps toward decision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9360" indent="-279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decision aid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517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above plus one or more of the following: customized risk tools, probabilities that adjust with risk level, explicit values clarification, etc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9360" indent="-279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Groups to Assess Consumers’ Perceptions of Information Sour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2332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ived need for information about conditions and treat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ptions about sharing decisions with clinici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he participants obtain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 review of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cus Group Participa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 focus groups (total of 113 participa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hip in each group defined by a particular chronic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hr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2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teopor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cus Group Characteristic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thirds fe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% age 60 or gre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 Caucas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% college gradu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4% had used Internet in last mon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third rated their health as fair or p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ferences for Information Sour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5438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and easy to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articipants were not comfortable with Internet as information sou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 for positive information: often an issue when evidence is “negativ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ing of mortality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sted sources of information such as government and, AARP, or the Arthritis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ust in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20:08:25Z</dcterms:created>
  <dc:creator>daviser</dc:creator>
  <dc:description/>
  <dc:language>en-US</dc:language>
  <cp:lastModifiedBy>DHHS</cp:lastModifiedBy>
  <dcterms:modified xsi:type="dcterms:W3CDTF">2009-01-16T20:20:45Z</dcterms:modified>
  <cp:revision>206</cp:revision>
  <dc:subject/>
  <dc:title>Slide 1</dc:title>
</cp:coreProperties>
</file>