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9356725" cy="7051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356400" cy="70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54320" cy="352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5299200" y="-360"/>
            <a:ext cx="4055760" cy="352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2914200" y="528120"/>
            <a:ext cx="3529080" cy="26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6698880"/>
            <a:ext cx="4054320" cy="352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5299200" y="6698880"/>
            <a:ext cx="4055760" cy="352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996D8043-E51D-49EA-A6FD-0815AF3E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3D12A62-32F9-421A-89F5-63F0C1027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5354C961-B429-4479-9B11-4ECE0693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D7E5B67-1E38-4168-BC05-CA993C77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BAF3D47-C432-41F6-814D-641147040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7B001D9-5F6F-4737-9C81-C370C52D7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85DCF57-87B7-4D2B-BD18-B0F690806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D138B04-C3B9-4D08-BBBB-69B9B5515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14560" y="528480"/>
            <a:ext cx="3529080" cy="2646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C5EE864-A1A5-4C74-B0A4-48AB94D86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17800" y="530280"/>
            <a:ext cx="3522600" cy="2641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6360" y="3349440"/>
            <a:ext cx="7483320" cy="31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299200" y="6699240"/>
            <a:ext cx="405576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161EB9C-88F4-4BBD-B0E0-55DE343BE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17800" y="530280"/>
            <a:ext cx="3522600" cy="2641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7800" y="3350880"/>
            <a:ext cx="7480440" cy="317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(provide probabilities, summary preferences in literature or by other patients or list of advantages disadvantages, coached steps toward decis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ll of above plus one or more of the following: customized risk tools, probabilities that adjust with risk level, explicit values clarification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(provide probabilities, summary preferences in literature or by other patients or list of advantages disadvantages, coached steps toward decis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ll of above plus one or more of the following: customized risk tools, probabilities that adjust with risk level, explicit values clarification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09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92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09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92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096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1920" y="17524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903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096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1920" y="39020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6040" y="39020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6040" y="17524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39020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6"/>
          <p:cNvSpPr/>
          <p:nvPr/>
        </p:nvSpPr>
        <p:spPr>
          <a:xfrm rot="16200000">
            <a:off x="3848040" y="-3847680"/>
            <a:ext cx="1447920" cy="9144000"/>
          </a:xfrm>
          <a:prstGeom prst="parallelogram">
            <a:avLst>
              <a:gd name="adj" fmla="val 0"/>
            </a:avLst>
          </a:prstGeom>
          <a:solidFill>
            <a:srgbClr val="2a568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AutoShape 15"/>
          <p:cNvSpPr/>
          <p:nvPr/>
        </p:nvSpPr>
        <p:spPr>
          <a:xfrm rot="10800000">
            <a:off x="0" y="0"/>
            <a:ext cx="533520" cy="6858000"/>
          </a:xfrm>
          <a:prstGeom prst="parallelogram">
            <a:avLst>
              <a:gd name="adj" fmla="val 0"/>
            </a:avLst>
          </a:prstGeom>
          <a:solidFill>
            <a:srgbClr val="2a568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OHSU_logo"/>
          <p:cNvPicPr/>
          <p:nvPr/>
        </p:nvPicPr>
        <p:blipFill>
          <a:blip r:embed="rId2"/>
          <a:stretch/>
        </p:blipFill>
        <p:spPr>
          <a:xfrm>
            <a:off x="8381880" y="6172200"/>
            <a:ext cx="63972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 rot="16200000">
            <a:off x="3314520" y="-3314880"/>
            <a:ext cx="2514600" cy="9144000"/>
          </a:xfrm>
          <a:prstGeom prst="parallelogram">
            <a:avLst>
              <a:gd name="adj" fmla="val 0"/>
            </a:avLst>
          </a:prstGeom>
          <a:solidFill>
            <a:srgbClr val="2a568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AutoShape 3"/>
          <p:cNvSpPr/>
          <p:nvPr/>
        </p:nvSpPr>
        <p:spPr>
          <a:xfrm rot="10800000">
            <a:off x="0" y="0"/>
            <a:ext cx="533520" cy="6858000"/>
          </a:xfrm>
          <a:prstGeom prst="parallelogram">
            <a:avLst>
              <a:gd name="adj" fmla="val 0"/>
            </a:avLst>
          </a:prstGeom>
          <a:solidFill>
            <a:srgbClr val="2a568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3" name="Picture 8" descr="OHSU_logo"/>
          <p:cNvPicPr/>
          <p:nvPr/>
        </p:nvPicPr>
        <p:blipFill>
          <a:blip r:embed="rId2"/>
          <a:stretch/>
        </p:blipFill>
        <p:spPr>
          <a:xfrm>
            <a:off x="8001000" y="6248520"/>
            <a:ext cx="685800" cy="4442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0"/>
          <p:cNvSpPr/>
          <p:nvPr/>
        </p:nvSpPr>
        <p:spPr>
          <a:xfrm rot="5400000">
            <a:off x="4305240" y="-4305240"/>
            <a:ext cx="533520" cy="9144000"/>
          </a:xfrm>
          <a:prstGeom prst="parallelogram">
            <a:avLst>
              <a:gd name="adj" fmla="val 0"/>
            </a:avLst>
          </a:prstGeom>
          <a:solidFill>
            <a:srgbClr val="2a568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isenberg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55360"/>
            <a:ext cx="8610480" cy="2003400"/>
          </a:xfrm>
          <a:prstGeom prst="rect">
            <a:avLst/>
          </a:prstGeom>
          <a:solidFill>
            <a:srgbClr val="2a5682">
              <a:alpha val="1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moting Patient Involvement in Medication Decisions </a:t>
            </a:r>
            <a:br>
              <a:rPr sz="36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76720" y="3276360"/>
            <a:ext cx="5410080" cy="2895480"/>
          </a:xfrm>
          <a:prstGeom prst="rect">
            <a:avLst/>
          </a:prstGeom>
          <a:solidFill>
            <a:srgbClr val="ffffff">
              <a:alpha val="24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vid H. Hickam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or, Dept. of Medi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egon Health &amp; Scien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rtland, 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ences for Content of Information 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nsus that information about benefits is the mos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 understand benefit/harm trade-of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that side effect information be thorou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to “non-medical” trea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spective about Interactions with Provid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sus on value of shared decision m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participants reported collaborative, trusting relationships with clinici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 visits tend to be ru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elt pressure to make hurried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pticism about recommendations to “talk to your doctor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rsement of tools that provide new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les for the Use of Evidence in Decision Too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evidence about both benefits and harms of the altern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 where the evidence in inconclu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information action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larity about what the decisions are and how to approach thos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Features of Eisenberg Center Summary Guid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&amp; focused on ke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ly designed for aud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, Risks, Trade-o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i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literacy &amp; numeracy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 Front Bottom Lin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2392200" y="1625760"/>
            <a:ext cx="3160800" cy="4227480"/>
          </a:xfrm>
          <a:prstGeom prst="rect">
            <a:avLst/>
          </a:prstGeom>
          <a:ln w="64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 the Benefi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865080" y="1574640"/>
            <a:ext cx="7413840" cy="4849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9760"/>
          </a:xfrm>
          <a:prstGeom prst="rect">
            <a:avLst/>
          </a:prstGeom>
          <a:ln w="64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Text Box 3"/>
          <p:cNvSpPr/>
          <p:nvPr/>
        </p:nvSpPr>
        <p:spPr>
          <a:xfrm>
            <a:off x="533520" y="304920"/>
            <a:ext cx="78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cision Coac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able Numeric Dat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reatments of early stage prostate canc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of men reporting impotence following each treatment, at 2 yea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after radical prostatect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% after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6% with hormonal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% with watchful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 about Evidence Trans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linicians and consumers are interested in evidence and believe that it influences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bility is cru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 not know very much about how clinicians and patients communicate about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perceive that evidence-based decision tools might be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 of this S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oncepts of shared decision 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results of fous groups to assess consumers’ perceptions of sources of medical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our work developing tools to promote shared decision m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ole of Evidence in Shared Decision Mak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evi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evidence inform medical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linicians and patients communicate about evid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imple evidence-based decision tools usefu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nical Problems for which Decision Aids are Usefu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09480" y="1981080"/>
            <a:ext cx="79250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Decisions that are complicated becaus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re is no single best choic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People vary in the values or personal importance that                       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y place on the benefits vs the harms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associated with each of the option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ere is scientific uncertainty about the benefits and 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harms associated with option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80880" y="5791320"/>
            <a:ext cx="782964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'Connor A et al. Decision aids for people facing health treatment or screening decisions. The Cochrane Library 2006;Issue 4.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tions for Tools to Promote Shared Decision Mak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62120" y="167652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79360" indent="-279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/Informationa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9360" indent="-279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ecision aid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517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probabilities, preference information, coached steps toward decision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9360" indent="-279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decision aid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517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above plus one or more of the following: customized risk tools, probabilities that adjust with risk level, explicit values clarification, etc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9360" indent="-279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Groups to Assess Consumers’ Perceptions of Information 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2332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ived need for information about conditions and treat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ptions about sharing decisions with clinic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participants obtain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 review of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cus Group Participa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focus groups (total of 113 participa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in each group defined by a particular chronic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2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eop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cus Group Characteristic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thirds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% age 60 or 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Caucas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% college gradu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% had used Internet in last mon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hird rated their health as fair or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ences for Information 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5438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and easy to r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articipants were not comfortable with Internet as information sou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for positive information: often an issue when evidence is “negativ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ing of mortality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ted sources of information such as government and, AARP, or the Arthritis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ust in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0:08:25Z</dcterms:created>
  <dc:creator>daviser</dc:creator>
  <dc:description/>
  <dc:language>en-US</dc:language>
  <cp:lastModifiedBy>DHHS</cp:lastModifiedBy>
  <dcterms:modified xsi:type="dcterms:W3CDTF">2009-01-16T20:20:45Z</dcterms:modified>
  <cp:revision>206</cp:revision>
  <dc:subject/>
  <dc:title>Slide 1</dc:title>
</cp:coreProperties>
</file>