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6012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ldImg"/>
          </p:nvPr>
        </p:nvSpPr>
        <p:spPr>
          <a:xfrm>
            <a:off x="1068480" y="700200"/>
            <a:ext cx="487368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76240" y="8895960"/>
            <a:ext cx="9334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21A4AAA-AF16-4704-8598-4810CB122C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068480" y="700200"/>
            <a:ext cx="4873680" cy="34812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immediately to the second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39720" y="3188880"/>
            <a:ext cx="83930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9720" y="318888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40640" y="318888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477240" y="167616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315120" y="167616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39720" y="318888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477240" y="318888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315120" y="318888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44520" y="349200"/>
            <a:ext cx="77882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39720" y="318888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940640" y="318888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20" y="3188880"/>
            <a:ext cx="83930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39720" y="3188880"/>
            <a:ext cx="83930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39720" y="318888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940640" y="318888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477240" y="167616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315120" y="167616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39720" y="318888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477240" y="318888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315120" y="318888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244520" y="349200"/>
            <a:ext cx="77882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39720" y="318888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40640" y="318888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720" y="3188880"/>
            <a:ext cx="83930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5000"/>
          </a:bodyPr>
          <a:p>
            <a:pPr marL="302040" indent="-302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4320" indent="-2577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36000" indent="-2271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58480" indent="-14832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381680" indent="-14832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381680" indent="-14832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381680" indent="-14832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8386560" cy="19080"/>
            <a:chOff x="0" y="1333440"/>
            <a:chExt cx="8386560" cy="19080"/>
          </a:xfrm>
        </p:grpSpPr>
        <p:sp>
          <p:nvSpPr>
            <p:cNvPr id="3" name=""/>
            <p:cNvSpPr/>
            <p:nvPr/>
          </p:nvSpPr>
          <p:spPr>
            <a:xfrm>
              <a:off x="5760" y="1352520"/>
              <a:ext cx="83808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83808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8078760" y="6219720"/>
            <a:ext cx="1201680" cy="369720"/>
            <a:chOff x="8078760" y="6219720"/>
            <a:chExt cx="1201680" cy="369720"/>
          </a:xfrm>
        </p:grpSpPr>
        <p:sp>
          <p:nvSpPr>
            <p:cNvPr id="6" name=""/>
            <p:cNvSpPr/>
            <p:nvPr/>
          </p:nvSpPr>
          <p:spPr>
            <a:xfrm>
              <a:off x="8421840" y="6294240"/>
              <a:ext cx="283680" cy="269280"/>
            </a:xfrm>
            <a:custGeom>
              <a:avLst/>
              <a:gdLst/>
              <a:ahLst/>
              <a:rect l="l" t="t" r="r" b="b"/>
              <a:pathLst>
                <a:path w="179" h="159">
                  <a:moveTo>
                    <a:pt x="36" y="0"/>
                  </a:moveTo>
                  <a:lnTo>
                    <a:pt x="82" y="0"/>
                  </a:lnTo>
                  <a:lnTo>
                    <a:pt x="74" y="53"/>
                  </a:lnTo>
                  <a:lnTo>
                    <a:pt x="120" y="53"/>
                  </a:lnTo>
                  <a:lnTo>
                    <a:pt x="133" y="0"/>
                  </a:lnTo>
                  <a:lnTo>
                    <a:pt x="179" y="0"/>
                  </a:lnTo>
                  <a:lnTo>
                    <a:pt x="149" y="159"/>
                  </a:lnTo>
                  <a:lnTo>
                    <a:pt x="97" y="159"/>
                  </a:lnTo>
                  <a:lnTo>
                    <a:pt x="112" y="95"/>
                  </a:lnTo>
                  <a:lnTo>
                    <a:pt x="66" y="95"/>
                  </a:lnTo>
                  <a:lnTo>
                    <a:pt x="53" y="159"/>
                  </a:lnTo>
                  <a:lnTo>
                    <a:pt x="0" y="159"/>
                  </a:lnTo>
                  <a:lnTo>
                    <a:pt x="3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115120" y="6219720"/>
              <a:ext cx="330840" cy="344160"/>
            </a:xfrm>
            <a:custGeom>
              <a:avLst/>
              <a:gdLst/>
              <a:ahLst/>
              <a:rect l="l" t="t" r="r" b="b"/>
              <a:pathLst>
                <a:path w="209" h="203">
                  <a:moveTo>
                    <a:pt x="143" y="27"/>
                  </a:moveTo>
                  <a:lnTo>
                    <a:pt x="124" y="109"/>
                  </a:lnTo>
                  <a:lnTo>
                    <a:pt x="33" y="109"/>
                  </a:lnTo>
                  <a:lnTo>
                    <a:pt x="20" y="132"/>
                  </a:lnTo>
                  <a:lnTo>
                    <a:pt x="119" y="132"/>
                  </a:lnTo>
                  <a:lnTo>
                    <a:pt x="117" y="140"/>
                  </a:lnTo>
                  <a:lnTo>
                    <a:pt x="14" y="140"/>
                  </a:lnTo>
                  <a:lnTo>
                    <a:pt x="0" y="166"/>
                  </a:lnTo>
                  <a:lnTo>
                    <a:pt x="112" y="166"/>
                  </a:lnTo>
                  <a:lnTo>
                    <a:pt x="104" y="203"/>
                  </a:lnTo>
                  <a:lnTo>
                    <a:pt x="167" y="203"/>
                  </a:lnTo>
                  <a:lnTo>
                    <a:pt x="209" y="0"/>
                  </a:lnTo>
                  <a:lnTo>
                    <a:pt x="96" y="0"/>
                  </a:lnTo>
                  <a:lnTo>
                    <a:pt x="89" y="13"/>
                  </a:lnTo>
                  <a:lnTo>
                    <a:pt x="146" y="13"/>
                  </a:lnTo>
                  <a:lnTo>
                    <a:pt x="143" y="27"/>
                  </a:lnTo>
                  <a:lnTo>
                    <a:pt x="81" y="27"/>
                  </a:lnTo>
                  <a:lnTo>
                    <a:pt x="73" y="40"/>
                  </a:lnTo>
                  <a:lnTo>
                    <a:pt x="135" y="39"/>
                  </a:lnTo>
                  <a:lnTo>
                    <a:pt x="143" y="2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202240" y="6312600"/>
              <a:ext cx="118800" cy="24120"/>
            </a:xfrm>
            <a:custGeom>
              <a:avLst/>
              <a:gdLst/>
              <a:ahLst/>
              <a:rect l="l" t="t" r="r" b="b"/>
              <a:pathLst>
                <a:path w="75" h="14">
                  <a:moveTo>
                    <a:pt x="9" y="0"/>
                  </a:moveTo>
                  <a:lnTo>
                    <a:pt x="0" y="14"/>
                  </a:lnTo>
                  <a:lnTo>
                    <a:pt x="66" y="14"/>
                  </a:lnTo>
                  <a:lnTo>
                    <a:pt x="75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174880" y="6355800"/>
              <a:ext cx="122400" cy="33840"/>
            </a:xfrm>
            <a:custGeom>
              <a:avLst/>
              <a:gdLst/>
              <a:ahLst/>
              <a:rect l="l" t="t" r="r" b="b"/>
              <a:pathLst>
                <a:path w="78" h="20">
                  <a:moveTo>
                    <a:pt x="13" y="0"/>
                  </a:moveTo>
                  <a:lnTo>
                    <a:pt x="0" y="20"/>
                  </a:lnTo>
                  <a:lnTo>
                    <a:pt x="66" y="20"/>
                  </a:lnTo>
                  <a:lnTo>
                    <a:pt x="78" y="0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078760" y="6514920"/>
              <a:ext cx="131400" cy="5220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18" y="0"/>
                  </a:moveTo>
                  <a:lnTo>
                    <a:pt x="0" y="31"/>
                  </a:lnTo>
                  <a:lnTo>
                    <a:pt x="68" y="30"/>
                  </a:lnTo>
                  <a:lnTo>
                    <a:pt x="83" y="0"/>
                  </a:lnTo>
                  <a:lnTo>
                    <a:pt x="1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98680" y="6294240"/>
              <a:ext cx="265320" cy="271800"/>
            </a:xfrm>
            <a:custGeom>
              <a:avLst/>
              <a:gdLst/>
              <a:ahLst/>
              <a:rect l="l" t="t" r="r" b="b"/>
              <a:pathLst>
                <a:path w="167" h="160">
                  <a:moveTo>
                    <a:pt x="102" y="160"/>
                  </a:moveTo>
                  <a:cubicBezTo>
                    <a:pt x="100" y="155"/>
                    <a:pt x="98" y="149"/>
                    <a:pt x="98" y="142"/>
                  </a:cubicBezTo>
                  <a:cubicBezTo>
                    <a:pt x="98" y="134"/>
                    <a:pt x="106" y="103"/>
                    <a:pt x="89" y="104"/>
                  </a:cubicBezTo>
                  <a:lnTo>
                    <a:pt x="62" y="104"/>
                  </a:lnTo>
                  <a:lnTo>
                    <a:pt x="50" y="160"/>
                  </a:lnTo>
                  <a:lnTo>
                    <a:pt x="0" y="160"/>
                  </a:lnTo>
                  <a:lnTo>
                    <a:pt x="32" y="0"/>
                  </a:lnTo>
                  <a:lnTo>
                    <a:pt x="119" y="0"/>
                  </a:lnTo>
                  <a:cubicBezTo>
                    <a:pt x="153" y="0"/>
                    <a:pt x="167" y="18"/>
                    <a:pt x="167" y="39"/>
                  </a:cubicBezTo>
                  <a:cubicBezTo>
                    <a:pt x="167" y="59"/>
                    <a:pt x="160" y="76"/>
                    <a:pt x="139" y="84"/>
                  </a:cubicBezTo>
                  <a:cubicBezTo>
                    <a:pt x="155" y="83"/>
                    <a:pt x="148" y="133"/>
                    <a:pt x="148" y="141"/>
                  </a:cubicBezTo>
                  <a:cubicBezTo>
                    <a:pt x="148" y="149"/>
                    <a:pt x="149" y="155"/>
                    <a:pt x="152" y="160"/>
                  </a:cubicBezTo>
                  <a:lnTo>
                    <a:pt x="102" y="160"/>
                  </a:lnTo>
                  <a:moveTo>
                    <a:pt x="97" y="69"/>
                  </a:moveTo>
                  <a:cubicBezTo>
                    <a:pt x="106" y="69"/>
                    <a:pt x="111" y="60"/>
                    <a:pt x="113" y="54"/>
                  </a:cubicBezTo>
                  <a:cubicBezTo>
                    <a:pt x="114" y="49"/>
                    <a:pt x="113" y="39"/>
                    <a:pt x="100" y="39"/>
                  </a:cubicBezTo>
                  <a:cubicBezTo>
                    <a:pt x="91" y="39"/>
                    <a:pt x="76" y="39"/>
                    <a:pt x="76" y="39"/>
                  </a:cubicBezTo>
                  <a:lnTo>
                    <a:pt x="70" y="69"/>
                  </a:lnTo>
                  <a:cubicBezTo>
                    <a:pt x="70" y="69"/>
                    <a:pt x="88" y="69"/>
                    <a:pt x="97" y="6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9083520" y="6449760"/>
              <a:ext cx="196920" cy="139680"/>
            </a:xfrm>
            <a:custGeom>
              <a:avLst/>
              <a:gdLst/>
              <a:ahLst/>
              <a:rect l="l" t="t" r="r" b="b"/>
              <a:pathLst>
                <a:path w="124" h="82">
                  <a:moveTo>
                    <a:pt x="0" y="0"/>
                  </a:moveTo>
                  <a:cubicBezTo>
                    <a:pt x="3" y="8"/>
                    <a:pt x="57" y="66"/>
                    <a:pt x="67" y="82"/>
                  </a:cubicBezTo>
                  <a:cubicBezTo>
                    <a:pt x="92" y="82"/>
                    <a:pt x="124" y="82"/>
                    <a:pt x="124" y="82"/>
                  </a:cubicBezTo>
                  <a:cubicBezTo>
                    <a:pt x="124" y="82"/>
                    <a:pt x="55" y="7"/>
                    <a:pt x="48" y="0"/>
                  </a:cubicBezTo>
                  <a:cubicBezTo>
                    <a:pt x="37" y="0"/>
                    <a:pt x="0" y="0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954280" y="6275880"/>
              <a:ext cx="302040" cy="304920"/>
            </a:xfrm>
            <a:custGeom>
              <a:avLst/>
              <a:gdLst/>
              <a:ahLst/>
              <a:rect l="l" t="t" r="r" b="b"/>
              <a:pathLst>
                <a:path w="191" h="180">
                  <a:moveTo>
                    <a:pt x="89" y="130"/>
                  </a:moveTo>
                  <a:cubicBezTo>
                    <a:pt x="82" y="130"/>
                    <a:pt x="77" y="130"/>
                    <a:pt x="70" y="125"/>
                  </a:cubicBezTo>
                  <a:cubicBezTo>
                    <a:pt x="53" y="115"/>
                    <a:pt x="51" y="93"/>
                    <a:pt x="63" y="74"/>
                  </a:cubicBezTo>
                  <a:cubicBezTo>
                    <a:pt x="75" y="55"/>
                    <a:pt x="96" y="49"/>
                    <a:pt x="113" y="60"/>
                  </a:cubicBezTo>
                  <a:cubicBezTo>
                    <a:pt x="120" y="65"/>
                    <a:pt x="131" y="73"/>
                    <a:pt x="130" y="89"/>
                  </a:cubicBezTo>
                  <a:lnTo>
                    <a:pt x="166" y="125"/>
                  </a:lnTo>
                  <a:cubicBezTo>
                    <a:pt x="191" y="75"/>
                    <a:pt x="170" y="38"/>
                    <a:pt x="135" y="20"/>
                  </a:cubicBezTo>
                  <a:cubicBezTo>
                    <a:pt x="98" y="0"/>
                    <a:pt x="49" y="13"/>
                    <a:pt x="25" y="53"/>
                  </a:cubicBezTo>
                  <a:cubicBezTo>
                    <a:pt x="0" y="93"/>
                    <a:pt x="9" y="143"/>
                    <a:pt x="45" y="165"/>
                  </a:cubicBezTo>
                  <a:cubicBezTo>
                    <a:pt x="70" y="180"/>
                    <a:pt x="91" y="175"/>
                    <a:pt x="117" y="167"/>
                  </a:cubicBezTo>
                  <a:lnTo>
                    <a:pt x="89" y="13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"/>
          <p:cNvSpPr/>
          <p:nvPr/>
        </p:nvSpPr>
        <p:spPr>
          <a:xfrm>
            <a:off x="8199360" y="5986440"/>
            <a:ext cx="952560" cy="446040"/>
          </a:xfrm>
          <a:custGeom>
            <a:avLst/>
            <a:gdLst/>
            <a:ahLst/>
            <a:rect l="l" t="t" r="r" b="b"/>
            <a:pathLst>
              <a:path w="600" h="263">
                <a:moveTo>
                  <a:pt x="552" y="263"/>
                </a:moveTo>
                <a:cubicBezTo>
                  <a:pt x="397" y="38"/>
                  <a:pt x="163" y="33"/>
                  <a:pt x="0" y="136"/>
                </a:cubicBezTo>
                <a:cubicBezTo>
                  <a:pt x="125" y="24"/>
                  <a:pt x="383" y="0"/>
                  <a:pt x="600" y="263"/>
                </a:cubicBezTo>
                <a:cubicBezTo>
                  <a:pt x="553" y="263"/>
                  <a:pt x="552" y="263"/>
                  <a:pt x="552" y="263"/>
                </a:cubicBezTo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393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177840" y="152280"/>
            <a:ext cx="923760" cy="94464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-74880" y="6400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91D5-31AA-4158-8008-6A65EA5A4A69}" type="slidenum"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361960"/>
            <a:ext cx="8178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7396200" y="380880"/>
            <a:ext cx="1670760" cy="848880"/>
            <a:chOff x="7396200" y="380880"/>
            <a:chExt cx="1670760" cy="848880"/>
          </a:xfrm>
        </p:grpSpPr>
        <p:grpSp>
          <p:nvGrpSpPr>
            <p:cNvPr id="55" name=""/>
            <p:cNvGrpSpPr/>
            <p:nvPr/>
          </p:nvGrpSpPr>
          <p:grpSpPr>
            <a:xfrm>
              <a:off x="7405560" y="394200"/>
              <a:ext cx="1661400" cy="835560"/>
              <a:chOff x="7405560" y="394200"/>
              <a:chExt cx="1661400" cy="835560"/>
            </a:xfrm>
          </p:grpSpPr>
          <p:sp>
            <p:nvSpPr>
              <p:cNvPr id="56" name=""/>
              <p:cNvSpPr/>
              <p:nvPr/>
            </p:nvSpPr>
            <p:spPr>
              <a:xfrm>
                <a:off x="7564680" y="394200"/>
                <a:ext cx="1317240" cy="616680"/>
              </a:xfrm>
              <a:custGeom>
                <a:avLst/>
                <a:gdLst/>
                <a:ahLst/>
                <a:rect l="l" t="t" r="r" b="b"/>
                <a:pathLst>
                  <a:path w="600" h="263">
                    <a:moveTo>
                      <a:pt x="552" y="263"/>
                    </a:moveTo>
                    <a:cubicBezTo>
                      <a:pt x="397" y="38"/>
                      <a:pt x="163" y="33"/>
                      <a:pt x="0" y="136"/>
                    </a:cubicBezTo>
                    <a:cubicBezTo>
                      <a:pt x="125" y="24"/>
                      <a:pt x="383" y="0"/>
                      <a:pt x="600" y="263"/>
                    </a:cubicBezTo>
                    <a:cubicBezTo>
                      <a:pt x="553" y="263"/>
                      <a:pt x="552" y="263"/>
                      <a:pt x="552" y="263"/>
                    </a:cubicBez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879680" y="820800"/>
                <a:ext cx="392760" cy="373320"/>
              </a:xfrm>
              <a:custGeom>
                <a:avLst/>
                <a:gdLst/>
                <a:ahLst/>
                <a:rect l="l" t="t" r="r" b="b"/>
                <a:pathLst>
                  <a:path w="179" h="159">
                    <a:moveTo>
                      <a:pt x="36" y="0"/>
                    </a:moveTo>
                    <a:lnTo>
                      <a:pt x="82" y="0"/>
                    </a:lnTo>
                    <a:lnTo>
                      <a:pt x="74" y="53"/>
                    </a:lnTo>
                    <a:lnTo>
                      <a:pt x="120" y="53"/>
                    </a:lnTo>
                    <a:lnTo>
                      <a:pt x="133" y="0"/>
                    </a:lnTo>
                    <a:lnTo>
                      <a:pt x="179" y="0"/>
                    </a:lnTo>
                    <a:lnTo>
                      <a:pt x="149" y="159"/>
                    </a:lnTo>
                    <a:lnTo>
                      <a:pt x="97" y="159"/>
                    </a:lnTo>
                    <a:lnTo>
                      <a:pt x="112" y="95"/>
                    </a:lnTo>
                    <a:lnTo>
                      <a:pt x="66" y="95"/>
                    </a:lnTo>
                    <a:lnTo>
                      <a:pt x="53" y="159"/>
                    </a:lnTo>
                    <a:lnTo>
                      <a:pt x="0" y="159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456680" y="717840"/>
                <a:ext cx="457200" cy="476280"/>
              </a:xfrm>
              <a:custGeom>
                <a:avLst/>
                <a:gdLst/>
                <a:ahLst/>
                <a:rect l="l" t="t" r="r" b="b"/>
                <a:pathLst>
                  <a:path w="209" h="203">
                    <a:moveTo>
                      <a:pt x="143" y="27"/>
                    </a:moveTo>
                    <a:lnTo>
                      <a:pt x="124" y="109"/>
                    </a:lnTo>
                    <a:lnTo>
                      <a:pt x="33" y="109"/>
                    </a:lnTo>
                    <a:lnTo>
                      <a:pt x="20" y="132"/>
                    </a:lnTo>
                    <a:lnTo>
                      <a:pt x="119" y="132"/>
                    </a:lnTo>
                    <a:lnTo>
                      <a:pt x="117" y="140"/>
                    </a:lnTo>
                    <a:lnTo>
                      <a:pt x="14" y="140"/>
                    </a:lnTo>
                    <a:lnTo>
                      <a:pt x="0" y="166"/>
                    </a:lnTo>
                    <a:lnTo>
                      <a:pt x="112" y="166"/>
                    </a:lnTo>
                    <a:lnTo>
                      <a:pt x="104" y="203"/>
                    </a:lnTo>
                    <a:lnTo>
                      <a:pt x="167" y="203"/>
                    </a:lnTo>
                    <a:lnTo>
                      <a:pt x="209" y="0"/>
                    </a:lnTo>
                    <a:lnTo>
                      <a:pt x="96" y="0"/>
                    </a:lnTo>
                    <a:lnTo>
                      <a:pt x="89" y="13"/>
                    </a:lnTo>
                    <a:lnTo>
                      <a:pt x="146" y="13"/>
                    </a:lnTo>
                    <a:lnTo>
                      <a:pt x="143" y="27"/>
                    </a:lnTo>
                    <a:lnTo>
                      <a:pt x="81" y="27"/>
                    </a:lnTo>
                    <a:lnTo>
                      <a:pt x="73" y="40"/>
                    </a:lnTo>
                    <a:lnTo>
                      <a:pt x="135" y="39"/>
                    </a:lnTo>
                    <a:lnTo>
                      <a:pt x="143" y="27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576920" y="846720"/>
                <a:ext cx="164160" cy="33480"/>
              </a:xfrm>
              <a:custGeom>
                <a:avLst/>
                <a:gdLst/>
                <a:ahLst/>
                <a:rect l="l" t="t" r="r" b="b"/>
                <a:pathLst>
                  <a:path w="75" h="14">
                    <a:moveTo>
                      <a:pt x="9" y="0"/>
                    </a:moveTo>
                    <a:lnTo>
                      <a:pt x="0" y="14"/>
                    </a:lnTo>
                    <a:lnTo>
                      <a:pt x="66" y="14"/>
                    </a:lnTo>
                    <a:lnTo>
                      <a:pt x="75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537680" y="906480"/>
                <a:ext cx="169920" cy="46440"/>
              </a:xfrm>
              <a:custGeom>
                <a:avLst/>
                <a:gdLst/>
                <a:ahLst/>
                <a:rect l="l" t="t" r="r" b="b"/>
                <a:pathLst>
                  <a:path w="78" h="20">
                    <a:moveTo>
                      <a:pt x="13" y="0"/>
                    </a:moveTo>
                    <a:lnTo>
                      <a:pt x="0" y="20"/>
                    </a:lnTo>
                    <a:lnTo>
                      <a:pt x="66" y="20"/>
                    </a:lnTo>
                    <a:lnTo>
                      <a:pt x="78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405560" y="1126800"/>
                <a:ext cx="181800" cy="72000"/>
              </a:xfrm>
              <a:custGeom>
                <a:avLst/>
                <a:gdLst/>
                <a:ahLst/>
                <a:rect l="l" t="t" r="r" b="b"/>
                <a:pathLst>
                  <a:path w="83" h="31">
                    <a:moveTo>
                      <a:pt x="18" y="0"/>
                    </a:moveTo>
                    <a:lnTo>
                      <a:pt x="0" y="31"/>
                    </a:lnTo>
                    <a:lnTo>
                      <a:pt x="68" y="30"/>
                    </a:lnTo>
                    <a:lnTo>
                      <a:pt x="83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63080" y="820800"/>
                <a:ext cx="367200" cy="376560"/>
              </a:xfrm>
              <a:custGeom>
                <a:avLst/>
                <a:gdLst/>
                <a:ahLst/>
                <a:rect l="l" t="t" r="r" b="b"/>
                <a:pathLst>
                  <a:path w="167" h="160">
                    <a:moveTo>
                      <a:pt x="102" y="160"/>
                    </a:moveTo>
                    <a:cubicBezTo>
                      <a:pt x="100" y="155"/>
                      <a:pt x="98" y="149"/>
                      <a:pt x="98" y="142"/>
                    </a:cubicBezTo>
                    <a:cubicBezTo>
                      <a:pt x="98" y="134"/>
                      <a:pt x="106" y="103"/>
                      <a:pt x="89" y="104"/>
                    </a:cubicBezTo>
                    <a:lnTo>
                      <a:pt x="62" y="104"/>
                    </a:lnTo>
                    <a:lnTo>
                      <a:pt x="50" y="160"/>
                    </a:lnTo>
                    <a:lnTo>
                      <a:pt x="0" y="160"/>
                    </a:lnTo>
                    <a:lnTo>
                      <a:pt x="32" y="0"/>
                    </a:lnTo>
                    <a:lnTo>
                      <a:pt x="119" y="0"/>
                    </a:lnTo>
                    <a:cubicBezTo>
                      <a:pt x="153" y="0"/>
                      <a:pt x="167" y="18"/>
                      <a:pt x="167" y="39"/>
                    </a:cubicBezTo>
                    <a:cubicBezTo>
                      <a:pt x="167" y="59"/>
                      <a:pt x="160" y="76"/>
                      <a:pt x="139" y="84"/>
                    </a:cubicBezTo>
                    <a:cubicBezTo>
                      <a:pt x="155" y="83"/>
                      <a:pt x="148" y="133"/>
                      <a:pt x="148" y="141"/>
                    </a:cubicBezTo>
                    <a:cubicBezTo>
                      <a:pt x="148" y="149"/>
                      <a:pt x="149" y="155"/>
                      <a:pt x="152" y="160"/>
                    </a:cubicBezTo>
                    <a:lnTo>
                      <a:pt x="102" y="160"/>
                    </a:lnTo>
                    <a:moveTo>
                      <a:pt x="97" y="69"/>
                    </a:moveTo>
                    <a:cubicBezTo>
                      <a:pt x="106" y="69"/>
                      <a:pt x="111" y="60"/>
                      <a:pt x="113" y="54"/>
                    </a:cubicBezTo>
                    <a:cubicBezTo>
                      <a:pt x="114" y="49"/>
                      <a:pt x="113" y="39"/>
                      <a:pt x="100" y="39"/>
                    </a:cubicBezTo>
                    <a:cubicBezTo>
                      <a:pt x="91" y="39"/>
                      <a:pt x="76" y="39"/>
                      <a:pt x="76" y="39"/>
                    </a:cubicBezTo>
                    <a:lnTo>
                      <a:pt x="70" y="69"/>
                    </a:lnTo>
                    <a:cubicBezTo>
                      <a:pt x="70" y="69"/>
                      <a:pt x="88" y="69"/>
                      <a:pt x="97" y="69"/>
                    </a:cubicBez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94800" y="1036800"/>
                <a:ext cx="272160" cy="192960"/>
              </a:xfrm>
              <a:custGeom>
                <a:avLst/>
                <a:gdLst/>
                <a:ahLst/>
                <a:rect l="l" t="t" r="r" b="b"/>
                <a:pathLst>
                  <a:path w="124" h="82">
                    <a:moveTo>
                      <a:pt x="0" y="0"/>
                    </a:moveTo>
                    <a:cubicBezTo>
                      <a:pt x="3" y="8"/>
                      <a:pt x="57" y="66"/>
                      <a:pt x="67" y="82"/>
                    </a:cubicBezTo>
                    <a:cubicBezTo>
                      <a:pt x="92" y="82"/>
                      <a:pt x="124" y="82"/>
                      <a:pt x="124" y="82"/>
                    </a:cubicBezTo>
                    <a:cubicBezTo>
                      <a:pt x="124" y="82"/>
                      <a:pt x="55" y="7"/>
                      <a:pt x="48" y="0"/>
                    </a:cubicBezTo>
                    <a:cubicBezTo>
                      <a:pt x="37" y="0"/>
                      <a:pt x="0" y="0"/>
                      <a:pt x="0" y="0"/>
                    </a:cubicBez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615520" y="794880"/>
                <a:ext cx="418320" cy="423360"/>
              </a:xfrm>
              <a:custGeom>
                <a:avLst/>
                <a:gdLst/>
                <a:ahLst/>
                <a:rect l="l" t="t" r="r" b="b"/>
                <a:pathLst>
                  <a:path w="191" h="180">
                    <a:moveTo>
                      <a:pt x="89" y="130"/>
                    </a:moveTo>
                    <a:cubicBezTo>
                      <a:pt x="82" y="130"/>
                      <a:pt x="77" y="130"/>
                      <a:pt x="70" y="125"/>
                    </a:cubicBezTo>
                    <a:cubicBezTo>
                      <a:pt x="53" y="115"/>
                      <a:pt x="51" y="93"/>
                      <a:pt x="63" y="74"/>
                    </a:cubicBezTo>
                    <a:cubicBezTo>
                      <a:pt x="75" y="55"/>
                      <a:pt x="96" y="49"/>
                      <a:pt x="113" y="60"/>
                    </a:cubicBezTo>
                    <a:cubicBezTo>
                      <a:pt x="120" y="65"/>
                      <a:pt x="131" y="73"/>
                      <a:pt x="130" y="89"/>
                    </a:cubicBezTo>
                    <a:lnTo>
                      <a:pt x="166" y="125"/>
                    </a:lnTo>
                    <a:cubicBezTo>
                      <a:pt x="191" y="75"/>
                      <a:pt x="170" y="38"/>
                      <a:pt x="135" y="20"/>
                    </a:cubicBezTo>
                    <a:cubicBezTo>
                      <a:pt x="98" y="0"/>
                      <a:pt x="49" y="13"/>
                      <a:pt x="25" y="53"/>
                    </a:cubicBezTo>
                    <a:cubicBezTo>
                      <a:pt x="0" y="93"/>
                      <a:pt x="9" y="143"/>
                      <a:pt x="45" y="165"/>
                    </a:cubicBezTo>
                    <a:cubicBezTo>
                      <a:pt x="70" y="180"/>
                      <a:pt x="91" y="175"/>
                      <a:pt x="117" y="167"/>
                    </a:cubicBezTo>
                    <a:lnTo>
                      <a:pt x="89" y="13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7556040" y="380880"/>
              <a:ext cx="1316520" cy="617040"/>
            </a:xfrm>
            <a:custGeom>
              <a:avLst/>
              <a:gdLst/>
              <a:ahLst/>
              <a:rect l="l" t="t" r="r" b="b"/>
              <a:pathLst>
                <a:path w="600" h="263">
                  <a:moveTo>
                    <a:pt x="552" y="263"/>
                  </a:moveTo>
                  <a:cubicBezTo>
                    <a:pt x="397" y="38"/>
                    <a:pt x="163" y="33"/>
                    <a:pt x="0" y="136"/>
                  </a:cubicBezTo>
                  <a:cubicBezTo>
                    <a:pt x="125" y="24"/>
                    <a:pt x="383" y="0"/>
                    <a:pt x="600" y="263"/>
                  </a:cubicBezTo>
                  <a:cubicBezTo>
                    <a:pt x="553" y="263"/>
                    <a:pt x="552" y="263"/>
                    <a:pt x="552" y="26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7396200" y="704520"/>
              <a:ext cx="1661400" cy="511920"/>
              <a:chOff x="7396200" y="704520"/>
              <a:chExt cx="1661400" cy="511920"/>
            </a:xfrm>
          </p:grpSpPr>
          <p:sp>
            <p:nvSpPr>
              <p:cNvPr id="67" name=""/>
              <p:cNvSpPr/>
              <p:nvPr/>
            </p:nvSpPr>
            <p:spPr>
              <a:xfrm>
                <a:off x="7870680" y="807840"/>
                <a:ext cx="392400" cy="372960"/>
              </a:xfrm>
              <a:custGeom>
                <a:avLst/>
                <a:gdLst/>
                <a:ahLst/>
                <a:rect l="l" t="t" r="r" b="b"/>
                <a:pathLst>
                  <a:path w="179" h="159">
                    <a:moveTo>
                      <a:pt x="36" y="0"/>
                    </a:moveTo>
                    <a:lnTo>
                      <a:pt x="82" y="0"/>
                    </a:lnTo>
                    <a:lnTo>
                      <a:pt x="74" y="53"/>
                    </a:lnTo>
                    <a:lnTo>
                      <a:pt x="120" y="53"/>
                    </a:lnTo>
                    <a:lnTo>
                      <a:pt x="133" y="0"/>
                    </a:lnTo>
                    <a:lnTo>
                      <a:pt x="179" y="0"/>
                    </a:lnTo>
                    <a:lnTo>
                      <a:pt x="149" y="159"/>
                    </a:lnTo>
                    <a:lnTo>
                      <a:pt x="97" y="159"/>
                    </a:lnTo>
                    <a:lnTo>
                      <a:pt x="112" y="95"/>
                    </a:lnTo>
                    <a:lnTo>
                      <a:pt x="66" y="95"/>
                    </a:lnTo>
                    <a:lnTo>
                      <a:pt x="53" y="159"/>
                    </a:lnTo>
                    <a:lnTo>
                      <a:pt x="0" y="159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46600" y="704520"/>
                <a:ext cx="457200" cy="476280"/>
              </a:xfrm>
              <a:custGeom>
                <a:avLst/>
                <a:gdLst/>
                <a:ahLst/>
                <a:rect l="l" t="t" r="r" b="b"/>
                <a:pathLst>
                  <a:path w="209" h="203">
                    <a:moveTo>
                      <a:pt x="143" y="27"/>
                    </a:moveTo>
                    <a:lnTo>
                      <a:pt x="124" y="109"/>
                    </a:lnTo>
                    <a:lnTo>
                      <a:pt x="33" y="109"/>
                    </a:lnTo>
                    <a:lnTo>
                      <a:pt x="20" y="132"/>
                    </a:lnTo>
                    <a:lnTo>
                      <a:pt x="119" y="132"/>
                    </a:lnTo>
                    <a:lnTo>
                      <a:pt x="117" y="140"/>
                    </a:lnTo>
                    <a:lnTo>
                      <a:pt x="14" y="140"/>
                    </a:lnTo>
                    <a:lnTo>
                      <a:pt x="0" y="166"/>
                    </a:lnTo>
                    <a:lnTo>
                      <a:pt x="112" y="166"/>
                    </a:lnTo>
                    <a:lnTo>
                      <a:pt x="104" y="203"/>
                    </a:lnTo>
                    <a:lnTo>
                      <a:pt x="167" y="203"/>
                    </a:lnTo>
                    <a:lnTo>
                      <a:pt x="209" y="0"/>
                    </a:lnTo>
                    <a:lnTo>
                      <a:pt x="96" y="0"/>
                    </a:lnTo>
                    <a:lnTo>
                      <a:pt x="89" y="13"/>
                    </a:lnTo>
                    <a:lnTo>
                      <a:pt x="146" y="13"/>
                    </a:lnTo>
                    <a:lnTo>
                      <a:pt x="143" y="27"/>
                    </a:lnTo>
                    <a:lnTo>
                      <a:pt x="81" y="27"/>
                    </a:lnTo>
                    <a:lnTo>
                      <a:pt x="73" y="40"/>
                    </a:lnTo>
                    <a:lnTo>
                      <a:pt x="135" y="39"/>
                    </a:lnTo>
                    <a:lnTo>
                      <a:pt x="143" y="27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567200" y="833040"/>
                <a:ext cx="164160" cy="33840"/>
              </a:xfrm>
              <a:custGeom>
                <a:avLst/>
                <a:gdLst/>
                <a:ahLst/>
                <a:rect l="l" t="t" r="r" b="b"/>
                <a:pathLst>
                  <a:path w="75" h="14">
                    <a:moveTo>
                      <a:pt x="9" y="0"/>
                    </a:moveTo>
                    <a:lnTo>
                      <a:pt x="0" y="14"/>
                    </a:lnTo>
                    <a:lnTo>
                      <a:pt x="66" y="14"/>
                    </a:lnTo>
                    <a:lnTo>
                      <a:pt x="75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529040" y="892800"/>
                <a:ext cx="169200" cy="47160"/>
              </a:xfrm>
              <a:custGeom>
                <a:avLst/>
                <a:gdLst/>
                <a:ahLst/>
                <a:rect l="l" t="t" r="r" b="b"/>
                <a:pathLst>
                  <a:path w="78" h="20">
                    <a:moveTo>
                      <a:pt x="13" y="0"/>
                    </a:moveTo>
                    <a:lnTo>
                      <a:pt x="0" y="20"/>
                    </a:lnTo>
                    <a:lnTo>
                      <a:pt x="66" y="20"/>
                    </a:lnTo>
                    <a:lnTo>
                      <a:pt x="78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96200" y="1113120"/>
                <a:ext cx="181800" cy="72360"/>
              </a:xfrm>
              <a:custGeom>
                <a:avLst/>
                <a:gdLst/>
                <a:ahLst/>
                <a:rect l="l" t="t" r="r" b="b"/>
                <a:pathLst>
                  <a:path w="83" h="31">
                    <a:moveTo>
                      <a:pt x="18" y="0"/>
                    </a:moveTo>
                    <a:lnTo>
                      <a:pt x="0" y="31"/>
                    </a:lnTo>
                    <a:lnTo>
                      <a:pt x="68" y="30"/>
                    </a:lnTo>
                    <a:lnTo>
                      <a:pt x="83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253720" y="807840"/>
                <a:ext cx="366840" cy="376200"/>
              </a:xfrm>
              <a:custGeom>
                <a:avLst/>
                <a:gdLst/>
                <a:ahLst/>
                <a:rect l="l" t="t" r="r" b="b"/>
                <a:pathLst>
                  <a:path w="167" h="160">
                    <a:moveTo>
                      <a:pt x="102" y="160"/>
                    </a:moveTo>
                    <a:cubicBezTo>
                      <a:pt x="100" y="155"/>
                      <a:pt x="98" y="149"/>
                      <a:pt x="98" y="142"/>
                    </a:cubicBezTo>
                    <a:cubicBezTo>
                      <a:pt x="98" y="134"/>
                      <a:pt x="106" y="103"/>
                      <a:pt x="89" y="104"/>
                    </a:cubicBezTo>
                    <a:lnTo>
                      <a:pt x="62" y="104"/>
                    </a:lnTo>
                    <a:lnTo>
                      <a:pt x="50" y="160"/>
                    </a:lnTo>
                    <a:lnTo>
                      <a:pt x="0" y="160"/>
                    </a:lnTo>
                    <a:lnTo>
                      <a:pt x="32" y="0"/>
                    </a:lnTo>
                    <a:lnTo>
                      <a:pt x="119" y="0"/>
                    </a:lnTo>
                    <a:cubicBezTo>
                      <a:pt x="153" y="0"/>
                      <a:pt x="167" y="18"/>
                      <a:pt x="167" y="39"/>
                    </a:cubicBezTo>
                    <a:cubicBezTo>
                      <a:pt x="167" y="59"/>
                      <a:pt x="160" y="76"/>
                      <a:pt x="139" y="84"/>
                    </a:cubicBezTo>
                    <a:cubicBezTo>
                      <a:pt x="155" y="83"/>
                      <a:pt x="148" y="133"/>
                      <a:pt x="148" y="141"/>
                    </a:cubicBezTo>
                    <a:cubicBezTo>
                      <a:pt x="148" y="149"/>
                      <a:pt x="149" y="155"/>
                      <a:pt x="152" y="160"/>
                    </a:cubicBezTo>
                    <a:lnTo>
                      <a:pt x="102" y="160"/>
                    </a:lnTo>
                    <a:moveTo>
                      <a:pt x="97" y="69"/>
                    </a:moveTo>
                    <a:cubicBezTo>
                      <a:pt x="106" y="69"/>
                      <a:pt x="111" y="60"/>
                      <a:pt x="113" y="54"/>
                    </a:cubicBezTo>
                    <a:cubicBezTo>
                      <a:pt x="114" y="49"/>
                      <a:pt x="113" y="39"/>
                      <a:pt x="100" y="39"/>
                    </a:cubicBezTo>
                    <a:cubicBezTo>
                      <a:pt x="91" y="39"/>
                      <a:pt x="76" y="39"/>
                      <a:pt x="76" y="39"/>
                    </a:cubicBezTo>
                    <a:lnTo>
                      <a:pt x="70" y="69"/>
                    </a:lnTo>
                    <a:cubicBezTo>
                      <a:pt x="70" y="69"/>
                      <a:pt x="88" y="69"/>
                      <a:pt x="97" y="69"/>
                    </a:cubicBez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85440" y="1023120"/>
                <a:ext cx="272160" cy="193320"/>
              </a:xfrm>
              <a:custGeom>
                <a:avLst/>
                <a:gdLst/>
                <a:ahLst/>
                <a:rect l="l" t="t" r="r" b="b"/>
                <a:pathLst>
                  <a:path w="124" h="82">
                    <a:moveTo>
                      <a:pt x="0" y="0"/>
                    </a:moveTo>
                    <a:cubicBezTo>
                      <a:pt x="3" y="8"/>
                      <a:pt x="57" y="66"/>
                      <a:pt x="67" y="82"/>
                    </a:cubicBezTo>
                    <a:cubicBezTo>
                      <a:pt x="92" y="82"/>
                      <a:pt x="124" y="82"/>
                      <a:pt x="124" y="82"/>
                    </a:cubicBezTo>
                    <a:cubicBezTo>
                      <a:pt x="124" y="82"/>
                      <a:pt x="55" y="7"/>
                      <a:pt x="48" y="0"/>
                    </a:cubicBezTo>
                    <a:cubicBezTo>
                      <a:pt x="37" y="0"/>
                      <a:pt x="0" y="0"/>
                      <a:pt x="0" y="0"/>
                    </a:cubicBez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606880" y="782280"/>
                <a:ext cx="417600" cy="421920"/>
              </a:xfrm>
              <a:custGeom>
                <a:avLst/>
                <a:gdLst/>
                <a:ahLst/>
                <a:rect l="l" t="t" r="r" b="b"/>
                <a:pathLst>
                  <a:path w="191" h="180">
                    <a:moveTo>
                      <a:pt x="89" y="130"/>
                    </a:moveTo>
                    <a:cubicBezTo>
                      <a:pt x="82" y="130"/>
                      <a:pt x="77" y="130"/>
                      <a:pt x="70" y="125"/>
                    </a:cubicBezTo>
                    <a:cubicBezTo>
                      <a:pt x="53" y="115"/>
                      <a:pt x="51" y="93"/>
                      <a:pt x="63" y="74"/>
                    </a:cubicBezTo>
                    <a:cubicBezTo>
                      <a:pt x="75" y="55"/>
                      <a:pt x="96" y="49"/>
                      <a:pt x="113" y="60"/>
                    </a:cubicBezTo>
                    <a:cubicBezTo>
                      <a:pt x="120" y="65"/>
                      <a:pt x="131" y="73"/>
                      <a:pt x="130" y="89"/>
                    </a:cubicBezTo>
                    <a:lnTo>
                      <a:pt x="166" y="125"/>
                    </a:lnTo>
                    <a:cubicBezTo>
                      <a:pt x="191" y="75"/>
                      <a:pt x="170" y="38"/>
                      <a:pt x="135" y="20"/>
                    </a:cubicBezTo>
                    <a:cubicBezTo>
                      <a:pt x="98" y="0"/>
                      <a:pt x="49" y="13"/>
                      <a:pt x="25" y="53"/>
                    </a:cubicBezTo>
                    <a:cubicBezTo>
                      <a:pt x="0" y="93"/>
                      <a:pt x="9" y="143"/>
                      <a:pt x="45" y="165"/>
                    </a:cubicBezTo>
                    <a:cubicBezTo>
                      <a:pt x="70" y="180"/>
                      <a:pt x="91" y="175"/>
                      <a:pt x="117" y="167"/>
                    </a:cubicBezTo>
                    <a:lnTo>
                      <a:pt x="89" y="13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" name=""/>
          <p:cNvGrpSpPr/>
          <p:nvPr/>
        </p:nvGrpSpPr>
        <p:grpSpPr>
          <a:xfrm>
            <a:off x="0" y="3714840"/>
            <a:ext cx="8386560" cy="19080"/>
            <a:chOff x="0" y="3714840"/>
            <a:chExt cx="8386560" cy="19080"/>
          </a:xfrm>
        </p:grpSpPr>
        <p:sp>
          <p:nvSpPr>
            <p:cNvPr id="76" name=""/>
            <p:cNvSpPr/>
            <p:nvPr/>
          </p:nvSpPr>
          <p:spPr>
            <a:xfrm>
              <a:off x="5760" y="3733920"/>
              <a:ext cx="83808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3714840"/>
              <a:ext cx="83808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1600200" cy="16333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79880" y="1604520"/>
            <a:ext cx="86407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6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09320"/>
            <a:ext cx="8178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General PSO Updat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143000" y="4038120"/>
            <a:ext cx="73152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HRQ Annual Conference 200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y Helwig, MD, 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iam B Munier, MD, 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ry Pat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 September 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20600" y="343080"/>
            <a:ext cx="70326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gulations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1600200"/>
            <a:ext cx="167940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HH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Completes Draf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Regul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89040" y="2438280"/>
            <a:ext cx="16797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OM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Review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29080" y="3276720"/>
            <a:ext cx="167940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NPR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Publish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47960" y="4191120"/>
            <a:ext cx="168120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Comments Accep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HHS Revi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48200" y="5105520"/>
            <a:ext cx="1681200" cy="60948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OMB Review</a:t>
            </a:r>
            <a:r>
              <a:rPr b="0" lang="en-US" sz="1400" spc="-1" strike="noStrike">
                <a:solidFill>
                  <a:srgbClr val="00279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(of revision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29440" y="5943600"/>
            <a:ext cx="167940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Final Rul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Publish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8" name=""/>
          <p:cNvCxnSpPr/>
          <p:nvPr/>
        </p:nvCxnSpPr>
        <p:spPr>
          <a:xfrm>
            <a:off x="2944800" y="3962520"/>
            <a:ext cx="381600" cy="305280"/>
          </a:xfrm>
          <a:prstGeom prst="bentConnector3">
            <a:avLst>
              <a:gd name="adj1" fmla="val 49952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/>
          <p:nvPr/>
        </p:nvCxnSpPr>
        <p:spPr>
          <a:xfrm>
            <a:off x="887400" y="2285640"/>
            <a:ext cx="381600" cy="305640"/>
          </a:xfrm>
          <a:prstGeom prst="bentConnector3">
            <a:avLst>
              <a:gd name="adj1" fmla="val 49952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0" name=""/>
          <p:cNvCxnSpPr/>
          <p:nvPr/>
        </p:nvCxnSpPr>
        <p:spPr>
          <a:xfrm>
            <a:off x="1953720" y="3123720"/>
            <a:ext cx="381960" cy="30564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1" name=""/>
          <p:cNvCxnSpPr/>
          <p:nvPr/>
        </p:nvCxnSpPr>
        <p:spPr>
          <a:xfrm>
            <a:off x="3935520" y="4876920"/>
            <a:ext cx="381600" cy="305280"/>
          </a:xfrm>
          <a:prstGeom prst="bentConnector3">
            <a:avLst>
              <a:gd name="adj1" fmla="val 49952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/>
          <p:nvPr/>
        </p:nvCxnSpPr>
        <p:spPr>
          <a:xfrm>
            <a:off x="5154120" y="5714640"/>
            <a:ext cx="381960" cy="30564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153" name=""/>
          <p:cNvGrpSpPr/>
          <p:nvPr/>
        </p:nvGrpSpPr>
        <p:grpSpPr>
          <a:xfrm>
            <a:off x="2361960" y="1600200"/>
            <a:ext cx="2089080" cy="456840"/>
            <a:chOff x="2361960" y="1600200"/>
            <a:chExt cx="2089080" cy="456840"/>
          </a:xfrm>
        </p:grpSpPr>
        <p:sp>
          <p:nvSpPr>
            <p:cNvPr id="154" name=""/>
            <p:cNvSpPr/>
            <p:nvPr/>
          </p:nvSpPr>
          <p:spPr>
            <a:xfrm flipH="1">
              <a:off x="2361960" y="2057040"/>
              <a:ext cx="20890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36480" y="1600200"/>
              <a:ext cx="201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200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5987880" y="4495680"/>
            <a:ext cx="2089440" cy="456840"/>
            <a:chOff x="5987880" y="4495680"/>
            <a:chExt cx="2089440" cy="456840"/>
          </a:xfrm>
        </p:grpSpPr>
        <p:sp>
          <p:nvSpPr>
            <p:cNvPr id="157" name=""/>
            <p:cNvSpPr/>
            <p:nvPr/>
          </p:nvSpPr>
          <p:spPr>
            <a:xfrm flipH="1">
              <a:off x="5987880" y="4952520"/>
              <a:ext cx="2089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62040" y="4495680"/>
              <a:ext cx="20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200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95200" y="2717640"/>
            <a:ext cx="896328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atient Safety Organization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(PSOs)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o Can be a PSO?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1000"/>
          </a:bodyPr>
          <a:p>
            <a:pPr marL="283680" indent="-2836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gible organiza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95440" indent="-2419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public or private entity / compon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95440" indent="-2419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for-profit or not-for-profit / compon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3680" indent="-2836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eligible organiza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95440" indent="-2419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ute prohibits health insurance issuer or component of health insurance issu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95440" indent="-2419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PRM proposes prohibiting any public or private entity that regulates provi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78400" indent="-2131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, The Joint Commi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otential PSO Sponso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5000"/>
          </a:bodyPr>
          <a:p>
            <a:pPr marL="302040" indent="-302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pital associ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2040" indent="-302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pital ch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2040" indent="-302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al socie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2040" indent="-302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ty socie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2040" indent="-302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 pract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2040" indent="-302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ly-created organiz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2040" indent="-302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SO Activit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39360" y="1676160"/>
            <a:ext cx="824076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353160" indent="-3531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, analyze patient safety (PS)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3160" indent="-3531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ist providers to improve quality &amp;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3160" indent="-3531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&amp; disseminate PS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3160" indent="-3531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e culture of safety &amp; minimize patient r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3160" indent="-3531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feedback to particip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3160" indent="-3531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tain confidentiality &amp; security of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95200" y="2717640"/>
            <a:ext cx="8963280" cy="19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of Patient Safety Databa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(NPSD)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PS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334800" indent="-334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benchmarks &amp; baselines for measu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eminates results, best pract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ucts analyses for the National Healthcare Quality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s a web-based evidence-based management resource to support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technical assistance as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mmon Forma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5000"/>
          </a:bodyPr>
          <a:p>
            <a:pPr marL="302040" indent="-302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Os will collect, aggregate, &amp; analyze information on quality &amp; safety of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2040" indent="-302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te authorizes collection of this information in a standardized man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2040" indent="-302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Formats are now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4320" indent="-257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aggregation of comparable data at local, PSO, &amp; national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4320" indent="-257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e the exchange of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4320" indent="-257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lie the ability to compare &amp;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7464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mon Formats can provide a common language for patient safety reporting across the n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mmon Formats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evelopment Cyc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5000"/>
          </a:bodyPr>
          <a:p>
            <a:pPr marL="255600" indent="-255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s will not be subject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36760" indent="-2181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deral regulatory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36760" indent="-2181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QF formal consensus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5600" indent="-255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s w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36760" indent="-2181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updated annually as guid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36760" indent="-2181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tight version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5600" indent="-255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s 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36760" indent="-2181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ly limited to the hospital se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36760" indent="-2181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ned for additional set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12"/>
          <p:cNvSpPr/>
          <p:nvPr/>
        </p:nvSpPr>
        <p:spPr>
          <a:xfrm>
            <a:off x="6961320" y="6245280"/>
            <a:ext cx="2400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947B-AE51-4461-95CC-44B46301E14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esentation Organiz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derator – Amy Helwi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O Status – Bill Mun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O Operations – Larry Pat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12"/>
          <p:cNvSpPr/>
          <p:nvPr/>
        </p:nvSpPr>
        <p:spPr>
          <a:xfrm>
            <a:off x="6961320" y="6245280"/>
            <a:ext cx="2400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B13C-A7D3-4E51-89E0-45811CEF2CD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esentation Organiz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rator – Amy Helwi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O Status – Bill Mun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SO Operations – Larry Pat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12"/>
          <p:cNvSpPr/>
          <p:nvPr/>
        </p:nvSpPr>
        <p:spPr>
          <a:xfrm>
            <a:off x="6961320" y="6245280"/>
            <a:ext cx="2400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CE23-79AE-43B6-83B5-954DA38B084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SOs: The 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353160" indent="-3531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rs are NOT required to work with P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54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53160" indent="-3531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rs are NOT required to enter contracts with PSOs to obtain protections (but note HIPAA Privacy Rule requires business associate agreement if provider is a “covered entity” and shares PHI with a PS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54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53160" indent="-3531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le AHRQ will list PSOs for the Secretary, PSOs will not receive funding from AHRQ; AHRQ will provide technical assi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54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53160" indent="-3531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RQ’s regulatory authority only extends to PSOs; AHRQ will not regulate providers that work with P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12"/>
          <p:cNvSpPr/>
          <p:nvPr/>
        </p:nvSpPr>
        <p:spPr>
          <a:xfrm>
            <a:off x="6961320" y="6245280"/>
            <a:ext cx="2400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FAD8-B2BD-4B11-983C-C271DA62B29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SOs: AHRQ Approach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344160" indent="-3441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amlined process of simple attestation;  spot checks to ensure compliance with requirements and entities are subject to penalties for false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1904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4160" indent="-3441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ct marketplace will assess worth of a PSO;   Proposed rule emphasizes transparency / disclosure to enable providers to make those deci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1904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4160" indent="-3441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osed rule emphasizes technical assistance and a non-adversarial approach whenever possible to promoting compliance by PSOs with the criteria they must meet;   but if a PSO fails to correct deficiencies, the NPRM gives AHRQ the authority to take 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ubpart B: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SO Portion of the Ru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432720" indent="-4327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102  -  Process and Requirements for Initia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and Continued Li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104  -  Secretarial 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106  -  Security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108  -  Correction of Deficiencies, Revocation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and Voluntary Relinquish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110  -  Assessment of PSO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112  -  Submissions and Form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SOs: Listing Requir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marL="316080"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5 Statutory Requiremen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79200" indent="0">
              <a:lnSpc>
                <a:spcPct val="90000"/>
              </a:lnSpc>
              <a:spcAft>
                <a:spcPts val="3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90000"/>
              </a:lnSpc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 Patient Safety Activities (PSA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90000"/>
              </a:lnSpc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 Criter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90000"/>
              </a:lnSpc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 listing – policies &amp; procedures in place to perform 8 PSAs and will meet 7 criteria upon li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90000"/>
              </a:lnSpc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king continued listing – are performing/will continue to perform all 8 PSAs and complying with/will continue to comply with 7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6080" indent="0">
              <a:lnSpc>
                <a:spcPct val="90000"/>
              </a:lnSpc>
              <a:spcBef>
                <a:spcPts val="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8 Statutory Requirements for Component P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90000"/>
              </a:lnSpc>
              <a:spcBef>
                <a:spcPts val="74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additional requirements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SOs: Remaining a PSO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3000" indent="-4230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ing is for 3-year renewable peri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3000" indent="-4230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statute includes a requirement that every 24 months a PSO must demonstrate that it has bona fide contracts with more than 1 provid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3000" indent="-4230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ed rule would require 2 contracts to meet that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12"/>
          <p:cNvSpPr/>
          <p:nvPr/>
        </p:nvSpPr>
        <p:spPr>
          <a:xfrm>
            <a:off x="6961320" y="6245280"/>
            <a:ext cx="2400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07DF-3895-476C-9D99-734595146916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fidential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344160" indent="-34416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statute provides federal confidentiality and privilege protections to patient safety work product (PSWP) and specifies when disclosures are permit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319040" indent="0">
              <a:lnSpc>
                <a:spcPct val="90000"/>
              </a:lnSpc>
              <a:spcBef>
                <a:spcPts val="425"/>
              </a:spcBef>
              <a:spcAft>
                <a:spcPts val="425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4160" indent="-34416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fidentiality and privilege protections continue after disclosure, with limited excep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319040" indent="0">
              <a:lnSpc>
                <a:spcPct val="90000"/>
              </a:lnSpc>
              <a:spcBef>
                <a:spcPts val="425"/>
              </a:spcBef>
              <a:spcAft>
                <a:spcPts val="425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4160" indent="-34416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SWP may contain protected health information (PHI) requiring covered providers to also comply with the HIPAA Privacy Rule requirem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12"/>
          <p:cNvSpPr/>
          <p:nvPr/>
        </p:nvSpPr>
        <p:spPr>
          <a:xfrm>
            <a:off x="6961320" y="6245280"/>
            <a:ext cx="2400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E772-EB24-4A34-864E-2D46322B4C2B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tient Safety Work Produc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487440" indent="-4874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SWP is any dat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29440" indent="-36576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veloped by a provider and reported to a PS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29440" indent="-36576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veloped by a PSO for the conduct of patient safety activities, 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29440" indent="-36576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at identifies or constitutes deliberations of or the fact of reporting pursuant to a patient safety evaluation syst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iginal provider records (e.g., medical, billing) are not PSW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identifiable PSWP is not confidential or privile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12"/>
          <p:cNvSpPr/>
          <p:nvPr/>
        </p:nvSpPr>
        <p:spPr>
          <a:xfrm>
            <a:off x="6961320" y="6245280"/>
            <a:ext cx="2400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2CFB-D513-4AA5-9868-94D0137AB61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343080"/>
            <a:ext cx="78328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fidentiality Protections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mplications for Provide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357840" indent="-357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Patient Safety Act’s confidentiality protections have the potential to significantly expand provider-based patient safety initiativ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40162320" indent="0">
              <a:lnSpc>
                <a:spcPct val="90000"/>
              </a:lnSpc>
              <a:spcBef>
                <a:spcPts val="425"/>
              </a:spcBef>
              <a:spcAft>
                <a:spcPts val="425"/>
              </a:spcAft>
              <a:buNone/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proposed rule does NOT impose specific requirements on providers; within the framework of rule, providers have great flexibility on how to operate and develop systems to meet their nee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40162320" indent="0">
              <a:lnSpc>
                <a:spcPct val="90000"/>
              </a:lnSpc>
              <a:spcBef>
                <a:spcPts val="425"/>
              </a:spcBef>
              <a:spcAft>
                <a:spcPts val="425"/>
              </a:spcAft>
              <a:buNone/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t there are a number of issues that providers need to consid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fidentiality: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Implications for Provid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306720" indent="-306720">
              <a:lnSpc>
                <a:spcPct val="90000"/>
              </a:lnSpc>
              <a:spcBef>
                <a:spcPts val="675"/>
              </a:spcBef>
              <a:spcAft>
                <a:spcPts val="1012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xternal Reporting – Statute does not relieve a provider of obligations under other laws or regulations that require external reporting of information; those requirements must be met with information that is NOT protected (not PSWP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06720" indent="-306720">
              <a:lnSpc>
                <a:spcPct val="90000"/>
              </a:lnSpc>
              <a:spcBef>
                <a:spcPts val="675"/>
              </a:spcBef>
              <a:spcAft>
                <a:spcPts val="1012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ternal Use of PSWP within the legal entity of a provider is NOT a disclosure but consider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44040" indent="-26172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y holder of PSWP can make disclosur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44040" indent="-26172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Intersection with credentialing or disciplinary action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44040" indent="-26172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If provider is covered entity, disclosures must meet HIPAA and Patient Safety Act requirement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verview of PSO Sess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39340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6000"/>
          </a:bodyPr>
          <a:p>
            <a:pPr marL="260280" indent="-26028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n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6480" indent="-222120">
              <a:lnSpc>
                <a:spcPct val="90000"/>
              </a:lnSpc>
              <a:spcBef>
                <a:spcPts val="349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Formats Worksh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280" indent="-26028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6480" indent="-222120">
              <a:lnSpc>
                <a:spcPct val="90000"/>
              </a:lnSpc>
              <a:spcBef>
                <a:spcPts val="349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identiality, PSWP, &amp; the P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6480" indent="-222120">
              <a:lnSpc>
                <a:spcPct val="90000"/>
              </a:lnSpc>
              <a:spcBef>
                <a:spcPts val="349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eneral PSO 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06400" indent="-195480">
              <a:lnSpc>
                <a:spcPct val="90000"/>
              </a:lnSpc>
              <a:spcBef>
                <a:spcPts val="24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SO Sta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06400" indent="-195480">
              <a:lnSpc>
                <a:spcPct val="90000"/>
              </a:lnSpc>
              <a:spcBef>
                <a:spcPts val="24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SO Ope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0280" indent="-2602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es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6480" indent="-222120">
              <a:lnSpc>
                <a:spcPct val="90000"/>
              </a:lnSpc>
              <a:spcBef>
                <a:spcPts val="3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 am – Common Format Mini I – Brookside A &amp;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6480" indent="-222120">
              <a:lnSpc>
                <a:spcPct val="90000"/>
              </a:lnSpc>
              <a:spcBef>
                <a:spcPts val="3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am – Common Fmt Mini II – Middlebr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6480" indent="-222120">
              <a:lnSpc>
                <a:spcPct val="90000"/>
              </a:lnSpc>
              <a:spcBef>
                <a:spcPts val="3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pm – Common Fmt Mini III – Brookside A &amp;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278240" y="3124080"/>
            <a:ext cx="41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Your questio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838080" y="2608200"/>
            <a:ext cx="2819520" cy="2565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12"/>
          <p:cNvSpPr/>
          <p:nvPr/>
        </p:nvSpPr>
        <p:spPr>
          <a:xfrm>
            <a:off x="6961320" y="6245280"/>
            <a:ext cx="2400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82DF-AE40-4261-AFA6-F1830A88512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esentation Organiz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rator – Amy Helwi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SO Status – Bill Mun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O Operations – Larry Pat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edical Errors in Histor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39760" y="2438280"/>
            <a:ext cx="80820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lvl="2" marL="109440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my opinion, physicians kill as many people as we generals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09440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0944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poleon Bonapar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944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gress?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3625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2520" indent="0">
              <a:lnSpc>
                <a:spcPct val="12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nly two “wins” we are sure of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1400" indent="-30924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val of concentrated KCl from the flo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1400" indent="-30924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tion of infusion devices to eliminate free-flow IVs in hospi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2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nnis O’Leary, CEO, J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ission – June 1,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Patient Safety and Quality Improvement Act of 2005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6404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353160" indent="-35316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s formation of PSOs to improve the quality &amp; safety of health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160" indent="-35316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RQ will administer rules for listing qualified P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160" indent="-35316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HS Office for Civil Rights will be responsible for    enforcing confidenti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521320" y="1828800"/>
            <a:ext cx="3679920" cy="365760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09120" y="1676160"/>
            <a:ext cx="83934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376560" indent="0">
              <a:lnSpc>
                <a:spcPct val="15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her than a patchwork of state-by-state protections, there will now be national uniform protections; that is, confidentiality &amp; privilege for clinicians &amp; entities performing patient safety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posed Patient Safety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gul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39360" y="1676160"/>
            <a:ext cx="824076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306720" indent="-3067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Os will provide feedback to clinicians &amp; health care organizations on improving saf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6720" indent="-3067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ct does not relieve clinicians or health care organizations from meeting reporting requirements under Federal, state, or local l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6720" indent="-30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posed rule (NPRM) was publish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6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February 1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deral Register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6720" indent="0">
              <a:lnSpc>
                <a:spcPct val="90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nt period ended April 14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6720" indent="-30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0 comments received – many 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6720" indent="0">
              <a:lnSpc>
                <a:spcPct val="90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601040" y="4724280"/>
            <a:ext cx="1757160" cy="1131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Munier/Patton/Helwig</dc:creator>
  <dc:description>Presented on 8Sep08.</dc:description>
  <dc:language>en-US</dc:language>
  <cp:lastModifiedBy>AHRQ</cp:lastModifiedBy>
  <cp:lastPrinted>2003-01-21T20:19:23Z</cp:lastPrinted>
  <dcterms:modified xsi:type="dcterms:W3CDTF">2008-09-08T13:06:10Z</dcterms:modified>
  <cp:revision>480</cp:revision>
  <dc:subject/>
  <dc:title>AHRQ Annual Meeting 2008 - General PSO Update</dc:title>
</cp:coreProperties>
</file>