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wmf" ContentType="image/x-wmf"/>
  <Override PartName="/ppt/media/image1.png" ContentType="image/png"/>
  <Override PartName="/ppt/media/image3.jpeg" ContentType="image/jpeg"/>
  <Override PartName="/ppt/media/image23.wmf" ContentType="image/x-wmf"/>
  <Override PartName="/ppt/media/image9.jpeg" ContentType="image/jpe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C7AE-8B6A-48B7-B1BF-D74F9FB8C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CancerHelp software (no audio, more text on each screen) – comprehensive info. on all cancer diagnoses, trea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info. for breast &amp; colorectal cancer, plus more on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ational Cancer Institute’s booklet titled “Radiation Therapy and You: Support for People With Canc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booklets are available from NCI (the National Cancer Institu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I is a federal agency that is part of the National Institutes of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1-800-422-6237 (1-800-4-CANCER) or visit www.cancer.go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page 59 for more inform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Advisory Board recommendation: pictures should represent the text on the screen (we will do this whenever pos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Help Orientation: instructions on how to use the “Repeat”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ound files are not included in this Powerpoint slid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kiosk: 14 gauge steel, Ability to be anchored to ground, 15” Touch Screen LCD Mon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Kiosk: newly designed for this project; patients and their family/friends can pull up chairs and view screen together; will be in a private room at each cli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on kiosks will be exported to central web-based server using cell mod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4 topics ranked high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Advisory Pane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in selection/wording of to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ed issue of limiting # topics the pt. could choose – decided on no limits; added phrase “that you would most like to discu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-centered c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ponsive to individuals’ preference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es on building a collaborative process between physician and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ysician gains an understanding of the patient’s illness experience, and the patient improves her/his knowledge and begins to better manage the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Study is primarily focused on: “Informed, activated, participatory patient and family”, although it may have indirect effects on clinicians’ communication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-alone application because not all sites have internet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y People 2010 goal: to use communication strategically to improve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new information technologies is recommended as a strateg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reps et al, 200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mproving access to health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nhancing the quality of communication in healthcare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Help-TT i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med as a web-based research application, although it will not be used on the web for this research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ized to Control vs. 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group: NCI brochures and usual clinic practice (combination of verbal and written mate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ention group: NCI brochures and usual clinic practice, plus patients will have access to CancerHel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 any time during clinic hours in a private room at each site, and can print out information to tak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patients enrolled in the Talking Touchscreen/Pantalla Parlanchina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will enroll at most of the same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3E4-ED3C-4214-A181-0FEADD92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B89-A421-4AC0-B5D2-D5501187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A31-F03D-4F0C-BEE5-9FC56716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389-1795-43EA-AA85-1D03395A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A9B-041E-4D54-8DA4-94E29E72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C07-0288-40DC-B112-A10BBC8C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C8E0-2836-4553-B01F-0E64D4D1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F12B-91EA-4B55-966C-D69A9A1F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F52F-BEE9-4867-88B5-DDDEE38F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0FC-EEE7-4C98-8702-1894F0E4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DEFA-6702-4C59-932A-81848C17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6355-0A65-4F8D-9602-62791A0F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E6AA-FB82-4CDB-B428-FC8A3EBF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0E97-6661-4DDC-8333-8E8793FF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6768-CCE1-46F1-8188-1A66ABA3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FAFE-93B8-4494-961E-D9818A2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2FEB-2274-466A-B2E9-4DF6E531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4589-05DB-4267-99EA-EC2B55C8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DFA0-1E62-4F12-BB49-176E1BDC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032-5AA8-4EE5-9015-197B6BF2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EA0-CFEB-4611-AF45-ED88CB6A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09B-29AE-4010-B13D-F7A10CF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A58-AE72-40D2-84B1-0161BA57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34C-8B90-485F-A688-8674E78B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8D4B-071A-4444-8E5F-C7EE20EF7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0280" y="15372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5200" y="1825560"/>
            <a:ext cx="83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34120" y="210960"/>
            <a:ext cx="186552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145360" cy="520560"/>
          </a:xfrm>
          <a:prstGeom prst="rect">
            <a:avLst/>
          </a:prstGeom>
          <a:gradFill rotWithShape="0">
            <a:gsLst>
              <a:gs pos="0">
                <a:srgbClr val="1b0050"/>
              </a:gs>
              <a:gs pos="100000">
                <a:srgbClr val="58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1000" y="135864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76680"/>
            <a:ext cx="9144000" cy="0"/>
          </a:xfrm>
          <a:prstGeom prst="line">
            <a:avLst/>
          </a:prstGeom>
          <a:ln w="12600">
            <a:solidFill>
              <a:srgbClr val="580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996120" y="6337440"/>
            <a:ext cx="8147160" cy="520560"/>
          </a:xfrm>
          <a:prstGeom prst="rect">
            <a:avLst/>
          </a:prstGeom>
          <a:gradFill rotWithShape="0">
            <a:gsLst>
              <a:gs pos="0">
                <a:srgbClr val="1b0050"/>
              </a:gs>
              <a:gs pos="100000">
                <a:srgbClr val="58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03880" y="5137200"/>
            <a:ext cx="2700360" cy="625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849320" y="5024520"/>
            <a:ext cx="1249560" cy="87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41360" y="5019840"/>
            <a:ext cx="1324080" cy="88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82760" y="5025960"/>
            <a:ext cx="1222560" cy="87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489560" y="5032440"/>
            <a:ext cx="1346040" cy="86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3B8E-595B-476D-B964-95E917837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0280" y="15372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65200" y="1825560"/>
            <a:ext cx="83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134120" y="210960"/>
            <a:ext cx="1865520" cy="43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134120" y="210960"/>
            <a:ext cx="186552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8145360" cy="520560"/>
          </a:xfrm>
          <a:prstGeom prst="rect">
            <a:avLst/>
          </a:prstGeom>
          <a:gradFill rotWithShape="0">
            <a:gsLst>
              <a:gs pos="0">
                <a:srgbClr val="1b0050"/>
              </a:gs>
              <a:gs pos="100000">
                <a:srgbClr val="58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1000" y="135864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576680"/>
            <a:ext cx="9144000" cy="0"/>
          </a:xfrm>
          <a:prstGeom prst="line">
            <a:avLst/>
          </a:prstGeom>
          <a:ln w="12600">
            <a:solidFill>
              <a:srgbClr val="580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996120" y="6337440"/>
            <a:ext cx="8147160" cy="520560"/>
          </a:xfrm>
          <a:prstGeom prst="rect">
            <a:avLst/>
          </a:prstGeom>
          <a:gradFill rotWithShape="0">
            <a:gsLst>
              <a:gs pos="0">
                <a:srgbClr val="1b0050"/>
              </a:gs>
              <a:gs pos="100000">
                <a:srgbClr val="58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203880" y="5137200"/>
            <a:ext cx="2700360" cy="625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849320" y="5024520"/>
            <a:ext cx="1249560" cy="87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41360" y="5019840"/>
            <a:ext cx="1324080" cy="888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82760" y="5025960"/>
            <a:ext cx="1222560" cy="874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489560" y="5032440"/>
            <a:ext cx="1346040" cy="86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7134120" y="210960"/>
            <a:ext cx="1865520" cy="43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ancer.gov/cancertopics/takingtime.pdf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file:///tmp/home/.config/libreoffice/4/user/gallery/f123.WAV" TargetMode="External"/><Relationship Id="rId4" Type="http://schemas.microsoft.com/office/2007/relationships/media" Target="file:///tmp/home/.config/libreoffice/4/user/gallery/f123.WAV" TargetMode="External"/><Relationship Id="rId5" Type="http://schemas.openxmlformats.org/officeDocument/2006/relationships/image" Target="../media/image12.png"/><Relationship Id="rId6" Type="http://schemas.openxmlformats.org/officeDocument/2006/relationships/audio" Target="file:///tmp/home/.config/libreoffice/4/user/gallery/f123a1.WAV" TargetMode="External"/><Relationship Id="rId7" Type="http://schemas.microsoft.com/office/2007/relationships/media" Target="file:///tmp/home/.config/libreoffice/4/user/gallery/f123a1.WAV" TargetMode="External"/><Relationship Id="rId8" Type="http://schemas.openxmlformats.org/officeDocument/2006/relationships/image" Target="../media/image12.png"/><Relationship Id="rId9" Type="http://schemas.openxmlformats.org/officeDocument/2006/relationships/audio" Target="file:///tmp/home/.config/libreoffice/4/user/gallery/f123a2.WAV" TargetMode="External"/><Relationship Id="rId10" Type="http://schemas.microsoft.com/office/2007/relationships/media" Target="file:///tmp/home/.config/libreoffice/4/user/gallery/f123a2.WAV" TargetMode="External"/><Relationship Id="rId11" Type="http://schemas.openxmlformats.org/officeDocument/2006/relationships/image" Target="../media/image12.png"/><Relationship Id="rId12" Type="http://schemas.openxmlformats.org/officeDocument/2006/relationships/audio" Target="file:///tmp/home/.config/libreoffice/4/user/gallery/f123a3.WAV" TargetMode="External"/><Relationship Id="rId13" Type="http://schemas.microsoft.com/office/2007/relationships/media" Target="file:///tmp/home/.config/libreoffice/4/user/gallery/f123a3.WAV" TargetMode="External"/><Relationship Id="rId14" Type="http://schemas.openxmlformats.org/officeDocument/2006/relationships/image" Target="../media/image12.png"/><Relationship Id="rId15" Type="http://schemas.openxmlformats.org/officeDocument/2006/relationships/audio" Target="file:///tmp/home/.config/libreoffice/4/user/gallery/f123a4.WAV" TargetMode="External"/><Relationship Id="rId16" Type="http://schemas.microsoft.com/office/2007/relationships/media" Target="file:///tmp/home/.config/libreoffice/4/user/gallery/f123a4.WAV" TargetMode="External"/><Relationship Id="rId17" Type="http://schemas.openxmlformats.org/officeDocument/2006/relationships/image" Target="../media/image12.png"/><Relationship Id="rId18" Type="http://schemas.openxmlformats.org/officeDocument/2006/relationships/audio" Target="file:///tmp/home/.config/libreoffice/4/user/gallery/f123a5.WAV" TargetMode="External"/><Relationship Id="rId19" Type="http://schemas.microsoft.com/office/2007/relationships/media" Target="file:///tmp/home/.config/libreoffice/4/user/gallery/f123a5.WAV" TargetMode="External"/><Relationship Id="rId20" Type="http://schemas.openxmlformats.org/officeDocument/2006/relationships/image" Target="../media/image12.png"/><Relationship Id="rId21" Type="http://schemas.openxmlformats.org/officeDocument/2006/relationships/audio" Target="file:///tmp/home/.config/libreoffice/4/user/gallery/next.WAV" TargetMode="External"/><Relationship Id="rId22" Type="http://schemas.microsoft.com/office/2007/relationships/media" Target="file:///tmp/home/.config/libreoffice/4/user/gallery/next.WAV" TargetMode="External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ncer Care Communication (C3):</a:t>
            </a:r>
            <a:br>
              <a:rPr sz="3600"/>
            </a:b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hancing patient-centered cancer care for vulnerable populations through the use of a low-literacy, multimedia IT syst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HRQ R18-HS0173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9625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A.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Preventive Medicine and Institute for Healthcare Stud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nberg School of Medicine, Northwester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of Bio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n Outcomes, Research and Education (COR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ston Northwestern 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hahn@northwestern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ancerHelp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®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tient Edu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09480" y="1146240"/>
            <a:ext cx="761544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b6"/>
                </a:solidFill>
                <a:latin typeface="Times New Roman"/>
              </a:rPr>
              <a:t>CancerHelp</a:t>
            </a:r>
            <a:r>
              <a:rPr b="0" lang="en-US" sz="3600" spc="-1" strike="noStrike" baseline="30000">
                <a:solidFill>
                  <a:srgbClr val="002bb6"/>
                </a:solidFill>
                <a:latin typeface="Times New Roman"/>
                <a:ea typeface="Times New Roman"/>
              </a:rPr>
              <a:t>®</a:t>
            </a:r>
            <a:r>
              <a:rPr b="0" lang="en-US" sz="3600" spc="-1" strike="noStrike">
                <a:solidFill>
                  <a:srgbClr val="002bb6"/>
                </a:solidFill>
                <a:latin typeface="Times New Roman"/>
                <a:ea typeface="Times New Roman"/>
              </a:rPr>
              <a:t>-Talking Touchscreen</a:t>
            </a:r>
            <a:br>
              <a:rPr sz="4000"/>
            </a:br>
            <a:r>
              <a:rPr b="0" lang="en-US" sz="4000" spc="-1" strike="noStrike">
                <a:solidFill>
                  <a:srgbClr val="002bb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Low literacy adaptation </a:t>
            </a:r>
            <a:br>
              <a:rPr sz="2800"/>
            </a:b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of CancerHelp</a:t>
            </a:r>
            <a:r>
              <a:rPr b="0" lang="en-US" sz="2800" spc="-1" strike="noStrike" baseline="30000">
                <a:solidFill>
                  <a:srgbClr val="002bb6"/>
                </a:solidFill>
                <a:latin typeface="Times New Roman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 Patient Education Softwar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to be included (mostly NCI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r Information (Breast &amp; Colorectal Canc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Treatment (Chemotherapy &amp; Radiation Therap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tion (Eating Hin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ancer P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with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ng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s to Help Y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disciplinary Advisory Board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3 medical oncologists, nurses, clinical psychologists, research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0880" y="1143000"/>
            <a:ext cx="84582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radi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ation therap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so call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otherapy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apy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ment that uses high doses of radiation to kill canc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op them from spreading. At low doses, radiation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n x-ray to see inside your body and take pictures, su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rays of your teeth or broken bones. Radiation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 treatment works in much the same way, except t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at higher d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57200"/>
            <a:ext cx="838188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s and Answers About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3962520"/>
            <a:ext cx="8458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is radi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tion therapy can b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rnal bea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en a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apy given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side your body aims radiation at cancer cells) 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en radiation is put inside your body, in or near the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s). Sometimes people get both forms of radiation thera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learn more about external beam radiation therapy, se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 To learn more about internal radiation therapy, see page 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3886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18440" cy="6856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844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9068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6600" y="0"/>
            <a:ext cx="90774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0"/>
            <a:ext cx="2293920" cy="4030560"/>
            <a:chOff x="0" y="0"/>
            <a:chExt cx="2293920" cy="403056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93920" cy="40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/>
          <p:cNvSpPr/>
          <p:nvPr/>
        </p:nvSpPr>
        <p:spPr>
          <a:xfrm>
            <a:off x="3200400" y="0"/>
            <a:ext cx="4495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w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514240" y="60948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1440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233440" y="1674720"/>
            <a:ext cx="69105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b6"/>
                </a:solidFill>
                <a:latin typeface="Times New Roman"/>
              </a:rPr>
              <a:t>Evaluation of CancerHelp</a:t>
            </a:r>
            <a:r>
              <a:rPr b="0" lang="en-US" sz="3600" spc="-1" strike="noStrike" baseline="30000">
                <a:solidFill>
                  <a:srgbClr val="002bb6"/>
                </a:solidFill>
                <a:latin typeface="Times New Roman"/>
                <a:ea typeface="Times New Roman"/>
              </a:rPr>
              <a:t>®</a:t>
            </a:r>
            <a:r>
              <a:rPr b="0" lang="en-US" sz="3600" spc="-1" strike="noStrike">
                <a:solidFill>
                  <a:srgbClr val="002bb6"/>
                </a:solidFill>
                <a:latin typeface="Times New Roman"/>
                <a:ea typeface="Times New Roman"/>
              </a:rPr>
              <a:t>-Talking Touchscreen</a:t>
            </a:r>
            <a:r>
              <a:rPr b="0" lang="en-US" sz="3600" spc="-1" strike="noStrike">
                <a:solidFill>
                  <a:srgbClr val="002bb6"/>
                </a:solidFill>
                <a:latin typeface="Times New Roman"/>
              </a:rPr>
              <a:t> (8 clinician advisors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8600" y="1461960"/>
          <a:ext cx="8763120" cy="4713480"/>
        </p:xfrm>
        <a:graphic>
          <a:graphicData uri="http://schemas.openxmlformats.org/drawingml/2006/table">
            <a:tbl>
              <a:tblPr/>
              <a:tblGrid>
                <a:gridCol w="3135240"/>
                <a:gridCol w="1125720"/>
                <a:gridCol w="1125360"/>
                <a:gridCol w="1125720"/>
                <a:gridCol w="1285920"/>
                <a:gridCol w="96516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, how easy or hard do you think it will be for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your patien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use this syste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, how much do you think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your patien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ill like using the syste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m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te a 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ittle 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tient-Provider Communication Modul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I “Taking Time” bookl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ncer.gov/cancertopics/takingtime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topics ranked in importance by Multidisciplinary Expert Advisory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about Cancer &amp; Feeling More in Contr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 p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From Your Health Care Provi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About Your Treatment Cho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More about Your Canc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ing Up: Learning about Your Cancer and Regaining Contr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in Health Ca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scribes the roles of each field &amp; how they can help; 4 pg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N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rmaci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Dietic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Work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Patient Edu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ychologi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Psychiatr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censed Counselors or Other Mental Health 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People in the Hospital (i.e., advocates, discharge workers, volunte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28600" y="1219320"/>
          <a:ext cx="8785080" cy="54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785080" cy="5457600"/>
                  </a:xfrm>
                  <a:prstGeom prst="rect">
                    <a:avLst/>
                  </a:prstGeom>
                  <a:ln w="19080">
                    <a:solidFill>
                      <a:srgbClr val="5583e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tient-Provider Communication Modul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353280" cy="50385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8600" y="5945040"/>
            <a:ext cx="8686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.1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ians, patients, relationships (clinical and social), and health services are all integral to patient-centered care. The interactions among these elements are comple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(Epstein et al, 2005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deficits in any one area can significantly decrease the quality of patient care.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[from 2007 NCI/NIH Pub. #07-6225: Patient-Centered Communication in Cancer Car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152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ptu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clips of site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encourage patients to use “Topics for Today” checklist and communication modules, especially those who would otherwise have reservations about taking initiative or a more active role in conversations with healthcar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y name is Dr. ____... This touchscreen that you are using has a lot of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information about your cancer and your treatment. It also has some information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ay help you prepare for your visit with your doctor. First, there is som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on communicating with your healthcare team…The second thing I would like to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out is the “Topics for Today” checklist. You can use this checklist to select the m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important things that you would like to talk about with your healthcar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during each visit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ory Board feed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s good. Most people would respond favorably. Makes it more personab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ysician endorsement may help to stress importan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nds very promising and user-friendl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tient-Provider Communication Module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11606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grating Two HIT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Assessment compon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ntr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vention patients: Talking Touchscreen (TT) for self-administration of 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Education compon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tervention patients only: CancerHel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ient educ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rogrammers and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-alone kiosks and tablet laptops at 3 clinical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logic to use Login I.D. to contro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rogrammer-to-programme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modems to “synch” data between kiosks, tablet laptops and central web-base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scussion and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ing Touchscreen (TT) is a practical, user-friendly method for assessment of patient-reporte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Hel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ient education program has been a valued resource since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integrating these two health information technology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mprove access to health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hance the quality of healthcar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Hel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security requirements in DHHS Automated Information Systems Security Hand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as a web-based research application designed for maximum flexibility that could be linked to an EMR system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ed under AHRQ RFA-HS-07-007, Ambulatory Safety and Quality: Enabling Patient-Centered Care through Heal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E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ancer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troger/Cook 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a Garcia, Ph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ia Muen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Lad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Cella, Ph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 Mil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Marcus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thleen Yost, Ph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ullane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Rosenbloom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e Kattezham, MP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reticos/AIMMC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Mt. Sin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el Hanrahan, MP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 Mauer, M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 Khosla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ass, 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ir Undevia, M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vin Hire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ina Kontsevaia,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Beaumont,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onica Valen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ette Garcia, 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triz Menen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ackground and Signific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lnerable populations (low literacy, racial/ethnic minorities, low incom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informed about diagnosis an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likely to be satisfied with communication with healthcar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People 2010 goal: to use communication strategically to improve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ew information technologies is recommended as a strate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reps et al, 200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mproving access to health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hancing the quality of communication in healthca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ncer Care Communication (C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Primary Aim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est whether a low-literacy-friendly multimedia information and assessment IT system used in daily clinical practice improves patient outcomes during treatment in 200 breast and colorectal cancer pati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bb6"/>
                </a:solidFill>
                <a:latin typeface="Times New Roman"/>
              </a:rPr>
              <a:t>Endpoints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isfaction with communication, knowledge of cancer and treatment, self-efficacy, adherence to treatment, health-related quality of 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Secondary Aim 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valuate relationships between patient characteristics, resources, needs, behaviors and outcomes us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havioral Model for Vulnerable Pop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Secondary Aim 2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est whether use of the multimedia IT system improves patient outcomes regarding the early post-treatment surveillance period (3 months after treat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b6"/>
                </a:solidFill>
                <a:latin typeface="Times New Roman"/>
              </a:rPr>
              <a:t>C3 Randomized Clinical Trial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I brochures, usual clinic practi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i="1" lang="en-US" sz="2800" spc="-1" strike="noStrike" u="sng">
                <a:solidFill>
                  <a:srgbClr val="002bb6"/>
                </a:solidFill>
                <a:uFillTx/>
                <a:latin typeface="Times New Roman"/>
              </a:rPr>
              <a:t>Intervention</a:t>
            </a:r>
            <a:r>
              <a:rPr b="0" i="1" lang="en-US" sz="1800" spc="-1" strike="noStrike" u="sng">
                <a:solidFill>
                  <a:srgbClr val="002bb6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NCI brochures, usual clinic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2bb6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=100)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+ CancerHelp</a:t>
            </a:r>
            <a:r>
              <a:rPr b="0" lang="en-US" sz="2800" spc="-1" strike="noStrike" baseline="30000">
                <a:solidFill>
                  <a:srgbClr val="002bb6"/>
                </a:solidFill>
                <a:latin typeface="Times New Roman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  <a:ea typeface="Times New Roman"/>
              </a:rPr>
              <a:t>-Talking Touch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vention patients will use the Talking Touchscreen to complete questionnair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seline, Month 1, Month 6/end of treatment, Month 9/post-treatment surveill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1880" cy="609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0"/>
            <a:ext cx="87631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Talking Touch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Hahn, PI: AHRQ/NCI #R01-HS103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hn EA, et al. The Talking Touchscreen: a new approach to outcomes assessment in low literacy. Psycho-Oncology 13: 86-95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hn EA, et al. The impact of literacy on health-related quality of life measurement and outcomes in cancer outpatients. Qual Life Res 16: 495-507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4800600"/>
            <a:ext cx="868680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La Pantalla Parlan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(Hahn, PI: ACS #TURSG-02-069-01-P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hn EA, et al.  Quality of life assessment for low literacy Latinos: A new multimedia program for self-administration. J Oncol Manag 12(5): 9-12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9152" t="9318" r="37922" b="13875"/>
          <a:stretch/>
        </p:blipFill>
        <p:spPr>
          <a:xfrm>
            <a:off x="1219320" y="2590920"/>
            <a:ext cx="2239920" cy="2246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2934000" cy="22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3276720"/>
            <a:ext cx="609480" cy="5331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533520" y="57150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243828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4343400" y="5715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" action="ppaction://media"/>
          </p:cNvPr>
          <p:cNvPicPr/>
          <p:nvPr>
            <a:audioFile r:link="rId15"/>
            <p:extLst>
              <p:ext uri="{DAA4B4D4-6D71-4841-9C94-3DE7FCFB9230}">
                <p14:media r:link="rId16"/>
              </p:ext>
            </p:extLst>
          </p:nvPr>
        </p:nvPicPr>
        <p:blipFill>
          <a:blip r:embed="rId17"/>
          <a:stretch>
            <a:fillRect/>
          </a:stretch>
        </p:blipFill>
        <p:spPr>
          <a:xfrm>
            <a:off x="6248520" y="5715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8153280" y="57150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media"/>
          </p:cNvPr>
          <p:cNvPicPr/>
          <p:nvPr>
            <a:audioFile r:link="rId21"/>
            <p:extLst>
              <p:ext uri="{DAA4B4D4-6D71-4841-9C94-3DE7FCFB9230}">
                <p14:media r:link="rId22"/>
              </p:ext>
            </p:extLst>
          </p:nvPr>
        </p:nvPicPr>
        <p:blipFill>
          <a:blip r:embed="rId23"/>
          <a:stretch>
            <a:fillRect/>
          </a:stretch>
        </p:blipFill>
        <p:spPr>
          <a:xfrm>
            <a:off x="6324480" y="6400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>
            <a:off x="2362320" y="63244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2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6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84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7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34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8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70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9"/>
                </p:tgtEl>
              </p:cMediaNode>
            </p:audio>
            <p:seq>
              <p:cTn id="2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944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0"/>
                </p:tgtEl>
              </p:cMediaNode>
            </p:audio>
            <p:seq>
              <p:cTn id="2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069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1"/>
                </p:tgtEl>
              </p:cMediaNode>
            </p:audio>
            <p:seq>
              <p:cTn id="3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0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2"/>
                </p:tgtEl>
              </p:cMediaNode>
            </p:audio>
            <p:seq>
              <p:cTn id="3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77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228600" y="249120"/>
          <a:ext cx="8686800" cy="6608880"/>
        </p:xfrm>
        <a:graphic>
          <a:graphicData uri="http://schemas.openxmlformats.org/drawingml/2006/table">
            <a:tbl>
              <a:tblPr/>
              <a:tblGrid>
                <a:gridCol w="1981080"/>
                <a:gridCol w="1719360"/>
                <a:gridCol w="1689120"/>
                <a:gridCol w="1608120"/>
                <a:gridCol w="1689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</a:rPr>
                        <a:t>English </a:t>
                      </a:r>
                      <a:r>
                        <a:rPr b="1" lang="en-US" sz="1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</a:rPr>
                        <a:t>(Talking Touchscre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66cc"/>
                          </a:solidFill>
                          <a:uFillTx/>
                          <a:latin typeface="Times New Roman"/>
                        </a:rPr>
                        <a:t>Spanish </a:t>
                      </a:r>
                      <a:r>
                        <a:rPr b="1" lang="en-US" sz="1400" spc="-1" strike="noStrike" u="sng">
                          <a:solidFill>
                            <a:srgbClr val="ff66cc"/>
                          </a:solidFill>
                          <a:uFillTx/>
                          <a:latin typeface="Times New Roman"/>
                        </a:rPr>
                        <a:t>(Pantalla Parlanch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ow Lit. (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21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igh Lit. (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20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Low Lit. (</a:t>
                      </a:r>
                      <a:r>
                        <a:rPr b="1" i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=20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High Lit. (</a:t>
                      </a:r>
                      <a:r>
                        <a:rPr b="1" i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=20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/Ethn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.-A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 cmpt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7543800" y="2971800"/>
            <a:ext cx="0" cy="312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rd was it for you to use the touchscreen?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066680"/>
          <a:ext cx="8504280" cy="48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50428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2590920" y="5791320"/>
            <a:ext cx="19047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R01 HS010333     (Hahn, AHRQ/N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5791320"/>
            <a:ext cx="2210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TURSG-02-069-01-PBP        (Hahn, A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57913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b6"/>
                </a:solidFill>
                <a:latin typeface="Arial"/>
              </a:rPr>
              <a:t>Odds of “very easy” for High vs. Low Lit. English = 2.9 (controlling for prior computer 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23:42Z</dcterms:created>
  <dc:creator>hahne</dc:creator>
  <dc:description/>
  <dc:language>en-US</dc:language>
  <cp:lastModifiedBy>hahne</cp:lastModifiedBy>
  <dcterms:modified xsi:type="dcterms:W3CDTF">2008-09-17T13:32:49Z</dcterms:modified>
  <cp:revision>27</cp:revision>
  <dc:subject/>
  <dc:title>Cancer Care Communication (C3):   Enhancing patient-centered cancer care for vulnerable populations through the use of a low-literacy, multimedia IT system  (AHRQ R18-HS017300)</dc:title>
</cp:coreProperties>
</file>