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962520" y="-144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4400" y="699840"/>
            <a:ext cx="46260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D1863-568A-47CA-BED8-0CD4683F1A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ECEF6-6F96-417F-9C26-404EB1BD82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02FF3-66A1-4F85-B15D-E1E57EB75A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5BA00-52BF-473D-9DDF-8B7272CDB5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DA22C-446B-4DC6-A2A3-C5EAB12733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81E02-55BF-4EB3-B2CD-1C9EB51E77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3DEE66-B61B-4CC7-91C5-85353A66188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0DA89-7AB1-4BC1-B826-3684C4B941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E92A2D-14C5-46BB-A364-6C31CD0E32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62520" y="8813880"/>
            <a:ext cx="3030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1E5593-77B7-4DD5-9E21-69F3D9F742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912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3000" y="152280"/>
            <a:ext cx="6912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AutoShape 22"/>
            <p:cNvSpPr/>
            <p:nvPr/>
          </p:nvSpPr>
          <p:spPr>
            <a:xfrm>
              <a:off x="0" y="0"/>
              <a:ext cx="9144000" cy="6858000"/>
            </a:xfrm>
            <a:prstGeom prst="bevel">
              <a:avLst>
                <a:gd name="adj" fmla="val 694"/>
              </a:avLst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23"/>
            <p:cNvSpPr/>
            <p:nvPr/>
          </p:nvSpPr>
          <p:spPr>
            <a:xfrm>
              <a:off x="76320" y="2133720"/>
              <a:ext cx="8991360" cy="464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4"/>
            <p:cNvSpPr/>
            <p:nvPr/>
          </p:nvSpPr>
          <p:spPr>
            <a:xfrm>
              <a:off x="76320" y="990720"/>
              <a:ext cx="8991360" cy="12952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76320" y="1219320"/>
              <a:ext cx="8977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6" descr="HSCbw"/>
            <p:cNvPicPr/>
            <p:nvPr/>
          </p:nvPicPr>
          <p:blipFill>
            <a:blip r:embed="rId2"/>
            <a:stretch/>
          </p:blipFill>
          <p:spPr>
            <a:xfrm>
              <a:off x="228600" y="228600"/>
              <a:ext cx="609480" cy="523800"/>
            </a:xfrm>
            <a:prstGeom prst="rect">
              <a:avLst/>
            </a:prstGeom>
            <a:ln w="60480">
              <a:solidFill>
                <a:srgbClr val="ffffff"/>
              </a:solidFill>
              <a:miter/>
            </a:ln>
          </p:spPr>
        </p:pic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14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030320" indent="-223920">
              <a:spcBef>
                <a:spcPts val="1400"/>
              </a:spcBef>
              <a:buClr>
                <a:srgbClr val="ff0000"/>
              </a:buClr>
              <a:buSzPct val="4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434960" indent="-287280"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70080" indent="-228600">
              <a:spcBef>
                <a:spcPts val="1400"/>
              </a:spcBef>
              <a:buClr>
                <a:srgbClr val="ff0066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70080" indent="-228600">
              <a:spcBef>
                <a:spcPts val="1400"/>
              </a:spcBef>
              <a:buClr>
                <a:srgbClr val="ffffff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70080" indent="-228600">
              <a:spcBef>
                <a:spcPts val="1400"/>
              </a:spcBef>
              <a:buClr>
                <a:srgbClr val="ffffff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Rectangle 29"/>
          <p:cNvSpPr/>
          <p:nvPr/>
        </p:nvSpPr>
        <p:spPr>
          <a:xfrm>
            <a:off x="40575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8" descr="NIHCMFlogo_BW"/>
          <p:cNvPicPr/>
          <p:nvPr/>
        </p:nvPicPr>
        <p:blipFill>
          <a:blip r:embed="rId3"/>
          <a:stretch/>
        </p:blipFill>
        <p:spPr>
          <a:xfrm>
            <a:off x="8153280" y="119160"/>
            <a:ext cx="84960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34"/>
          <p:cNvGrpSpPr/>
          <p:nvPr/>
        </p:nvGrpSpPr>
        <p:grpSpPr>
          <a:xfrm>
            <a:off x="0" y="0"/>
            <a:ext cx="9144000" cy="6067440"/>
            <a:chOff x="0" y="0"/>
            <a:chExt cx="9144000" cy="6067440"/>
          </a:xfrm>
        </p:grpSpPr>
        <p:sp>
          <p:nvSpPr>
            <p:cNvPr id="47" name="Rectangle 12"/>
            <p:cNvSpPr/>
            <p:nvPr/>
          </p:nvSpPr>
          <p:spPr>
            <a:xfrm>
              <a:off x="0" y="0"/>
              <a:ext cx="9144000" cy="27432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0" y="2133720"/>
              <a:ext cx="9144000" cy="2286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14" descr="HSCbw"/>
            <p:cNvPicPr/>
            <p:nvPr/>
          </p:nvPicPr>
          <p:blipFill>
            <a:blip r:embed="rId2"/>
            <a:stretch/>
          </p:blipFill>
          <p:spPr>
            <a:xfrm>
              <a:off x="380880" y="457200"/>
              <a:ext cx="1067040" cy="9144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</p:spPr>
        </p:pic>
        <p:sp>
          <p:nvSpPr>
            <p:cNvPr id="50" name="Line 15"/>
            <p:cNvSpPr/>
            <p:nvPr/>
          </p:nvSpPr>
          <p:spPr>
            <a:xfrm>
              <a:off x="914400" y="6019920"/>
              <a:ext cx="190512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6"/>
            <p:cNvSpPr/>
            <p:nvPr/>
          </p:nvSpPr>
          <p:spPr>
            <a:xfrm>
              <a:off x="914400" y="4191120"/>
              <a:ext cx="114300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7"/>
            <p:cNvSpPr/>
            <p:nvPr/>
          </p:nvSpPr>
          <p:spPr>
            <a:xfrm>
              <a:off x="914400" y="1523880"/>
              <a:ext cx="0" cy="4496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8"/>
            <p:cNvSpPr/>
            <p:nvPr/>
          </p:nvSpPr>
          <p:spPr>
            <a:xfrm>
              <a:off x="2590920" y="5958000"/>
              <a:ext cx="228600" cy="109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905120" y="4129200"/>
              <a:ext cx="228600" cy="1094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36"/>
          <p:cNvSpPr/>
          <p:nvPr/>
        </p:nvSpPr>
        <p:spPr>
          <a:xfrm>
            <a:off x="40575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5" descr="NIHCMFlogo_BW"/>
          <p:cNvPicPr/>
          <p:nvPr/>
        </p:nvPicPr>
        <p:blipFill>
          <a:blip r:embed="rId3"/>
          <a:stretch/>
        </p:blipFill>
        <p:spPr>
          <a:xfrm>
            <a:off x="380880" y="1523880"/>
            <a:ext cx="1028880" cy="1381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14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030320" indent="-223920">
              <a:spcBef>
                <a:spcPts val="1400"/>
              </a:spcBef>
              <a:buClr>
                <a:srgbClr val="ff0000"/>
              </a:buClr>
              <a:buSzPct val="40000"/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434960" indent="-287280">
              <a:spcBef>
                <a:spcPts val="1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70080" indent="-228600">
              <a:spcBef>
                <a:spcPts val="1400"/>
              </a:spcBef>
              <a:buClr>
                <a:srgbClr val="ff0066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170080" indent="-228600">
              <a:spcBef>
                <a:spcPts val="1400"/>
              </a:spcBef>
              <a:buClr>
                <a:srgbClr val="ffffff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170080" indent="-228600">
              <a:spcBef>
                <a:spcPts val="1400"/>
              </a:spcBef>
              <a:buClr>
                <a:srgbClr val="ffffff"/>
              </a:buClr>
              <a:buFont typeface="SPC Markers/Bullets"/>
              <a:buChar char=")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schange.org/CONTENT/970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391520" cy="23619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akeholder Buy-in &amp; Local Health Information Exchange Activities: Implications for Quality Reporting &amp; P4P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285640" y="32767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y Grossman, Kathryn Kushner Santoro, and Elizabeth Nove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971800" y="5303880"/>
            <a:ext cx="5832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 Annual Conference 2008, 9/9/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lity Efforts in Four HIEs (cont’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althBridge developing plans for clinical data repository to support quality reporting/P4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uld need to change data use agreements for both purpo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reSpark and TampaBay RHIO planning quality measurement to track health outcomes but not actively considering provider performance measur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136520" y="181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E Role in Quality Initiatives Challeng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keholders felt HIEs, as central data conduit, could address shortcomings of existing quality progra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bine clinical and claims data for all pati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uce administrative burd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cilitate development of common measures and get physician buy-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tract employers and plans to provide data and fun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ever, more complex/costly clinical data repository needed to aggregate patient data for quality measuremen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vider Views on HIE Role in Quality Initiativ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vider competitive concerns heightened with clinical data reposit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IHIE and HealthBridge, requires renegotiating data use agreements, etc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viders wary of health plans using data for price negotiation/network sel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erns that smaller physician practices resistant to P4P might not join H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ployer and Plan Views on HIE Role in Quality Initia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xed views about provider performance measurement/ P4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widespread interest in funding quality activ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ue access to clinical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tentially willing to pay fee for quality re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cerns about losing competitive advantage by sharing data and standardizing P4P program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ving to statewide or national IT and P4P strateg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rriers that caused CHINs to fail in 1990s still exis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ealth data treated as business assets over which health care organizations exert property right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w incentives/substantial disincentives to share data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 stakeholders consistently willing to pay for CD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IEs must balance evolving business relationships with maintaining stakeholder particip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ll “niche” data exchanges compete with or support community-wide HIE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ll HIEs be widespread enough to support quality reporting/P4P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ding Acknowledg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ject funded by AHRQ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udy report: Joy M. Grossman, Kathryn L. Kushner, Elizabeth A. November, “Creating Sustainable Local Health Information Exchanges: Can Barriers to Stakeholder Participation be Overcome?”, Research Brief No. 2, HSC and NIHCM, February 2008, </a:t>
            </a:r>
            <a:r>
              <a:rPr b="0" lang="en-US" sz="28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http://www.hschange.org/CONTENT/970/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lth Information Exchanges (HIE) Vision vs. Real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ort patient-centered comprehensive medical records for treat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everage clinical data repository (CDR) for secondary uses,  e.g. quality reporting and improvement and P4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w operational HIEs; no comprehensive CD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mited research on role of stakeholder participation in H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earch Ques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ow does stakeholder participation vary across HIE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at are the facilitators of and barriers to stakeholder participation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ow are HIEs structured to gain stakeholder participation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ow do stakeholder preferences affect the HIE role in quality initiative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litative Research Design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lected four local H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HIE and HealthBridge - Mature HIEs with active data exchange; hospital-sponsor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reSpark and Tampa Bay RHIO - Newer HIEs in planning/development stage; started by multi-stakeholder community group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76 discussions held with broad range of stakeholders, including participants and non-participants, from 2/07-8/07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sistent Concerns Across HIEs About Sharing Data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ealth care providers and health plans view patient data as key strategic asse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ar losing competitive advantage by relinquishing dat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erns about potential data mis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erns about patient privacy and secur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ffering HIE Strategies to Engage Stakehol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IHIE and HealthBridge, major hospital systems agreed to collaborate rather than compete on HIE, providing HIEs with critical mass of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spitals willing to pay for clinical messaging, which replaces hospital results delivery to physici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IEs designed to address hospital competitive concern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ith clinical messaging, unlike clinical data repository, providers retain control of da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gal agreements limit data use, e.g. provider performance measurement not permitt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vernance structure allows hospitals to control any changes to HI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er HIEs Struggle with Broader Coali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reSpark and Tampa Bay RHIO had plans to develop clinical data repository that aggregates patient dat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critical mass of stakeholders willing to provide data or fund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ruggling to identify initial services and financing models that stakeholders will suppor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nimal Role for Employers and Health Plans Across H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ployers are catalysts but few provide financial suppor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nical messaging viewed as provider business co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alth plans have reduced participation over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ocal plan mergers with national compan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cerns about loss of competitive advantage and data misu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velopment of potentially competing data-sharing produc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6912000" cy="990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ality Efforts in Four HIE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HIE rolling out Quality Health First (QHF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ticipants include Anthem and local plans, others in discussion; Medicare/Medicai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bining claims with some clinical data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art with PCPs, add specialists, hospital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hysician and patient reports go to physicians and pla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30320" indent="-223920">
              <a:spcBef>
                <a:spcPts val="601"/>
              </a:spcBef>
              <a:buClr>
                <a:srgbClr val="ff0000"/>
              </a:buClr>
              <a:buSzPct val="40000"/>
              <a:buFont typeface="Marlett" charset="2"/>
              <a:buChar char="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d data use agreements to allow comparison of physicians but can’t be made publi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35080">
              <a:spcBef>
                <a:spcPts val="601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ans pay PMPM fees; start-up grants from other 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20:16:20Z</dcterms:created>
  <dc:creator>Joy Grossman, Kathryn Kushner Santoro, and Elizabeth November</dc:creator>
  <dc:description/>
  <cp:keywords>health information exchange quality reporting health care competition</cp:keywords>
  <dc:language>en-US</dc:language>
  <cp:lastModifiedBy>1_Mary</cp:lastModifiedBy>
  <cp:lastPrinted>2008-06-09T17:48:28Z</cp:lastPrinted>
  <dcterms:modified xsi:type="dcterms:W3CDTF">2009-01-01T23:53:34Z</dcterms:modified>
  <cp:revision>149</cp:revision>
  <dc:subject/>
  <dc:title>Stakeholder Buy-in &amp; Local Health Information Exchange: Implications for Quality Reporting and P4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nguage">
    <vt:lpwstr>English</vt:lpwstr>
  </property>
</Properties>
</file>