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3030480" cy="46656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1"/>
          </p:nvPr>
        </p:nvSpPr>
        <p:spPr>
          <a:xfrm>
            <a:off x="3962520" y="-1440"/>
            <a:ext cx="3030480" cy="46656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84400" y="699840"/>
            <a:ext cx="462600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2"/>
          </p:nvPr>
        </p:nvSpPr>
        <p:spPr>
          <a:xfrm>
            <a:off x="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3"/>
          </p:nvPr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4A326A-E0AC-473A-92BB-B94E3A107AA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4DE74C-73C1-4E59-B504-3A56DEA0D68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8FD63F-6E95-4EE4-9440-76701D13ED9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1A220D-8A36-4B39-93B5-1EBB671E90C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352D32-EBFD-408D-B5F1-5419CCD186E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75B80A-EA80-42F4-8CD2-5E70F69E5FD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1BF649-1202-4B15-A7EB-9B81B357DA9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442111-06D1-497B-A2CD-163124D60F3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892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6DAF19-2784-431A-A67A-95444E8C404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2C0E06-CED0-4B56-8DBA-3B377E5F714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4100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300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522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4100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300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9120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14100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300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522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14100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300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9120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AutoShape 22"/>
            <p:cNvSpPr/>
            <p:nvPr/>
          </p:nvSpPr>
          <p:spPr>
            <a:xfrm>
              <a:off x="0" y="0"/>
              <a:ext cx="9144000" cy="6858000"/>
            </a:xfrm>
            <a:prstGeom prst="bevel">
              <a:avLst>
                <a:gd name="adj" fmla="val 694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23"/>
            <p:cNvSpPr/>
            <p:nvPr/>
          </p:nvSpPr>
          <p:spPr>
            <a:xfrm>
              <a:off x="76320" y="2133720"/>
              <a:ext cx="8991360" cy="464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24"/>
            <p:cNvSpPr/>
            <p:nvPr/>
          </p:nvSpPr>
          <p:spPr>
            <a:xfrm>
              <a:off x="76320" y="990720"/>
              <a:ext cx="8991360" cy="12952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76320" y="1219320"/>
              <a:ext cx="89773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" name="Picture 26" descr="HSCbw"/>
            <p:cNvPicPr/>
            <p:nvPr/>
          </p:nvPicPr>
          <p:blipFill>
            <a:blip r:embed="rId2"/>
            <a:stretch/>
          </p:blipFill>
          <p:spPr>
            <a:xfrm>
              <a:off x="228600" y="228600"/>
              <a:ext cx="609480" cy="523800"/>
            </a:xfrm>
            <a:prstGeom prst="rect">
              <a:avLst/>
            </a:prstGeom>
            <a:ln w="60480">
              <a:solidFill>
                <a:srgbClr val="ffffff"/>
              </a:solidFill>
              <a:miter/>
            </a:ln>
          </p:spPr>
        </p:pic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spcBef>
                <a:spcPts val="1400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030320" indent="-223920">
              <a:spcBef>
                <a:spcPts val="1400"/>
              </a:spcBef>
              <a:buClr>
                <a:srgbClr val="ff0000"/>
              </a:buClr>
              <a:buSzPct val="40000"/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434960" indent="-287280">
              <a:spcBef>
                <a:spcPts val="1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170080" indent="-228600">
              <a:spcBef>
                <a:spcPts val="1400"/>
              </a:spcBef>
              <a:buClr>
                <a:srgbClr val="ff0066"/>
              </a:buClr>
              <a:buFont typeface="SPC Markers/Bullets"/>
              <a:buChar char=")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170080" indent="-228600">
              <a:spcBef>
                <a:spcPts val="1400"/>
              </a:spcBef>
              <a:buClr>
                <a:srgbClr val="ffffff"/>
              </a:buClr>
              <a:buFont typeface="SPC Markers/Bullets"/>
              <a:buChar char=")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170080" indent="-228600">
              <a:spcBef>
                <a:spcPts val="1400"/>
              </a:spcBef>
              <a:buClr>
                <a:srgbClr val="ffffff"/>
              </a:buClr>
              <a:buFont typeface="SPC Markers/Bullets"/>
              <a:buChar char=")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Rectangle 29"/>
          <p:cNvSpPr/>
          <p:nvPr/>
        </p:nvSpPr>
        <p:spPr>
          <a:xfrm>
            <a:off x="405756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28" descr="NIHCMFlogo_BW"/>
          <p:cNvPicPr/>
          <p:nvPr/>
        </p:nvPicPr>
        <p:blipFill>
          <a:blip r:embed="rId3"/>
          <a:stretch/>
        </p:blipFill>
        <p:spPr>
          <a:xfrm>
            <a:off x="8153280" y="119160"/>
            <a:ext cx="849600" cy="822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34"/>
          <p:cNvGrpSpPr/>
          <p:nvPr/>
        </p:nvGrpSpPr>
        <p:grpSpPr>
          <a:xfrm>
            <a:off x="0" y="0"/>
            <a:ext cx="9144000" cy="6067440"/>
            <a:chOff x="0" y="0"/>
            <a:chExt cx="9144000" cy="6067440"/>
          </a:xfrm>
        </p:grpSpPr>
        <p:sp>
          <p:nvSpPr>
            <p:cNvPr id="47" name="Rectangle 12"/>
            <p:cNvSpPr/>
            <p:nvPr/>
          </p:nvSpPr>
          <p:spPr>
            <a:xfrm>
              <a:off x="0" y="0"/>
              <a:ext cx="9144000" cy="27432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13"/>
            <p:cNvSpPr/>
            <p:nvPr/>
          </p:nvSpPr>
          <p:spPr>
            <a:xfrm>
              <a:off x="0" y="2133720"/>
              <a:ext cx="9144000" cy="2286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Picture 14" descr="HSCbw"/>
            <p:cNvPicPr/>
            <p:nvPr/>
          </p:nvPicPr>
          <p:blipFill>
            <a:blip r:embed="rId2"/>
            <a:stretch/>
          </p:blipFill>
          <p:spPr>
            <a:xfrm>
              <a:off x="380880" y="457200"/>
              <a:ext cx="1067040" cy="91440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</p:spPr>
        </p:pic>
        <p:sp>
          <p:nvSpPr>
            <p:cNvPr id="50" name="Line 15"/>
            <p:cNvSpPr/>
            <p:nvPr/>
          </p:nvSpPr>
          <p:spPr>
            <a:xfrm>
              <a:off x="914400" y="6019920"/>
              <a:ext cx="190512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16"/>
            <p:cNvSpPr/>
            <p:nvPr/>
          </p:nvSpPr>
          <p:spPr>
            <a:xfrm>
              <a:off x="914400" y="4191120"/>
              <a:ext cx="11430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17"/>
            <p:cNvSpPr/>
            <p:nvPr/>
          </p:nvSpPr>
          <p:spPr>
            <a:xfrm>
              <a:off x="914400" y="1523880"/>
              <a:ext cx="0" cy="44960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8"/>
            <p:cNvSpPr/>
            <p:nvPr/>
          </p:nvSpPr>
          <p:spPr>
            <a:xfrm>
              <a:off x="2590920" y="5958000"/>
              <a:ext cx="228600" cy="109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9"/>
            <p:cNvSpPr/>
            <p:nvPr/>
          </p:nvSpPr>
          <p:spPr>
            <a:xfrm>
              <a:off x="1905120" y="4129200"/>
              <a:ext cx="228600" cy="1094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36"/>
          <p:cNvSpPr/>
          <p:nvPr/>
        </p:nvSpPr>
        <p:spPr>
          <a:xfrm>
            <a:off x="405756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5" descr="NIHCMFlogo_BW"/>
          <p:cNvPicPr/>
          <p:nvPr/>
        </p:nvPicPr>
        <p:blipFill>
          <a:blip r:embed="rId3"/>
          <a:stretch/>
        </p:blipFill>
        <p:spPr>
          <a:xfrm>
            <a:off x="380880" y="1523880"/>
            <a:ext cx="1028880" cy="13813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spcBef>
                <a:spcPts val="1400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030320" indent="-223920">
              <a:spcBef>
                <a:spcPts val="1400"/>
              </a:spcBef>
              <a:buClr>
                <a:srgbClr val="ff0000"/>
              </a:buClr>
              <a:buSzPct val="40000"/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434960" indent="-287280">
              <a:spcBef>
                <a:spcPts val="1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170080" indent="-228600">
              <a:spcBef>
                <a:spcPts val="1400"/>
              </a:spcBef>
              <a:buClr>
                <a:srgbClr val="ff0066"/>
              </a:buClr>
              <a:buFont typeface="SPC Markers/Bullets"/>
              <a:buChar char=")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170080" indent="-228600">
              <a:spcBef>
                <a:spcPts val="1400"/>
              </a:spcBef>
              <a:buClr>
                <a:srgbClr val="ffffff"/>
              </a:buClr>
              <a:buFont typeface="SPC Markers/Bullets"/>
              <a:buChar char=")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170080" indent="-228600">
              <a:spcBef>
                <a:spcPts val="1400"/>
              </a:spcBef>
              <a:buClr>
                <a:srgbClr val="ffffff"/>
              </a:buClr>
              <a:buFont typeface="SPC Markers/Bullets"/>
              <a:buChar char=")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hschange.org/CONTENT/970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7391520" cy="236196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akeholder Buy-in &amp; Local Health Information Exchange Activities: Implications for Quality Reporting &amp; P4P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285640" y="327672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y Grossman, Kathryn Kushner Santoro, and Elizabeth Novemb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971800" y="5303880"/>
            <a:ext cx="583236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HRQ Annual Conference 2008, 9/9/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Quality Efforts in Four HIEs (cont’d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ealthBridge developing plans for clinical data repository to support quality reporting/P4P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spcBef>
                <a:spcPts val="60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ould need to change data use agreements for both purpos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areSpark and TampaBay RHIO planning quality measurement to track health outcomes but not actively considering provider performance measurem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1136520" y="181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IE Role in Quality Initiatives Challeng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akeholders felt HIEs, as central data conduit, could address shortcomings of existing quality program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mbine clinical and claims data for all patie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duce administrative burde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acilitate development of common measures and get physician buy-i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tract employers and plans to provide data and fund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owever, more complex/costly clinical data repository needed to aggregate patient data for quality measurement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6912000" cy="990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vider Views on HIE Role in Quality Initiative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rovider competitive concerns heightened with clinical data repositor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 IHIE and HealthBridge, requires renegotiating data use agreements, etc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roviders wary of health plans using data for price negotiation/network selec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cerns that smaller physician practices resistant to P4P might not join HI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mployer and Plan Views on HIE Role in Quality Initiativ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mploy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ixed views about provider performance measurement/ P4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 widespread interest in funding quality activiti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la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alue access to clinical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otentially willing to pay fee for quality repor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cerns about losing competitive advantage by sharing data and standardizing P4P program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oving to statewide or national IT and P4P strategi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arriers that caused CHINs to fail in 1990s still exist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ealth data treated as business assets over which health care organizations exert property rights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ew incentives/substantial disincentives to share data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 stakeholders consistently willing to pay for CD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IEs must balance evolving business relationships with maintaining stakeholder participation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ill “niche” data exchanges compete with or support community-wide HIEs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ill HIEs be widespread enough to support quality reporting/P4P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6912000" cy="990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unding Acknowledge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roject funded by AHRQ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udy report: Joy M. Grossman, Kathryn L. Kushner, Elizabeth A. November, “Creating Sustainable Local Health Information Exchanges: Can Barriers to Stakeholder Participation be Overcome?”, Research Brief No. 2, HSC and NIHCM, February 2008, 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Arial"/>
                <a:hlinkClick r:id="rId1"/>
              </a:rPr>
              <a:t>http://www.hschange.org/CONTENT/970/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ealth Information Exchanges (HIE) Vision vs. Realit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Vis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spcBef>
                <a:spcPts val="60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pport patient-centered comprehensive medical records for treat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spcBef>
                <a:spcPts val="60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everage clinical data repository (CDR) for secondary uses,  e.g. quality reporting and improvement and P4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al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spcBef>
                <a:spcPts val="60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ew operational HIEs; no comprehensive CD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imited research on role of stakeholder participation in HI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search Ques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How does stakeholder participation vary across HIEs?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hat are the facilitators of and barriers to stakeholder participation?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How are HIEs structured to gain stakeholder participation?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How do stakeholder preferences affect the HIE role in quality initiatives?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Qualitative Research Design 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lected four local HI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spcBef>
                <a:spcPts val="60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HIE and HealthBridge - Mature HIEs with active data exchange; hospital-sponsor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spcBef>
                <a:spcPts val="60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reSpark and Tampa Bay RHIO - Newer HIEs in planning/development stage; started by multi-stakeholder community groups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76 discussions held with broad range of stakeholders, including participants and non-participants, from 2/07-8/07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sistent Concerns Across HIEs About Sharing Data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599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Health care providers and health plans view patient data as key strategic asset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ear losing competitive advantage by relinquishing dat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cerns about potential data misus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cerns about patient privacy and secur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ffering HIE Strategies to Engage Stakeholde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 IHIE and HealthBridge, major hospital systems agreed to collaborate rather than compete on HIE, providing HIEs with critical mass of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spitals willing to pay for clinical messaging, which replaces hospital results delivery to physicia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IEs designed to address hospital competitive concerns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spcBef>
                <a:spcPts val="499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ith clinical messaging, unlike clinical data repository, providers retain control of dat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spcBef>
                <a:spcPts val="499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egal agreements limit data use, e.g. provider performance measurement not permitted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spcBef>
                <a:spcPts val="499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overnance structure allows hospitals to control any changes to HI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er HIEs Struggle with Broader Coali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areSpark and Tampa Bay RHIO had plans to develop clinical data repository that aggregates patient dat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o critical mass of stakeholders willing to provide data or fund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ruggling to identify initial services and financing models that stakeholders will support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inimal Role for Employers and Health Plans Across H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mployers are catalysts but few provide financial support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spcBef>
                <a:spcPts val="60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nical messaging viewed as provider business cos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ealth plans have reduced participation over tim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spcBef>
                <a:spcPts val="60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ocal plan mergers with national compani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spcBef>
                <a:spcPts val="60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cerns about loss of competitive advantage and data misu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spcBef>
                <a:spcPts val="60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velopment of potentially competing data-sharing produc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6912000" cy="990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Quality Efforts in Four HIEs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HIE rolling out Quality Health First (QHF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spcBef>
                <a:spcPts val="60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rticipants include Anthem and local plans, others in discussion; Medicare/Medicai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spcBef>
                <a:spcPts val="60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mbining claims with some clinical data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spcBef>
                <a:spcPts val="60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art with PCPs, add specialists, hospital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spcBef>
                <a:spcPts val="60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hysician and patient reports go to physicians and pla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030320" indent="-223920">
              <a:spcBef>
                <a:spcPts val="601"/>
              </a:spcBef>
              <a:buClr>
                <a:srgbClr val="ff0000"/>
              </a:buClr>
              <a:buSzPct val="40000"/>
              <a:buFont typeface="Marlett" charset="2"/>
              <a:buChar char="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hanged data use agreements to allow comparison of physicians but can’t be made public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spcBef>
                <a:spcPts val="60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lans pay PMPM fees; start-up grants from other sourc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20:16:20Z</dcterms:created>
  <dc:creator>Joy Grossman, Kathryn Kushner Santoro, and Elizabeth November</dc:creator>
  <dc:description/>
  <cp:keywords>health information exchange quality reporting health care competition</cp:keywords>
  <dc:language>en-US</dc:language>
  <cp:lastModifiedBy>1_Mary</cp:lastModifiedBy>
  <cp:lastPrinted>2008-06-09T17:48:28Z</cp:lastPrinted>
  <dcterms:modified xsi:type="dcterms:W3CDTF">2009-01-01T23:53:34Z</dcterms:modified>
  <cp:revision>149</cp:revision>
  <dc:subject/>
  <dc:title>Stakeholder Buy-in &amp; Local Health Information Exchange: Implications for Quality Reporting and P4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anguage">
    <vt:lpwstr>English</vt:lpwstr>
  </property>
</Properties>
</file>