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3B4-5D8B-4E43-8306-DFB5DEF6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8EA-9381-4CFE-B229-29889348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5FE-2AD0-4984-8D40-ED1BB0F2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1BA-3B72-470F-8415-BE88ECFD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0A1-9264-40FD-8617-50DA3EAE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C44-A828-49EE-9795-92A60E5C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72E0-8F43-49BE-8FF2-2334686D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6FB-9EE4-4AA4-827A-5EA0B7ED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BD2-02CD-4793-B89F-2C4BD1A9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F29-7745-4BB1-910B-2C1B68FC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96B-F760-4B0C-92F2-D6695D1E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B5F-2447-41AC-BF9C-DE92D046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53EF-C3CA-4B31-86CA-6FF7FB133B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l Device Registries: Multiple Application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P. Gross, MD, M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sion of Postmarket Surveil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ice of Surveillance &amp; Biometr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Devices &amp; Radiological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Annual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ies for Evaluating Patient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hesda, M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9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88A-C78F-4293-8CE4-14BE782723A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ostmarket Perspectiv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arly “Real-World” Experience &amp; PAS</a:t>
            </a: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-eluting Coronary Stent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“real-world”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ites (~50), 2K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s vary by private/academic, implanting volume, geographic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s of interest: MACE, unanticipated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ptive fi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 follow-up at 1, 6, 12 mon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E6B-A083-4021-A89F-3E1CAA13A1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ostmarket Perspectiv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DA PAS &amp; CMS NC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otid Stent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otid Stents: Ini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hicle for post-approval stu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 “real-world” experience &amp; training (3 level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ites, 1K patients, 30-day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judicated neurological 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otid Stents: Ex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and under CMS cover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lore risk factors associated with st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ites, 10K patients, 30-day follow-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365-569D-4DE7-8B52-A96C81BEE8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ostmarket Perspectiv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cretionary Stud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stasis Device Reg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ve effort with American College of Cardiology (use of National Cardiovascular Data Regist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60 sites, 14K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gender differences &amp; device-specific risk of hemorrhagic complic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8DC-662D-43C1-A7C5-5C41406975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From a Disease Perspectiv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lvl="2" marL="6969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xic Anterior Segment Syndrome (T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-1742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infectious inflammation post-surgery (mostly cataract remov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-1742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s in blurred vision to glaucoma or corneal trans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-1742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breaks periodically re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-1742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 relatedness is an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6960" indent="-1393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scoelastic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96960" indent="-13932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gical instrument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969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y maintained at University of Utah &amp; cases also accrued via ASCRS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-20916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gment TASS registry with spontaneous reports &amp; assess utility for identifying suspect causative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20916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4532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128-162A-416C-BEEE-7ACB9055ED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DA Registry Initia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d existing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CD registry (ACC NCDR &amp; HRS): add lead safety fields (lead revision, extraction, abandonment &amp; reasons for fail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duct linkage studies with Medicar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ciety of Thoracic Surgeons National Cardiac Database:  study long-term morbidity &amp; mortality of transmyocardial revascular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 NCDR: study long-term cardiac morbidity &amp; mortality of drug-eluting coronary st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3009-EE97-40E3-BBEC-00C944F956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DA Registry Initia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registry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claims vs. prospectively collected registry data from the Vascular Disease Study Group of Northern New Engl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bidity &amp; mortality associated with endovascular vs. open surgical repair of abdominal aortic aneury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st investigational study within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PAS to expand ind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orous investigational study desig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BC1-A480-4BEC-963B-66CDBD69FB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DA Registry Initia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tinel Initi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: an effort to develop a national, integrated infrastructure of electronic healthcare data systems for medical product safety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&amp; characterize existing U.S. orthopedic implant registries.  Explore potential for establishing distributed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da.gov/oc/initiatives/advance/sentin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ADC0-320F-4133-AA6C-3216C1E1EC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anks for Your Attention!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572000"/>
            <a:ext cx="137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5105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41008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2133360" cy="1600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5280" y="5638680"/>
            <a:ext cx="2057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9880" y="4572000"/>
            <a:ext cx="576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further information: thomas.gross@fda.hhs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5943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5257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886200" y="5867280"/>
            <a:ext cx="1390680" cy="56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543800" y="5334120"/>
            <a:ext cx="1143000" cy="113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7C3-9BB4-49CE-9DFC-3AD240658D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istry as a Vehicle: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ulatory Application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1327000">
            <a:off x="228600" y="4800240"/>
            <a:ext cx="2743200" cy="18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7238880" y="3962520"/>
          <a:ext cx="1597320" cy="215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3962520"/>
                    <a:ext cx="15973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Cloud"/>
          <p:cNvSpPr/>
          <p:nvPr/>
        </p:nvSpPr>
        <p:spPr>
          <a:xfrm>
            <a:off x="2133720" y="1143000"/>
            <a:ext cx="5943600" cy="4824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 &amp; Post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ty &amp;/or Effec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retionary &amp; Mand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illance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al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ve &amp; Analytic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4B3-6818-4B41-927D-BF86C06BD9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remarket Perspective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tential Applica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data to support development &amp; design of clinical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historical comparator data (if rigorou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 safety assessments via broader analysis of adverse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access to product (outside of IDE tr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dite approval of device modifications or lab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579-911F-49D0-8269-99B7131584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remarket Perspective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afety Assessment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sion Barrier Device Regist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ary, European experience, 4K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nct to U.S. pivotal, randomized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safety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reported events, “reassuring”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476-51E6-417F-954F-FDB4653AA3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remarket Perspectiv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t Acces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FO Occluder Device Regi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drawal of Humanitarian Device Exemption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mission of Premarket Approval Applications  required (supported by clinical tria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device for those outside of clinical t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ntary, U.S., 2K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9E9E-CEA6-41BD-8429-E9DE9CCF40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istries: Premarket Perspectiv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vice/Labeling Changes </a:t>
            </a:r>
            <a:br>
              <a:rPr sz="32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a-ocular Lens Regis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performance of IOLs in adults &lt; 6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by American Academy of Ophthalm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IOL acuity &amp; adverse events on 7K 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cations changed allowing for younger age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D43-C044-42AA-A1A1-8E8B323D91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stries: Postmarket Perspective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tential Applica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surveillance for “real-world” ev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generalizability of new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dite time to market with reliable postmarke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vehicle for Post-approval Studies (P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evidence development for CMS’ national coverage decisions (NC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75F-343A-47C6-9BD4-FCEDF05381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MACS: Enhanced Surveilla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295280"/>
          <a:ext cx="8229600" cy="5137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DA Repor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A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idated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udicated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 defin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hope 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-re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hop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ominator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C55-E8EC-4B37-B00B-7C4CC43DE5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MACS: Post-approval Stud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the necessary infrastru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onsent, IRB sign-off, data acquisition &amp;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cost efficient &amp; allows for enhanced overs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modates different study des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orary total artificial heart: single-arm registry; 30-day &amp; 1 year survival, time on device, transplant rates, adverse events &amp; product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ft ventricular assist device: cohort design (recipients of designated device vs. concurrent recipients of other LVADs); similar outcome measures &amp; including quality of l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72200" y="5334120"/>
            <a:ext cx="185436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A15-0F2D-4DF4-9C8B-9C5DB75E376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15:39:11Z</dcterms:created>
  <dc:creator>Julia Marders</dc:creator>
  <dc:description/>
  <dc:language>en-US</dc:language>
  <cp:lastModifiedBy>DHHS</cp:lastModifiedBy>
  <dcterms:modified xsi:type="dcterms:W3CDTF">2009-01-16T18:53:23Z</dcterms:modified>
  <cp:revision>244</cp:revision>
  <dc:subject/>
  <dc:title>Adverse Event Report Analysis:  sutureless anastomotic devices CAB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  <property fmtid="{D5CDD505-2E9C-101B-9397-08002B2CF9AE}" pid="3" name="_NewReviewCycle">
    <vt:lpwstr/>
  </property>
</Properties>
</file>