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CF3-743D-42B0-A1A2-B909580A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43B-DCDE-4AB1-A6E4-14BBBBE3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C8B-50EE-4D70-A768-FA243FC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D46-1D86-492D-958D-5C3C4A41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59A-5ACA-48DB-9EC7-2BC5B9DA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B53-61E0-4275-9D14-5DFDEBFE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874-F7E3-4013-991A-EF78CBC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F9D-7768-4160-B5F1-AB5DD36B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40B-62B7-402B-9BB7-1F02D7D5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B0E-F7E6-4BB9-861D-A458599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B05-8468-4FB3-B142-C22ED40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DA0-E999-421B-AC21-2C4F46F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A9BE-78E5-4F5D-A7EF-E29B42F661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l Device Registries: Multiple Applica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P. Gross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 of Postmarket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Surveillance &amp; Bio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Devices &amp; Radiological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ies for Evaluating Patient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esda, M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9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048-D87F-4542-B94E-B0D9D34011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arly “Real-World” Experience &amp; PAS</a:t>
            </a: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-eluting Coronary Stent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“real-world”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ites (~50), 2K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 vary by private/academic, implanting volume, geographic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s of interest: MACE, unanticipate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ve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 follow-up at 1, 6, 12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BE1-48E4-4FF7-8153-992B79D522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DA PAS &amp; CMS NC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otid Stent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otid Stents: Ini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for post-approval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“real-world” experience &amp; training (3 leve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ites, 1K patients, 30-day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dicated neurological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otid Stents: Ex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d under CMS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re risk factors associated with st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ites, 10K patients, 30-day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6D1-3072-4C82-A6B3-B1A2570548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retionary Stud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stasis Devic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ve effort with American College of Cardiology (use of National Cardiovascular Data Regist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60 sites, 14K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gender differences &amp; device-specific risk of hemorrhagic com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420-BAD8-47C3-9A6A-E0CB31E73A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From a Disease Perspectiv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lvl="2" marL="69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Anterior Segment Syndrome (T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infectious inflammation post-surgery (mostly cataract remo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s in blurred vision to glaucoma or corneal trans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breaks periodically re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relatedness is an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6960" indent="-1393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coelasti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96960" indent="-1393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gical instru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96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y maintained at University of Utah &amp; cases also accrued via ASCRS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ment TASS registry with spontaneous reports &amp; assess utility for identifying suspect causative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F72-562A-432C-AF11-25AC912BD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DA Registry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 existing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CD registry (ACC NCDR &amp; HRS): add lead safety fields (lead revision, extraction, abandonment &amp; reasons for fail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linkage studies with Medicar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ety of Thoracic Surgeons National Cardiac Database:  study long-term morbidity &amp; mortality of transmyocardial revascular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 NCDR: study long-term cardiac morbidity &amp; mortality of drug-eluting coronary st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AAD-DBC1-4278-BC23-EFE9D7DACF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DA Registry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registr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claims vs. prospectively collected registry data from the Vascular Disease Study Group of Northern New Eng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bidity &amp; mortality associated with endovascular vs. open surgical repair of abdominal aortic aneury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 investigational study within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PAS to expand ind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orous investigational study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B1C-9F90-463D-8325-87F85A06CE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DA Registry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inel Initi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: an effort to develop a national, integrated infrastructure of electronic healthcare data systems for medical product safety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&amp; characterize existing U.S. orthopedic implant registries.  Explore potential for establishing distributed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da.gov/oc/initiatives/advance/senti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C07-BB92-485B-A64A-CBA5A8971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anks for Your Attention!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5720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10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56386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9880" y="4572000"/>
            <a:ext cx="576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urther information: thomas.gross@fda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943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886200" y="5867280"/>
            <a:ext cx="139068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543800" y="533412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1FA-C019-463E-A23D-7F7B9E4F1B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istry as a Vehicle: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ulatory Applicati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327000">
            <a:off x="228600" y="4800240"/>
            <a:ext cx="2743200" cy="18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238880" y="3962520"/>
          <a:ext cx="159732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962520"/>
                    <a:ext cx="15973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Cloud"/>
          <p:cNvSpPr/>
          <p:nvPr/>
        </p:nvSpPr>
        <p:spPr>
          <a:xfrm>
            <a:off x="2133720" y="1143000"/>
            <a:ext cx="5943600" cy="4824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 &amp; Post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&amp;/or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ionary &amp; Mand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illance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ve &amp; Analytic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9C6-8898-4B91-B5BD-C79CE83C3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tential Applic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data to support development &amp; design of clinical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historical comparator data (if rigoro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safety assessments via broader analysis of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ccess to product (outside of IDE t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dite approval of device modifications or lab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891-E503-42C0-B195-C534CF29B6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Assessmen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 Barrier Device Regis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, European experience, 4K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nct to U.S. pivotal, randomized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safety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reported events, “reassuring”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445-5CE9-4A6E-B61F-1DA61AC9E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t Acces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O Occluder Device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drawal of Humanitarian Device Exemption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mission of Premarket Approval Applications  required (supported by clinical tri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device for those outside of clinical t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ntary, U.S., 2K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7F9-7AB5-4BDB-BB0C-2184C481D5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vice/Labeling Changes </a:t>
            </a: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a-ocular Lens Regis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performance of IOLs in adults &lt; 6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by American Academy of Ophthalm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IOL acuity &amp; adverse events on 7K 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ons changed allowing for younger age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ACE-7C56-46F7-BA91-28DC84BE1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tential Applic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urveillance for “real-world” ev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generalizability of new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dite time to market with reliable postmarke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vehicle for Post-approval Studies (P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evidence development for CMS’ national coverage decisions (NC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998-92E3-42B4-BA27-C1B80B3286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MACS: Enhanced Surveill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295280"/>
          <a:ext cx="8229600" cy="5137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DA Re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A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idate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udicate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 defin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hope 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-re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hop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tor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88D-30BE-46F3-BC47-5E8D663852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MACS: Post-approval Stud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the necessary infrastru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onsent, IRB sign-off, data acquisition &amp;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cost efficient &amp; allows for enhanced overs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modates different study de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orary total artificial heart: single-arm registry; 30-day &amp; 1 year survival, time on device, transplant rates, adverse events &amp; product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ft ventricular assist device: cohort design (recipients of designated device vs. concurrent recipients of other LVADs); similar outcome measures &amp; including quality of l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5334120"/>
            <a:ext cx="185436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BB3-C06D-4275-9A52-043F2D7444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5:39:11Z</dcterms:created>
  <dc:creator>Julia Marders</dc:creator>
  <dc:description/>
  <dc:language>en-US</dc:language>
  <cp:lastModifiedBy>DHHS</cp:lastModifiedBy>
  <dcterms:modified xsi:type="dcterms:W3CDTF">2009-01-16T18:53:23Z</dcterms:modified>
  <cp:revision>244</cp:revision>
  <dc:subject/>
  <dc:title>Adverse Event Report Analysis:  sutureless anastomotic devices CAB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  <property fmtid="{D5CDD505-2E9C-101B-9397-08002B2CF9AE}" pid="3" name="_NewReviewCycle">
    <vt:lpwstr/>
  </property>
</Properties>
</file>