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176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228600" y="228600"/>
          <a:ext cx="666720" cy="73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8600"/>
                    <a:ext cx="66672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Times New Roman"/>
              </a:rPr>
              <a:t>Be Careful What You Wish For - </a:t>
            </a: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naging Devices and Data In Your Patient's Home </a:t>
            </a:r>
            <a:r>
              <a:rPr b="0" lang="en-US" sz="48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e R. Goldberg, MD, 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Professor of Medi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rt Failure/Transplant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versity of Pennsylva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ember 9, 200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ur Study - 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ssessing Quality of Telehealth:</a:t>
            </a:r>
            <a:br>
              <a:rPr sz="3200"/>
            </a:b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Home Heart Failure Care Comparing Patient-Driven Technology Models</a:t>
            </a:r>
            <a:br>
              <a:rPr sz="4000"/>
            </a:br>
            <a:r>
              <a:rPr b="0" lang="en-US" sz="1800" spc="-1" strike="noStrike">
                <a:solidFill>
                  <a:srgbClr val="fafd00"/>
                </a:solidFill>
                <a:latin typeface="Times New Roman"/>
              </a:rPr>
              <a:t>R01 HS015459</a:t>
            </a:r>
            <a:br>
              <a:rPr sz="1800"/>
            </a:b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tudy comparing 3 different care models of outpatient heart failure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ual c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ic monitoring (scale, BP cuff, questions, +/- glucometer) with nurse case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ic monitoring with self-management – interactive voice respons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ur Primary Hypothe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electronic disease management strategies will be superior to usual care 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ducing hospital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atient self-management electronic disease management arm will not be inferior to nurse case management disease management a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esting data flow and human contac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ur Secondary Hypothe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Quality of lif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will be improved for the patients in the electronic disease management arms as compared to usual c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Quality of lif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will not be different between the two electronic disease management a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herence to heart failure guideline c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ll be improved in the electronic disease management a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 Management wil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duce the c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HF care more than Case Management by eliminating the cost of nursing case manageme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ur Secondary Hypothes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ssment of Self Management patients’ vital signs and symptoms by the expert clinical decision support system, coupled with tailored self-care algorithms, will improv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tients’ self efficac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the management of their disease more so than in patients in the Case Management grou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 Management and Case Management patients will have greate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atisfaction with c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an Standard care pati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ysician’s satisfa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ll be higher with Self Management and Case management approaches to patient management than Standard c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asured Outcom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spitalizations for HF, cardiovascular and all cau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spital length of stay (L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 visits for HF, cardiovascular and all cau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rvival, mortality and fatal and nonfatal myocardial infar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-efficacy in management of heart failure as well as HRQoL and its dimensions  assessed by the Kansas City Cardiomyopathy Questionna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ute care visits to physici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tisfaction with c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echnolog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pped to patient’s h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nected to phone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pment identical for the two technology a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mplementation: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Designing the Interventio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ing the “IVR” for the electronic only disease management a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sitivity versus specif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ensus on the “clinical” 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iew by experienced heart failure clinici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ient foc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asy to 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asy to underst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ort and to the 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f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y concerns and delays during the design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mplementation: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afety Pilot of the IVR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n challenges with the IVR safety pilot using simulated patients was perfo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mbers of IR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mily members of study sta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RQ sta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e technical and clinical issues identified and corr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layed enrollment but improved safety and understanding of a new patient managem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mplementation: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Vendor Issu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ology “up-tim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y technical issues with I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y technical issues with servers, phone lin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oubleshooting with subjects and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 for instal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 for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pment 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tte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ailability of vendor on off h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General Vendor Considera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vacy – HIPAA 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ice guarant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onitoring – continuo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 equipment (FDA/FC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 h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face 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-m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ger (text messag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EMR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 the “Perfect World”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ronic diseases would be managed by “daily” monitoring that would allow both clinician intervention and patient self management leading to improved “quality” and “outcom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savings” could be used for other purposes within the Health Care System like pre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391520" y="304920"/>
            <a:ext cx="13366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80880" y="762120"/>
          <a:ext cx="8763120" cy="5387760"/>
        </p:xfrm>
        <a:graphic>
          <a:graphicData uri="http://schemas.openxmlformats.org/drawingml/2006/table">
            <a:tbl>
              <a:tblPr/>
              <a:tblGrid>
                <a:gridCol w="1981080"/>
                <a:gridCol w="2362320"/>
                <a:gridCol w="441972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riabl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fety Issu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8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vice Install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pendent on Pati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hipment of device directly to patient with patient install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hipment of device to patient then visiting nurse install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elivery and installation by health provid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hipment of device to patient then technology (home security) service set up 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nsmission of patient dat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surance of encryp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mitation of acc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ility to validate company’s software and encryption standard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ility to transmit data using cellular technolog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ethod of delivery to the healthcare provider (electronically, facsimile, etc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orage and Archiving of patient d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ccess to patient d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ss code protected acc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ingerprint acc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ssurance of HIPAA compli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fidential data exposu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ient data on the interne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ient data to insur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ient data to vendor employees or business partn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ome IT Implementation Issu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0958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arberow B, Hatton V, Leenknecht C,  Goldberg LR, Hornung CA, Reyes B. Caveat Emptor:  The Need for Evidence, Regulation and Certification of Home Telehealth Systems for the Management of Chronic Conditions, AJMQ AJMQ 23(3): 208-14, May-June 2008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ome IT Implementation Issu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80880" y="1295280"/>
          <a:ext cx="8534160" cy="4672080"/>
        </p:xfrm>
        <a:graphic>
          <a:graphicData uri="http://schemas.openxmlformats.org/drawingml/2006/table">
            <a:tbl>
              <a:tblPr/>
              <a:tblGrid>
                <a:gridCol w="2108160"/>
                <a:gridCol w="2058840"/>
                <a:gridCol w="43671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stribution of equipment as per Good Manufacturing Guidelines (GMP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taminated equip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ulty devic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ulty electrical wir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quipment cleane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quipment tes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cumentation of all procedu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asing vs. Purchasing of Devic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hanges in hardware or softwar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eaning polic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sponse for equipment malfun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any support hour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vel of experti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mpany support and hou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 hour on-ca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ification of changes; time frame, manner of notific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chnical 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linical 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sponse time to ca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erns reported by a patient to company technical staf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hat does the technical staff tell the patient, who do they info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per training of staf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licies and procedures for troubleshooting and referring clinical issues to clinicia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80880" y="914400"/>
          <a:ext cx="8534520" cy="380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44197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ariabl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fety Issu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228600" y="5943600"/>
            <a:ext cx="891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arberow B, Hatton V, Leenknecht C,  Goldberg LR, Hornung CA, Reyes B. Caveat Emptor:  The Need for Evidence, Regulation and Certification of Home Telehealth Systems for the Management of Chronic Conditions, AJMQ 23(3): 208-14, May-June 2008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mplementation: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Overcoming Provider Resistance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rs (practices) conc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o much time to review data/ale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verage during day and on nights/weekends/holidays – “critical lab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l-legal concerns about responsibility for data – where and how to doc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ucate to respond (not just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ucate to respond appropriat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fort with adjusting medications over the ph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of extra visits/ER when appropriate on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rning curve” observed with most clinici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mplementation:</a:t>
            </a: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ubject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ne line (land l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cellular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Voice over internet (VOI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he home? (or access daily nearby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y to install 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y to hear and see well enough to use the 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y to stand on the sc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tu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6 subjects random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t patient out May 31, 200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base lock – July 21, 200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analysis unde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halleng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“technology” related challe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er d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ion d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VR “error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r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o many alerts” in IVR a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ert “fatigu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ucate around adjusting parameters to make alerts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ubjec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m to prefer the nurse case management arm (?is this our bias or just more contact with these subjects?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acting with a “pers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rses identify other issues that may increase cost but improve either quality of care or patient satisf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ttery repla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racy of scale questio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due to carpeting and scale placeme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Early Result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ecdotes from call center, providers and su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ied serious medication err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vened to avoid ER or hospita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ied several “educational opportuniti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ssed” data transmission is an important parameter to be follow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rse Case Managers seem to promote patient self-care and encourage patient-clinician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HS group – many more hospitalizations and ER visits in all arms (clearly a higher risk grou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…the IVR group appears to have at least as good outcomes – could this be cost-effective “self-management” – it does not appear to be “inferi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ral challenges to home monito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n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y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udies need to be performed to understand what drives changes in outcomes as opposed to focusing on a specific technology or 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udies need to be performed on “best practice” for data management with standardized HIPAA compliant interfaces with ale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perate need for vendor regulation, standardization and/or certification so that we know what we are testing (and what the subjects are gett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pite skepticism from clinicians, the IVR system appears to be “non-inferior” to the nurse case management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 im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chanism im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ior Studi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thesis:  We hypothesize that patients with disease X who are treated with home monitoring technology Y will have an improvement in outcome Z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tle focus on the mechanism of changes in outcomes – what specifically is driving the outcomes (good or ba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ssump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ing can impact outcomes and self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mpact is positive (does not increase cost or cause ha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nicians want or need to know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nicians can identify when and how to respond from  a potentially large volume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ta are “actionabl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ta are “reliabl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s” are in place that can quickly and easily incorporate all the data into the patient rec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0120" y="228600"/>
            <a:ext cx="1177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he Realit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studies have shown improvements in a variety of outcomes from utilization to quality of life to improved survi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improvements have been difficult to duplicate outside the confines of a single center or research project - “Implementation of Innovation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studies have shown increased costs/utilization (?improved access) or no impact at 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dividual centers involved combined with risk (and access to care) of the population studied seems to drive the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aging the data and incorporating it into clinical practice is a significant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851040" cy="8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What Could be Going On? Outside of the technology….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d access to care i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d adherence to Guideline Based C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d self-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cation of other barriers to care – financial, psycho-social, comorbid ill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velty of the 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ice acts as a “reminde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ular human contact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Need to collect data about these factors during a study to get at “mechanism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at is “Improved Outcome”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pective – who is interest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vi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y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lth Care Institu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cie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t (only reduction in costs 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ffect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? Total vs. Hospital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ty of Lif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oved adherence to “Evidence Based Medicin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fety - improved or not worsen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performance – Does the technology perform as designed or intende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oved survi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0" y="1066680"/>
            <a:ext cx="2057400" cy="936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800600" y="1828800"/>
            <a:ext cx="228600" cy="152388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55640" y="236232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eting Intere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Barriers to Successful Implementation of Telemedicine Interventions</a:t>
            </a:r>
            <a:br>
              <a:rPr sz="4000"/>
            </a:b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Reimbursem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supervision of telemedicine and disease management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Trained clinicia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manage the data and the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chanisms to consistently and reliably review patient data and ale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ment of appropriate algorithms to respond to patient data in a manner that improves patient outco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cal-legal liability for data collec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essional licensure across state 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afd00"/>
                </a:solidFill>
                <a:uFillTx/>
                <a:latin typeface="Times New Roman"/>
              </a:rPr>
              <a:t>Lack of eviden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or types and frequency of patient data collected and impa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nicians’ fear of being replaced by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sician accep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51643"/>
            </a:gs>
            <a:gs pos="50000">
              <a:srgbClr val="0d3093"/>
            </a:gs>
            <a:gs pos="100000">
              <a:srgbClr val="0516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ingering Questio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 of technology - Inten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 simple better? – scale versus implantable moni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 there too much data? – can we “hurt” people by responding too quickl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se of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ily monitoring necessar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ation of inter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long to continu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thdrawal effect or do patients “learn”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should we manage the dat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is the magic?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olog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op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6318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9:40:53Z</dcterms:created>
  <dc:creator>Mariell Jessup</dc:creator>
  <dc:description/>
  <dc:language>en-US</dc:language>
  <cp:lastModifiedBy>rac</cp:lastModifiedBy>
  <dcterms:modified xsi:type="dcterms:W3CDTF">2008-10-02T14:23:08Z</dcterms:modified>
  <cp:revision>99</cp:revision>
  <dc:subject/>
  <dc:title>Interrupting the disease  of  heart failure.</dc:title>
</cp:coreProperties>
</file>