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E251F-AF7D-49CB-829D-06466F2B9B4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til recently, virtually no guidance was available to health care professionals regarding how or when to disclose errors; professional societies merely identified disclosure as an ethical obligation.  In 2001, JCAHO, issued the first nationwide disclosure standard. The standard requires that patients be informed about all outcomes of care, including “unanticipated outcomes.” It was a modest start. The standard did not specify the content of disclosure, nor did it mandate that patients be told when unanticipated outcomes were due to error. Still, the Joint Commission’s move was groundbreaking; it heralded a shift from mere endorsement of the importance of disclosure to a requirement with teeth because it was linked to the accreditation status of hospit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ithout explicit guidelines and opportunities to practice and get feedback, it’s no wonder that when clinicians do disclose, their efforts often fall short of meeting patient and family expect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project really has 2 prongs – the one being to train physicians and nurses in disclosure, the other to really promote interprofessional teamwork and disclosure.  Traditionally, disclosure is conceptualized as a doctor-patient conversation.  But, the question arises, if teams make errors, why send in individuals to disclose?  Nurses have expressed an interest in being present in disclosures to ensure that blame is not laid at their feet for errors as they are often on the front lines. Additionally, many involved in errors express an interest in having an opportunity to apologize  to patients as a means of putting their feelings of guilt behind them. But how will patients/families react when a team walks in to speak to them about an error that occurred? Will they feel ganged up upon?  When is team disclosure helpful or harmful?  And how do existing hierarchies between physicians and nurses complicate team error disclosure?  These are all issues that need to be addressed if team error disclosure is ever to become routine practice.</a:t>
            </a:r>
            <a:endParaRPr b="0" lang="en-US" sz="1200" spc="-1" strike="noStrike">
              <a:solidFill>
                <a:srgbClr val="000000"/>
              </a:solidFill>
              <a:latin typeface="Calibri"/>
            </a:endParaRPr>
          </a:p>
        </p:txBody>
      </p:sp>
      <p:sp>
        <p:nvSpPr>
          <p:cNvPr id="4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99657-988A-4E9A-924B-A34B83A4946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considerations in performing team disclosure include: What do team members owe to one another? Are certain team members better suited to play particular roles in a disclos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ome of our early simulations, we’ve seen a nurse or a physician scramble to take full responsibility for an error – falling on sword – despite clear evidence of shared responsib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thers, we’ve watched teams agree to go in as a team to speak to a patient, but, without planning who will actually perform in what role – the team gets lost.  Often times, they recover by letting one individual – usually the physician – speak for the whole tea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MANY MOVING PARTS TO THIS GRANT!!!  We will be running 40 nurse-physician teams through our simulations. Half of the teams are composed of surgeons and OR nurses and the other half consists of medical physicians and nurses.  In each simulation, we have one “plant” –a trained actor playing the role of a facilitator. Every simulation includes a nurse, a physician, 1 standardized team member, an d1 standardized patient.  We developed 2 surgical cases: retained sponge, lost specim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edicine cases: insulin overdose, Lovenox overdose. Because our focus is also on assessing the effectiveness of simulation, we will also run a control arm of 40 te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t the same time that we are attempting to teach physicians and nurses how to disclose, we are also training risk managers in the skills of coaching.  Our hope is that long after funding for this project ends, the coaches will remain in place to support and guide clinicians who find themselves having to perform error disclos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14772-963E-4DA0-B7BA-A241D5B25A3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ing itself consists of 2 simulations and 2 brief coaching sessions.  The team discusses case 1, discloses it to the patient, and then gets feedback from the coach on how they did and encouragement to try specific skills in the subsequent scenari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ms have the option of not disclosing as a team and some select this option because they say it’s not routine practice.  The coach will encourage a try at team error disclosure.</a:t>
            </a:r>
            <a:br>
              <a:rPr sz="1200"/>
            </a:br>
            <a:r>
              <a:rPr b="0" lang="en-US" sz="1200" spc="-1" strike="noStrike">
                <a:solidFill>
                  <a:srgbClr val="000000"/>
                </a:solidFill>
                <a:latin typeface="Calibri"/>
              </a:rPr>
              <a:t>The team then  goes on to complete case 2 focusing on a different medical error.  Again, they go through the phases of disclosure -- discussing the error, planning their disclosure, and disclosing the error to the patient, and then receives final feedback from the disclosure co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is debriefed at the end of the experience.</a:t>
            </a:r>
            <a:endParaRPr b="0" lang="en-US" sz="1200" spc="-1" strike="noStrike">
              <a:solidFill>
                <a:srgbClr val="000000"/>
              </a:solidFill>
              <a:latin typeface="Calibri"/>
            </a:endParaRPr>
          </a:p>
        </p:txBody>
      </p:sp>
      <p:sp>
        <p:nvSpPr>
          <p:cNvPr id="48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6C494-8E9D-4251-8EE1-A0455BCE76E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o reiterate, within the scenarios teams go through a 2-part sequence.  At first they discuss what happened, come to consensus about the events that occurred, then plan how to disclose those events to the patient.  During these discussions the standardized team member acts as a facilitator, drawing out team thinking and making sure they are moving toward an action plan.  In the second part of the sequence, the standardized patient is brought in and the team performs their error disclosure with that SP.</a:t>
            </a:r>
            <a:endParaRPr b="0" lang="en-US" sz="1200" spc="-1" strike="noStrike">
              <a:solidFill>
                <a:srgbClr val="000000"/>
              </a:solidFill>
              <a:latin typeface="Calibri"/>
            </a:endParaRPr>
          </a:p>
        </p:txBody>
      </p:sp>
      <p:sp>
        <p:nvSpPr>
          <p:cNvPr id="48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79441-5AF9-4F1F-8726-76B34B5B0BE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teractions are complex and there are numerous skills we’ll be looking at on videotape.  But in the moment, we are encouraging coaches to focus on key behaviors.  (More later)</a:t>
            </a:r>
            <a:endParaRPr b="0" lang="en-US" sz="1200" spc="-1" strike="noStrike">
              <a:solidFill>
                <a:srgbClr val="000000"/>
              </a:solidFill>
              <a:latin typeface="Calibri"/>
            </a:endParaRPr>
          </a:p>
        </p:txBody>
      </p:sp>
      <p:sp>
        <p:nvSpPr>
          <p:cNvPr id="48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B916D-6575-4187-865A-AB3F32AA4CF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stages, looking for agreement that full disclosure should occur and that an apology should be offered.  But also to plan who will say what and to anticipate the patient’s anger and to plan for responses, rather than to just go in and wing it.</a:t>
            </a:r>
            <a:endParaRPr b="0" lang="en-US" sz="1200" spc="-1" strike="noStrike">
              <a:solidFill>
                <a:srgbClr val="000000"/>
              </a:solidFill>
              <a:latin typeface="Calibri"/>
            </a:endParaRPr>
          </a:p>
        </p:txBody>
      </p:sp>
      <p:sp>
        <p:nvSpPr>
          <p:cNvPr id="49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CD122-5F4F-4031-A7FA-21C0F5F0290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ctually carrying out the disclosure, we are looking for early apology and forthright explanation of what occurred.  Information patients want disclosed</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xplicit statement that error occurred</a:t>
            </a: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at happened, implications for their health</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y it happened</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ow will recurrences be prevented</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nce of an apolog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DEB6D-67CF-4DF6-80CC-125A0AE6720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gnizing that many of our participants have had only limited experience with disclosure and almost no experience with team disclosure, we developed coaching priorities to ensure that key behaviors would be advocated and fostered.  These are rooted in the literature about what patients want</a:t>
            </a:r>
            <a:r>
              <a:rPr b="0" lang="en-US" sz="1200" spc="-1" strike="noStrike">
                <a:solidFill>
                  <a:srgbClr val="ff0000"/>
                </a:solidFill>
                <a:latin typeface="Calibri"/>
              </a:rPr>
              <a:t>, </a:t>
            </a:r>
            <a:r>
              <a:rPr b="0" lang="en-US" sz="1200" spc="-1" strike="noStrike">
                <a:solidFill>
                  <a:srgbClr val="000000"/>
                </a:solidFill>
                <a:latin typeface="Calibri"/>
              </a:rPr>
              <a:t>as well as the literature on effective team communication.  Between cases, coaches are asked to select 2 behaviors on which to focus their feedback – one related to team communication, the other related to disclosure.  </a:t>
            </a:r>
            <a:endParaRPr b="0" lang="en-US" sz="1200" spc="-1" strike="noStrike">
              <a:solidFill>
                <a:srgbClr val="000000"/>
              </a:solidFill>
              <a:latin typeface="Calibri"/>
            </a:endParaRPr>
          </a:p>
        </p:txBody>
      </p:sp>
      <p:sp>
        <p:nvSpPr>
          <p:cNvPr id="50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8D8A6-5352-4B8F-80AB-3ED8C76A6CE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 mentioned earlier, we will be assessing the effectiveness of simulation as a training method by comparing how control group participants compare with simulation group participants on a web-based assessment. There are 2 different medical scenarios and 2 very different team approaches to 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36F4F-4B79-4AC6-88F6-29B7EC3D95C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up case for videos in next slid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aming behavio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 in making a bad decision not to fully disclos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nts watch video of cases and answer a series of open and closed ended questions.  For example, on this screen, they will be asked to make a judgment about how effective the team was in explicitly stating that an error occurred, explaining how it occurred, truthfully communicating with the patient and presenting a plan to prevent future errors. </a:t>
            </a:r>
            <a:endParaRPr b="0" lang="en-US" sz="1200" spc="-1" strike="noStrike">
              <a:solidFill>
                <a:srgbClr val="000000"/>
              </a:solidFill>
              <a:latin typeface="Calibri"/>
            </a:endParaRPr>
          </a:p>
        </p:txBody>
      </p:sp>
      <p:sp>
        <p:nvSpPr>
          <p:cNvPr id="52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7C000-88DC-4121-9461-1DFA1E7F132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open-ended question, they’ll view a video snippet and identify the team behaviors that were effective and should be reinforced.</a:t>
            </a:r>
            <a:endParaRPr b="0" lang="en-US" sz="1200" spc="-1" strike="noStrike">
              <a:solidFill>
                <a:srgbClr val="000000"/>
              </a:solidFill>
              <a:latin typeface="Calibri"/>
            </a:endParaRPr>
          </a:p>
        </p:txBody>
      </p:sp>
      <p:sp>
        <p:nvSpPr>
          <p:cNvPr id="52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9EBE3-1BD1-442E-8A5B-B95B81DFB80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I want to acknowledge the other members of the interprofessional team that I work with.  They include Tom Gallagher from Medicine, Sarah Shannon from nursing, Peggy Odegard from Pharmacy, Sara Kim and Doug Brock from Medical Education, and our Project Manager and Support Staff, Carolyn Prouty and Odawni Palme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received AHRQ funding to assess whether simulation could be used effectively to improve health care workers’ knowledge, skills and attitudes related to team communication and error disclosure.  This project builds on work that Tom, Doug, Peggy and I had done previously in designing team-based OSCEs to certify graduating students’ core interprofessional skills, including team communication and teamwork.  The project aims to assess whether simulation improves healthcare workers’ knowledge attitudes and skills in team communication and team error disclosur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losure is increasingly an area of interest and experimentation. In the United States, the National Quality Forum (NQF), recently added standards for disclosure of unanticipated outcomes to its list of safe practices. Several institutions report that the implementation of aggressive disclosure policies has reduced their exposure to malpractice litigation. A few states have mandated the disclosure of certain events to patients, and many states have adopted laws that protect apologies for unanticipated outcomes from being used in litigation as evidence of fault on the part of the provider. Although the push for transparency originated outside the medical profession, there appears to be increasing receptivity to the concept within the profess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F57AB-D5EA-4745-933B-057DD4630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8153-7DEB-4620-8B42-8C43797E9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CB535-5754-423F-8400-DDA5C43C0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20E95-A31B-48CB-B064-9D33CCD6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C71DA-5881-49FD-BC99-A89D50D47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937A0-54F7-497B-BB6D-F390A9BEA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CE2C-0EE4-42C1-9372-CB2EB5BFF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C6731-BA65-47A7-8742-DFC76AB7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0B407-2224-4F7D-902C-696543654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A5F54-EF8B-45C6-B45B-3F2888482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40B75-3487-401B-A348-C5B15CC75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0AE4C-030E-4AFF-9771-CE6B544B5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75E34-7ED9-4FA6-830D-606E7975E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DC1B0-7AFE-43F6-A091-A35DE150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86DE9-0629-4FC8-A8FA-AD76871D4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E7819-5E28-4854-A21E-CB4DC85A4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1A684-C302-4CD5-961A-1854C700B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23D55-3E5A-4574-A2F0-E9AEA4C940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52984-6B68-42C3-BCC5-EFB364C1D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DC304-E6F7-457F-B932-2DA0D36CD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95D73-5E36-423E-ADF5-75AA93563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D08B3-07A1-4787-984C-53E004475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B349-697D-4061-BA5F-DA075F61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F81EC-A581-48DC-94B3-2EDC4E97E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D12CC-928A-4DD0-934D-B7F228295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8F788-E384-4369-BBEC-9F0FDF2F7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6E149-DC4A-4BDB-9A9C-9C168A410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FEF58-AB15-4BF9-A6CF-9F0DA9C8E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24708-BA04-4DF6-8B4D-AAF58C6185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108EC-6BBA-42E3-8960-9461176FE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EA85A-FB5A-49E9-A959-01ED1104E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4A4EA-9D06-4B4D-BCDA-F39916A94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68333-8DD5-467B-A1C9-F7CDD7AF2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66D7-67EB-471C-BDE3-3CBC30569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06DC7-E4BA-4592-810E-DBA36E06B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0AD36-3848-4671-AD84-3C6E8CFA7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79925-C037-4ECE-A98B-D06F4167A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E9109-2F88-4434-BAC8-2878F47EC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C4AE8-1A0B-4DE5-BF50-ACC62B12C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94EF9-6F88-4461-AA7B-01866F731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8EB79-3D46-49CA-9A97-A8E81F590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3EC482-603A-4CD3-9A76-336636383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D72D81-A393-454C-8259-606E674CDD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787EB-6787-4EDC-ADB1-EEF7E48481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73D80-E63B-4D2D-8160-D5309B6E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66011-093F-4522-86F9-1F84D05C4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F1118-1A93-41A5-8F4B-128CA48AD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939AE-AF7A-4FBE-A924-99BBB779C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AFD33-210F-4CD6-BE06-74A362908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9BA794-E8D2-46D7-BA41-93B3F24AD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52178-474C-46D6-A859-88E30E2EB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1DDA3-8441-4C9D-A40C-F87AFF5BC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6E757-92DE-45C9-BD75-EAE2FA964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05D79-E3E0-4453-AB6C-041602C5D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259F58-41F3-4727-9E99-963F7ECD99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9DCC-8DD3-49AD-B96C-B7FB70FD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70AC4-3BC9-4745-8B05-F4B8E3BF7C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3AF942-5C48-4300-B165-5EF48BE20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68511-3AF3-46E3-AE04-2F76E4E63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F43C2-B89D-4997-BEC2-B2DEAEEBB5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4FAAE-7B60-44F3-8AD3-E84D459CB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982C2-E7E2-45C0-BD01-A2ECE192C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C8557-DD67-4325-97E2-D5F5E5955E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30A0B-4C40-4921-8FE2-B7F984A79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F8D49-F556-475B-9B51-E9187418A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F066C-0280-405C-ABE2-4BABEF65C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9BAE-7529-43AD-A108-4F9281E48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5D7C2A-A2A2-4C02-A69D-F8EE315DB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61A7B-7E82-49A8-A8B0-CF7EE2AF7F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CBC768-CBFA-4DD4-A653-A889242358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951F0-95F9-4BD9-926E-1B7FF9A142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A8EA7-97F4-46F0-80F3-802DAEB26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798AE-503B-4180-BFC3-CCF9AC1CB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1A2C0-8506-4E89-9F49-46FC1EFB4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E8FF4-6FB1-47C7-BB7C-50BA138DC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E1BC7-8BF0-4114-937D-C5337AA24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8A8B0-91BD-47CE-ACBD-B92F11B69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AB4B-5E1A-402B-875B-4C31C211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94D56-AEE6-406C-A133-7911077E0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E0CBD-E88B-4D26-8662-2642300BE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4159D-8967-4A6F-B7A0-9920BA1EB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D56447-3D20-4EB2-8774-7717567BFE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34945B-7435-4B10-AE5B-6202EDCDD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2CA6D-5C80-4F39-AC80-FCCBF4EC1B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3C2C7-ADA8-451D-9CFC-312774F93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F84A0-DA76-4748-A24A-469CE1622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CDB753-5558-4DE6-AB91-29CD0971A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7339E0-5683-4CA2-B660-BA9ED9DDE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AE48-0D1C-4A7E-A8F5-3AB377AE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338E2-1EA5-42EA-8D75-9F6025A83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0977B-3659-48DE-A496-85221D11A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363A7-0973-4200-B970-9F5E086BC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24594-0729-4063-8FE5-E5FA0E3F7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E6A33-C23D-47A3-842C-AA554A32B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EF9057-F38A-4505-9064-2037D4072A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0E9C4F-1B69-4221-ADD0-2DB9F6D79D6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18D56-4759-4793-AADD-F161FD8CE7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57018-3AFB-4313-9E36-FCFE30A242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40AA0-2B84-4797-A262-37B1A83A4E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76A6C-8CC0-4862-816F-F0E2D65DA5A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0DBBA-95E9-4F6F-971C-FAE176411C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13617-6719-4C57-9D4D-8CF45E2401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F4986-A1DF-437A-A61E-066361562F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09FE5-7A24-47CF-A581-93D43C5BF8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6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6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14360" y="1365120"/>
            <a:ext cx="8467560" cy="22496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Thomas H. Gallagher, MD</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versity of Washington</a:t>
            </a:r>
            <a:endParaRPr b="0" lang="en-US" sz="2700" spc="-1" strike="noStrike">
              <a:solidFill>
                <a:srgbClr val="000000"/>
              </a:solidFill>
              <a:latin typeface="Lucida Sans Unicode"/>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y harmful errors not disclosed to patie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en disclosure does take place, it often falls short of meeting patient/family expectations</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2" descr="auto0"/>
          <p:cNvPicPr/>
          <p:nvPr/>
        </p:nvPicPr>
        <p:blipFill>
          <a:blip r:embed="rId1"/>
          <a:stretch/>
        </p:blipFill>
        <p:spPr>
          <a:xfrm>
            <a:off x="0" y="0"/>
            <a:ext cx="9144000" cy="685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Diagram 2" descr=""/>
          <p:cNvPicPr/>
          <p:nvPr/>
        </p:nvPicPr>
        <p:blipFill>
          <a:blip r:embed="rId1"/>
          <a:stretch/>
        </p:blipFill>
        <p:spPr>
          <a:xfrm>
            <a:off x="463680" y="426960"/>
            <a:ext cx="8351640" cy="60771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do team members owe one another?</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bsolute loyalty?</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alling on sword?</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are roles of different team members in the disclosure process?</a:t>
            </a:r>
            <a:endParaRPr b="0" lang="en-US" sz="2700" spc="-1" strike="noStrike">
              <a:solidFill>
                <a:srgbClr val="000000"/>
              </a:solidFill>
              <a:latin typeface="Lucida Sans Unicode"/>
            </a:endParaRPr>
          </a:p>
        </p:txBody>
      </p:sp>
      <p:pic>
        <p:nvPicPr>
          <p:cNvPr id="400" name="Rectangle 2"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99">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99">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racticing physicians &amp; nurse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  nurse-physician teams (½ surgeons and OR nurses; ½ medical physicians and nurses)</a:t>
            </a: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 control group teams</a:t>
            </a:r>
            <a:endParaRPr b="0" lang="en-US" sz="23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ctor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1 </a:t>
            </a:r>
            <a:r>
              <a:rPr b="0" i="1" lang="en-US" sz="2300" spc="-1" strike="noStrike">
                <a:solidFill>
                  <a:srgbClr val="000000"/>
                </a:solidFill>
                <a:latin typeface="Arial"/>
                <a:ea typeface="Arial"/>
              </a:rPr>
              <a:t>standardized team member </a:t>
            </a:r>
            <a:r>
              <a:rPr b="0" lang="en-US" sz="2300" spc="-1" strike="noStrike">
                <a:solidFill>
                  <a:srgbClr val="000000"/>
                </a:solidFill>
                <a:latin typeface="Arial"/>
                <a:ea typeface="Arial"/>
              </a:rPr>
              <a:t>per team</a:t>
            </a:r>
            <a:endParaRPr b="0" lang="en-US" sz="2300" spc="-1" strike="noStrike">
              <a:solidFill>
                <a:srgbClr val="000000"/>
              </a:solidFill>
              <a:latin typeface="Lucida Sans Unicode"/>
            </a:endParaRPr>
          </a:p>
          <a:p>
            <a:pPr lvl="2" marL="850320" indent="-22608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lays role of hospital administrator</a:t>
            </a:r>
            <a:endParaRPr b="0" lang="en-US" sz="2100" spc="-1" strike="noStrike">
              <a:solidFill>
                <a:srgbClr val="000000"/>
              </a:solidFill>
              <a:latin typeface="Lucida Sans Unicode"/>
            </a:endParaRPr>
          </a:p>
          <a:p>
            <a:pPr lvl="2" marL="850320" indent="-22608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Helps team progress through simulation, think out loud</a:t>
            </a:r>
            <a:endParaRPr b="0" lang="en-US" sz="21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1 </a:t>
            </a:r>
            <a:r>
              <a:rPr b="0" i="1" lang="en-US" sz="2300" spc="-1" strike="noStrike">
                <a:solidFill>
                  <a:srgbClr val="000000"/>
                </a:solidFill>
                <a:latin typeface="Arial"/>
                <a:ea typeface="Arial"/>
              </a:rPr>
              <a:t>standardized patient </a:t>
            </a:r>
            <a:r>
              <a:rPr b="0" lang="en-US" sz="2300" spc="-1" strike="noStrike">
                <a:solidFill>
                  <a:srgbClr val="000000"/>
                </a:solidFill>
                <a:latin typeface="Arial"/>
                <a:ea typeface="Arial"/>
              </a:rPr>
              <a:t>per case, 2 cases per simulation</a:t>
            </a: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12 Risk Manager “Coache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401">
                                            <p:txEl>
                                              <p:pRg st="0" end="0"/>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401">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01">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01">
                                            <p:txEl>
                                              <p:pRg st="5" end="5"/>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01">
                                            <p:txEl>
                                              <p:pRg st="6" end="6"/>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01">
                                            <p:txEl>
                                              <p:pRg st="7" end="7"/>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401">
                                            <p:txEl>
                                              <p:pRg st="8" end="8"/>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0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268200"/>
            <a:ext cx="8498160" cy="1158840"/>
          </a:xfrm>
          <a:prstGeom prst="rect">
            <a:avLst/>
          </a:prstGeom>
          <a:ln w="0">
            <a:noFill/>
          </a:ln>
        </p:spPr>
      </p:pic>
      <p:pic>
        <p:nvPicPr>
          <p:cNvPr id="405" name="Diagram 6" descr=""/>
          <p:cNvPicPr/>
          <p:nvPr/>
        </p:nvPicPr>
        <p:blipFill>
          <a:blip r:embed="rId2"/>
          <a:stretch/>
        </p:blipFill>
        <p:spPr>
          <a:xfrm>
            <a:off x="2335320" y="13179600"/>
            <a:ext cx="8820000" cy="4505040"/>
          </a:xfrm>
          <a:prstGeom prst="rect">
            <a:avLst/>
          </a:prstGeom>
          <a:ln w="0">
            <a:noFill/>
          </a:ln>
        </p:spPr>
      </p:pic>
      <p:pic>
        <p:nvPicPr>
          <p:cNvPr id="406" name="Diagram 8" descr=""/>
          <p:cNvPicPr/>
          <p:nvPr/>
        </p:nvPicPr>
        <p:blipFill>
          <a:blip r:embed="rId3"/>
          <a:stretch/>
        </p:blipFill>
        <p:spPr>
          <a:xfrm>
            <a:off x="755640" y="1805040"/>
            <a:ext cx="7236000" cy="4467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Team discussion and planning for disclosur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Team discusses what happened, responsibility for the error, and plan what they will disclose to the patient</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Team Error Disclosur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team discloses the error to a standardized patient</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25360" y="268200"/>
            <a:ext cx="8467920" cy="1158840"/>
          </a:xfrm>
          <a:prstGeom prst="rect">
            <a:avLst/>
          </a:prstGeom>
          <a:ln w="0">
            <a:noFill/>
          </a:ln>
        </p:spPr>
      </p:pic>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407">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07">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ea typeface="Arial"/>
              </a:rPr>
              <a:t>Acknowledge error occurr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ea typeface="Arial"/>
              </a:rPr>
              <a:t>Offer facts regarding error</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olicit and respect team members’ views of what happen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Negotiate differences respectfully</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void blaming; respond appropriately to blaming behavior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espond empathetically to team members’ emo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1" descr=""/>
          <p:cNvPicPr/>
          <p:nvPr/>
        </p:nvPicPr>
        <p:blipFill>
          <a:blip r:embed="rId1"/>
          <a:stretch/>
        </p:blipFill>
        <p:spPr>
          <a:xfrm>
            <a:off x="225360" y="122400"/>
            <a:ext cx="8467920" cy="13413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Plan roles for disclosure discuss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ocate for full disclosur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core content of full disclosure</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icit statement that error occurred</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happened, implications for patient health</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it happened</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will recurrences be prevented</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icit ap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Anticipate patient questions and emotions and plan team respon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Negotiate differences respectfull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1" descr=""/>
          <p:cNvPicPr/>
          <p:nvPr/>
        </p:nvPicPr>
        <p:blipFill>
          <a:blip r:embed="rId1"/>
          <a:stretch/>
        </p:blipFill>
        <p:spPr>
          <a:xfrm>
            <a:off x="225360" y="122400"/>
            <a:ext cx="8632800" cy="13413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eam member introduction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mpathetic disclosure of core content</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sk patient what they know about error</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Explicitly state that error occurred</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mplications for patient health</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Arial"/>
              </a:rPr>
              <a:t>Solicit patient questions, respond truthfully</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ke explicit apolog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plain how recurrences will be prevente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void blaming team members; resist patient’s attempts to fix blam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mpathetic communication with patien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lan for future meeting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4" name="Title 3" descr=""/>
          <p:cNvPicPr/>
          <p:nvPr/>
        </p:nvPicPr>
        <p:blipFill>
          <a:blip r:embed="rId1"/>
          <a:stretch/>
        </p:blipFill>
        <p:spPr>
          <a:xfrm>
            <a:off x="225360" y="122400"/>
            <a:ext cx="8467920" cy="13413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rricular deficiencies</a:t>
            </a:r>
            <a:endParaRPr b="0" lang="en-US" sz="2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rriculum focused mostly on history-taking</a:t>
            </a:r>
            <a:endParaRPr b="0" lang="en-US" sz="24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gnores MD communication with other healthcare provider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munication training insufficiently intens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ilure to recognize communication as skill</a:t>
            </a:r>
            <a:endParaRPr b="0" lang="en-US" sz="24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Bedside manner”--can’t be taught (or measured)</a:t>
            </a:r>
            <a:endParaRPr b="0" lang="en-US" sz="20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munication discounted as “soft,” “touchy-feely”</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ttle opportunity to practice, get feedback</a:t>
            </a:r>
            <a:endParaRPr b="0" lang="en-US" sz="20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arners struggle to apply general skills to specific situation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lture of medicine values technical proficiency over interpersonal skills</a:t>
            </a:r>
            <a:endParaRPr b="0" lang="en-US" sz="2800" spc="-1" strike="noStrike">
              <a:solidFill>
                <a:srgbClr val="000000"/>
              </a:solidFill>
              <a:latin typeface="Lucida Sans Unicode"/>
            </a:endParaRPr>
          </a:p>
        </p:txBody>
      </p:sp>
      <p:pic>
        <p:nvPicPr>
          <p:cNvPr id="380" name="Rectangle 2" descr=""/>
          <p:cNvPicPr/>
          <p:nvPr/>
        </p:nvPicPr>
        <p:blipFill>
          <a:blip r:embed="rId1"/>
          <a:stretch/>
        </p:blipFill>
        <p:spPr>
          <a:xfrm>
            <a:off x="231840" y="139680"/>
            <a:ext cx="8461440" cy="13111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7" dur="500"/>
                                        <p:tgtEl>
                                          <p:spTgt spid="3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2" dur="500"/>
                                        <p:tgtEl>
                                          <p:spTgt spid="379">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5" dur="500"/>
                                        <p:tgtEl>
                                          <p:spTgt spid="379">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20" dur="500"/>
                                        <p:tgtEl>
                                          <p:spTgt spid="379">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25" dur="500"/>
                                        <p:tgtEl>
                                          <p:spTgt spid="379">
                                            <p:txEl>
                                              <p:pRg st="4" end="4"/>
                                            </p:txEl>
                                          </p:spTgt>
                                        </p:tgtEl>
                                      </p:cBhvr>
                                    </p:animEffect>
                                  </p:childTnLst>
                                </p:cTn>
                              </p:par>
                              <p:par>
                                <p:cTn id="26" nodeType="withEffect" fill="hold" presetClass="entr" presetID="9">
                                  <p:stCondLst>
                                    <p:cond delay="0"/>
                                  </p:stCondLst>
                                  <p:childTnLst>
                                    <p:set>
                                      <p:cBhvr>
                                        <p:cTn id="27"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28" dur="500"/>
                                        <p:tgtEl>
                                          <p:spTgt spid="379">
                                            <p:txEl>
                                              <p:pRg st="5" end="5"/>
                                            </p:txEl>
                                          </p:spTgt>
                                        </p:tgtEl>
                                      </p:cBhvr>
                                    </p:animEffect>
                                  </p:childTnLst>
                                </p:cTn>
                              </p:par>
                              <p:par>
                                <p:cTn id="29" nodeType="withEffect" fill="hold" presetClass="entr" presetID="9">
                                  <p:stCondLst>
                                    <p:cond delay="0"/>
                                  </p:stCondLst>
                                  <p:childTnLst>
                                    <p:set>
                                      <p:cBhvr>
                                        <p:cTn id="30" dur="1" fill="hold">
                                          <p:stCondLst>
                                            <p:cond delay="0"/>
                                          </p:stCondLst>
                                        </p:cTn>
                                        <p:tgtEl>
                                          <p:spTgt spid="379">
                                            <p:txEl>
                                              <p:pRg st="6" end="6"/>
                                            </p:txEl>
                                          </p:spTgt>
                                        </p:tgtEl>
                                        <p:attrNameLst>
                                          <p:attrName>style.visibility</p:attrName>
                                        </p:attrNameLst>
                                      </p:cBhvr>
                                      <p:to>
                                        <p:strVal val="visible"/>
                                      </p:to>
                                    </p:set>
                                    <p:animEffect filter="dissolve" transition="in">
                                      <p:cBhvr additive="repl">
                                        <p:cTn id="31" dur="500"/>
                                        <p:tgtEl>
                                          <p:spTgt spid="379">
                                            <p:txEl>
                                              <p:pRg st="6" end="6"/>
                                            </p:txEl>
                                          </p:spTgt>
                                        </p:tgtEl>
                                      </p:cBhvr>
                                    </p:animEffect>
                                  </p:childTnLst>
                                </p:cTn>
                              </p:par>
                              <p:par>
                                <p:cTn id="32" nodeType="withEffect" fill="hold" presetClass="entr" presetID="9">
                                  <p:stCondLst>
                                    <p:cond delay="0"/>
                                  </p:stCondLst>
                                  <p:childTnLst>
                                    <p:set>
                                      <p:cBhvr>
                                        <p:cTn id="33" dur="1" fill="hold">
                                          <p:stCondLst>
                                            <p:cond delay="0"/>
                                          </p:stCondLst>
                                        </p:cTn>
                                        <p:tgtEl>
                                          <p:spTgt spid="379">
                                            <p:txEl>
                                              <p:pRg st="7" end="7"/>
                                            </p:txEl>
                                          </p:spTgt>
                                        </p:tgtEl>
                                        <p:attrNameLst>
                                          <p:attrName>style.visibility</p:attrName>
                                        </p:attrNameLst>
                                      </p:cBhvr>
                                      <p:to>
                                        <p:strVal val="visible"/>
                                      </p:to>
                                    </p:set>
                                    <p:animEffect filter="dissolve" transition="in">
                                      <p:cBhvr additive="repl">
                                        <p:cTn id="34" dur="500"/>
                                        <p:tgtEl>
                                          <p:spTgt spid="379">
                                            <p:txEl>
                                              <p:pRg st="7" end="7"/>
                                            </p:txEl>
                                          </p:spTgt>
                                        </p:tgtEl>
                                      </p:cBhvr>
                                    </p:animEffect>
                                  </p:childTnLst>
                                </p:cTn>
                              </p:par>
                              <p:par>
                                <p:cTn id="35" nodeType="withEffect" fill="hold" presetClass="entr" presetID="9">
                                  <p:stCondLst>
                                    <p:cond delay="0"/>
                                  </p:stCondLst>
                                  <p:childTnLst>
                                    <p:set>
                                      <p:cBhvr>
                                        <p:cTn id="36" dur="1" fill="hold">
                                          <p:stCondLst>
                                            <p:cond delay="0"/>
                                          </p:stCondLst>
                                        </p:cTn>
                                        <p:tgtEl>
                                          <p:spTgt spid="379">
                                            <p:txEl>
                                              <p:pRg st="8" end="8"/>
                                            </p:txEl>
                                          </p:spTgt>
                                        </p:tgtEl>
                                        <p:attrNameLst>
                                          <p:attrName>style.visibility</p:attrName>
                                        </p:attrNameLst>
                                      </p:cBhvr>
                                      <p:to>
                                        <p:strVal val="visible"/>
                                      </p:to>
                                    </p:set>
                                    <p:animEffect filter="dissolve" transition="in">
                                      <p:cBhvr additive="repl">
                                        <p:cTn id="37" dur="500"/>
                                        <p:tgtEl>
                                          <p:spTgt spid="379">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dissolve" transition="in">
                                      <p:cBhvr additive="repl">
                                        <p:cTn id="42" dur="500"/>
                                        <p:tgtEl>
                                          <p:spTgt spid="3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Title 1" descr=""/>
          <p:cNvPicPr/>
          <p:nvPr/>
        </p:nvPicPr>
        <p:blipFill>
          <a:blip r:embed="rId2"/>
          <a:stretch/>
        </p:blipFill>
        <p:spPr>
          <a:xfrm>
            <a:off x="195120" y="268200"/>
            <a:ext cx="8498160" cy="1158840"/>
          </a:xfrm>
          <a:prstGeom prst="rect">
            <a:avLst/>
          </a:prstGeom>
          <a:ln w="0">
            <a:noFill/>
          </a:ln>
        </p:spPr>
      </p:pic>
      <p:pic>
        <p:nvPicPr>
          <p:cNvPr id="416" name="Diagram 4" descr=""/>
          <p:cNvPicPr/>
          <p:nvPr/>
        </p:nvPicPr>
        <p:blipFill>
          <a:blip r:embed="rId3"/>
          <a:stretch/>
        </p:blipFill>
        <p:spPr>
          <a:xfrm>
            <a:off x="298440" y="1547640"/>
            <a:ext cx="7693200" cy="49863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txBox="1"/>
          <p:nvPr/>
        </p:nvSpPr>
        <p:spPr>
          <a:xfrm>
            <a:off x="228240" y="1447920"/>
            <a:ext cx="8077320" cy="462600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eb assessment</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ase-based: 2 cases, 2 different team approache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Knowledge, skills, attitudes assessed tied to coaching priorities and simulation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articipants complete web-based assessment pre and post training    </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ntrols take web assessment (pre and post) but without the training</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ther data sources</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Videos of simulation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Debriefing interviews with participants</a:t>
            </a:r>
            <a:endParaRPr b="0" lang="en-US" sz="23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457200" y="1599840"/>
            <a:ext cx="8153280" cy="4876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admitted to ICU with recurrent seizure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loading dose of Dilantin (300 TID), then switched to 300 QD</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hysician writing transfer orders to floor mistakenly writes for larger loading dose</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rror not noticed by nursing, pharmacy</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falls, hits head; Dilantin level 29.  Head CT normal</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thinks another seizure caused her fall</a:t>
            </a:r>
            <a:endParaRPr b="0" lang="en-US" sz="2800" spc="-1" strike="noStrike">
              <a:solidFill>
                <a:srgbClr val="000000"/>
              </a:solidFill>
              <a:latin typeface="Lucida Sans Unicode"/>
            </a:endParaRPr>
          </a:p>
        </p:txBody>
      </p:sp>
      <p:pic>
        <p:nvPicPr>
          <p:cNvPr id="420" name="Rectangle 2" descr=""/>
          <p:cNvPicPr/>
          <p:nvPr/>
        </p:nvPicPr>
        <p:blipFill>
          <a:blip r:embed="rId1"/>
          <a:stretch/>
        </p:blipFill>
        <p:spPr>
          <a:xfrm>
            <a:off x="420840" y="603360"/>
            <a:ext cx="8046720" cy="1195200"/>
          </a:xfrm>
          <a:prstGeom prst="rect">
            <a:avLst/>
          </a:prstGeom>
          <a:ln w="0">
            <a:noFill/>
          </a:ln>
        </p:spPr>
      </p:pic>
    </p:spTree>
  </p:cSld>
  <p:transition>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4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Rectangle 2" descr=""/>
          <p:cNvPicPr/>
          <p:nvPr/>
        </p:nvPicPr>
        <p:blipFill>
          <a:blip r:embed="rId2"/>
          <a:stretch/>
        </p:blipFill>
        <p:spPr>
          <a:xfrm>
            <a:off x="195120" y="268200"/>
            <a:ext cx="8498160" cy="1158840"/>
          </a:xfrm>
          <a:prstGeom prst="rect">
            <a:avLst/>
          </a:prstGeom>
          <a:ln w="0">
            <a:noFill/>
          </a:ln>
        </p:spPr>
      </p:pic>
      <p:pic>
        <p:nvPicPr>
          <p:cNvPr id="422" name="ErrDsc1_Discussion.mov" descr=""/>
          <p:cNvPicPr/>
          <p:nvPr/>
        </p:nvPicPr>
        <p:blipFill>
          <a:blip r:embed="rId3"/>
          <a:stretch/>
        </p:blipFill>
        <p:spPr>
          <a:xfrm>
            <a:off x="762120" y="1417680"/>
            <a:ext cx="7315200" cy="4754520"/>
          </a:xfrm>
          <a:prstGeom prst="rect">
            <a:avLst/>
          </a:prstGeom>
          <a:ln w="0">
            <a:noFill/>
          </a:ln>
        </p:spPr>
      </p:pic>
    </p:spTree>
  </p:cSld>
  <p:transition>
    <p:fade/>
  </p:transition>
  <p:timing>
    <p:tnLst>
      <p:par>
        <p:cTn id="327" dur="indefinite" restart="never" nodeType="tmRoot">
          <p:childTnLst>
            <p:seq>
              <p:cTn id="328" restart="whenNotActive" nodeType="interactiveSeq" fill="hold">
                <p:stCondLst>
                  <p:cond evt="onClick">
                    <p:tgtEl>
                      <p:spTgt spid="422"/>
                    </p:tgtEl>
                  </p:cond>
                </p:stCondLst>
                <p:childTnLst>
                  <p:par>
                    <p:cTn id="329" fill="hold">
                      <p:stCondLst>
                        <p:cond evt="onClick">
                          <p:tgtEl>
                            <p:spTgt spid="422"/>
                          </p:tgtEl>
                        </p:cond>
                      </p:stCondLst>
                      <p:childTnLst>
                        <p:par>
                          <p:cTn id="330" fill="hold">
                            <p:stCondLst>
                              <p:cond delay="0"/>
                            </p:stCondLst>
                            <p:childTnLst>
                              <p:par>
                                <p:cTn id="331" nodeType="clickEffect" fill="hold" presetClass="mediacall" presetID="2">
                                  <p:stCondLst>
                                    <p:cond delay="0"/>
                                  </p:stCondLst>
                                  <p:childTnLst>
                                    <p:cmd type="call" cmd="togglePause">
                                      <p:cBhvr>
                                        <p:cTn id="332" dur="1" fill="hold"/>
                                        <p:tgtEl>
                                          <p:spTgt spid="4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Rectangle 2" descr=""/>
          <p:cNvPicPr/>
          <p:nvPr/>
        </p:nvPicPr>
        <p:blipFill>
          <a:blip r:embed="rId2"/>
          <a:stretch/>
        </p:blipFill>
        <p:spPr>
          <a:xfrm>
            <a:off x="195120" y="268200"/>
            <a:ext cx="8498160" cy="1158840"/>
          </a:xfrm>
          <a:prstGeom prst="rect">
            <a:avLst/>
          </a:prstGeom>
          <a:ln w="0">
            <a:noFill/>
          </a:ln>
        </p:spPr>
      </p:pic>
      <p:pic>
        <p:nvPicPr>
          <p:cNvPr id="424" name="ErrDsc2_Planning.mpg" descr=""/>
          <p:cNvPicPr/>
          <p:nvPr/>
        </p:nvPicPr>
        <p:blipFill>
          <a:blip r:embed="rId3"/>
          <a:stretch/>
        </p:blipFill>
        <p:spPr>
          <a:xfrm>
            <a:off x="685800" y="1417680"/>
            <a:ext cx="7543800" cy="5135400"/>
          </a:xfrm>
          <a:prstGeom prst="rect">
            <a:avLst/>
          </a:prstGeom>
          <a:ln w="0">
            <a:noFill/>
          </a:ln>
        </p:spPr>
      </p:pic>
    </p:spTree>
  </p:cSld>
  <p:transition>
    <p:fade/>
  </p:transition>
  <p:timing>
    <p:tnLst>
      <p:par>
        <p:cTn id="333" dur="indefinite" restart="never" nodeType="tmRoot">
          <p:childTnLst>
            <p:seq>
              <p:cTn id="334" restart="whenNotActive" nodeType="interactiveSeq" fill="hold">
                <p:stCondLst>
                  <p:cond evt="onClick">
                    <p:tgtEl>
                      <p:spTgt spid="424"/>
                    </p:tgtEl>
                  </p:cond>
                </p:stCondLst>
                <p:childTnLst>
                  <p:par>
                    <p:cTn id="335" fill="hold">
                      <p:stCondLst>
                        <p:cond evt="onClick">
                          <p:tgtEl>
                            <p:spTgt spid="424"/>
                          </p:tgtEl>
                        </p:cond>
                      </p:stCondLst>
                      <p:childTnLst>
                        <p:par>
                          <p:cTn id="336" fill="hold">
                            <p:stCondLst>
                              <p:cond delay="0"/>
                            </p:stCondLst>
                            <p:childTnLst>
                              <p:par>
                                <p:cTn id="337" nodeType="clickEffect" fill="hold" presetClass="mediacall" presetID="2">
                                  <p:stCondLst>
                                    <p:cond delay="0"/>
                                  </p:stCondLst>
                                  <p:childTnLst>
                                    <p:cmd type="call" cmd="togglePause">
                                      <p:cBhvr>
                                        <p:cTn id="338" dur="1"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Rectangle 2" descr=""/>
          <p:cNvPicPr/>
          <p:nvPr/>
        </p:nvPicPr>
        <p:blipFill>
          <a:blip r:embed="rId2"/>
          <a:stretch/>
        </p:blipFill>
        <p:spPr>
          <a:xfrm>
            <a:off x="195120" y="268200"/>
            <a:ext cx="8498160" cy="1158840"/>
          </a:xfrm>
          <a:prstGeom prst="rect">
            <a:avLst/>
          </a:prstGeom>
          <a:ln w="0">
            <a:noFill/>
          </a:ln>
        </p:spPr>
      </p:pic>
      <p:pic>
        <p:nvPicPr>
          <p:cNvPr id="426" name="ErrDsc3_Patient.wmv" descr=""/>
          <p:cNvPicPr/>
          <p:nvPr/>
        </p:nvPicPr>
        <p:blipFill>
          <a:blip r:embed="rId3"/>
          <a:stretch/>
        </p:blipFill>
        <p:spPr>
          <a:xfrm>
            <a:off x="457200" y="1417680"/>
            <a:ext cx="7772400" cy="5135400"/>
          </a:xfrm>
          <a:prstGeom prst="rect">
            <a:avLst/>
          </a:prstGeom>
          <a:ln w="0">
            <a:noFill/>
          </a:ln>
        </p:spPr>
      </p:pic>
    </p:spTree>
  </p:cSld>
  <p:transition>
    <p:fade/>
  </p:transition>
  <p:timing>
    <p:tnLst>
      <p:par>
        <p:cTn id="339" dur="indefinite" restart="never" nodeType="tmRoot">
          <p:childTnLst>
            <p:seq>
              <p:cTn id="340" restart="whenNotActive" nodeType="interactiveSeq" fill="hold">
                <p:stCondLst>
                  <p:cond evt="onClick">
                    <p:tgtEl>
                      <p:spTgt spid="426"/>
                    </p:tgtEl>
                  </p:cond>
                </p:stCondLst>
                <p:childTnLst>
                  <p:par>
                    <p:cTn id="341" fill="hold">
                      <p:stCondLst>
                        <p:cond evt="onClick">
                          <p:tgtEl>
                            <p:spTgt spid="426"/>
                          </p:tgtEl>
                        </p:cond>
                      </p:stCondLst>
                      <p:childTnLst>
                        <p:par>
                          <p:cTn id="342" fill="hold">
                            <p:stCondLst>
                              <p:cond delay="0"/>
                            </p:stCondLst>
                            <p:childTnLst>
                              <p:par>
                                <p:cTn id="343" nodeType="clickEffect" fill="hold" presetClass="mediacall" presetID="2">
                                  <p:stCondLst>
                                    <p:cond delay="0"/>
                                  </p:stCondLst>
                                  <p:childTnLst>
                                    <p:cmd type="call" cmd="togglePause">
                                      <p:cBhvr>
                                        <p:cTn id="344" dur="1" fill="hold"/>
                                        <p:tgtEl>
                                          <p:spTgt spid="4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Title 1" descr=""/>
          <p:cNvPicPr/>
          <p:nvPr/>
        </p:nvPicPr>
        <p:blipFill>
          <a:blip r:embed="rId2"/>
          <a:stretch/>
        </p:blipFill>
        <p:spPr>
          <a:xfrm>
            <a:off x="195120" y="268200"/>
            <a:ext cx="8498160" cy="1158840"/>
          </a:xfrm>
          <a:prstGeom prst="rect">
            <a:avLst/>
          </a:prstGeom>
          <a:ln w="0">
            <a:noFill/>
          </a:ln>
        </p:spPr>
      </p:pic>
      <p:pic>
        <p:nvPicPr>
          <p:cNvPr id="428" name="Picture 2" descr=""/>
          <p:cNvPicPr/>
          <p:nvPr/>
        </p:nvPicPr>
        <p:blipFill>
          <a:blip r:embed="rId3"/>
          <a:stretch/>
        </p:blipFill>
        <p:spPr>
          <a:xfrm>
            <a:off x="601560" y="1600200"/>
            <a:ext cx="7940880" cy="452592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Title 1" descr=""/>
          <p:cNvPicPr/>
          <p:nvPr/>
        </p:nvPicPr>
        <p:blipFill>
          <a:blip r:embed="rId2"/>
          <a:stretch/>
        </p:blipFill>
        <p:spPr>
          <a:xfrm>
            <a:off x="195120" y="268200"/>
            <a:ext cx="8498160" cy="1158840"/>
          </a:xfrm>
          <a:prstGeom prst="rect">
            <a:avLst/>
          </a:prstGeom>
          <a:ln w="0">
            <a:noFill/>
          </a:ln>
        </p:spPr>
      </p:pic>
      <p:pic>
        <p:nvPicPr>
          <p:cNvPr id="430" name="Picture 2" descr=""/>
          <p:cNvPicPr/>
          <p:nvPr/>
        </p:nvPicPr>
        <p:blipFill>
          <a:blip r:embed="rId3"/>
          <a:stretch/>
        </p:blipFill>
        <p:spPr>
          <a:xfrm>
            <a:off x="457200" y="1722600"/>
            <a:ext cx="7940520" cy="45259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Simulation design</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ximizing learning potential of simulation</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killed coach essential</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ximizing case fidelity</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ature of events</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oice of case</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ctor training</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professional interaction</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le of standardized team member in simulation</a:t>
            </a:r>
            <a:endParaRPr b="0" lang="en-US" sz="1800" spc="-1" strike="noStrike">
              <a:solidFill>
                <a:srgbClr val="000000"/>
              </a:solidFill>
              <a:latin typeface="Lucida Sans Unicode"/>
            </a:endParaRPr>
          </a:p>
          <a:p>
            <a:pPr lvl="4" marL="13716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Especially important in engaging “Silent team membe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Simulation implementation</a:t>
            </a:r>
            <a:endParaRPr b="0" lang="en-US" sz="2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naging logistics of recruitment, scheduling a major undertaking</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ordinate schedules of two clinically active subjects, 3 actors, risk manager coach, at least two team members for each sess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32"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31">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31">
                                            <p:txEl>
                                              <p:pRg st="5" end="5"/>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31">
                                            <p:txEl>
                                              <p:pRg st="7" end="7"/>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431">
                                            <p:txEl>
                                              <p:pRg st="8" end="8"/>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431">
                                            <p:txEl>
                                              <p:pRg st="9" end="9"/>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31">
                                            <p:txEl>
                                              <p:pRg st="10" end="1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31">
                                            <p:txEl>
                                              <p:pRg st="11" end="11"/>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3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mmersive simulation around communication possible outside simulation cent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 senior clinicians found experience educationa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ding expert coaching, feedback is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gical challenges can be substant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ltiple opportunities for communication simulations on other interprofessional top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4"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433">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atient satisfac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thics, professionalism</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mplaints, malpractice claim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ealth outcom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fety culture, transparency; disclosure and reporting of adverse events and error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2" name="Rectangle 2" descr=""/>
          <p:cNvPicPr/>
          <p:nvPr/>
        </p:nvPicPr>
        <p:blipFill>
          <a:blip r:embed="rId1"/>
          <a:stretch/>
        </p:blipFill>
        <p:spPr>
          <a:xfrm>
            <a:off x="195120" y="268200"/>
            <a:ext cx="8541000" cy="115884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49" dur="500"/>
                                        <p:tgtEl>
                                          <p:spTgt spid="38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54" dur="500"/>
                                        <p:tgtEl>
                                          <p:spTgt spid="38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59" dur="500"/>
                                        <p:tgtEl>
                                          <p:spTgt spid="381">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64" dur="500"/>
                                        <p:tgtEl>
                                          <p:spTgt spid="381">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69"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mas Gallagher (PI) – Medic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ynne Robins-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rah Shannon – Nurs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ggy Odegard – Pharm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ra Kim – 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 Brock – 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olyn Prouty – Project Manag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dawni Palmer – Support Staf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rew Wright-Surgery</a:t>
            </a:r>
            <a:endParaRPr b="0" lang="en-US" sz="2700" spc="-1" strike="noStrike">
              <a:solidFill>
                <a:srgbClr val="000000"/>
              </a:solidFill>
              <a:latin typeface="Lucida Sans Unicode"/>
            </a:endParaRPr>
          </a:p>
        </p:txBody>
      </p:sp>
      <p:pic>
        <p:nvPicPr>
          <p:cNvPr id="436" name="Rectangle 2" descr=""/>
          <p:cNvPicPr/>
          <p:nvPr/>
        </p:nvPicPr>
        <p:blipFill>
          <a:blip r:embed="rId1"/>
          <a:stretch/>
        </p:blipFill>
        <p:spPr>
          <a:xfrm>
            <a:off x="225360" y="268200"/>
            <a:ext cx="8467920" cy="11588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lows learner to practice complex communication skills, receive feedback in safe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lows learners to confront communication dilemmas that are important but uncomm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ypes of simula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ole plays, interactive computer cases, rehearsal)</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andardized patients</a:t>
            </a:r>
            <a:endParaRPr b="0" lang="en-US" sz="2400" spc="-1" strike="noStrike">
              <a:solidFill>
                <a:srgbClr val="000000"/>
              </a:solidFill>
              <a:latin typeface="Lucida Sans Unicode"/>
            </a:endParaRPr>
          </a:p>
        </p:txBody>
      </p:sp>
      <p:pic>
        <p:nvPicPr>
          <p:cNvPr id="384" name="Rectangle 2" descr=""/>
          <p:cNvPicPr/>
          <p:nvPr/>
        </p:nvPicPr>
        <p:blipFill>
          <a:blip r:embed="rId1"/>
          <a:stretch/>
        </p:blipFill>
        <p:spPr>
          <a:xfrm>
            <a:off x="268200" y="219240"/>
            <a:ext cx="8425080" cy="1207800"/>
          </a:xfrm>
          <a:prstGeom prst="rect">
            <a:avLst/>
          </a:prstGeom>
          <a:ln w="0">
            <a:noFill/>
          </a:ln>
        </p:spPr>
      </p:pic>
    </p:spTree>
  </p:cSld>
  <p:transition>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76" dur="500"/>
                                        <p:tgtEl>
                                          <p:spTgt spid="38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81" dur="500"/>
                                        <p:tgtEl>
                                          <p:spTgt spid="38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83">
                                            <p:txEl>
                                              <p:pRg st="2" end="2"/>
                                            </p:txEl>
                                          </p:spTgt>
                                        </p:tgtEl>
                                        <p:attrNameLst>
                                          <p:attrName>style.visibility</p:attrName>
                                        </p:attrNameLst>
                                      </p:cBhvr>
                                      <p:to>
                                        <p:strVal val="visible"/>
                                      </p:to>
                                    </p:set>
                                    <p:animEffect filter="dissolve" transition="in">
                                      <p:cBhvr additive="repl">
                                        <p:cTn id="86" dur="500"/>
                                        <p:tgtEl>
                                          <p:spTgt spid="383">
                                            <p:txEl>
                                              <p:pRg st="2" end="2"/>
                                            </p:txEl>
                                          </p:spTgt>
                                        </p:tgtEl>
                                      </p:cBhvr>
                                    </p:animEffect>
                                  </p:childTnLst>
                                </p:cTn>
                              </p:par>
                              <p:par>
                                <p:cTn id="87" nodeType="withEffect" fill="hold" presetClass="entr" presetID="9">
                                  <p:stCondLst>
                                    <p:cond delay="0"/>
                                  </p:stCondLst>
                                  <p:childTnLst>
                                    <p:set>
                                      <p:cBhvr>
                                        <p:cTn id="88"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89" dur="500"/>
                                        <p:tgtEl>
                                          <p:spTgt spid="383">
                                            <p:txEl>
                                              <p:pRg st="3" end="3"/>
                                            </p:txEl>
                                          </p:spTgt>
                                        </p:tgtEl>
                                      </p:cBhvr>
                                    </p:animEffect>
                                  </p:childTnLst>
                                </p:cTn>
                              </p:par>
                              <p:par>
                                <p:cTn id="90" nodeType="withEffect" fill="hold" presetClass="entr" presetID="9">
                                  <p:stCondLst>
                                    <p:cond delay="0"/>
                                  </p:stCondLst>
                                  <p:childTnLst>
                                    <p:set>
                                      <p:cBhvr>
                                        <p:cTn id="91" dur="1" fill="hold">
                                          <p:stCondLst>
                                            <p:cond delay="0"/>
                                          </p:stCondLst>
                                        </p:cTn>
                                        <p:tgtEl>
                                          <p:spTgt spid="383">
                                            <p:txEl>
                                              <p:pRg st="4" end="4"/>
                                            </p:txEl>
                                          </p:spTgt>
                                        </p:tgtEl>
                                        <p:attrNameLst>
                                          <p:attrName>style.visibility</p:attrName>
                                        </p:attrNameLst>
                                      </p:cBhvr>
                                      <p:to>
                                        <p:strVal val="visible"/>
                                      </p:to>
                                    </p:set>
                                    <p:animEffect filter="dissolve" transition="in">
                                      <p:cBhvr additive="repl">
                                        <p:cTn id="92"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andardized patients are individuals trained to:</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sent consistent scenario</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e reliable observers of behavior</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ffer feedback</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tensively validated as assessment tool</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ow used in high-stakes certifying exam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creasingly used as research methodology</a:t>
            </a:r>
            <a:endParaRPr b="0" lang="en-US" sz="2800" spc="-1" strike="noStrike">
              <a:solidFill>
                <a:srgbClr val="000000"/>
              </a:solidFill>
              <a:latin typeface="Lucida Sans Unicode"/>
            </a:endParaRPr>
          </a:p>
        </p:txBody>
      </p:sp>
      <p:pic>
        <p:nvPicPr>
          <p:cNvPr id="386" name="Rectangle 2" descr=""/>
          <p:cNvPicPr/>
          <p:nvPr/>
        </p:nvPicPr>
        <p:blipFill>
          <a:blip r:embed="rId1"/>
          <a:stretch/>
        </p:blipFill>
        <p:spPr>
          <a:xfrm>
            <a:off x="225360" y="268200"/>
            <a:ext cx="8467920" cy="1158840"/>
          </a:xfrm>
          <a:prstGeom prst="rect">
            <a:avLst/>
          </a:prstGeom>
          <a:ln w="0">
            <a:noFill/>
          </a:ln>
        </p:spPr>
      </p:pic>
    </p:spTree>
  </p:cSld>
  <p:transition>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99" dur="500"/>
                                        <p:tgtEl>
                                          <p:spTgt spid="385">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102" dur="500"/>
                                        <p:tgtEl>
                                          <p:spTgt spid="385">
                                            <p:txEl>
                                              <p:pRg st="1" end="1"/>
                                            </p:txEl>
                                          </p:spTgt>
                                        </p:tgtEl>
                                      </p:cBhvr>
                                    </p:animEffect>
                                  </p:childTnLst>
                                </p:cTn>
                              </p:par>
                              <p:par>
                                <p:cTn id="103" nodeType="withEffect" fill="hold" presetClass="entr" presetID="9">
                                  <p:stCondLst>
                                    <p:cond delay="0"/>
                                  </p:stCondLst>
                                  <p:childTnLst>
                                    <p:set>
                                      <p:cBhvr>
                                        <p:cTn id="104"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105" dur="500"/>
                                        <p:tgtEl>
                                          <p:spTgt spid="385">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108" dur="500"/>
                                        <p:tgtEl>
                                          <p:spTgt spid="385">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85">
                                            <p:txEl>
                                              <p:pRg st="4" end="4"/>
                                            </p:txEl>
                                          </p:spTgt>
                                        </p:tgtEl>
                                        <p:attrNameLst>
                                          <p:attrName>style.visibility</p:attrName>
                                        </p:attrNameLst>
                                      </p:cBhvr>
                                      <p:to>
                                        <p:strVal val="visible"/>
                                      </p:to>
                                    </p:set>
                                    <p:animEffect filter="dissolve" transition="in">
                                      <p:cBhvr additive="repl">
                                        <p:cTn id="113" dur="500"/>
                                        <p:tgtEl>
                                          <p:spTgt spid="385">
                                            <p:txEl>
                                              <p:pRg st="4" end="4"/>
                                            </p:txEl>
                                          </p:spTgt>
                                        </p:tgtEl>
                                      </p:cBhvr>
                                    </p:animEffect>
                                  </p:childTnLst>
                                </p:cTn>
                              </p:par>
                              <p:par>
                                <p:cTn id="114" nodeType="withEffect" fill="hold" presetClass="entr" presetID="9">
                                  <p:stCondLst>
                                    <p:cond delay="0"/>
                                  </p:stCondLst>
                                  <p:childTnLst>
                                    <p:set>
                                      <p:cBhvr>
                                        <p:cTn id="115" dur="1" fill="hold">
                                          <p:stCondLst>
                                            <p:cond delay="0"/>
                                          </p:stCondLst>
                                        </p:cTn>
                                        <p:tgtEl>
                                          <p:spTgt spid="385">
                                            <p:txEl>
                                              <p:pRg st="5" end="5"/>
                                            </p:txEl>
                                          </p:spTgt>
                                        </p:tgtEl>
                                        <p:attrNameLst>
                                          <p:attrName>style.visibility</p:attrName>
                                        </p:attrNameLst>
                                      </p:cBhvr>
                                      <p:to>
                                        <p:strVal val="visible"/>
                                      </p:to>
                                    </p:set>
                                    <p:animEffect filter="dissolve" transition="in">
                                      <p:cBhvr additive="repl">
                                        <p:cTn id="116" dur="500"/>
                                        <p:tgtEl>
                                          <p:spTgt spid="385">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85">
                                            <p:txEl>
                                              <p:pRg st="6" end="6"/>
                                            </p:txEl>
                                          </p:spTgt>
                                        </p:tgtEl>
                                        <p:attrNameLst>
                                          <p:attrName>style.visibility</p:attrName>
                                        </p:attrNameLst>
                                      </p:cBhvr>
                                      <p:to>
                                        <p:strVal val="visible"/>
                                      </p:to>
                                    </p:set>
                                    <p:animEffect filter="dissolve" transition="in">
                                      <p:cBhvr additive="repl">
                                        <p:cTn id="121" dur="500"/>
                                        <p:tgtEl>
                                          <p:spTgt spid="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communication as a skil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learned, practiced, improved, discussed with colleag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thy of learner’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eed cases that take learners out of their comfort zone without overwhelming them</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bility to practice, receive feedback on key skills</a:t>
            </a:r>
            <a:endParaRPr b="0" lang="en-US" sz="2700" spc="-1" strike="noStrike">
              <a:solidFill>
                <a:srgbClr val="000000"/>
              </a:solidFill>
              <a:latin typeface="Lucida Sans Unicode"/>
            </a:endParaRPr>
          </a:p>
        </p:txBody>
      </p:sp>
      <p:pic>
        <p:nvPicPr>
          <p:cNvPr id="388"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28" dur="500"/>
                                        <p:tgtEl>
                                          <p:spTgt spid="3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133" dur="500"/>
                                        <p:tgtEl>
                                          <p:spTgt spid="38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38" dur="500"/>
                                        <p:tgtEl>
                                          <p:spTgt spid="387">
                                            <p:txEl>
                                              <p:pRg st="2" end="2"/>
                                            </p:txEl>
                                          </p:spTgt>
                                        </p:tgtEl>
                                      </p:cBhvr>
                                    </p:animEffect>
                                  </p:childTnLst>
                                </p:cTn>
                              </p:par>
                              <p:par>
                                <p:cTn id="139" nodeType="withEffect" fill="hold" presetClass="entr" presetID="9">
                                  <p:stCondLst>
                                    <p:cond delay="0"/>
                                  </p:stCondLst>
                                  <p:childTnLst>
                                    <p:set>
                                      <p:cBhvr>
                                        <p:cTn id="140" dur="1" fill="hold">
                                          <p:stCondLst>
                                            <p:cond delay="0"/>
                                          </p:stCondLst>
                                        </p:cTn>
                                        <p:tgtEl>
                                          <p:spTgt spid="387">
                                            <p:txEl>
                                              <p:pRg st="3" end="3"/>
                                            </p:txEl>
                                          </p:spTgt>
                                        </p:tgtEl>
                                        <p:attrNameLst>
                                          <p:attrName>style.visibility</p:attrName>
                                        </p:attrNameLst>
                                      </p:cBhvr>
                                      <p:to>
                                        <p:strVal val="visible"/>
                                      </p:to>
                                    </p:set>
                                    <p:animEffect filter="dissolve" transition="in">
                                      <p:cBhvr additive="repl">
                                        <p:cTn id="141" dur="500"/>
                                        <p:tgtEl>
                                          <p:spTgt spid="387">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87">
                                            <p:txEl>
                                              <p:pRg st="4" end="4"/>
                                            </p:txEl>
                                          </p:spTgt>
                                        </p:tgtEl>
                                        <p:attrNameLst>
                                          <p:attrName>style.visibility</p:attrName>
                                        </p:attrNameLst>
                                      </p:cBhvr>
                                      <p:to>
                                        <p:strVal val="visible"/>
                                      </p:to>
                                    </p:set>
                                    <p:animEffect filter="dissolve" transition="in">
                                      <p:cBhvr additive="repl">
                                        <p:cTn id="146" dur="5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eating high-fidelity cas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dentifying key observable skill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munication incredibly complex task</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asy for learners to express socially desirable behaviors</a:t>
            </a:r>
            <a:endParaRPr b="0" lang="en-US" sz="2800" spc="-1" strike="noStrike">
              <a:solidFill>
                <a:srgbClr val="000000"/>
              </a:solidFill>
              <a:latin typeface="Lucida Sans Unicode"/>
            </a:endParaRPr>
          </a:p>
        </p:txBody>
      </p:sp>
      <p:pic>
        <p:nvPicPr>
          <p:cNvPr id="390"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153" dur="500"/>
                                        <p:tgtEl>
                                          <p:spTgt spid="389">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158" dur="500"/>
                                        <p:tgtEl>
                                          <p:spTgt spid="389">
                                            <p:txEl>
                                              <p:pRg st="1" end="1"/>
                                            </p:txEl>
                                          </p:spTgt>
                                        </p:tgtEl>
                                      </p:cBhvr>
                                    </p:animEffect>
                                  </p:childTnLst>
                                </p:cTn>
                              </p:par>
                              <p:par>
                                <p:cTn id="159" nodeType="withEffect" fill="hold" presetClass="entr" presetID="9">
                                  <p:stCondLst>
                                    <p:cond delay="0"/>
                                  </p:stCondLst>
                                  <p:childTnLst>
                                    <p:set>
                                      <p:cBhvr>
                                        <p:cTn id="160"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61" dur="500"/>
                                        <p:tgtEl>
                                          <p:spTgt spid="38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89">
                                            <p:txEl>
                                              <p:pRg st="3" end="3"/>
                                            </p:txEl>
                                          </p:spTgt>
                                        </p:tgtEl>
                                        <p:attrNameLst>
                                          <p:attrName>style.visibility</p:attrName>
                                        </p:attrNameLst>
                                      </p:cBhvr>
                                      <p:to>
                                        <p:strVal val="visible"/>
                                      </p:to>
                                    </p:set>
                                    <p:animEffect filter="dissolve" transition="in">
                                      <p:cBhvr additive="repl">
                                        <p:cTn id="166"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signed to assess whether simulation improves healthcare workers’ knowledge, attitudes, and skills in two area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eam communication about error</a:t>
            </a:r>
            <a:endParaRPr b="0" lang="en-US" sz="32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rror disclosure to patient</a:t>
            </a:r>
            <a:endParaRPr b="0" lang="en-US" sz="3200" spc="-1" strike="noStrike">
              <a:solidFill>
                <a:srgbClr val="000000"/>
              </a:solidFill>
              <a:latin typeface="Lucida Sans Unicode"/>
            </a:endParaRPr>
          </a:p>
        </p:txBody>
      </p:sp>
      <p:pic>
        <p:nvPicPr>
          <p:cNvPr id="392" name="Rectangle 2" descr=""/>
          <p:cNvPicPr/>
          <p:nvPr/>
        </p:nvPicPr>
        <p:blipFill>
          <a:blip r:embed="rId1"/>
          <a:stretch/>
        </p:blipFill>
        <p:spPr>
          <a:xfrm>
            <a:off x="195120" y="268200"/>
            <a:ext cx="8498160" cy="1158840"/>
          </a:xfrm>
          <a:prstGeom prst="rect">
            <a:avLst/>
          </a:prstGeom>
          <a:ln w="0">
            <a:noFill/>
          </a:ln>
        </p:spPr>
      </p:pic>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9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9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owing experimentation with disclosure approach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standard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 laws re disclosure, ap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reased emphasis on transparency in healthcare generally</a:t>
            </a:r>
            <a:endParaRPr b="0" lang="en-US" sz="2700" spc="-1" strike="noStrike">
              <a:solidFill>
                <a:srgbClr val="000000"/>
              </a:solidFill>
              <a:latin typeface="Lucida Sans Unicode"/>
            </a:endParaRPr>
          </a:p>
        </p:txBody>
      </p:sp>
      <p:pic>
        <p:nvPicPr>
          <p:cNvPr id="394" name="Rectangle 2" descr=""/>
          <p:cNvPicPr/>
          <p:nvPr/>
        </p:nvPicPr>
        <p:blipFill>
          <a:blip r:embed="rId1"/>
          <a:stretch/>
        </p:blipFill>
        <p:spPr>
          <a:xfrm>
            <a:off x="231840" y="268200"/>
            <a:ext cx="8461440" cy="1158840"/>
          </a:xfrm>
          <a:prstGeom prst="rect">
            <a:avLst/>
          </a:prstGeom>
          <a:ln w="0">
            <a:noFill/>
          </a:ln>
        </p:spPr>
      </p:pic>
    </p:spTree>
  </p:cSld>
  <p:transition>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2:32:09Z</dcterms:created>
  <dc:creator>Thomas Gallagher</dc:creator>
  <dc:description/>
  <dc:language>en-US</dc:language>
  <cp:lastModifiedBy>william.hyde</cp:lastModifiedBy>
  <dcterms:modified xsi:type="dcterms:W3CDTF">2009-01-02T14:01:58Z</dcterms:modified>
  <cp:revision>35</cp:revision>
  <dc:subject/>
  <dc:title>Using Simulation to Enhance Team Communication and Error Disclosure to Patients</dc:title>
</cp:coreProperties>
</file>