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9E08A6-7EE0-4130-BD74-BEBF06400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DF2949-E266-47A8-8686-6D0F3CE92A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ing Lives Using Electronic Systems (BLU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399C4F-9218-4EE1-A970-D676A6F3B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8BA2F1-950E-4870-8624-C625D66812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ECF536-065D-41B7-8AED-6A41DD45E5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04B949-EE04-4E6D-8374-E41113A528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AA: Health Insurance Portability and Accountability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B3DAEA-ECC8-4399-91BC-3DCFB2437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22875E-151D-4C71-BA1C-82B487345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A – Delta Health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D97124-6416-40CD-99CC-AEA481C95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1AF69C-CBB0-4128-8527-D6EE111B81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8FF5E1-A724-4F17-9F0D-90CEAC4FF2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2F05E7-7EF8-45B7-BB3C-93AE8DADA1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C7CC1C-5026-4383-B771-BF3168F78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Health Alliance insignia and motto, Today, Tomorrow, Together is in the lower righthand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F3FA10-BBB3-49BD-BAD1-DA3EDD969F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C2DB1F-E94F-4085-9E1A-8FFFEC12A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1A83D8-4150-4C38-8695-AD9734850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C87592-A193-4BB6-BE06-1BA4A92679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456F3D-A0BE-4148-8FAE-94E4A3227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C0FE6C-277A-4567-A447-5043E2D61A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 Optimizers: Wide Area Network Optim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00359A-3D02-4F79-B0E2-695CC7E1B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A3C1B8-4232-409D-A5EC-DF26CF9104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16B7C5-24C9-4D08-9FA2-137D0AE06A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76320" y="701640"/>
            <a:ext cx="4762440" cy="3571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5040" y="4446360"/>
            <a:ext cx="5047920" cy="4133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0e62"/>
                </a:solidFill>
                <a:latin typeface="Arial"/>
              </a:rPr>
              <a:t>Illustration of five-part logic model starting with Inputs, Activities, Outputs, Outcomes, and I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381EAD-6012-4C2E-AA0C-25D317E2F7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Health Alliance icon and motto: Today. Tomorrow.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5651C4-F2CA-4F09-8098-D208D9313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charts shows by respondent categories, the percent of respondents identifying a particular issue as being a major factor driving the need for an Electronic Health Record (EH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602E1D-F69A-4E4D-B01C-23ADBAB07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B11201-B529-44AA-B4B5-D6EBF7365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 showing the counties of Mississippi and the counties of the Better Living  Using Electronic BLUES Target Service area in western Mississippi are so demar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counties, Coahoma, Washington, Hinds, are highlighted in yellow indicating current EHR sites for thi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ounties are highlighted in blue indicating service area.  Those counties from north to south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, Quitman, Tallahatchie, Bolivar, Sunflower, Humphreys, Sharkey, Yazoo, Issaquena, Madison, Warren, Rankin, Claiborne, Copiah, Si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EC4340-AFE7-49EC-A084-8F32AED09A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: 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9EB694-6F3F-478F-AB10-EAD284CD10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3209A9-778D-4560-A04F-8F4D32C35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 of a winding road i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E86CFF-586E-4F08-98F0-E2DDBD0E5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87E-08E3-4D3D-B5F9-B75F8EB2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8E6-E16D-4791-AE08-7137AA4E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B31-3D14-48E7-81AA-34BF66E6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544-16DB-4BC3-A05E-5D7376EA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BF67-E70F-40EC-96AA-0182EB55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6E2E-0DF6-4806-9025-9F494E0E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96E2-EF2F-4144-B7B0-6F56FC69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875F-470E-46C4-B905-5582D866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C949-584A-4BA3-B4E2-2C2D3B32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870C-A364-4CB6-A4BC-E136AF92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CEA5-F510-490C-A7A5-D1957BCF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BA7-30EE-4496-A93D-9F6D8B0A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AC5-00ED-4830-B40E-14FF1E9A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D67C-76D2-4D7A-8E68-1825218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051E-828C-4A98-AFDE-A0561867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BEFC-EB2C-4467-8FE8-E46F8041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9CBC-344E-43EF-B820-4B479BAB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1E8-1560-42E7-8FCD-9CC56739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DC8-E5EE-4C6A-BC0E-418B73F1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00E-247E-4393-821B-7B2B675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D6D-B364-4FD5-BE60-DC9DEA2B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55E-1067-43B0-926F-9B2CCCB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16D-865F-4FA6-B893-82DBEBDA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078-202D-4582-9223-9D3E44D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223b"/>
            </a:gs>
            <a:gs pos="50000">
              <a:srgbClr val="3193ff"/>
            </a:gs>
            <a:gs pos="100000">
              <a:srgbClr val="0b22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100000">
                <a:srgbClr val="808000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00c800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44360" y="1447920"/>
            <a:ext cx="560520" cy="4222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00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C53C-2BF0-4F14-9BB4-C586BD4DFA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223b"/>
            </a:gs>
            <a:gs pos="50000">
              <a:srgbClr val="3193ff"/>
            </a:gs>
            <a:gs pos="100000">
              <a:srgbClr val="0b22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9622-EC1D-4D48-AFD1-F93C5A02C022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693720"/>
            <a:ext cx="9144000" cy="52070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DHA logo april 2007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1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4"/>
          <p:cNvSpPr/>
          <p:nvPr/>
        </p:nvSpPr>
        <p:spPr>
          <a:xfrm>
            <a:off x="3505320" y="2503440"/>
            <a:ext cx="5486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93432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ge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200400" y="2476440"/>
            <a:ext cx="15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5784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orr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685960" y="2457360"/>
            <a:ext cx="514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800440" y="2552760"/>
            <a:ext cx="5848200" cy="0"/>
          </a:xfrm>
          <a:prstGeom prst="line">
            <a:avLst/>
          </a:prstGeom>
          <a:ln w="12600">
            <a:solidFill>
              <a:srgbClr val="31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981600" y="3238560"/>
            <a:ext cx="460980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LUES Proj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en C. Fox, Ph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ef Executive Offic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CREAT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HR Analytic Module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re to look for data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art review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ing harmony within the existing system and new system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king mechanism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38120" y="1657440"/>
            <a:ext cx="834408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52160" y="2898360"/>
            <a:ext cx="6667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IMPLE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137160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DHA logo april 2007"/>
          <p:cNvPicPr/>
          <p:nvPr/>
        </p:nvPicPr>
        <p:blipFill>
          <a:blip r:embed="rId1"/>
          <a:stretch/>
        </p:blipFill>
        <p:spPr>
          <a:xfrm>
            <a:off x="320040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0" name="Group 4"/>
          <p:cNvGrpSpPr/>
          <p:nvPr/>
        </p:nvGrpSpPr>
        <p:grpSpPr>
          <a:xfrm>
            <a:off x="307800" y="1409760"/>
            <a:ext cx="8553240" cy="5447880"/>
            <a:chOff x="307800" y="1409760"/>
            <a:chExt cx="8553240" cy="5447880"/>
          </a:xfrm>
        </p:grpSpPr>
        <p:sp>
          <p:nvSpPr>
            <p:cNvPr id="161" name="Rectangle 5"/>
            <p:cNvSpPr/>
            <p:nvPr/>
          </p:nvSpPr>
          <p:spPr>
            <a:xfrm>
              <a:off x="307800" y="2076840"/>
              <a:ext cx="8553240" cy="4780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Clinic infrastructure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675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Network Infrastructure in Rural Communities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Current workflow and staff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Lack of patient management system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Staff concern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Training and installation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Single physician clinic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24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Clinician Acceptance / Buy-In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307800" y="1409760"/>
              <a:ext cx="8553240" cy="66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4"/>
          <p:cNvGrpSpPr/>
          <p:nvPr/>
        </p:nvGrpSpPr>
        <p:grpSpPr>
          <a:xfrm>
            <a:off x="326880" y="1409760"/>
            <a:ext cx="8400960" cy="5181120"/>
            <a:chOff x="326880" y="1409760"/>
            <a:chExt cx="8400960" cy="5181120"/>
          </a:xfrm>
        </p:grpSpPr>
        <p:sp>
          <p:nvSpPr>
            <p:cNvPr id="168" name="Rectangle 5"/>
            <p:cNvSpPr/>
            <p:nvPr/>
          </p:nvSpPr>
          <p:spPr>
            <a:xfrm>
              <a:off x="326880" y="2044080"/>
              <a:ext cx="8400960" cy="4546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Privacy and Security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HIPAA Compliance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Limited capability of IT Host Facility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Unreliable data center infrastructure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Need to build redundance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Servers and networking support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Infrastructure support by health care facilities (single physicians, etc.)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326880" y="1409760"/>
              <a:ext cx="8400960" cy="63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4" name="Group 4"/>
          <p:cNvGrpSpPr/>
          <p:nvPr/>
        </p:nvGrpSpPr>
        <p:grpSpPr>
          <a:xfrm>
            <a:off x="361800" y="1371600"/>
            <a:ext cx="8515080" cy="5238000"/>
            <a:chOff x="361800" y="1371600"/>
            <a:chExt cx="8515080" cy="5238000"/>
          </a:xfrm>
        </p:grpSpPr>
        <p:sp>
          <p:nvSpPr>
            <p:cNvPr id="175" name="Rectangle 5"/>
            <p:cNvSpPr/>
            <p:nvPr/>
          </p:nvSpPr>
          <p:spPr>
            <a:xfrm>
              <a:off x="361800" y="2012760"/>
              <a:ext cx="8515080" cy="45968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Loss of Network Service Provider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Reliable Health Technology Equipment Operators at Remote Locations 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Key Personnel Changes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Changes in Clinic Loc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361800" y="1371600"/>
              <a:ext cx="8515080" cy="64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1" name="Group 4"/>
          <p:cNvGrpSpPr/>
          <p:nvPr/>
        </p:nvGrpSpPr>
        <p:grpSpPr>
          <a:xfrm>
            <a:off x="343080" y="1371600"/>
            <a:ext cx="8514720" cy="5238000"/>
            <a:chOff x="343080" y="1371600"/>
            <a:chExt cx="8514720" cy="5238000"/>
          </a:xfrm>
        </p:grpSpPr>
        <p:sp>
          <p:nvSpPr>
            <p:cNvPr id="182" name="Rectangle 5"/>
            <p:cNvSpPr/>
            <p:nvPr/>
          </p:nvSpPr>
          <p:spPr>
            <a:xfrm>
              <a:off x="343080" y="2012760"/>
              <a:ext cx="8514720" cy="45968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quipment Maintenance in Remote Locations 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vailability of Qualified Staff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Data Acquisi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ovider responsibility for maintenance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ccess by DHA and external evaluators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343080" y="1371600"/>
              <a:ext cx="8514720" cy="64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38120" y="1657440"/>
            <a:ext cx="834408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2160" y="2898360"/>
            <a:ext cx="6667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COLL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35252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DHA logo april 2007"/>
          <p:cNvPicPr/>
          <p:nvPr/>
        </p:nvPicPr>
        <p:blipFill>
          <a:blip r:embed="rId1"/>
          <a:stretch/>
        </p:blipFill>
        <p:spPr>
          <a:xfrm>
            <a:off x="320040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Group 4"/>
          <p:cNvGrpSpPr/>
          <p:nvPr/>
        </p:nvGrpSpPr>
        <p:grpSpPr>
          <a:xfrm>
            <a:off x="307800" y="1409760"/>
            <a:ext cx="8553240" cy="4095360"/>
            <a:chOff x="307800" y="1409760"/>
            <a:chExt cx="8553240" cy="4095360"/>
          </a:xfrm>
        </p:grpSpPr>
        <p:sp>
          <p:nvSpPr>
            <p:cNvPr id="193" name="Rectangle 5"/>
            <p:cNvSpPr/>
            <p:nvPr/>
          </p:nvSpPr>
          <p:spPr>
            <a:xfrm>
              <a:off x="307800" y="1911240"/>
              <a:ext cx="8553240" cy="359388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26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Tahoma"/>
                </a:rPr>
                <a:t>Data Collection Methodology</a:t>
              </a:r>
              <a:endParaRPr b="1" lang="en-US" sz="4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Assessment of longitudinal change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Collection time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26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Tahoma"/>
                </a:rPr>
                <a:t>Reporting the data</a:t>
              </a:r>
              <a:endParaRPr b="1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307800" y="1409760"/>
              <a:ext cx="8553240" cy="501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444320"/>
            <a:ext cx="802008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ta Issu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9" name="Group 4"/>
          <p:cNvGrpSpPr/>
          <p:nvPr/>
        </p:nvGrpSpPr>
        <p:grpSpPr>
          <a:xfrm>
            <a:off x="307800" y="1409760"/>
            <a:ext cx="8835840" cy="5181120"/>
            <a:chOff x="307800" y="1409760"/>
            <a:chExt cx="8835840" cy="5181120"/>
          </a:xfrm>
        </p:grpSpPr>
        <p:sp>
          <p:nvSpPr>
            <p:cNvPr id="200" name="Rectangle 5"/>
            <p:cNvSpPr/>
            <p:nvPr/>
          </p:nvSpPr>
          <p:spPr>
            <a:xfrm>
              <a:off x="307800" y="2044080"/>
              <a:ext cx="8835840" cy="4546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Disparate practice management system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Workflow management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Data elements captured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EHR design modification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Required for unique measure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Access to external data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Medicaid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Evaluating cost / benefit outcome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307800" y="1409760"/>
              <a:ext cx="8835840" cy="63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444320"/>
            <a:ext cx="802008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ta Challe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r use of an EHR system will increase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0504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 % of visits where EHR was use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4488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captured by the EH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0504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 Use of quality measurement repor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4488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not captured because Analytics Module was not purchased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came barrier by establishing audit trai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66760" y="1657440"/>
            <a:ext cx="7143840" cy="4876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61405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tter Life Utilizing Electronic Systems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nstrate the effects of diabetes management practic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bulatory clinics in rural and urban setting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ing well-designed, comprehensive health information technology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18" name="Picture 5" descr="DHA logo april 2007"/>
          <p:cNvPicPr/>
          <p:nvPr/>
        </p:nvPicPr>
        <p:blipFill>
          <a:blip r:embed="rId1"/>
          <a:stretch/>
        </p:blipFill>
        <p:spPr>
          <a:xfrm>
            <a:off x="5824440" y="5361120"/>
            <a:ext cx="3319560" cy="149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9" name="Rectangle 6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tient use of EHR will increase 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:  % of patients who access their personal health information, including medication therapy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capture data because the Interactive Module was not purchase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velop new measure to capture impact on patien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an EHR system to an existing model will significantly improve medication management.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Formulary compliance - % of prescriptions complying with formulary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HR Analytics Modul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Patient Compliance with medicatio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d by EHR - # filled/#prescribed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ing an EHR will also improve other process-of-care measures.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:  % of patients receiving appropriate care for treatment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tured by EHR Analytics Modul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determined by nationally recognized medical standards of care – American Diabetes Associatio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an EHR will improve patient satisfaction, diabetes-related outcomes, and patient safety, and reduce costs of care.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Patient Satisfaction improve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d by primary data collecti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Diabetes outcom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pid profiles, BP, A1c, etc. all captured by EHR as specifically designed for the clinic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38120" y="1657440"/>
            <a:ext cx="834408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2160" y="2898360"/>
            <a:ext cx="6667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LESSONS LEARN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137160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DHA logo april 2007"/>
          <p:cNvPicPr/>
          <p:nvPr/>
        </p:nvPicPr>
        <p:blipFill>
          <a:blip r:embed="rId1"/>
          <a:stretch/>
        </p:blipFill>
        <p:spPr>
          <a:xfrm>
            <a:off x="3276720" y="0"/>
            <a:ext cx="281916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0" name="Group 4"/>
          <p:cNvGrpSpPr/>
          <p:nvPr/>
        </p:nvGrpSpPr>
        <p:grpSpPr>
          <a:xfrm>
            <a:off x="307800" y="1409760"/>
            <a:ext cx="8553240" cy="4914360"/>
            <a:chOff x="307800" y="1409760"/>
            <a:chExt cx="8553240" cy="4914360"/>
          </a:xfrm>
        </p:grpSpPr>
        <p:sp>
          <p:nvSpPr>
            <p:cNvPr id="231" name="Rectangle 5"/>
            <p:cNvSpPr/>
            <p:nvPr/>
          </p:nvSpPr>
          <p:spPr>
            <a:xfrm>
              <a:off x="307800" y="2011320"/>
              <a:ext cx="8553240" cy="4312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Network / internet speed and capacity is critical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WAN Optimizer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Providers may resist financial commitment of any amount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IT vendor territory issue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Local business loyalty in small communitie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307800" y="1409760"/>
              <a:ext cx="8553240" cy="601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Lessons Learn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7" name="Group 4"/>
          <p:cNvGrpSpPr/>
          <p:nvPr/>
        </p:nvGrpSpPr>
        <p:grpSpPr>
          <a:xfrm>
            <a:off x="307800" y="1409760"/>
            <a:ext cx="8553240" cy="4914360"/>
            <a:chOff x="307800" y="1409760"/>
            <a:chExt cx="8553240" cy="4914360"/>
          </a:xfrm>
        </p:grpSpPr>
        <p:sp>
          <p:nvSpPr>
            <p:cNvPr id="238" name="Rectangle 5"/>
            <p:cNvSpPr/>
            <p:nvPr/>
          </p:nvSpPr>
          <p:spPr>
            <a:xfrm>
              <a:off x="307800" y="2011320"/>
              <a:ext cx="8553240" cy="4312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Have clinic personnel on your planning and evaluation committees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Be flexible with training staff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Design and modify current systems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Have contingency plans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07800" y="1409760"/>
              <a:ext cx="8553240" cy="601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Lessons Learn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99960" y="476280"/>
            <a:ext cx="8363160" cy="61340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731880"/>
            <a:ext cx="8078760" cy="58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en you have all of this, you impact clinic and community success!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uccessful EHR Implement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+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tter Patient Outcom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y Comm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3" descr="DHA logo april 2007"/>
          <p:cNvPicPr/>
          <p:nvPr/>
        </p:nvPicPr>
        <p:blipFill>
          <a:blip r:embed="rId1"/>
          <a:stretch/>
        </p:blipFill>
        <p:spPr>
          <a:xfrm>
            <a:off x="3029040" y="2286000"/>
            <a:ext cx="281916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8240" y="317520"/>
            <a:ext cx="8226360" cy="876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Log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90600" y="1490760"/>
            <a:ext cx="116208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038480" y="1490760"/>
            <a:ext cx="120024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924520" y="1509840"/>
            <a:ext cx="120024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753320" y="1490760"/>
            <a:ext cx="114300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533600" y="1738440"/>
            <a:ext cx="552240" cy="419040"/>
          </a:xfrm>
          <a:prstGeom prst="rightArrow">
            <a:avLst>
              <a:gd name="adj1" fmla="val 50000"/>
              <a:gd name="adj2" fmla="val 3294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3409920" y="1738440"/>
            <a:ext cx="552600" cy="419040"/>
          </a:xfrm>
          <a:prstGeom prst="rightArrow">
            <a:avLst>
              <a:gd name="adj1" fmla="val 50000"/>
              <a:gd name="adj2" fmla="val 32968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5295960" y="1738440"/>
            <a:ext cx="552240" cy="419040"/>
          </a:xfrm>
          <a:prstGeom prst="rightArrow">
            <a:avLst>
              <a:gd name="adj1" fmla="val 50000"/>
              <a:gd name="adj2" fmla="val 3294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7182000" y="1757520"/>
            <a:ext cx="514080" cy="419040"/>
          </a:xfrm>
          <a:prstGeom prst="rightArrow">
            <a:avLst>
              <a:gd name="adj1" fmla="val 50000"/>
              <a:gd name="adj2" fmla="val 3067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011320" y="2541600"/>
            <a:ext cx="1609920" cy="32259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peration and collaboration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HR implement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trai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collection and repor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165240" y="2571840"/>
            <a:ext cx="1633320" cy="357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sting medical stru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ditional clinic syste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ditional hospital stru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ormation infrastru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s and Serve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924360" y="2550960"/>
            <a:ext cx="1487520" cy="3329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anded services and acc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ient and provider satisfac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workflow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vider enro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7672320" y="2655720"/>
            <a:ext cx="1254240" cy="3050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uced health care costs for providers and pati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chronic disease outc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320760" y="1465200"/>
            <a:ext cx="116208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6450120" y="5388120"/>
            <a:ext cx="0" cy="179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0" y="63216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5CB-B1E6-47E2-96C8-04D6EE810A2B}" type="slidenum">
              <a:rPr b="0" lang="en-US" sz="1400" spc="-1" strike="noStrike">
                <a:solidFill>
                  <a:srgbClr val="000094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5602320" y="2530440"/>
            <a:ext cx="1841400" cy="3329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ient Health Outc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uced Cost of Ca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reased medical h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reased productiv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ment in ratio of clinicians to popul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693720"/>
            <a:ext cx="9144000" cy="52070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DHA logo april 2007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1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4"/>
          <p:cNvSpPr/>
          <p:nvPr/>
        </p:nvSpPr>
        <p:spPr>
          <a:xfrm>
            <a:off x="3505320" y="2503440"/>
            <a:ext cx="5486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93432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ge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00400" y="2476440"/>
            <a:ext cx="15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91508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orr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685960" y="2457360"/>
            <a:ext cx="514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>
            <a:off x="2800440" y="2552760"/>
            <a:ext cx="5848200" cy="0"/>
          </a:xfrm>
          <a:prstGeom prst="line">
            <a:avLst/>
          </a:prstGeom>
          <a:ln w="12600">
            <a:solidFill>
              <a:srgbClr val="31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520" y="5428800"/>
            <a:ext cx="8640720" cy="14288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hat are the major factors that are driving a need for EHR systems from a management/administrative perspective?</a:t>
            </a:r>
            <a:br>
              <a:rPr sz="24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://www.providersedge.com/ehdocs/ehr_articles/EHR_Trends_and_Challenges.pd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Object 32"/>
          <p:cNvGraphicFramePr/>
          <p:nvPr/>
        </p:nvGraphicFramePr>
        <p:xfrm>
          <a:off x="0" y="252360"/>
          <a:ext cx="914400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360"/>
                    <a:ext cx="914400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270000" y="1486080"/>
            <a:ext cx="8568720" cy="5371560"/>
            <a:chOff x="270000" y="1486080"/>
            <a:chExt cx="8568720" cy="5371560"/>
          </a:xfrm>
        </p:grpSpPr>
        <p:sp>
          <p:nvSpPr>
            <p:cNvPr id="125" name="Rectangle 5"/>
            <p:cNvSpPr/>
            <p:nvPr/>
          </p:nvSpPr>
          <p:spPr>
            <a:xfrm>
              <a:off x="270000" y="2143800"/>
              <a:ext cx="8568720" cy="47138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buClr>
                  <a:srgbClr val="ff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ignificant increase over last year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 solo and small practices motivated to implement EHR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buClr>
                  <a:srgbClr val="ff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Increase in the use of almost all data capture method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specially structured data entry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buClr>
                  <a:srgbClr val="ff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 level of implementation plans for e-prescribing, remote access to EHRs, and order entry placed by nurses or staff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270000" y="1486080"/>
              <a:ext cx="8568720" cy="65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47304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Current State of EHR Implementation in the 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88080" y="6291360"/>
            <a:ext cx="77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rovidersedge.com/ehdocs/ehr_articles/EHR_Trends_and_Challenges.pd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BLUES Target Service Are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87624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BLUESmap"/>
          <p:cNvPicPr/>
          <p:nvPr/>
        </p:nvPicPr>
        <p:blipFill>
          <a:blip r:embed="rId1"/>
          <a:stretch/>
        </p:blipFill>
        <p:spPr>
          <a:xfrm>
            <a:off x="2600280" y="1009800"/>
            <a:ext cx="3925800" cy="5848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66760" y="1523880"/>
            <a:ext cx="8343720" cy="5010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2240" y="1558800"/>
            <a:ext cx="78930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100"/>
              </a:spcBef>
              <a:spcAft>
                <a:spcPts val="22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earch Aim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ccessfully implement EHRs in diabetes management clinics, focusing on integration of the EHR into clinician workflow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e the impact of the EHR system on clinical processes of care and patient outcome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e and distribute a generalizable, replicable model of care for implementing an integrated health IT system for diabetes management care throughout the U.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00"/>
              </a:spcBef>
              <a:spcAft>
                <a:spcPts val="22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ypothese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vider use of an EHR system will increas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ient use of EHR will increase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ng an EHR system to an existing model will significantly improve medication management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ng an EHR will also improve other process-of-care measure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ng an EHR will improve patient satisfaction, diabetes-related outcomes, and patient safety, and reduce costs of care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558648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4"/>
          <p:cNvSpPr/>
          <p:nvPr/>
        </p:nvSpPr>
        <p:spPr>
          <a:xfrm>
            <a:off x="0" y="306720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7680" y="446040"/>
            <a:ext cx="8648640" cy="2362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Understanding Data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oad Maps to Successful Outco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TN00734_[1]"/>
          <p:cNvPicPr/>
          <p:nvPr/>
        </p:nvPicPr>
        <p:blipFill>
          <a:blip r:embed="rId2"/>
          <a:stretch/>
        </p:blipFill>
        <p:spPr>
          <a:xfrm rot="477000">
            <a:off x="3428640" y="3276720"/>
            <a:ext cx="2284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e System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lect Baselin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k Outcom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ement System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lect Data 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te Processes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te Outcom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9:26:45Z</dcterms:created>
  <dc:creator>Telemedicine</dc:creator>
  <dc:description/>
  <dc:language>en-US</dc:language>
  <cp:lastModifiedBy>1_Mary</cp:lastModifiedBy>
  <cp:lastPrinted>2003-11-14T23:31:25Z</cp:lastPrinted>
  <dcterms:modified xsi:type="dcterms:W3CDTF">2009-01-01T23:42:42Z</dcterms:modified>
  <cp:revision>429</cp:revision>
  <dc:subject/>
  <dc:title>What are Health Disparities</dc:title>
</cp:coreProperties>
</file>