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8FD350-4259-410F-81DF-7EB8B249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EE2378-D629-49BC-B0EA-A28DA3B131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ing Lives Using Electronic Systems (BLU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40D594-7EFE-46DE-9548-A2B9D82F1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211033-9AA0-414B-BAC7-0B227BC331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BDA8D3B-38D7-4350-8A2E-15003F2DF4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29F4A6-5AA9-440D-9968-7716BB57F1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AA: Health Insurance Portability and Accountability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00EEBB-4700-414A-9CC9-24B9FA8831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8F0F7-CB96-4884-A7A1-3C39CA3B1B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A – Delta Health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A54B03-8947-4BD2-A6D5-F8C1E3FB1D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7B8655-C29F-4A78-9172-545F691261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E4AEFF-CA74-42D7-8A99-56D17129A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91B51F-6B96-41C1-8E8A-D7A623162B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03B457-B6C8-4DF1-B683-0A7242104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Health Alliance insignia and motto, Today, Tomorrow, Together is in the lower righthand cor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353F8E-CEE9-432E-887F-A430D773EB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9F9AF1-A0E7-45A8-BD29-7C525A6187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BC8358-3467-4642-85E9-9BEAFB5269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96AEC8-8154-4B38-84A8-63049A13CE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4CFF30-492E-4F87-8BE8-320D033F1F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FDF74E-D02B-4A30-92BF-AFAC41EAE8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 Optimizers: Wide Area Network Optim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D6D9AA-0174-4BCC-B819-F75810895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81BD8A-092E-45BA-93FA-590823E5BF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99E726-CBEF-4F2E-9C9A-7F6F2B739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76320" y="701640"/>
            <a:ext cx="4762440" cy="3571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5040" y="4446360"/>
            <a:ext cx="5047920" cy="4133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0e62"/>
                </a:solidFill>
                <a:latin typeface="Arial"/>
              </a:rPr>
              <a:t>Illustration of five-part logic model starting with Inputs, Activities, Outputs, Outcomes, and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9E7F87-3B63-40EA-9B03-704AA57FB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Health Alliance icon and motto: Today. Tomorrow.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541DB3-9D85-4F04-AF0B-8CB00EEA16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charts shows by respondent categories, the percent of respondents identifying a particular issue as being a major factor driving the need for an Electronic Health Record (EHR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C2E0028-F68D-47BD-AB8C-3ACE9C7659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FCDF8C-465E-49F8-BFA1-CE8E1C6FE0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showing the counties of Mississippi and the counties of the Better Living  Using Electronic BLUES Target Service area in western Mississippi are so demar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counties, Coahoma, Washington, Hinds, are highlighted in yellow indicating current EHR sites for this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counties are highlighted in blue indicating service area.  Those counties from north to south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ca, Quitman, Tallahatchie, Bolivar, Sunflower, Humphreys, Sharkey, Yazoo, Issaquena, Madison, Warren, Rankin, Claiborne, Copiah, Si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553227-289C-4A91-AC2A-E7D516F575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: Informatio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8DF36D-9F7E-4DD8-9ED2-22C727B3F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HR: Electronic Healthcare Re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EE3189-16F5-42FC-954E-E4B1D6E3A8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of a winding road i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4249196-7FC4-4F90-821C-462C2C268C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597-67BC-490C-8BD4-EF62A470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132-E6C5-41EB-864A-248A23F7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EFB-2787-4D04-9813-A18A4F8C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359-93C8-4C1C-B8AF-730F754C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02ED-DB5E-4E7F-9E15-992FDF03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C5BA-9850-44E1-8275-5EA4144D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058-C068-4BB2-B6C8-16B321B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5F39-7EF2-40E4-B3E5-BE577B5A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3342-D179-45DB-B5BD-7AF8DFC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C7D0-B753-4D16-93FC-0DDD5D51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504-E3D5-4138-A353-730592E7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B57-95ED-4A5D-AF22-E6389C72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7DB7-52E2-4319-84A3-184A242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C627-413D-41E9-96B1-90E84E63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D2D4-CD6A-4F81-8379-4228BE7F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32B0-EBFC-4EA3-8559-3A7B08E3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AFBB-241E-4776-9842-53467C35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8E1-1FA7-487D-8CAF-16C873DE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B3E-F80C-4E09-BD13-EF26EA84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A6D-C2A1-4B99-B129-78DE1ACD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9E8-EE1D-4D20-954F-8F0D1613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FB0-100F-4F17-A2DB-995CF481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AD5-674E-4477-BE9C-6ED81DF5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B59-E840-4766-8CDF-44EA993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223b"/>
            </a:gs>
            <a:gs pos="50000">
              <a:srgbClr val="3193ff"/>
            </a:gs>
            <a:gs pos="100000">
              <a:srgbClr val="0b22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gradFill rotWithShape="0">
            <a:gsLst>
              <a:gs pos="0">
                <a:srgbClr val="3b3b00"/>
              </a:gs>
              <a:gs pos="100000">
                <a:srgbClr val="808000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gradFill rotWithShape="0">
            <a:gsLst>
              <a:gs pos="0">
                <a:srgbClr val="808000"/>
              </a:gs>
              <a:gs pos="100000">
                <a:srgbClr val="00c800"/>
              </a:gs>
            </a:gsLst>
            <a:lin ang="54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44360" y="1447920"/>
            <a:ext cx="560520" cy="42228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00"/>
          </a:solidFill>
          <a:ln w="1908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5D32-729F-41B4-89D5-5612F11200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223b"/>
            </a:gs>
            <a:gs pos="50000">
              <a:srgbClr val="3193ff"/>
            </a:gs>
            <a:gs pos="100000">
              <a:srgbClr val="0b22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94"/>
                </a:gs>
                <a:gs pos="100000">
                  <a:srgbClr val="00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0E1-D0B3-420C-AF57-B432C9E228C5}" type="slidenum">
              <a:rPr b="0" lang="en-US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693720"/>
            <a:ext cx="9144000" cy="5207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DHA logo april 2007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1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Rectangle 4"/>
          <p:cNvSpPr/>
          <p:nvPr/>
        </p:nvSpPr>
        <p:spPr>
          <a:xfrm>
            <a:off x="3505320" y="2503440"/>
            <a:ext cx="5486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693432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ge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200400" y="247644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5784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orr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685960" y="2457360"/>
            <a:ext cx="514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800440" y="2552760"/>
            <a:ext cx="5848200" cy="0"/>
          </a:xfrm>
          <a:prstGeom prst="line">
            <a:avLst/>
          </a:prstGeom>
          <a:ln w="12600">
            <a:solidFill>
              <a:srgbClr val="31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3981600" y="3238560"/>
            <a:ext cx="460980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LUES Proje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ren C. Fox, Ph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ef Executive Offic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CREAT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HR Analytic Module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ere to look for data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rt review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ing harmony within the existing system and new system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cking mechanis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IMPLE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137160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DHA logo april 2007"/>
          <p:cNvPicPr/>
          <p:nvPr/>
        </p:nvPicPr>
        <p:blipFill>
          <a:blip r:embed="rId1"/>
          <a:stretch/>
        </p:blipFill>
        <p:spPr>
          <a:xfrm>
            <a:off x="320040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0" name="Group 4"/>
          <p:cNvGrpSpPr/>
          <p:nvPr/>
        </p:nvGrpSpPr>
        <p:grpSpPr>
          <a:xfrm>
            <a:off x="307800" y="1409760"/>
            <a:ext cx="8553240" cy="5447880"/>
            <a:chOff x="307800" y="1409760"/>
            <a:chExt cx="8553240" cy="5447880"/>
          </a:xfrm>
        </p:grpSpPr>
        <p:sp>
          <p:nvSpPr>
            <p:cNvPr id="161" name="Rectangle 5"/>
            <p:cNvSpPr/>
            <p:nvPr/>
          </p:nvSpPr>
          <p:spPr>
            <a:xfrm>
              <a:off x="307800" y="2076840"/>
              <a:ext cx="8553240" cy="4780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Clinic infrastructure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675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Network Infrastructure in Rural Communities</a:t>
              </a: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Current workflow and staff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Lack of patient management system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Staff concern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Training and installation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ingle physician clinic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Clinician Acceptance / Buy-In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307800" y="1409760"/>
              <a:ext cx="8553240" cy="66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4"/>
          <p:cNvGrpSpPr/>
          <p:nvPr/>
        </p:nvGrpSpPr>
        <p:grpSpPr>
          <a:xfrm>
            <a:off x="326880" y="1409760"/>
            <a:ext cx="8400960" cy="5181120"/>
            <a:chOff x="326880" y="1409760"/>
            <a:chExt cx="8400960" cy="5181120"/>
          </a:xfrm>
        </p:grpSpPr>
        <p:sp>
          <p:nvSpPr>
            <p:cNvPr id="168" name="Rectangle 5"/>
            <p:cNvSpPr/>
            <p:nvPr/>
          </p:nvSpPr>
          <p:spPr>
            <a:xfrm>
              <a:off x="326880" y="2044080"/>
              <a:ext cx="8400960" cy="4546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Privacy and Security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HIPAA Complianc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Limited capability of IT Host Facility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Unreliable data center infrastructur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Need to build redundance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95000"/>
                </a:lnSpc>
                <a:spcBef>
                  <a:spcPts val="53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Servers and networking support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Infrastructure support by health care facilities (single physicians, etc.)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95000"/>
                </a:lnSpc>
                <a:spcBef>
                  <a:spcPts val="6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326880" y="1409760"/>
              <a:ext cx="8400960" cy="63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4" name="Group 4"/>
          <p:cNvGrpSpPr/>
          <p:nvPr/>
        </p:nvGrpSpPr>
        <p:grpSpPr>
          <a:xfrm>
            <a:off x="361800" y="1371600"/>
            <a:ext cx="8515080" cy="5238000"/>
            <a:chOff x="361800" y="1371600"/>
            <a:chExt cx="8515080" cy="5238000"/>
          </a:xfrm>
        </p:grpSpPr>
        <p:sp>
          <p:nvSpPr>
            <p:cNvPr id="175" name="Rectangle 5"/>
            <p:cNvSpPr/>
            <p:nvPr/>
          </p:nvSpPr>
          <p:spPr>
            <a:xfrm>
              <a:off x="361800" y="2012760"/>
              <a:ext cx="8515080" cy="4596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Loss of Network Service Provider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Reliable Health Technology Equipment Operators at Remote Locations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Key Personnel Changes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Changes in Clinic Loca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361800" y="1371600"/>
              <a:ext cx="8515080" cy="64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1" name="Group 4"/>
          <p:cNvGrpSpPr/>
          <p:nvPr/>
        </p:nvGrpSpPr>
        <p:grpSpPr>
          <a:xfrm>
            <a:off x="343080" y="1371600"/>
            <a:ext cx="8514720" cy="5238000"/>
            <a:chOff x="343080" y="1371600"/>
            <a:chExt cx="8514720" cy="5238000"/>
          </a:xfrm>
        </p:grpSpPr>
        <p:sp>
          <p:nvSpPr>
            <p:cNvPr id="182" name="Rectangle 5"/>
            <p:cNvSpPr/>
            <p:nvPr/>
          </p:nvSpPr>
          <p:spPr>
            <a:xfrm>
              <a:off x="343080" y="2012760"/>
              <a:ext cx="8514720" cy="4596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quipment Maintenance in Remote Locations 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Availability of Qualified Staff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Data Acquisition</a:t>
              </a:r>
              <a:endParaRPr b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ovider responsibility for maintenance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ccess by DHA and external evaluators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6"/>
            <p:cNvSpPr/>
            <p:nvPr/>
          </p:nvSpPr>
          <p:spPr>
            <a:xfrm>
              <a:off x="343080" y="1371600"/>
              <a:ext cx="8514720" cy="64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Challenges to EHR Implement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COLLEC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35252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5" descr="DHA logo april 2007"/>
          <p:cNvPicPr/>
          <p:nvPr/>
        </p:nvPicPr>
        <p:blipFill>
          <a:blip r:embed="rId1"/>
          <a:stretch/>
        </p:blipFill>
        <p:spPr>
          <a:xfrm>
            <a:off x="320040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Group 4"/>
          <p:cNvGrpSpPr/>
          <p:nvPr/>
        </p:nvGrpSpPr>
        <p:grpSpPr>
          <a:xfrm>
            <a:off x="307800" y="1409760"/>
            <a:ext cx="8553240" cy="4095360"/>
            <a:chOff x="307800" y="1409760"/>
            <a:chExt cx="8553240" cy="4095360"/>
          </a:xfrm>
        </p:grpSpPr>
        <p:sp>
          <p:nvSpPr>
            <p:cNvPr id="193" name="Rectangle 5"/>
            <p:cNvSpPr/>
            <p:nvPr/>
          </p:nvSpPr>
          <p:spPr>
            <a:xfrm>
              <a:off x="307800" y="1911240"/>
              <a:ext cx="8553240" cy="359388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26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ahoma"/>
                </a:rPr>
                <a:t>Data Collection Methodology</a:t>
              </a:r>
              <a:endParaRPr b="1" lang="en-US" sz="4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Assessment of longitudinal change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Collection time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26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Tahoma"/>
                </a:rPr>
                <a:t>Reporting the data</a:t>
              </a:r>
              <a:endParaRPr b="1" lang="en-US" sz="4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307800" y="1409760"/>
              <a:ext cx="8553240" cy="501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444320"/>
            <a:ext cx="802008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ta Issu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9" name="Group 4"/>
          <p:cNvGrpSpPr/>
          <p:nvPr/>
        </p:nvGrpSpPr>
        <p:grpSpPr>
          <a:xfrm>
            <a:off x="307800" y="1409760"/>
            <a:ext cx="8835840" cy="5181120"/>
            <a:chOff x="307800" y="1409760"/>
            <a:chExt cx="8835840" cy="5181120"/>
          </a:xfrm>
        </p:grpSpPr>
        <p:sp>
          <p:nvSpPr>
            <p:cNvPr id="200" name="Rectangle 5"/>
            <p:cNvSpPr/>
            <p:nvPr/>
          </p:nvSpPr>
          <p:spPr>
            <a:xfrm>
              <a:off x="307800" y="2044080"/>
              <a:ext cx="8835840" cy="4546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Disparate practice management system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Workflow management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Data elements captured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EHR design modification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Required for unique measure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Access to external data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Medicaid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Evaluating cost / benefit outcome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307800" y="1409760"/>
              <a:ext cx="8835840" cy="634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1444320"/>
            <a:ext cx="802008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Data Challe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r use of an EHR system will increase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0504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 % of visits where EHR was us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4488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captured by the EHR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0504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 Use of quality measurement repor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44880" indent="-22608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not captured because Analytics Module was not purchased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came barrier by establishing audit trail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66760" y="1657440"/>
            <a:ext cx="7143840" cy="4876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614052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etter Life Utilizing Electronic Systems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monstrate the effects of diabetes management practice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bulatory clinics in rural and urban setting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ing well-designed, comprehensive health information technology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18" name="Picture 5" descr="DHA logo april 2007"/>
          <p:cNvPicPr/>
          <p:nvPr/>
        </p:nvPicPr>
        <p:blipFill>
          <a:blip r:embed="rId1"/>
          <a:stretch/>
        </p:blipFill>
        <p:spPr>
          <a:xfrm>
            <a:off x="5824440" y="5361120"/>
            <a:ext cx="3319560" cy="1496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9" name="Rectangle 6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tient use of EHR will increase 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:  % of patients who access their personal health information, including medication therapy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capture data because the Interactive Module was not purchas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velop new measure to capture impact on patient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an EHR system to an existing model will significantly improve medication management.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Formulary compliance - % of prescriptions complying with formulary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d by EHR Analytics Modul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Patient Compliance with medica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d by EHR - # filled/#prescribed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dding an EHR will also improve other process-of-care measures.</a:t>
            </a: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asure:  % of patients receiving appropriate care for treatment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tured by EHR Analytics Modul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700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determined by nationally recognized medical standards of care – American Diabetes Association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Tracking Outcom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ng an EHR will improve patient satisfaction, diabetes-related outcomes, and patient safety, and reduce costs of care.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Patient Satisfaction improved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d by primary data collection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e: Diabetes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2" marL="1257480" indent="-22860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profiles, BP, A1c, etc. all captured by EHR as specifically designed for the clinics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38120" y="1657440"/>
            <a:ext cx="834408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2160" y="2898360"/>
            <a:ext cx="6667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137160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DHA logo april 2007"/>
          <p:cNvPicPr/>
          <p:nvPr/>
        </p:nvPicPr>
        <p:blipFill>
          <a:blip r:embed="rId1"/>
          <a:stretch/>
        </p:blipFill>
        <p:spPr>
          <a:xfrm>
            <a:off x="3276720" y="0"/>
            <a:ext cx="281916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0" name="Group 4"/>
          <p:cNvGrpSpPr/>
          <p:nvPr/>
        </p:nvGrpSpPr>
        <p:grpSpPr>
          <a:xfrm>
            <a:off x="307800" y="1409760"/>
            <a:ext cx="8553240" cy="4914360"/>
            <a:chOff x="307800" y="1409760"/>
            <a:chExt cx="8553240" cy="4914360"/>
          </a:xfrm>
        </p:grpSpPr>
        <p:sp>
          <p:nvSpPr>
            <p:cNvPr id="231" name="Rectangle 5"/>
            <p:cNvSpPr/>
            <p:nvPr/>
          </p:nvSpPr>
          <p:spPr>
            <a:xfrm>
              <a:off x="307800" y="2011320"/>
              <a:ext cx="8553240" cy="4312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Network / internet speed and capacity is critical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26"/>
                </a:spcBef>
                <a:buClr>
                  <a:srgbClr val="00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Tahoma"/>
                </a:rPr>
                <a:t>WAN Optimizers</a:t>
              </a:r>
              <a:endParaRPr b="1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Providers may resist financial commitment of any amount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IT vendor territory issue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25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ahoma"/>
                </a:rPr>
                <a:t>Local business loyalty in small communities</a:t>
              </a:r>
              <a:endParaRPr b="1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307800" y="1409760"/>
              <a:ext cx="8553240" cy="60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7" name="Group 4"/>
          <p:cNvGrpSpPr/>
          <p:nvPr/>
        </p:nvGrpSpPr>
        <p:grpSpPr>
          <a:xfrm>
            <a:off x="307800" y="1409760"/>
            <a:ext cx="8553240" cy="4914360"/>
            <a:chOff x="307800" y="1409760"/>
            <a:chExt cx="8553240" cy="4914360"/>
          </a:xfrm>
        </p:grpSpPr>
        <p:sp>
          <p:nvSpPr>
            <p:cNvPr id="238" name="Rectangle 5"/>
            <p:cNvSpPr/>
            <p:nvPr/>
          </p:nvSpPr>
          <p:spPr>
            <a:xfrm>
              <a:off x="307800" y="2011320"/>
              <a:ext cx="8553240" cy="431280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Have clinic personnel on your planning and evaluation committee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Be flexible with training staff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Design and modify current system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Tahoma"/>
                </a:rPr>
                <a:t>Have contingency plans</a:t>
              </a: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07800" y="1409760"/>
              <a:ext cx="8553240" cy="601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0400" y="1482480"/>
            <a:ext cx="8020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Lessons Learne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399960" y="476280"/>
            <a:ext cx="8363160" cy="6134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731880"/>
            <a:ext cx="8078760" cy="586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en you have all of this, you impact clinic and community success!</a:t>
            </a:r>
            <a:br>
              <a:rPr sz="3600"/>
            </a:br>
            <a:br>
              <a:rPr sz="3600"/>
            </a:b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ccessful EHR Implement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+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tter Patient Outcom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=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ealthy Commun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3" descr="DHA logo april 2007"/>
          <p:cNvPicPr/>
          <p:nvPr/>
        </p:nvPicPr>
        <p:blipFill>
          <a:blip r:embed="rId1"/>
          <a:stretch/>
        </p:blipFill>
        <p:spPr>
          <a:xfrm>
            <a:off x="3029040" y="2286000"/>
            <a:ext cx="281916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8240" y="317520"/>
            <a:ext cx="8226360" cy="876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Logic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190600" y="1490760"/>
            <a:ext cx="116208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038480" y="1490760"/>
            <a:ext cx="120024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5924520" y="1509840"/>
            <a:ext cx="120024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7753320" y="1490760"/>
            <a:ext cx="114300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33600" y="1738440"/>
            <a:ext cx="552240" cy="419040"/>
          </a:xfrm>
          <a:prstGeom prst="rightArrow">
            <a:avLst>
              <a:gd name="adj1" fmla="val 50000"/>
              <a:gd name="adj2" fmla="val 3294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3409920" y="1738440"/>
            <a:ext cx="552600" cy="419040"/>
          </a:xfrm>
          <a:prstGeom prst="rightArrow">
            <a:avLst>
              <a:gd name="adj1" fmla="val 50000"/>
              <a:gd name="adj2" fmla="val 32968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295960" y="1738440"/>
            <a:ext cx="552240" cy="419040"/>
          </a:xfrm>
          <a:prstGeom prst="rightArrow">
            <a:avLst>
              <a:gd name="adj1" fmla="val 50000"/>
              <a:gd name="adj2" fmla="val 3294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7182000" y="1757520"/>
            <a:ext cx="514080" cy="419040"/>
          </a:xfrm>
          <a:prstGeom prst="rightArrow">
            <a:avLst>
              <a:gd name="adj1" fmla="val 50000"/>
              <a:gd name="adj2" fmla="val 30670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011320" y="2541600"/>
            <a:ext cx="1609920" cy="32259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operation and collaboration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HR implement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train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collection and report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165240" y="2571840"/>
            <a:ext cx="1633320" cy="35730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sting medical 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ditional clinic syste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ditional hospital 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formation infrastru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s and Server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924360" y="2550960"/>
            <a:ext cx="1487520" cy="3329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anded services and acces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and provider satisfac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workflow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vider enro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7672320" y="2655720"/>
            <a:ext cx="1254240" cy="3050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d health care costs for providers and pati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d chronic disease 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320760" y="1465200"/>
            <a:ext cx="1162080" cy="824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6450120" y="5388120"/>
            <a:ext cx="0" cy="179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0" y="63216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AAA7-65C7-4AE3-B28F-6833E5C71370}" type="slidenum">
              <a:rPr b="0" lang="en-US" sz="1400" spc="-1" strike="noStrike">
                <a:solidFill>
                  <a:srgbClr val="000094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5602320" y="2530440"/>
            <a:ext cx="1841400" cy="3329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Health Outc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d Cost of Ca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d medical hom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creased productivit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ment in ratio of clinicians to popula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693720"/>
            <a:ext cx="9144000" cy="52070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DHA logo april 2007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31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Rectangle 4"/>
          <p:cNvSpPr/>
          <p:nvPr/>
        </p:nvSpPr>
        <p:spPr>
          <a:xfrm>
            <a:off x="3505320" y="2503440"/>
            <a:ext cx="5486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93432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geth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3200400" y="2476440"/>
            <a:ext cx="15238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a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4915080" y="247644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morro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685960" y="2457360"/>
            <a:ext cx="5144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9"/>
          <p:cNvSpPr/>
          <p:nvPr/>
        </p:nvSpPr>
        <p:spPr>
          <a:xfrm>
            <a:off x="2800440" y="2552760"/>
            <a:ext cx="5848200" cy="0"/>
          </a:xfrm>
          <a:prstGeom prst="line">
            <a:avLst/>
          </a:prstGeom>
          <a:ln w="12600">
            <a:solidFill>
              <a:srgbClr val="319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6520" y="5428800"/>
            <a:ext cx="8640720" cy="14288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hat are the major factors that are driving a need for EHR systems from a management/administrative perspective?</a:t>
            </a:r>
            <a:br>
              <a:rPr sz="24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providersedge.com/ehdocs/ehr_articles/EHR_Trends_and_Challenges.pd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Object 32"/>
          <p:cNvGraphicFramePr/>
          <p:nvPr/>
        </p:nvGraphicFramePr>
        <p:xfrm>
          <a:off x="0" y="252360"/>
          <a:ext cx="914400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2360"/>
                    <a:ext cx="914400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270000" y="1486080"/>
            <a:ext cx="8568720" cy="5371560"/>
            <a:chOff x="270000" y="1486080"/>
            <a:chExt cx="8568720" cy="5371560"/>
          </a:xfrm>
        </p:grpSpPr>
        <p:sp>
          <p:nvSpPr>
            <p:cNvPr id="125" name="Rectangle 5"/>
            <p:cNvSpPr/>
            <p:nvPr/>
          </p:nvSpPr>
          <p:spPr>
            <a:xfrm>
              <a:off x="270000" y="2143800"/>
              <a:ext cx="8568720" cy="471384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ignificant increase over last year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n solo and small practices motivated to implement EHRs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Increase in the use of almost all data capture methods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51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specially structured data entry</a:t>
              </a: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buClr>
                  <a:srgbClr val="ffcc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level of implementation plans for e-prescribing, remote access to EHRs, and order entry placed by nurses or staff </a:t>
              </a:r>
              <a:endParaRPr b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6"/>
            <p:cNvSpPr/>
            <p:nvPr/>
          </p:nvSpPr>
          <p:spPr>
            <a:xfrm>
              <a:off x="270000" y="1486080"/>
              <a:ext cx="8568720" cy="657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47304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The Current State of EHR Implementation in the 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129528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88080" y="6291360"/>
            <a:ext cx="772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rovidersedge.com/ehdocs/ehr_articles/EHR_Trends_and_Challenges.pd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ahoma"/>
              </a:rPr>
              <a:t>The BLUES Target Service Are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76240"/>
            <a:ext cx="9144000" cy="763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BLUESmap"/>
          <p:cNvPicPr/>
          <p:nvPr/>
        </p:nvPicPr>
        <p:blipFill>
          <a:blip r:embed="rId1"/>
          <a:stretch/>
        </p:blipFill>
        <p:spPr>
          <a:xfrm>
            <a:off x="2600280" y="1009800"/>
            <a:ext cx="3925800" cy="584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66760" y="1523880"/>
            <a:ext cx="8343720" cy="501012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2240" y="1558800"/>
            <a:ext cx="78930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100"/>
              </a:spcBef>
              <a:spcAft>
                <a:spcPts val="22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search Aim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ccessfully implement EHRs in diabetes management clinics, focusing on integration of the EHR into clinician workflow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e the impact of the EHR system on clinical processes of care and patient outcomes.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e and distribute a generalizable, replicable model of care for implementing an integrated health IT system for diabetes management care throughout the U.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00"/>
              </a:spcBef>
              <a:spcAft>
                <a:spcPts val="2200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potheses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vider use of an EHR system will increase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ient use of EHR will increase 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system to an existing model will significantly improve medication management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will also improve other process-of-care measures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ing an EHR will improve patient satisfaction, diabetes-related outcomes, and patient safety, and reduce costs of care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b2139"/>
              </a:gs>
              <a:gs pos="50000">
                <a:srgbClr val="3193ff"/>
              </a:gs>
              <a:gs pos="100000">
                <a:srgbClr val="0b21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DHA logo april 2007"/>
          <p:cNvPicPr/>
          <p:nvPr/>
        </p:nvPicPr>
        <p:blipFill>
          <a:blip r:embed="rId1"/>
          <a:stretch/>
        </p:blipFill>
        <p:spPr>
          <a:xfrm>
            <a:off x="6324480" y="5586480"/>
            <a:ext cx="281952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4"/>
          <p:cNvSpPr/>
          <p:nvPr/>
        </p:nvSpPr>
        <p:spPr>
          <a:xfrm>
            <a:off x="0" y="306720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446040"/>
            <a:ext cx="8648640" cy="2362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cc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Understanding Data: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oad Maps to Successful Outc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6" descr="TN00734_[1]"/>
          <p:cNvPicPr/>
          <p:nvPr/>
        </p:nvPicPr>
        <p:blipFill>
          <a:blip r:embed="rId2"/>
          <a:stretch/>
        </p:blipFill>
        <p:spPr>
          <a:xfrm rot="477000">
            <a:off x="3428640" y="3276720"/>
            <a:ext cx="22845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266760" y="1657440"/>
            <a:ext cx="8343720" cy="485784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ahoma"/>
              </a:rPr>
              <a:t>BLUES Overview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06480"/>
            <a:ext cx="78930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reate Syste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llect Baseline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ck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ement Systems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ect Data 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e Processes 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  <a:p>
            <a:pPr lvl="1" marL="914400" indent="-2858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valuate Outcomes</a:t>
            </a:r>
            <a:endParaRPr b="0" lang="en-US" sz="28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0" y="1219320"/>
            <a:ext cx="9144000" cy="759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9:26:45Z</dcterms:created>
  <dc:creator>Telemedicine</dc:creator>
  <dc:description/>
  <dc:language>en-US</dc:language>
  <cp:lastModifiedBy>1_Mary</cp:lastModifiedBy>
  <cp:lastPrinted>2003-11-14T23:31:25Z</cp:lastPrinted>
  <dcterms:modified xsi:type="dcterms:W3CDTF">2009-01-01T23:42:42Z</dcterms:modified>
  <cp:revision>429</cp:revision>
  <dc:subject/>
  <dc:title>What are Health Disparities</dc:title>
</cp:coreProperties>
</file>