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016-DC0F-425E-BE9E-3482F40F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27C-88DB-4B9E-B2C1-FD045CC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F588-46D5-4BD6-BACF-55C65666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7F6-8389-42A9-A016-E273E83E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B51-28D2-436C-9A51-024A3D43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E7A-926E-45BF-8DF2-7D1A577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053-C6AC-4691-86B4-D5C30BF0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8BD-DEDA-4630-B7FE-F85F7813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50A-E025-4C3C-AED2-201FD3D3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BB7E-9C4C-4B84-BBFB-419F791F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40D-8DC6-48B4-A343-9B24BF0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4AB-FC63-41D5-9B2B-4BDAFBC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A1DA-8E50-4D0B-A3FC-0E8A615A9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in community-based practices: successes and 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chael A Fischer, M.D., M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of Pharmacoepidemiology and Pharmacoec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partment of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igham and Women’s Hos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arvard Medical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tion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with phar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tion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people touch the actual pr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cannot lose the pr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cannot tamper with pr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incentives a major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adoption subs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ncentives for ongoing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gains in patient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can reduce wait times, we’ve succeed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r of RoI in terms of practice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hanges in practice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alls for front-en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lls and other non-critical medication issues can be batched for MD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s staff time and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terruption of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y information is updated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ROI, but hard to qua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review of patient medication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round the clock, out of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rts about drug-drug 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staff appreciated rem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s less certain, many alerts dismi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dentify patients on a specific dr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useful for re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an identify all the patients on.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ranc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ee if a drug is not cov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callbacks, increased patient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dentify patients on a specific dr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useful for prescribing incentiv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prescribing pos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with pharm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flow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send specif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: “no more refills until patient sees do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kill: “not covered in medical schoo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for older pre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urden on champions/super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asks for some personnel – source of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ed in” with initial vendo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search t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5240" y="1371600"/>
            <a:ext cx="434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-auth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tu Agarwal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 Mary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rey Angst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re D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e Desroches, P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4114800"/>
            <a:ext cx="4470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371600"/>
            <a:ext cx="454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B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n B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enne Cyrulik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fts Health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New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ix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s MacDona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Plunk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devices/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some pharm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transmit to P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ity/network problems, loss of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stance for sick patients or week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wrong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wrong drug (Cipro/Cial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oses/formulations not i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alerts not perceived as helpful: “ignore almost a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lerts may be handled by non-prescribers in the process of que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oing challenges/b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ing something in hand (older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xperiences with failed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transmit to P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whether transmitting patient data creates liabilit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about prescribing data and tracking/pro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owns the data: cost of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positive experience – almost none would “turn back the cloc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: office efficiency, pharmacy communication, formulary information, prescription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iers/challenges: Learning curve, reliability, questionable safety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more apparent in larger practices with high volume of chronic med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pportunities to streamline work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ption volume/management is seen as a major issue at bas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financial gains easier to perce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site visits to observe system use, validate focus group obser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sample survey to test generalizability of initial 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studies of e-rx impact on cost, safety, adherence, clinical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ise of e-prescrib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spread to community-based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 what drives successful e-prescribing uptake in community 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s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1523880"/>
          <a:ext cx="38102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38102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38480" y="144756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d by  BCBSMA and Tufts Health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ed with ZixCorp, providing physicians with PocketScrip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began in earl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GIM%20MS%204720%20fig%201_Page_2" descr=""/>
          <p:cNvPicPr/>
          <p:nvPr/>
        </p:nvPicPr>
        <p:blipFill>
          <a:blip r:embed="rId1"/>
          <a:srcRect l="6057" t="-2264" r="12164" b="20493"/>
          <a:stretch/>
        </p:blipFill>
        <p:spPr>
          <a:xfrm>
            <a:off x="0" y="-69840"/>
            <a:ext cx="8610480" cy="6656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studies – erx ado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6400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her et al, JGIM, 200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studies – e-rx and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88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63244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scher et al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ch Int 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08, in p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studies – e-rx and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lerts over-ridden by prescri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ngart et al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ch Int 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s suggest reduced ADEs, but inadequate studies in outpatient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menwerth et al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M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xperience of community-based practices that adopt electronic prescribing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barriers remain to successful adoption and use of e-prescrib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has e-prescribing succeeded; has it created new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spring 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cribers and office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medicine, pediatrics, FP, cardiology, nephr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current and form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/low volume, abandoned, transitioned to E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discussions with prescr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2:48:38Z</dcterms:created>
  <dc:creator>Information Systems</dc:creator>
  <dc:description/>
  <dc:language>en-US</dc:language>
  <cp:lastModifiedBy>DHHS</cp:lastModifiedBy>
  <dcterms:modified xsi:type="dcterms:W3CDTF">2009-01-02T18:08:32Z</dcterms:modified>
  <cp:revision>44</cp:revision>
  <dc:subject/>
  <dc:title>Adoption of electronic prescribing in community-based practices</dc:title>
</cp:coreProperties>
</file>