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34A-3F72-4638-B229-C59E3A8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E0D-5C51-476C-B7B1-74A47EF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961-E1A0-466E-A3D9-1CF4952F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420-AC15-42D4-BFA3-998F8209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0BE-4120-4DFD-989B-A3278CC2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E1A-45EA-47DC-B0BF-71956B4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057-2453-46E2-A936-92F2004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037-1403-4DB0-A3E3-F380AFB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969-AC85-47AB-939F-9017A6C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B64-CBBC-4A74-8941-516F17E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27D-D1D0-49EC-B8D7-388F2FD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9C3-A9EC-465A-B28C-08CEA93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4C5C-1B75-4239-ADEF-9C9804DD8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in community-based practices: successes and 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 A Fischer, M.D., M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of Pharmacoepidemiology and Pharmacoec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ment of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igham and Women’s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vard Medical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phar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people touch the actual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annot lose the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annot tamper with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centives a major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adoption subs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ncentives for ongoing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gains in patient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an reduce wait times, we’ve succee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 of RoI in terms of practice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hanges in practice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alls for front-e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lls and other non-critical medication issues can be batched for M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s staff time and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rruption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y information is updated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ROI, but hard to qua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view of patient medicatio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round the clock, out of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s about drug-drug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staff appreciated rem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 less certain, many alerts dis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patients on a specific dr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useful for re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identify all the patients on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if a drug is not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callbacks, increased patient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patients on a specific dr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seful for prescribing incen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phar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flow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send specif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“no more refills until patient sees do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kill: “not covered in medical sch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for older pre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urden on champions/super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asks for some personnel – source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ed in” with initial vendo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earch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240" y="1371600"/>
            <a:ext cx="434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-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tu Agarwa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y Angst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re D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e Desroches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4114800"/>
            <a:ext cx="447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371600"/>
            <a:ext cx="454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B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enne Cyrulik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fts Health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ix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s MacDona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Plunk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evices/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some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transmit to P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ity/network problems, loss of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for sick patients or week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wrong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wrong drug (Cipro/Cial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oses/formulations not i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alerts not perceived as helpful: “ignore almost a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lerts may be handled by non-prescribers in the process of que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ing something in hand (older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xperiences with failed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transmit to P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whether transmitting patient data creates liabilit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prescribing data and tracking/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owns the data: cost of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positive experience – almost none would “turn back the cloc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: office efficiency, pharmacy communication, formulary information, 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/challenges: Learning curve, reliability, questionable safety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more apparent in larger practices with high volume of chronic med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to streamline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ption volume/management is seen as a major issue at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financial gains easier to per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ite visits to observe system use, validate focus group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sample survey to test generalizability of initial 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studies of e-rx impact on cost, safety, adherence, clinical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 of e-pr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pread to community-based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what drives successful e-prescribing uptake in community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523880"/>
          <a:ext cx="38102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3810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3848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d by  BCBSMA and Tufts Health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ed with ZixCorp, providing physicians with PocketScrip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began in ear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GIM%20MS%204720%20fig%201_Page_2" descr=""/>
          <p:cNvPicPr/>
          <p:nvPr/>
        </p:nvPicPr>
        <p:blipFill>
          <a:blip r:embed="rId1"/>
          <a:srcRect l="6057" t="-2264" r="12164" b="20493"/>
          <a:stretch/>
        </p:blipFill>
        <p:spPr>
          <a:xfrm>
            <a:off x="0" y="-69840"/>
            <a:ext cx="8610480" cy="6656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rx ado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6400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her et al, JGIM, 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-rx and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8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63244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her et al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8, in 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-rx and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lerts over-ridden by 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gart et a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ch Int 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suggest reduced ADEs, but inadequate studies in outpatien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menwerth et a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xperience of community-based practices that adopt electronic prescribing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arriers remain to successful adoption and use of e-prescrib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has e-prescribing succeeded; has it created new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spring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and office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medicine, pediatrics, FP, cardiology, neph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urrent and form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/low volume, abandoned, transitioned to E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iscussions with pre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2:48:38Z</dcterms:created>
  <dc:creator>Information Systems</dc:creator>
  <dc:description/>
  <dc:language>en-US</dc:language>
  <cp:lastModifiedBy>DHHS</cp:lastModifiedBy>
  <dcterms:modified xsi:type="dcterms:W3CDTF">2009-01-02T18:08:32Z</dcterms:modified>
  <cp:revision>44</cp:revision>
  <dc:subject/>
  <dc:title>Adoption of electronic prescribing in community-based practices</dc:title>
</cp:coreProperties>
</file>