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47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1884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454200"/>
            <a:ext cx="71884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47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350784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0200" y="1219320"/>
            <a:ext cx="350784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454200"/>
            <a:ext cx="350784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0200" y="3454200"/>
            <a:ext cx="350784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47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231444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7400" y="1219320"/>
            <a:ext cx="231444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7760" y="1219320"/>
            <a:ext cx="231444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454200"/>
            <a:ext cx="231444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7400" y="3454200"/>
            <a:ext cx="231444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7760" y="3454200"/>
            <a:ext cx="231444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47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1219320"/>
            <a:ext cx="718848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47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1884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47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350784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0200" y="1219320"/>
            <a:ext cx="350784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47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0"/>
            <a:ext cx="7477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47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350784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0200" y="1219320"/>
            <a:ext cx="350784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3454200"/>
            <a:ext cx="350784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47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219320"/>
            <a:ext cx="718848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47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350784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0200" y="1219320"/>
            <a:ext cx="350784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0200" y="3454200"/>
            <a:ext cx="350784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47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350784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0200" y="1219320"/>
            <a:ext cx="350784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3454200"/>
            <a:ext cx="71884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47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1884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3454200"/>
            <a:ext cx="71884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47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350784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0200" y="1219320"/>
            <a:ext cx="350784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3454200"/>
            <a:ext cx="350784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0200" y="3454200"/>
            <a:ext cx="350784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47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231444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7400" y="1219320"/>
            <a:ext cx="231444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7760" y="1219320"/>
            <a:ext cx="231444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3454200"/>
            <a:ext cx="231444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7400" y="3454200"/>
            <a:ext cx="231444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7760" y="3454200"/>
            <a:ext cx="231444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47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1884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47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350784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0200" y="1219320"/>
            <a:ext cx="350784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47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0"/>
            <a:ext cx="7477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47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350784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0200" y="1219320"/>
            <a:ext cx="350784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454200"/>
            <a:ext cx="350784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47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350784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0200" y="1219320"/>
            <a:ext cx="350784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0200" y="3454200"/>
            <a:ext cx="350784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47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350784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200" y="1219320"/>
            <a:ext cx="350784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454200"/>
            <a:ext cx="71884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c2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14400"/>
            <a:ext cx="685800" cy="59436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934320" y="5315040"/>
            <a:ext cx="2243160" cy="1542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47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219320"/>
            <a:ext cx="71884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066680"/>
            <a:ext cx="685800" cy="5791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18920" y="4572000"/>
            <a:ext cx="56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86000" y="1295280"/>
            <a:ext cx="4632480" cy="2895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c2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14400"/>
            <a:ext cx="685800" cy="59436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feldpush@aha.org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ha.org/aha/resource-center/Statistics-and-Studies/studies.html" TargetMode="External"/><Relationship Id="rId2" Type="http://schemas.openxmlformats.org/officeDocument/2006/relationships/hyperlink" Target="http://www.hret.org/" TargetMode="External"/><Relationship Id="rId3" Type="http://schemas.openxmlformats.org/officeDocument/2006/relationships/hyperlink" Target="http://www.ahadata.com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ospitalcompare.hhs.gov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5083200"/>
            <a:ext cx="7620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HA Data Initiatives with Implications for Research on Organizational Characteristics and Quality Improvement</a:t>
            </a:r>
            <a:br>
              <a:rPr sz="2800"/>
            </a:br>
            <a:br>
              <a:rPr sz="24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eth Feldpush, MPH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enior Associate Director, Quality and Patient Safety Policy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merican Hospital Association</a:t>
            </a:r>
            <a:br>
              <a:rPr sz="1600"/>
            </a:b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feldpush@aha.org</a:t>
            </a:r>
            <a:br>
              <a:rPr sz="1600"/>
            </a:b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47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HA Annual Surve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1884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007 survey available in October 2008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ew for 2007: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anded list of facilities and servic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affing - intensivists, foreign-educated nurs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anded questions on community benefit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47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ther AHA Resour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verview/Demographic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AHA Healthcare Quickdisc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eadership Perspectiv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Taking the Puls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– interviews with hospital leaders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nformation Technolog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Continued Progres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Most Wired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Hospital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47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lth Research and Educational Trust (HRET) – Center for Health Management Re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39152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etwork of hospital and health care system leaders and academic researcher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nhance the efficiency and effectiveness of health services delivery and management by translating research into actionable practices and tool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vidence-informed management” -  science + professional expertis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47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lth Research and Educational Trust (HRET) – Center for Health Management Re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39152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apid results for dissemin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urrent research topics: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Quality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vidence-based managemen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eadership and governanc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ealth information technology  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atient safety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47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HA Resour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1884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ha.org/aha/resource-center/Statistics-and-Studies/studies.htm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hret.org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hadata.com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47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search to practice – what matters to hospitals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rformance measuremen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HA data and resourc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47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om Research to Pract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ioriti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here is the evidence?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here can I make effective change?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hat can I implement within existing regulatory/market barriers?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asing Demands Leads to Prioritizing Challeng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1419120"/>
            <a:ext cx="9144000" cy="543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47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om Research to Pract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ool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hat are the practices?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hat are the resources?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ho needs to be engaged?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47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ery Initiative Needs a How-to Gu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ive the conceptual and research overview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esent what success looks lik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ive a step-by-step sequence of activities to implement the change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ovide supplementary resources, practical tips, examples from hospitals, and case studi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47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formance Measur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1884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Hospital Compare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Web site (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spitalcompare.hhs.gov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)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Quality and performance information on ~4,000 hospital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Updated every quarter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rformance data on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Heart attack, heart failure, pneumonia, and surgical car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ortality information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atient experiences with car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47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formance Measurement – Potential Research Are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1884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Understanding performance over tim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xamining performance by: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are func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nical microsystems”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47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HA Annual Surve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1884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ore than 800 data fields on 6,000+ hospitals, including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emographics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rganizational structure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acilities and services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Utilization data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mmunity orientation indicators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hysician arrangements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naged care relationships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xpenses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taffing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istorical data to 1980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15:34:41Z</dcterms:created>
  <dc:creator>Heather Powers</dc:creator>
  <dc:description/>
  <dc:language>en-US</dc:language>
  <cp:lastModifiedBy>AHA</cp:lastModifiedBy>
  <dcterms:modified xsi:type="dcterms:W3CDTF">2008-09-08T14:06:09Z</dcterms:modified>
  <cp:revision>238</cp:revision>
  <dc:subject/>
  <dc:title>Slide 1</dc:title>
</cp:coreProperties>
</file>