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98AF9C-2218-4B64-9994-D009E556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QH: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 Unicode MS"/>
              </a:rPr>
              <a:t>a unique collaboration among home health care organizations to advance the quality of home care for key clinical issues affecting vulnerable populations.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 Unicode MS"/>
              </a:rPr>
              <a:t>During the Diabetes Learning Collaborative, agencies successfully integrated system-level changes and codified key improvements for diabetes patients across their agencies.  The lessons learned from this Collaborative directly inform the efforts for the ReACH Collaborativ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(Optional: ___agencies within the __ (state) participated in the ACH pilot).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itiative resulted in a set of evidence-based change strategies and an improvement framework that have been adapted for implementation during the ReACH Collaborativ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ssons learned from this first collaborative – regarding development and implementation of change strategies, training and technical assistance needs, and measurement and evaluation efforts – will inform the efforts of the ReACH Collaborative.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laborative is designed to test, implement and spread key strategies to reduce hospitalization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atients “at-risk” in participating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0FF-34B8-424E-B2A8-D904CCA7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16E-5A84-4F90-81DB-5F0D0B13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63F-2BF7-476F-A49B-3D259A07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816-756A-4D2A-8A31-AFBE0290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384-686B-41A6-A748-0A6808E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1AC-3B9B-4796-ACB7-1BCF51F4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047-D634-4160-8249-DAAC79D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F96-59A8-409E-B21F-AFE3850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FAD-179B-4015-A66D-EF20FB2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C93-E339-4877-9E9E-13C4B9D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162-C74D-4511-96F2-5A1613B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B2C-9C40-4BD9-958C-14535CE4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0BC-0A74-43EB-B7B4-4D41E418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 Collaborative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ducing Acute Care Hospit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y H. Feldman,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 Principal Invest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ting Nurse Service of New Y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 for Home Care Policy and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ject team gratefully acknowledges the support from AHRQ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U18 HS 136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the Robert Wood Johnson Foundati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425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ce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1981080"/>
          <a:ext cx="6019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019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7432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5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4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00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atients with risk-specific care pla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6E3-5248-45A6-99F2-9E03A99402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ce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6765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home care visits in first two weeks for patients at-risk of hospitalization in target grou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438280"/>
            <a:ext cx="5638680" cy="3949920"/>
            <a:chOff x="1600200" y="2438280"/>
            <a:chExt cx="5638680" cy="3949920"/>
          </a:xfrm>
        </p:grpSpPr>
        <p:graphicFrame>
          <p:nvGraphicFramePr>
            <p:cNvPr id="180" name=""/>
            <p:cNvGraphicFramePr/>
            <p:nvPr/>
          </p:nvGraphicFramePr>
          <p:xfrm>
            <a:off x="1600200" y="2438280"/>
            <a:ext cx="5638680" cy="381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2438280"/>
                      <a:ext cx="5638680" cy="381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2514600" y="6019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6019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1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12C-5B9A-4923-8595-FD00FCDC20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Hospitaliz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me care episodes resulting in acute care hospitalization for target grou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23880" y="2057400"/>
            <a:ext cx="5943600" cy="4330800"/>
            <a:chOff x="1523880" y="2057400"/>
            <a:chExt cx="5943600" cy="4330800"/>
          </a:xfrm>
        </p:grpSpPr>
        <p:graphicFrame>
          <p:nvGraphicFramePr>
            <p:cNvPr id="187" name=""/>
            <p:cNvGraphicFramePr/>
            <p:nvPr/>
          </p:nvGraphicFramePr>
          <p:xfrm>
            <a:off x="1523880" y="2057400"/>
            <a:ext cx="5943600" cy="419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057400"/>
                      <a:ext cx="5943600" cy="419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2209680" y="6019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4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2520" y="60199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7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456-B19E-4258-9B62-EB8F802EA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HQI – National ACH Campaig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25948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son of 7,45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re-certified 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,352 Early Participating (EP)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72 Later Participating (LP)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28 Non Participating (NP)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 rate over a 12-month peri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.7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.4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.0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.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6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.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As achieving at least 5% improve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 (38.4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P (37.9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(34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002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B02-9B4E-484B-9D6B-96E2350030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52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 to ReACH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expertis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agency selec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QI experiences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ng 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CH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ng-distance fa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nce on QIOs to transmit skills/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issues related to virtu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targe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implementation of varied strate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975280"/>
            <a:ext cx="1600200" cy="6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474-BD17-4191-90B7-44A46F7D5582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5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IOs’ need/demand for TA, tools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As’ positive response to Collaborative Learning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face-to-face information transfer (local learning sessions) and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cies from leveraging QIO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ruitment, TA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to peer reinforcement, share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involvemen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838080"/>
            <a:ext cx="784872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DB1-4058-4D35-9758-76442136A26D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 – 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8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iatric CHAM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National Framework to Advance Geriatric Home Care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geriatric capacity in significant number of 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hieve significant, measurable improvement in home care for older persons throu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learning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tional Community of Practice to support quality improvement and share the Framework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ollary activities an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s (e.g., NAHC, VNAA, state associations; QIOSCs; accrediting bodies; consumer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ic Philanthropies, John A. Hartford Foundation, California Health Care Foundation, New York State Health Foundation,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F39-2511-4889-8DEC-B6B8C4F907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52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H Structure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to advance home health ca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SNY Center for Home Care Policy and Research (CH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are QIOSC – Quality Insights of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Q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 home health agencies (HHAs) from 20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 collaborative model for HHA practi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cute care hospitaliz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744-F06C-4FD8-B631-0F62020DCBE8}" type="slidenum">
              <a:t>2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artnership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29708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90920" y="2590920"/>
            <a:ext cx="3657600" cy="2438280"/>
            <a:chOff x="2590920" y="2590920"/>
            <a:chExt cx="3657600" cy="2438280"/>
          </a:xfrm>
        </p:grpSpPr>
        <p:sp>
          <p:nvSpPr>
            <p:cNvPr id="58" name=""/>
            <p:cNvSpPr/>
            <p:nvPr/>
          </p:nvSpPr>
          <p:spPr>
            <a:xfrm>
              <a:off x="3581640" y="2590920"/>
              <a:ext cx="1752480" cy="1523880"/>
            </a:xfrm>
            <a:prstGeom prst="ellipse">
              <a:avLst/>
            </a:prstGeom>
            <a:solidFill>
              <a:srgbClr val="bbe0e3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H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360" y="3505320"/>
              <a:ext cx="1676160" cy="1523880"/>
            </a:xfrm>
            <a:prstGeom prst="ellipse">
              <a:avLst/>
            </a:prstGeom>
            <a:solidFill>
              <a:srgbClr val="bbe0e3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C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3429000"/>
              <a:ext cx="1676520" cy="1523880"/>
            </a:xfrm>
            <a:prstGeom prst="ellipse">
              <a:avLst/>
            </a:prstGeom>
            <a:solidFill>
              <a:srgbClr val="bbe0e3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781680" y="1600200"/>
            <a:ext cx="1600200" cy="1219320"/>
            <a:chOff x="6781680" y="1600200"/>
            <a:chExt cx="1600200" cy="1219320"/>
          </a:xfrm>
        </p:grpSpPr>
        <p:sp>
          <p:nvSpPr>
            <p:cNvPr id="62" name=""/>
            <p:cNvSpPr/>
            <p:nvPr/>
          </p:nvSpPr>
          <p:spPr>
            <a:xfrm>
              <a:off x="7314840" y="19810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040" y="16002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0640" y="1981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2040" y="24382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25146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21337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1676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581280" y="5334120"/>
            <a:ext cx="1600200" cy="1218600"/>
            <a:chOff x="3581280" y="5334120"/>
            <a:chExt cx="1600200" cy="1218600"/>
          </a:xfrm>
        </p:grpSpPr>
        <p:sp>
          <p:nvSpPr>
            <p:cNvPr id="70" name=""/>
            <p:cNvSpPr/>
            <p:nvPr/>
          </p:nvSpPr>
          <p:spPr>
            <a:xfrm>
              <a:off x="4114440" y="5714640"/>
              <a:ext cx="533520" cy="5331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1640" y="533412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0240" y="57146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1640" y="61718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624816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1280" y="58672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160" y="54100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95280" y="4800600"/>
            <a:ext cx="1600200" cy="1219320"/>
            <a:chOff x="1295280" y="4800600"/>
            <a:chExt cx="1600200" cy="1219320"/>
          </a:xfrm>
        </p:grpSpPr>
        <p:sp>
          <p:nvSpPr>
            <p:cNvPr id="78" name=""/>
            <p:cNvSpPr/>
            <p:nvPr/>
          </p:nvSpPr>
          <p:spPr>
            <a:xfrm>
              <a:off x="1828440" y="51814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5640" y="48006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240" y="51814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5640" y="56386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3880" y="57150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53341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160" y="48769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33520" y="3276720"/>
            <a:ext cx="1600200" cy="1218600"/>
            <a:chOff x="533520" y="3276720"/>
            <a:chExt cx="1600200" cy="1218600"/>
          </a:xfrm>
        </p:grpSpPr>
        <p:sp>
          <p:nvSpPr>
            <p:cNvPr id="86" name=""/>
            <p:cNvSpPr/>
            <p:nvPr/>
          </p:nvSpPr>
          <p:spPr>
            <a:xfrm>
              <a:off x="1066680" y="3657240"/>
              <a:ext cx="533520" cy="5331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3880" y="327672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36572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3880" y="41144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419076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520" y="38098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4400" y="33526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3520" y="1600200"/>
            <a:ext cx="1600200" cy="1219320"/>
            <a:chOff x="533520" y="1600200"/>
            <a:chExt cx="1600200" cy="1219320"/>
          </a:xfrm>
        </p:grpSpPr>
        <p:sp>
          <p:nvSpPr>
            <p:cNvPr id="94" name=""/>
            <p:cNvSpPr/>
            <p:nvPr/>
          </p:nvSpPr>
          <p:spPr>
            <a:xfrm>
              <a:off x="1066680" y="19810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16002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1981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24382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25146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520" y="21337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14400" y="1676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14600" y="1447920"/>
            <a:ext cx="1600200" cy="1218600"/>
            <a:chOff x="2514600" y="1447920"/>
            <a:chExt cx="1600200" cy="1218600"/>
          </a:xfrm>
        </p:grpSpPr>
        <p:sp>
          <p:nvSpPr>
            <p:cNvPr id="102" name=""/>
            <p:cNvSpPr/>
            <p:nvPr/>
          </p:nvSpPr>
          <p:spPr>
            <a:xfrm>
              <a:off x="3047760" y="1828440"/>
              <a:ext cx="533520" cy="5331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4960" y="144792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3560" y="18284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4960" y="22856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36196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9810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15238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72200" y="5029200"/>
            <a:ext cx="1600200" cy="1219320"/>
            <a:chOff x="6172200" y="5029200"/>
            <a:chExt cx="1600200" cy="1219320"/>
          </a:xfrm>
        </p:grpSpPr>
        <p:sp>
          <p:nvSpPr>
            <p:cNvPr id="110" name=""/>
            <p:cNvSpPr/>
            <p:nvPr/>
          </p:nvSpPr>
          <p:spPr>
            <a:xfrm>
              <a:off x="6705360" y="54100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2560" y="50292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5410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2560" y="58672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59436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2200" y="55627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3080" y="5105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1371600"/>
            <a:ext cx="1600200" cy="1219320"/>
            <a:chOff x="4724280" y="1371600"/>
            <a:chExt cx="1600200" cy="1219320"/>
          </a:xfrm>
        </p:grpSpPr>
        <p:sp>
          <p:nvSpPr>
            <p:cNvPr id="118" name=""/>
            <p:cNvSpPr/>
            <p:nvPr/>
          </p:nvSpPr>
          <p:spPr>
            <a:xfrm>
              <a:off x="5257440" y="17524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4640" y="13716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3240" y="17524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14640" y="22096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22860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4280" y="19051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160" y="14479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81680" y="3429000"/>
            <a:ext cx="1600200" cy="1219320"/>
            <a:chOff x="6781680" y="3429000"/>
            <a:chExt cx="1600200" cy="1219320"/>
          </a:xfrm>
        </p:grpSpPr>
        <p:sp>
          <p:nvSpPr>
            <p:cNvPr id="126" name=""/>
            <p:cNvSpPr/>
            <p:nvPr/>
          </p:nvSpPr>
          <p:spPr>
            <a:xfrm>
              <a:off x="7314840" y="38098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040" y="34290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0640" y="38098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040" y="4267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43434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81680" y="3962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62560" y="35053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374-5314-4B0A-9DB3-E25DFBA89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29708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3716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 Unicode MS"/>
              </a:rPr>
              <a:t>20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 Partnership for Achieving Quality Homec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(PAQH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unded by AHRQ and RW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 Unicode MS"/>
              </a:rPr>
              <a:t>2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 PAQH Diabetes Learning Collabora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8 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ignificant improvement in 8 of 9 measures -- 30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percentage point increase in rate of patient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glucose in target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ute Care Hospitalization (ACH) Pilot Projec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IOSC and CHCPR – evidence review and b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2005-200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ACH – 2 seven-month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5CA-3778-4A77-9E38-AC7733BDF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8100 Medicare-certified HHAs; ~3.4m dis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“OASIS” assessments &amp; publicly report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nding pay f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20% agencies accred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quality/weak quality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ed work force/poor support for frontline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story of voluntary industry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-funded Home Health Quality Improvement Campaign (HHQI) 2007-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BE8-C9E2-462C-87E3-B44D789A4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ject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29708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52388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acute care hospitalizations of home health patients and make substantial progress toward CMS target of 23% risk-adjusted rate (already achieved by 25% of all HHAs nationwid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ose agencies with rates at 23% or lower: sustain the rate, and identify ways to reduce it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8AD-0580-4812-8F4B-0192B5D77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52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763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” group selection (e.g.,region, office, d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isk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y Plans and Risk-Appropriate Care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ont load visits and increase contacts (phone calls; telemedicine) for high risk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tion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MD communication (Situation-Background-Assessment-Recommend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B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975280"/>
            <a:ext cx="1600200" cy="6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9DD-F2C9-457D-A6F0-E5736CDD5167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H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1932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vel 1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 satisfaction, challenges, lessons l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vel 2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r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 measures, strategies an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vel 3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age of episodes ending with hos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line surveys; phon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thly record reviews – data entered 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ASIS reports (Home Healthcare Comp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83A-43C5-4410-88C6-0A758CA1AB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cess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876920" y="22096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2096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10552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patients in target group identified at ris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37160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atients with completed risk assessm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2209680"/>
          <a:ext cx="487692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9680"/>
                    <a:ext cx="4876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80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4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4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1676520"/>
            <a:ext cx="0" cy="213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5720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DC7-EC95-40E6-8806-B05DF401BA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0:02:19Z</dcterms:created>
  <dc:creator>Ned Lustbader</dc:creator>
  <dc:description/>
  <dc:language>en-US</dc:language>
  <cp:lastModifiedBy>rac</cp:lastModifiedBy>
  <dcterms:modified xsi:type="dcterms:W3CDTF">2008-09-10T13:42:59Z</dcterms:modified>
  <cp:revision>213</cp:revision>
  <dc:subject/>
  <dc:title>Slide 1</dc:title>
</cp:coreProperties>
</file>