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DD2449-C742-4DE8-9CBB-5C14756AA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QH: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 Unicode MS"/>
              </a:rPr>
              <a:t>a unique collaboration among home health care organizations to advance the quality of home care for key clinical issues affecting vulnerable populations.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 Unicode MS"/>
              </a:rPr>
              <a:t>During the Diabetes Learning Collaborative, agencies successfully integrated system-level changes and codified key improvements for diabetes patients across their agencies.  The lessons learned from this Collaborative directly inform the efforts for the ReACH Collaborativ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(Optional: ___agencies within the __ (state) participated in the ACH pilot).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itiative resulted in a set of evidence-based change strategies and an improvement framework that have been adapted for implementation during the ReACH Collaborative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Times New Roman"/>
              </a:rPr>
              <a:t>The lessons learned from this first collaborative – regarding development and implementation of change strategies, training and technical assistance needs, and measurement and evaluation efforts – will inform the efforts of the ReACH Collaborative.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llaborative is designed to test, implement and spread key strategies to reduce hospitalization f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patients “at-risk” in participating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D12-519A-4AD2-AC5A-689D1164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6BE3-DC52-403A-B777-B511DA2D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782-0BBD-414C-900E-5A68B5A3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FF75-7ECF-4307-AA31-1A8B87C3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631-CB29-4162-8164-AD2240F0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F9A4-73BA-4C7B-A727-220CE576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D66-D15E-4B7F-AC25-EDC34B6D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27E-A708-4954-B024-AC4B8B08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257-97E8-4C7D-B655-6F62789D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6714-A09E-418F-BA6F-8D559A42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863-7987-4FB9-82CA-B8ED1367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12E-A0C3-4BB6-9185-341E574F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E0D0-87C6-4B14-B6BD-BD6E7FC4E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1905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H Nati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nstration Collaborative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Reducing Acute Care Hospit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nny H. Feldman, P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H Principal Investig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ting Nurse Service of New Y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er for Home Care Policy and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791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ject team gratefully acknowledges the support from AHRQ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 U18 HS 1369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the Robert Wood Johnson Foundatio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4258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H Process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676520" y="1981080"/>
          <a:ext cx="60195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0195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743200" y="5867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5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44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60020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patients with risk-specific care plan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C50-A1C9-44E5-B11F-6C8ECAC4E3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H Process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16765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home care visits in first two weeks for patients at-risk of hospitalization in target grou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00200" y="2438280"/>
            <a:ext cx="5638680" cy="3949920"/>
            <a:chOff x="1600200" y="2438280"/>
            <a:chExt cx="5638680" cy="3949920"/>
          </a:xfrm>
        </p:grpSpPr>
        <p:graphicFrame>
          <p:nvGraphicFramePr>
            <p:cNvPr id="180" name=""/>
            <p:cNvGraphicFramePr/>
            <p:nvPr/>
          </p:nvGraphicFramePr>
          <p:xfrm>
            <a:off x="1600200" y="2438280"/>
            <a:ext cx="5638680" cy="3810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2438280"/>
                      <a:ext cx="5638680" cy="381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"/>
            <p:cNvSpPr/>
            <p:nvPr/>
          </p:nvSpPr>
          <p:spPr>
            <a:xfrm>
              <a:off x="2514600" y="60199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+1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67080" y="60199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+1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148-C719-4E94-875E-7CB89A13F1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H Hospitalizatio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me care episodes resulting in acute care hospitalization for target grou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523880" y="2057400"/>
            <a:ext cx="5943600" cy="4330800"/>
            <a:chOff x="1523880" y="2057400"/>
            <a:chExt cx="5943600" cy="4330800"/>
          </a:xfrm>
        </p:grpSpPr>
        <p:graphicFrame>
          <p:nvGraphicFramePr>
            <p:cNvPr id="187" name=""/>
            <p:cNvGraphicFramePr/>
            <p:nvPr/>
          </p:nvGraphicFramePr>
          <p:xfrm>
            <a:off x="1523880" y="2057400"/>
            <a:ext cx="5943600" cy="4191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3880" y="2057400"/>
                      <a:ext cx="5943600" cy="419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2209680" y="60199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-4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62520" y="601992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-7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AFA-3025-483C-83C3-0AE16192C6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HQI – National ACH Campaig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25948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son of 7,45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dicare-certified H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,352 Early Participating (EP)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972 Later Participating (LP)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,128 Non Participating (NP)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 rate over a 12-month peri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20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ruary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.73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.4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.0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.3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.61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.3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HAs achieving at least 5% improveme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 (38.4%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LP (37.9%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 (34.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600200"/>
            <a:ext cx="792504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93A-F84C-415C-AD9A-C6CBCDAFCD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52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es to ReACH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ed expertise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ed agency selection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ed QI experiences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ng prior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ff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CH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ng-distance facu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iance on QIOs to transmit skills/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issues related to virtual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ed targe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ed implementation of varied strategies an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990720"/>
            <a:ext cx="784872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5975280"/>
            <a:ext cx="1600200" cy="65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5DF-8C33-411E-902F-D3BC187F1FAF}" type="slidenum">
              <a:t>14</a:t>
            </a:fld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5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2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IOs’ need/demand for TA, tools,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As’ positive response to Collaborative Learning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e of face-to-face information transfer (local learning sessions) and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fficiencies from leveraging QIO re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ruitment, TA,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 to peer reinforcement, shared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based 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involvemen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838080"/>
            <a:ext cx="784872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6019920"/>
            <a:ext cx="167652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B40-4B21-40BC-8EEF-26E1CB70E268}" type="slidenum">
              <a:t>15</a:t>
            </a:fld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on – 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48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eriatric CHAMP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National Framework to Advance Geriatric Home Care Excel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geriatric capacity in significant number of H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hieve significant, measurable improvement in home care for older persons throu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learning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ational Community of Practice to support quality improvement and share the Framework 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ollary activities and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ons (e.g., NAHC, VNAA, state associations; QIOSCs; accrediting bodies; consumer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ing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lantic Philanthropies, John A. Hartford Foundation, California Health Care Foundation, New York State Health Foundation,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EAE-595B-44F7-9E7C-F320A068B5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52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CH Structure and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ship to advance home health car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NSNY Center for Home Care Policy and Research (CHC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care QIOSC – Quality Insights of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Q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9 home health agencies (HHAs) from 20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 collaborative model for HHA practice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acute care hospitalization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6019920"/>
            <a:ext cx="167652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0EAC-E69E-4F36-8312-C8F7762CF47F}" type="slidenum">
              <a:t>2</a:t>
            </a:fld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H Partnership Mod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297080"/>
            <a:ext cx="792468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590920" y="2590920"/>
            <a:ext cx="3657600" cy="2438280"/>
            <a:chOff x="2590920" y="2590920"/>
            <a:chExt cx="3657600" cy="2438280"/>
          </a:xfrm>
        </p:grpSpPr>
        <p:sp>
          <p:nvSpPr>
            <p:cNvPr id="58" name=""/>
            <p:cNvSpPr/>
            <p:nvPr/>
          </p:nvSpPr>
          <p:spPr>
            <a:xfrm>
              <a:off x="3581640" y="2590920"/>
              <a:ext cx="1752480" cy="1523880"/>
            </a:xfrm>
            <a:prstGeom prst="ellipse">
              <a:avLst/>
            </a:prstGeom>
            <a:solidFill>
              <a:srgbClr val="bbe0e3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ACH 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2360" y="3505320"/>
              <a:ext cx="1676160" cy="1523880"/>
            </a:xfrm>
            <a:prstGeom prst="ellipse">
              <a:avLst/>
            </a:prstGeom>
            <a:solidFill>
              <a:srgbClr val="bbe0e3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CP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90920" y="3429000"/>
              <a:ext cx="1676520" cy="1523880"/>
            </a:xfrm>
            <a:prstGeom prst="ellipse">
              <a:avLst/>
            </a:prstGeom>
            <a:solidFill>
              <a:srgbClr val="bbe0e3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IOS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781680" y="1600200"/>
            <a:ext cx="1600200" cy="1219320"/>
            <a:chOff x="6781680" y="1600200"/>
            <a:chExt cx="1600200" cy="1219320"/>
          </a:xfrm>
        </p:grpSpPr>
        <p:sp>
          <p:nvSpPr>
            <p:cNvPr id="62" name=""/>
            <p:cNvSpPr/>
            <p:nvPr/>
          </p:nvSpPr>
          <p:spPr>
            <a:xfrm>
              <a:off x="7314840" y="1981080"/>
              <a:ext cx="533520" cy="5335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72040" y="160020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00640" y="19810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72040" y="24382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10280" y="2514600"/>
              <a:ext cx="38088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81680" y="21337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62560" y="16765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581280" y="5334120"/>
            <a:ext cx="1600200" cy="1218600"/>
            <a:chOff x="3581280" y="5334120"/>
            <a:chExt cx="1600200" cy="1218600"/>
          </a:xfrm>
        </p:grpSpPr>
        <p:sp>
          <p:nvSpPr>
            <p:cNvPr id="70" name=""/>
            <p:cNvSpPr/>
            <p:nvPr/>
          </p:nvSpPr>
          <p:spPr>
            <a:xfrm>
              <a:off x="4114440" y="5714640"/>
              <a:ext cx="533520" cy="5331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1640" y="5334120"/>
              <a:ext cx="38124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00240" y="5714640"/>
              <a:ext cx="38124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1640" y="6171840"/>
              <a:ext cx="38124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09880" y="624816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81280" y="5867280"/>
              <a:ext cx="380880" cy="30420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62160" y="5410080"/>
              <a:ext cx="380880" cy="30420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295280" y="4800600"/>
            <a:ext cx="1600200" cy="1219320"/>
            <a:chOff x="1295280" y="4800600"/>
            <a:chExt cx="1600200" cy="1219320"/>
          </a:xfrm>
        </p:grpSpPr>
        <p:sp>
          <p:nvSpPr>
            <p:cNvPr id="78" name=""/>
            <p:cNvSpPr/>
            <p:nvPr/>
          </p:nvSpPr>
          <p:spPr>
            <a:xfrm>
              <a:off x="1828440" y="5181480"/>
              <a:ext cx="533520" cy="5335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85640" y="480060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14240" y="51814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85640" y="56386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3880" y="5715000"/>
              <a:ext cx="38088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95280" y="53341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160" y="48769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33520" y="3276720"/>
            <a:ext cx="1600200" cy="1218600"/>
            <a:chOff x="533520" y="3276720"/>
            <a:chExt cx="1600200" cy="1218600"/>
          </a:xfrm>
        </p:grpSpPr>
        <p:sp>
          <p:nvSpPr>
            <p:cNvPr id="86" name=""/>
            <p:cNvSpPr/>
            <p:nvPr/>
          </p:nvSpPr>
          <p:spPr>
            <a:xfrm>
              <a:off x="1066680" y="3657240"/>
              <a:ext cx="533520" cy="5331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23880" y="3276720"/>
              <a:ext cx="38124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52480" y="3657240"/>
              <a:ext cx="38124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23880" y="4114440"/>
              <a:ext cx="38124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2120" y="419076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520" y="3809880"/>
              <a:ext cx="380880" cy="30420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14400" y="3352680"/>
              <a:ext cx="380880" cy="30420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33520" y="1600200"/>
            <a:ext cx="1600200" cy="1219320"/>
            <a:chOff x="533520" y="1600200"/>
            <a:chExt cx="1600200" cy="1219320"/>
          </a:xfrm>
        </p:grpSpPr>
        <p:sp>
          <p:nvSpPr>
            <p:cNvPr id="94" name=""/>
            <p:cNvSpPr/>
            <p:nvPr/>
          </p:nvSpPr>
          <p:spPr>
            <a:xfrm>
              <a:off x="1066680" y="1981080"/>
              <a:ext cx="533520" cy="5335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3880" y="160020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52480" y="19810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23880" y="24382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2120" y="2514600"/>
              <a:ext cx="38088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520" y="21337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14400" y="16765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514600" y="1447920"/>
            <a:ext cx="1600200" cy="1218600"/>
            <a:chOff x="2514600" y="1447920"/>
            <a:chExt cx="1600200" cy="1218600"/>
          </a:xfrm>
        </p:grpSpPr>
        <p:sp>
          <p:nvSpPr>
            <p:cNvPr id="102" name=""/>
            <p:cNvSpPr/>
            <p:nvPr/>
          </p:nvSpPr>
          <p:spPr>
            <a:xfrm>
              <a:off x="3047760" y="1828440"/>
              <a:ext cx="533520" cy="5331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04960" y="1447920"/>
              <a:ext cx="38124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33560" y="1828440"/>
              <a:ext cx="38124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04960" y="2285640"/>
              <a:ext cx="38124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236196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981080"/>
              <a:ext cx="380880" cy="30420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95480" y="1523880"/>
              <a:ext cx="380880" cy="30420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172200" y="5029200"/>
            <a:ext cx="1600200" cy="1219320"/>
            <a:chOff x="6172200" y="5029200"/>
            <a:chExt cx="1600200" cy="1219320"/>
          </a:xfrm>
        </p:grpSpPr>
        <p:sp>
          <p:nvSpPr>
            <p:cNvPr id="110" name=""/>
            <p:cNvSpPr/>
            <p:nvPr/>
          </p:nvSpPr>
          <p:spPr>
            <a:xfrm>
              <a:off x="6705360" y="5410080"/>
              <a:ext cx="533520" cy="5335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62560" y="502920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54100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162560" y="58672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00800" y="5943600"/>
              <a:ext cx="38088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72200" y="55627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53080" y="51055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724280" y="1371600"/>
            <a:ext cx="1600200" cy="1219320"/>
            <a:chOff x="4724280" y="1371600"/>
            <a:chExt cx="1600200" cy="1219320"/>
          </a:xfrm>
        </p:grpSpPr>
        <p:sp>
          <p:nvSpPr>
            <p:cNvPr id="118" name=""/>
            <p:cNvSpPr/>
            <p:nvPr/>
          </p:nvSpPr>
          <p:spPr>
            <a:xfrm>
              <a:off x="5257440" y="1752480"/>
              <a:ext cx="533520" cy="5335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14640" y="137160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43240" y="17524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14640" y="22096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52880" y="2286000"/>
              <a:ext cx="38088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24280" y="19051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05160" y="14479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781680" y="3429000"/>
            <a:ext cx="1600200" cy="1219320"/>
            <a:chOff x="6781680" y="3429000"/>
            <a:chExt cx="1600200" cy="1219320"/>
          </a:xfrm>
        </p:grpSpPr>
        <p:sp>
          <p:nvSpPr>
            <p:cNvPr id="126" name=""/>
            <p:cNvSpPr/>
            <p:nvPr/>
          </p:nvSpPr>
          <p:spPr>
            <a:xfrm>
              <a:off x="7314840" y="3809880"/>
              <a:ext cx="533520" cy="5335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2040" y="342900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00640" y="38098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2040" y="4267080"/>
              <a:ext cx="38124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0280" y="4343400"/>
              <a:ext cx="380880" cy="30492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81680" y="39625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62560" y="3505320"/>
              <a:ext cx="380880" cy="304560"/>
            </a:xfrm>
            <a:prstGeom prst="ellipse">
              <a:avLst/>
            </a:prstGeom>
            <a:solidFill>
              <a:srgbClr val="ffcc66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H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6019920"/>
            <a:ext cx="167652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CE0-DBAC-4DBF-99A8-E69F5411D8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1297080"/>
            <a:ext cx="792468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37160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Arial Unicode MS"/>
              </a:rPr>
              <a:t>200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: Partnership for Achieving Quality Homec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(PAQH)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unded by AHRQ and RW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Arial Unicode MS"/>
              </a:rPr>
              <a:t>200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: PAQH Diabetes Learning Collaborati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8 H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Significant improvement in 8 of 9 measures -- 30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percentage point increase in rate of patients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glucose in target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Times New Roman"/>
              </a:rPr>
              <a:t>200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ute Care Hospitalization (ACH) Pilot Project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IOSC and CHCPR – evidence review and b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Times New Roman"/>
              </a:rPr>
              <a:t>2005-2007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ACH – 2 seven-month 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167652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29D6-1D4B-4794-8B42-09E230423B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8100 Medicare-certified HHAs; ~3.4m dischar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ted “OASIS” assessments &amp; publicly reported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nding pay f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20% agencies accredi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quality/weak quality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rsed work force/poor support for frontline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istory of voluntary industry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-funded Home Health Quality Improvement Campaign (HHQI) 2007-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371600"/>
            <a:ext cx="8077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6019920"/>
            <a:ext cx="167652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3DD-C3A8-47BC-8696-A8C2CDE70B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H Project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1297080"/>
            <a:ext cx="792468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523880"/>
            <a:ext cx="8229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acute care hospitalizations of home health patients and make substantial progress toward CMS target of 23% risk-adjusted rate (already achieved by 25% of all HHAs nationwide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those agencies with rates at 23% or lower: sustain the rate, and identify ways to reduce it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167652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152-E4FA-4406-85F7-55028F2E44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52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H Best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763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” group selection (e.g.,region, office, d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isk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mergency Plans and Risk-Appropriate Care Pl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ront load visits and increase contacts (phone calls; telemedicine) for high risk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dication reconc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d MD communication (Situation-Background-Assessment-Recommendation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B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5975280"/>
            <a:ext cx="1600200" cy="65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5EE-C207-4B5E-859D-518AF01D486B}" type="slidenum">
              <a:t>7</a:t>
            </a:fld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CH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219320"/>
            <a:ext cx="8534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evel 1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er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nt satisfaction, challenges, lessons lear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evel 2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ar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re measures, strategies and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evel 3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sul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centage of episodes ending with hospit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ata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-line surveys; phone inter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nthly record reviews – data entered 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ASIS reports (Home Healthcare Comp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143000"/>
            <a:ext cx="792504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5943600"/>
            <a:ext cx="167652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4BC5-0C5D-4989-A7BD-E7623EAEF4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H Process Resul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876920" y="2209680"/>
          <a:ext cx="4038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209680"/>
                    <a:ext cx="4038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5105520" y="1600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tal patients in target group identified at ris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371600"/>
            <a:ext cx="7924680" cy="0"/>
          </a:xfrm>
          <a:prstGeom prst="line">
            <a:avLst/>
          </a:prstGeom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17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867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8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600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patients with completed risk assessment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2280" y="2209680"/>
          <a:ext cx="487692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209680"/>
                    <a:ext cx="48769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838080" y="5867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4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5867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4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1676520"/>
            <a:ext cx="0" cy="2133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457200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8E14-1596-48BA-B0A7-CD761041DB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20:02:19Z</dcterms:created>
  <dc:creator>Ned Lustbader</dc:creator>
  <dc:description/>
  <dc:language>en-US</dc:language>
  <cp:lastModifiedBy>rac</cp:lastModifiedBy>
  <dcterms:modified xsi:type="dcterms:W3CDTF">2008-09-10T13:42:59Z</dcterms:modified>
  <cp:revision>213</cp:revision>
  <dc:subject/>
  <dc:title>Slide 1</dc:title>
</cp:coreProperties>
</file>