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5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7840" indent="-228600">
              <a:spcBef>
                <a:spcPts val="1500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74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74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74480" y="617220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5E61-8832-4FD2-9D01-F120DA735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1460160"/>
            <a:ext cx="7925040" cy="219600"/>
            <a:chOff x="609480" y="1460160"/>
            <a:chExt cx="7925040" cy="219600"/>
          </a:xfrm>
        </p:grpSpPr>
        <p:sp>
          <p:nvSpPr>
            <p:cNvPr id="4" name=""/>
            <p:cNvSpPr/>
            <p:nvPr/>
          </p:nvSpPr>
          <p:spPr>
            <a:xfrm rot="3000">
              <a:off x="609120" y="1539720"/>
              <a:ext cx="7923240" cy="136440"/>
            </a:xfrm>
            <a:prstGeom prst="roundRect">
              <a:avLst>
                <a:gd name="adj" fmla="val 0"/>
              </a:avLst>
            </a:prstGeom>
            <a:solidFill>
              <a:srgbClr val="705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3000">
              <a:off x="610920" y="1463400"/>
              <a:ext cx="7923240" cy="13644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762120" y="6067440"/>
            <a:ext cx="1371600" cy="48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R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29400" y="6037200"/>
            <a:ext cx="190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HPS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09480" y="1301400"/>
            <a:ext cx="7924680" cy="231840"/>
            <a:chOff x="609480" y="1301400"/>
            <a:chExt cx="7924680" cy="231840"/>
          </a:xfrm>
        </p:grpSpPr>
        <p:sp>
          <p:nvSpPr>
            <p:cNvPr id="46" name=""/>
            <p:cNvSpPr/>
            <p:nvPr/>
          </p:nvSpPr>
          <p:spPr>
            <a:xfrm rot="8400">
              <a:off x="612720" y="1358640"/>
              <a:ext cx="7918200" cy="164520"/>
            </a:xfrm>
            <a:prstGeom prst="roundRect">
              <a:avLst>
                <a:gd name="adj" fmla="val 15838"/>
              </a:avLst>
            </a:prstGeom>
            <a:solidFill>
              <a:srgbClr val="705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000">
              <a:off x="609120" y="1304640"/>
              <a:ext cx="7924680" cy="13284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38080" y="6067440"/>
            <a:ext cx="1295640" cy="48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R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6037200"/>
            <a:ext cx="190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HPS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01760" indent="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84924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743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743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08660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 Narrow"/>
                <a:ea typeface="Times New Roman"/>
              </a:rPr>
              <a:t>Evaluating CAHPS® Quality Improvement Demonstrations</a:t>
            </a: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nna Farle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nior Health Policy Analyst, RAN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430200"/>
            <a:ext cx="5486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HRQ Con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ptember 9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Organizational Philosophy  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olic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Formal polic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Human resource practic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spcBef>
                <a:spcPts val="206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oles/Posi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ecision-making authorit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eporting responsibilit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ole expectation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274320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hilosophy/cul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904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ulture of excell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904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atient-centered fo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904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agement approach and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Organizational Capacity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1440" y="22096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ystem-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Faciliti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upport servic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ordina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114800"/>
            <a:ext cx="2819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dividual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form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114800"/>
            <a:ext cx="281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ition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upervis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Work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External Environmen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lic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Laws and regula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redentialing polic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eporting polic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ayment incentiv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4197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AHPS cred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ublic repor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335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ceived quality, </a:t>
            </a:r>
            <a:br>
              <a:rPr sz="2200"/>
            </a:b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 costs, ac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 Outcome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61960" y="2590920"/>
            <a:ext cx="4724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atient experience (CAHP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ganizational change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gram change 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mployee effects 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Process Evaluation Methods 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Types of Data Collected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scriptive (factual) data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rganizational environment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External environment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ecision process leading to the QI intervention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trategy used to implement the interven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imeline of the implementation process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xperiential data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iffering views of stakeholde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ceptions of progress of the QI interven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How QI interventions affecting them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ta Collection Instrument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hecklist of descriptive data to collec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tructured according to the framework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ultiple sources of data – written materials, discussions with QI leads, interview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mplementation timeline form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hows planned implementation schedul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pdated as QI work proceed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tandard protocol for stakeholder Interview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Interview Grid for Comparative Data on Stakeholders Perspective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4920" y="1770120"/>
          <a:ext cx="8458200" cy="4249800"/>
        </p:xfrm>
        <a:graphic>
          <a:graphicData uri="http://schemas.openxmlformats.org/drawingml/2006/table">
            <a:tbl>
              <a:tblPr/>
              <a:tblGrid>
                <a:gridCol w="1752480"/>
                <a:gridCol w="1168560"/>
                <a:gridCol w="1384200"/>
                <a:gridCol w="1485720"/>
                <a:gridCol w="1282680"/>
                <a:gridCol w="138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xpec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Actual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ffects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uc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n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rganization Philoso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rganization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xternal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ffects on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Outcome Evaluation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Issues and Design Options 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hallenges in Measuring Effects of CAHPS QI Interven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iculty in “moving” CAHPS scor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cores are composites of several item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QI interventions often address only some item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ime required to make practices chang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ime required to change patients’ percep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iculty in attributing effects to QI interven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y initiatives are in just one organiza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thers are in many (e.g. medical practices)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External control groups may not be good control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Need for process information to interpret effect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848720" cy="792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Overview of the Presentation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s for evaluating CAHPS QI demonstra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nceptual Framework to guide evalu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 evaluation approach and method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utcome evaluation issues and op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esign Options for 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Outcome Evalua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erences-in-Differenc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control groups to control confounding facto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Allows attribution to interven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ntrols may not control for confounde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0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erences by degree of implement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lassify participating groups (e.g. practices) by degree of implementation and compar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y not measure implementation accuratel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0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pare each entity to itself over tim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ntrol for confounders but not temporal chang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mall N for analysis and power need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osing Observa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eed for multi-dimensional information leads to complex evaluation require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ltimate goal is to learn how QI interventions affected patient experience, as measured by CAHPS scor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t implementers also need feedback to improve intervention ac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cess evaluation must collect good comparative data to serve all these need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Times New Roman"/>
              </a:rPr>
              <a:t>Goals for Evaluating 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Times New Roman"/>
              </a:rPr>
              <a:t>CAHPS QI Demonstra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enerate information on implementation experienc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by implementing organization to improv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by other organizations in their QI work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ssess effects of QI interventions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AHPS scor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ther outcomes and stakeholde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derstand which factors contribute to observed effects (or not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pare results across demonstra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Major Evaluation Component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cess Evalu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55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ocument and analyze QI intervention and implementation proces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68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Identify factors influencing progress in achieving desired process chang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utcome Evalu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55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Analyze effects of QI interventions on outcomes of interest to implementing organiza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How the Evaluation Addresses 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the Evaluation Goal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Evaluation Goal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Evaluation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1 – experiences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2 – effects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utcom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3 – factors for effects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 &amp;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4 – comparison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tandard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onceptual Framework –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n Evaluation Guide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6095880"/>
            <a:ext cx="990360" cy="533520"/>
          </a:xfrm>
          <a:prstGeom prst="rect">
            <a:avLst/>
          </a:prstGeom>
          <a:solidFill>
            <a:srgbClr val="0b6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6095880"/>
            <a:ext cx="990360" cy="533520"/>
          </a:xfrm>
          <a:prstGeom prst="rect">
            <a:avLst/>
          </a:prstGeom>
          <a:solidFill>
            <a:srgbClr val="0b6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95280"/>
            <a:ext cx="8382240" cy="533520"/>
          </a:xfrm>
          <a:prstGeom prst="rect">
            <a:avLst/>
          </a:prstGeom>
          <a:solidFill>
            <a:srgbClr val="0b6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847800"/>
            <a:ext cx="7226280" cy="5705280"/>
          </a:xfrm>
          <a:prstGeom prst="rect">
            <a:avLst/>
          </a:prstGeom>
          <a:solidFill>
            <a:srgbClr val="ccecff"/>
          </a:solidFill>
          <a:ln w="31680">
            <a:solidFill>
              <a:srgbClr val="85200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0880" y="1355760"/>
            <a:ext cx="6096240" cy="4664160"/>
          </a:xfrm>
          <a:prstGeom prst="rect">
            <a:avLst/>
          </a:prstGeom>
          <a:solidFill>
            <a:srgbClr val="ffff99"/>
          </a:solidFill>
          <a:ln w="2844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3560" y="88596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2001"/>
                </a:solidFill>
                <a:latin typeface="Arial"/>
              </a:rPr>
              <a:t>Extern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360" y="163440"/>
            <a:ext cx="87822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2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ramework: CAHPS Quality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45000" y="2008080"/>
            <a:ext cx="1743120" cy="798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9480" y="3532320"/>
            <a:ext cx="1306440" cy="507960"/>
          </a:xfrm>
          <a:prstGeom prst="rect">
            <a:avLst/>
          </a:prstGeom>
          <a:noFill/>
          <a:ln w="936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38440" y="3605040"/>
            <a:ext cx="136440" cy="304560"/>
            <a:chOff x="2638440" y="3605040"/>
            <a:chExt cx="136440" cy="304560"/>
          </a:xfrm>
        </p:grpSpPr>
        <p:sp>
          <p:nvSpPr>
            <p:cNvPr id="109" name=""/>
            <p:cNvSpPr/>
            <p:nvPr/>
          </p:nvSpPr>
          <p:spPr>
            <a:xfrm>
              <a:off x="270684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38440" y="384192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06840" y="384192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638440" y="370656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706840" y="370656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72640" y="360504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27520" y="3605040"/>
            <a:ext cx="137880" cy="304560"/>
            <a:chOff x="2927520" y="3605040"/>
            <a:chExt cx="137880" cy="304560"/>
          </a:xfrm>
        </p:grpSpPr>
        <p:sp>
          <p:nvSpPr>
            <p:cNvPr id="116" name=""/>
            <p:cNvSpPr/>
            <p:nvPr/>
          </p:nvSpPr>
          <p:spPr>
            <a:xfrm>
              <a:off x="299664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27520" y="384192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6640" y="384192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927520" y="370656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96640" y="370656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62080" y="3605040"/>
              <a:ext cx="687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219560" y="2355840"/>
            <a:ext cx="136440" cy="304560"/>
            <a:chOff x="4219560" y="2355840"/>
            <a:chExt cx="136440" cy="304560"/>
          </a:xfrm>
        </p:grpSpPr>
        <p:sp>
          <p:nvSpPr>
            <p:cNvPr id="123" name=""/>
            <p:cNvSpPr/>
            <p:nvPr/>
          </p:nvSpPr>
          <p:spPr>
            <a:xfrm>
              <a:off x="4287960" y="24235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219560" y="259272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87960" y="259272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219560" y="245736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287960" y="245736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3760" y="235584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64160" y="2351160"/>
            <a:ext cx="136440" cy="306360"/>
            <a:chOff x="4664160" y="2351160"/>
            <a:chExt cx="136440" cy="306360"/>
          </a:xfrm>
        </p:grpSpPr>
        <p:sp>
          <p:nvSpPr>
            <p:cNvPr id="130" name=""/>
            <p:cNvSpPr/>
            <p:nvPr/>
          </p:nvSpPr>
          <p:spPr>
            <a:xfrm>
              <a:off x="4732560" y="241920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664160" y="2589480"/>
              <a:ext cx="68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32560" y="258948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664160" y="2452680"/>
              <a:ext cx="68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732560" y="245268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98360" y="2351160"/>
              <a:ext cx="6804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23000" y="1467000"/>
            <a:ext cx="483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 Philosophy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47920" y="3605040"/>
            <a:ext cx="136440" cy="304560"/>
            <a:chOff x="2347920" y="3605040"/>
            <a:chExt cx="136440" cy="304560"/>
          </a:xfrm>
        </p:grpSpPr>
        <p:sp>
          <p:nvSpPr>
            <p:cNvPr id="138" name=""/>
            <p:cNvSpPr/>
            <p:nvPr/>
          </p:nvSpPr>
          <p:spPr>
            <a:xfrm>
              <a:off x="241632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347920" y="384192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6320" y="384192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347920" y="370656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416320" y="370656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82120" y="360504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049480" y="3230640"/>
            <a:ext cx="1306440" cy="285480"/>
          </a:xfrm>
          <a:prstGeom prst="rect">
            <a:avLst/>
          </a:prstGeom>
          <a:noFill/>
          <a:ln w="1260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Un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49920" y="3532320"/>
            <a:ext cx="1306440" cy="507960"/>
          </a:xfrm>
          <a:prstGeom prst="rect">
            <a:avLst/>
          </a:prstGeom>
          <a:noFill/>
          <a:ln w="936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340320" y="3605040"/>
            <a:ext cx="135000" cy="304560"/>
            <a:chOff x="6340320" y="3605040"/>
            <a:chExt cx="135000" cy="304560"/>
          </a:xfrm>
        </p:grpSpPr>
        <p:sp>
          <p:nvSpPr>
            <p:cNvPr id="147" name=""/>
            <p:cNvSpPr/>
            <p:nvPr/>
          </p:nvSpPr>
          <p:spPr>
            <a:xfrm>
              <a:off x="640800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340320" y="384192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000" y="384192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6340320" y="370656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408000" y="370656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4160" y="3605040"/>
              <a:ext cx="673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627960" y="3605040"/>
            <a:ext cx="137880" cy="304560"/>
            <a:chOff x="6627960" y="3605040"/>
            <a:chExt cx="137880" cy="304560"/>
          </a:xfrm>
        </p:grpSpPr>
        <p:sp>
          <p:nvSpPr>
            <p:cNvPr id="154" name=""/>
            <p:cNvSpPr/>
            <p:nvPr/>
          </p:nvSpPr>
          <p:spPr>
            <a:xfrm>
              <a:off x="669708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627960" y="384192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97080" y="384192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627960" y="370656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697080" y="370656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62520" y="3605040"/>
              <a:ext cx="687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49800" y="3605040"/>
            <a:ext cx="135000" cy="304560"/>
            <a:chOff x="6049800" y="3605040"/>
            <a:chExt cx="135000" cy="304560"/>
          </a:xfrm>
        </p:grpSpPr>
        <p:sp>
          <p:nvSpPr>
            <p:cNvPr id="161" name=""/>
            <p:cNvSpPr/>
            <p:nvPr/>
          </p:nvSpPr>
          <p:spPr>
            <a:xfrm>
              <a:off x="611748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49800" y="384192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7480" y="384192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049800" y="370656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117480" y="370656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3640" y="3605040"/>
              <a:ext cx="673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749920" y="3230640"/>
            <a:ext cx="1306440" cy="285480"/>
          </a:xfrm>
          <a:prstGeom prst="rect">
            <a:avLst/>
          </a:prstGeom>
          <a:noFill/>
          <a:ln w="1260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Un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0" y="1998720"/>
            <a:ext cx="181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1300" spc="-1" strike="noStrike">
                <a:solidFill>
                  <a:srgbClr val="852001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54440" y="5486400"/>
            <a:ext cx="1503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05320" y="2998800"/>
            <a:ext cx="2057400" cy="2792520"/>
            <a:chOff x="3505320" y="2998800"/>
            <a:chExt cx="2057400" cy="2792520"/>
          </a:xfrm>
        </p:grpSpPr>
        <p:sp>
          <p:nvSpPr>
            <p:cNvPr id="171" name=""/>
            <p:cNvSpPr/>
            <p:nvPr/>
          </p:nvSpPr>
          <p:spPr>
            <a:xfrm>
              <a:off x="3505320" y="3429000"/>
              <a:ext cx="20574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52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421160" y="4145040"/>
              <a:ext cx="136440" cy="304560"/>
              <a:chOff x="4421160" y="4145040"/>
              <a:chExt cx="13644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4489560" y="4212360"/>
                <a:ext cx="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4421160" y="4381920"/>
                <a:ext cx="6840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89560" y="4381920"/>
                <a:ext cx="6804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4421160" y="4246200"/>
                <a:ext cx="6840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489560" y="4246200"/>
                <a:ext cx="6804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55360" y="4145040"/>
                <a:ext cx="6804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710240" y="4145040"/>
              <a:ext cx="137880" cy="304560"/>
              <a:chOff x="4710240" y="4145040"/>
              <a:chExt cx="137880" cy="304560"/>
            </a:xfrm>
          </p:grpSpPr>
          <p:sp>
            <p:nvSpPr>
              <p:cNvPr id="180" name=""/>
              <p:cNvSpPr/>
              <p:nvPr/>
            </p:nvSpPr>
            <p:spPr>
              <a:xfrm>
                <a:off x="4779360" y="4212360"/>
                <a:ext cx="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4710240" y="4381920"/>
                <a:ext cx="6912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79360" y="4381920"/>
                <a:ext cx="6876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4710240" y="4246200"/>
                <a:ext cx="6912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779360" y="4246200"/>
                <a:ext cx="6876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44800" y="4145040"/>
                <a:ext cx="6876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130640" y="4145040"/>
              <a:ext cx="136440" cy="304560"/>
              <a:chOff x="4130640" y="4145040"/>
              <a:chExt cx="136440" cy="304560"/>
            </a:xfrm>
          </p:grpSpPr>
          <p:sp>
            <p:nvSpPr>
              <p:cNvPr id="187" name=""/>
              <p:cNvSpPr/>
              <p:nvPr/>
            </p:nvSpPr>
            <p:spPr>
              <a:xfrm>
                <a:off x="4199040" y="4212360"/>
                <a:ext cx="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130640" y="4381920"/>
                <a:ext cx="6840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99040" y="4381920"/>
                <a:ext cx="6804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4130640" y="4246200"/>
                <a:ext cx="6840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199040" y="4246200"/>
                <a:ext cx="6804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64840" y="4145040"/>
                <a:ext cx="6804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602160" y="3595680"/>
              <a:ext cx="1819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am leads, memb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olved 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2998800"/>
              <a:ext cx="2057400" cy="507960"/>
            </a:xfrm>
            <a:prstGeom prst="rect">
              <a:avLst/>
            </a:prstGeom>
            <a:solidFill>
              <a:srgbClr val="eaeaea"/>
            </a:solidFill>
            <a:ln w="38160">
              <a:solidFill>
                <a:srgbClr val="852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mplementation of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QI Intervention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98720" y="4800600"/>
              <a:ext cx="228600" cy="456840"/>
              <a:chOff x="3798720" y="4800600"/>
              <a:chExt cx="228600" cy="456840"/>
            </a:xfrm>
          </p:grpSpPr>
          <p:sp>
            <p:nvSpPr>
              <p:cNvPr id="196" name=""/>
              <p:cNvSpPr/>
              <p:nvPr/>
            </p:nvSpPr>
            <p:spPr>
              <a:xfrm>
                <a:off x="3913200" y="4902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3798720" y="515592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13200" y="515592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3798720" y="495288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3913200" y="495288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55960" y="480060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505320" y="45720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179960" y="4919760"/>
              <a:ext cx="228600" cy="456840"/>
              <a:chOff x="4179960" y="4919760"/>
              <a:chExt cx="228600" cy="45684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4440" y="502128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179960" y="527508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4440" y="527508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4179960" y="507204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294440" y="507204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37200" y="491976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583160" y="4724280"/>
              <a:ext cx="228600" cy="456840"/>
              <a:chOff x="4583160" y="4724280"/>
              <a:chExt cx="228600" cy="456840"/>
            </a:xfrm>
          </p:grpSpPr>
          <p:sp>
            <p:nvSpPr>
              <p:cNvPr id="211" name=""/>
              <p:cNvSpPr/>
              <p:nvPr/>
            </p:nvSpPr>
            <p:spPr>
              <a:xfrm>
                <a:off x="4697640" y="48258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583160" y="507960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97640" y="507960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4583160" y="487656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697640" y="487656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0400" y="472428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018040" y="4843440"/>
              <a:ext cx="228600" cy="456840"/>
              <a:chOff x="5018040" y="4843440"/>
              <a:chExt cx="228600" cy="456840"/>
            </a:xfrm>
          </p:grpSpPr>
          <p:sp>
            <p:nvSpPr>
              <p:cNvPr id="218" name=""/>
              <p:cNvSpPr/>
              <p:nvPr/>
            </p:nvSpPr>
            <p:spPr>
              <a:xfrm>
                <a:off x="5132520" y="494496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018040" y="519876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32520" y="519876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5018040" y="499572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132520" y="499572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484344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 Implementation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600" y="24382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Implementation synerg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Implementation experienc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hanges to clinical and operational processes </a:t>
            </a:r>
            <a:br>
              <a:rPr sz="2200"/>
            </a:b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(expected and actual)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43828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re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hange method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rocess changes &amp; cy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onitoring and feed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 Key Stakeholder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mplementation team – champion, facilitator, team member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igher level (e.g., organization leader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rizontal (e.g. other departments, services that coordinate with intervention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rectly affected or involve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mplementers – physicians,  nurses, other clinical staff, administrative staff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nd-users – patients, family member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09:01:37Z</dcterms:created>
  <dc:creator>Donna O. Farley</dc:creator>
  <dc:description/>
  <cp:keywords/>
  <dc:language>en-US</dc:language>
  <cp:lastModifiedBy>rac</cp:lastModifiedBy>
  <cp:lastPrinted>2001-03-07T03:04:57Z</cp:lastPrinted>
  <dcterms:modified xsi:type="dcterms:W3CDTF">2008-10-02T15:08:44Z</dcterms:modified>
  <cp:revision>776</cp:revision>
  <dc:subject/>
  <dc:title>Draft Plan for Evaluation of the Medicare DoD Subvention Demonstration</dc:title>
</cp:coreProperties>
</file>