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246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5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77840" indent="-228600">
              <a:spcBef>
                <a:spcPts val="15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743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74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74480" y="6172200"/>
            <a:ext cx="99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BA98-DDF1-4E77-BAB0-60353928EB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1460160"/>
            <a:ext cx="7925040" cy="219600"/>
            <a:chOff x="609480" y="1460160"/>
            <a:chExt cx="7925040" cy="219600"/>
          </a:xfrm>
        </p:grpSpPr>
        <p:sp>
          <p:nvSpPr>
            <p:cNvPr id="4" name=""/>
            <p:cNvSpPr/>
            <p:nvPr/>
          </p:nvSpPr>
          <p:spPr>
            <a:xfrm rot="3000">
              <a:off x="609120" y="1539720"/>
              <a:ext cx="7923240" cy="136440"/>
            </a:xfrm>
            <a:prstGeom prst="roundRect">
              <a:avLst>
                <a:gd name="adj" fmla="val 0"/>
              </a:avLst>
            </a:prstGeom>
            <a:solidFill>
              <a:srgbClr val="705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3000">
              <a:off x="610920" y="1463400"/>
              <a:ext cx="7923240" cy="13644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762120" y="6067440"/>
            <a:ext cx="1371600" cy="48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R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29400" y="6037200"/>
            <a:ext cx="190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HP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09480" y="1301400"/>
            <a:ext cx="7924680" cy="231840"/>
            <a:chOff x="609480" y="1301400"/>
            <a:chExt cx="7924680" cy="231840"/>
          </a:xfrm>
        </p:grpSpPr>
        <p:sp>
          <p:nvSpPr>
            <p:cNvPr id="46" name=""/>
            <p:cNvSpPr/>
            <p:nvPr/>
          </p:nvSpPr>
          <p:spPr>
            <a:xfrm rot="8400">
              <a:off x="612720" y="1358640"/>
              <a:ext cx="7918200" cy="164520"/>
            </a:xfrm>
            <a:prstGeom prst="roundRect">
              <a:avLst>
                <a:gd name="adj" fmla="val 15838"/>
              </a:avLst>
            </a:prstGeom>
            <a:solidFill>
              <a:srgbClr val="705f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000">
              <a:off x="609120" y="1304640"/>
              <a:ext cx="7924680" cy="132840"/>
            </a:xfrm>
            <a:prstGeom prst="roundRect">
              <a:avLst>
                <a:gd name="adj" fmla="val 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38080" y="6067440"/>
            <a:ext cx="1295640" cy="48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Arial"/>
              </a:rPr>
              <a:t>R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6037200"/>
            <a:ext cx="1905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HP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01760" indent="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2" marL="84924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743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7435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980720"/>
            <a:ext cx="708660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33"/>
                </a:solidFill>
                <a:latin typeface="Arial Narrow"/>
                <a:ea typeface="Times New Roman"/>
              </a:rPr>
              <a:t>Evaluating CAHPS® Quality Improvement Demonstrations</a:t>
            </a:r>
            <a:r>
              <a:rPr b="1" i="1" lang="en-US" sz="4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nna Farle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enior Health Policy Analyst, RAN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430200"/>
            <a:ext cx="54864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HRQ Confer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Organizational Philosophy  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Formal polic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Human resource practic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457200" indent="-457200">
              <a:spcBef>
                <a:spcPts val="206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oles/Posi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ecision-making authorit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porting responsibilit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820800" indent="-41904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ole expectation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743200"/>
            <a:ext cx="4191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hilosophy/cul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ulture of excell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atient-centered foc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20800" indent="-41904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agement approach and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Organizational Capacity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971440" y="2209680"/>
            <a:ext cx="3048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ystem-level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Faciliti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pport servic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ordin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114800"/>
            <a:ext cx="2819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s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forman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4114800"/>
            <a:ext cx="281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sition-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pervis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Work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External Environmen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olicy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Laws and regula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redentialing polic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Reporting polic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ayment incentiv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81480" y="4419720"/>
            <a:ext cx="3353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AHPS cred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ublic repor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ceived quality, </a:t>
            </a:r>
            <a:br>
              <a:rPr sz="2200"/>
            </a:b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  costs, ac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Outcome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61960" y="2590920"/>
            <a:ext cx="4724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atient experience (CAHP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rganizational change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gram change 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mployee effects 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Process Evaluation Methods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ypes of Data Collected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scriptive (factual) data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rganizational environmen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xternal environment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ecision process leading to the QI intervention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rategy used to implement the interven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line of the implementation process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xperiential data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iffering views of stakehol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erceptions of progress of the QI interven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How QI interventions affecting them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ata Collection Instrumen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ecklist of descriptive data to collect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tructured according to the framework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ultiple sources of data – written materials, discussions with QI leads, interview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ation timeline form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hows planned implementation schedul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pdated as QI work proceed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tandard protocol for stakeholder Interview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Interview Grid for Comparative Data on Stakeholders Perspective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770120"/>
          <a:ext cx="8458200" cy="4249800"/>
        </p:xfrm>
        <a:graphic>
          <a:graphicData uri="http://schemas.openxmlformats.org/drawingml/2006/table">
            <a:tbl>
              <a:tblPr/>
              <a:tblGrid>
                <a:gridCol w="1752480"/>
                <a:gridCol w="1168560"/>
                <a:gridCol w="1384200"/>
                <a:gridCol w="1485720"/>
                <a:gridCol w="1282680"/>
                <a:gridCol w="138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Frame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xpec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eaeaea"/>
                          </a:solidFill>
                          <a:uFillTx/>
                          <a:latin typeface="Arial"/>
                        </a:rPr>
                        <a:t>Actual Prog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 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uc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n Y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rganization Philosop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rganization Capa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xternal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ffects on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Outcome Evaluation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Issues and Design Options 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hallenges in Measuring Effects of CAHPS QI Interven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iculty in “moving” CAHPS scor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cores are composites of several item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QI interventions often address only some item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 required to make practices chang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ime required to change patients’ perception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4400" indent="-28440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iculty in attributing effects to QI interven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ny initiatives are in just one organiz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thers are in many (e.g. medical practices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External control groups may not be good control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0040" indent="-28260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Need for process information to interpret effect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848720" cy="792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Overview of the Presentation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s for evaluating CAHPS QI demonstra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Conceptual Framework to guide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evaluation approach and method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utcome evaluation issues and op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Design Options for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Outcome Evalu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-in-Differenc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control groups to control confounding facto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Allows attribution to interven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ntrols may not control for confoun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0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fferences by degree of implement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lassify participating groups (e.g. practices) by degree of implementation and compar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ay not measure implementation accurately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0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pare each entity to itself over time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ntrol for confounders but not temporal chang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13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mall N for analysis and power need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osing Observ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ed for multi-dimensional information leads to complex evaluation requirement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ltimate goal is to learn how QI interventions affected patient experience, as measured by CAHPS scor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ut implementers also need feedback to improve intervention ac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4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cess evaluation must collect good comparative data to serve all these need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Times New Roman"/>
              </a:rPr>
              <a:t>Goals for Evaluating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Times New Roman"/>
              </a:rPr>
              <a:t>CAHPS QI Demonstration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enerate information on implementation experience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by implementing organization to improve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Use by other organizations in their QI work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ssess effects of QI interventions 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AHPS scor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Other outcomes and stakeholder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derstand which factors contribute to observed effects (or not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3363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mpare results across demonstration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Major Evaluation Componen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rocess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Document and analyze QI intervention and implementation proces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68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dentify factors influencing progress in achieving desired process chang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utcome Evaluation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87240" indent="-285480">
              <a:spcBef>
                <a:spcPts val="55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Analyze effects of QI interventions on outcomes of interest to implementing organization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How the Evaluation Addresses 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the Evaluation Goal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Evaluation Goal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Evaluation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1 – experiences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2 – effects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Outcome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3 – factors for effects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Process &amp;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628560"/>
                <a:tab algn="l" pos="4286160"/>
                <a:tab algn="l" pos="4457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Goal 4 – comparison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tandard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619760" cy="2133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Conceptual Framework – </a:t>
            </a:r>
            <a:br>
              <a:rPr sz="4000"/>
            </a:b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An Evaluation Guide</a:t>
            </a:r>
            <a:endParaRPr b="1" lang="en-US" sz="4000" spc="-1" strike="noStrike">
              <a:solidFill>
                <a:srgbClr val="ff99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6095880"/>
            <a:ext cx="99036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6095880"/>
            <a:ext cx="99036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295280"/>
            <a:ext cx="8382240" cy="533520"/>
          </a:xfrm>
          <a:prstGeom prst="rect">
            <a:avLst/>
          </a:prstGeom>
          <a:solidFill>
            <a:srgbClr val="0b6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847800"/>
            <a:ext cx="7226280" cy="5705280"/>
          </a:xfrm>
          <a:prstGeom prst="rect">
            <a:avLst/>
          </a:prstGeom>
          <a:solidFill>
            <a:srgbClr val="ccecff"/>
          </a:solidFill>
          <a:ln w="31680">
            <a:solidFill>
              <a:srgbClr val="85200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50880" y="1355760"/>
            <a:ext cx="6096240" cy="4664160"/>
          </a:xfrm>
          <a:prstGeom prst="rect">
            <a:avLst/>
          </a:prstGeom>
          <a:solidFill>
            <a:srgbClr val="ffff99"/>
          </a:solidFill>
          <a:ln w="2844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3560" y="885960"/>
            <a:ext cx="2808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52001"/>
                </a:solidFill>
                <a:latin typeface="Arial"/>
              </a:rPr>
              <a:t>External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360" y="163440"/>
            <a:ext cx="87822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20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ramework: CAHPS Quality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45000" y="2008080"/>
            <a:ext cx="1743120" cy="798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49480" y="3532320"/>
            <a:ext cx="1306440" cy="507960"/>
          </a:xfrm>
          <a:prstGeom prst="rect">
            <a:avLst/>
          </a:prstGeom>
          <a:noFill/>
          <a:ln w="936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38440" y="3605040"/>
            <a:ext cx="136440" cy="304560"/>
            <a:chOff x="2638440" y="3605040"/>
            <a:chExt cx="136440" cy="304560"/>
          </a:xfrm>
        </p:grpSpPr>
        <p:sp>
          <p:nvSpPr>
            <p:cNvPr id="109" name=""/>
            <p:cNvSpPr/>
            <p:nvPr/>
          </p:nvSpPr>
          <p:spPr>
            <a:xfrm>
              <a:off x="270684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638440" y="38419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06840" y="38419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2638440" y="37065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2706840" y="37065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72640" y="36050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27520" y="3605040"/>
            <a:ext cx="137880" cy="304560"/>
            <a:chOff x="2927520" y="3605040"/>
            <a:chExt cx="137880" cy="304560"/>
          </a:xfrm>
        </p:grpSpPr>
        <p:sp>
          <p:nvSpPr>
            <p:cNvPr id="116" name=""/>
            <p:cNvSpPr/>
            <p:nvPr/>
          </p:nvSpPr>
          <p:spPr>
            <a:xfrm>
              <a:off x="299664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27520" y="384192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6640" y="384192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2927520" y="370656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996640" y="370656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62080" y="3605040"/>
              <a:ext cx="687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219560" y="2355840"/>
            <a:ext cx="136440" cy="304560"/>
            <a:chOff x="4219560" y="2355840"/>
            <a:chExt cx="136440" cy="304560"/>
          </a:xfrm>
        </p:grpSpPr>
        <p:sp>
          <p:nvSpPr>
            <p:cNvPr id="123" name=""/>
            <p:cNvSpPr/>
            <p:nvPr/>
          </p:nvSpPr>
          <p:spPr>
            <a:xfrm>
              <a:off x="4287960" y="24235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219560" y="25927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87960" y="25927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4219560" y="24573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287960" y="24573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53760" y="23558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64160" y="2351160"/>
            <a:ext cx="136440" cy="306360"/>
            <a:chOff x="4664160" y="2351160"/>
            <a:chExt cx="136440" cy="306360"/>
          </a:xfrm>
        </p:grpSpPr>
        <p:sp>
          <p:nvSpPr>
            <p:cNvPr id="130" name=""/>
            <p:cNvSpPr/>
            <p:nvPr/>
          </p:nvSpPr>
          <p:spPr>
            <a:xfrm>
              <a:off x="4732560" y="2419200"/>
              <a:ext cx="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64160" y="2589480"/>
              <a:ext cx="68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32560" y="258948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664160" y="2452680"/>
              <a:ext cx="68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732560" y="245268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98360" y="2351160"/>
              <a:ext cx="68040" cy="68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23000" y="1467000"/>
            <a:ext cx="4834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ation Philosophy and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47920" y="3605040"/>
            <a:ext cx="136440" cy="304560"/>
            <a:chOff x="2347920" y="3605040"/>
            <a:chExt cx="136440" cy="304560"/>
          </a:xfrm>
        </p:grpSpPr>
        <p:sp>
          <p:nvSpPr>
            <p:cNvPr id="138" name=""/>
            <p:cNvSpPr/>
            <p:nvPr/>
          </p:nvSpPr>
          <p:spPr>
            <a:xfrm>
              <a:off x="241632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347920" y="384192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6320" y="384192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2347920" y="3706560"/>
              <a:ext cx="6840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2416320" y="370656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82120" y="3605040"/>
              <a:ext cx="6804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049480" y="3230640"/>
            <a:ext cx="1306440" cy="285480"/>
          </a:xfrm>
          <a:prstGeom prst="rect">
            <a:avLst/>
          </a:prstGeom>
          <a:noFill/>
          <a:ln w="1260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Un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49920" y="3532320"/>
            <a:ext cx="1306440" cy="507960"/>
          </a:xfrm>
          <a:prstGeom prst="rect">
            <a:avLst/>
          </a:prstGeom>
          <a:noFill/>
          <a:ln w="936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340320" y="3605040"/>
            <a:ext cx="135000" cy="304560"/>
            <a:chOff x="6340320" y="3605040"/>
            <a:chExt cx="135000" cy="304560"/>
          </a:xfrm>
        </p:grpSpPr>
        <p:sp>
          <p:nvSpPr>
            <p:cNvPr id="147" name=""/>
            <p:cNvSpPr/>
            <p:nvPr/>
          </p:nvSpPr>
          <p:spPr>
            <a:xfrm>
              <a:off x="640800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340320" y="384192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08000" y="384192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6340320" y="370656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408000" y="370656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74160" y="3605040"/>
              <a:ext cx="673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627960" y="3605040"/>
            <a:ext cx="137880" cy="304560"/>
            <a:chOff x="6627960" y="3605040"/>
            <a:chExt cx="137880" cy="304560"/>
          </a:xfrm>
        </p:grpSpPr>
        <p:sp>
          <p:nvSpPr>
            <p:cNvPr id="154" name=""/>
            <p:cNvSpPr/>
            <p:nvPr/>
          </p:nvSpPr>
          <p:spPr>
            <a:xfrm>
              <a:off x="669708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627960" y="384192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697080" y="384192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6627960" y="3706560"/>
              <a:ext cx="691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697080" y="3706560"/>
              <a:ext cx="687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62520" y="3605040"/>
              <a:ext cx="6876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49800" y="3605040"/>
            <a:ext cx="135000" cy="304560"/>
            <a:chOff x="6049800" y="3605040"/>
            <a:chExt cx="135000" cy="304560"/>
          </a:xfrm>
        </p:grpSpPr>
        <p:sp>
          <p:nvSpPr>
            <p:cNvPr id="161" name=""/>
            <p:cNvSpPr/>
            <p:nvPr/>
          </p:nvSpPr>
          <p:spPr>
            <a:xfrm>
              <a:off x="6117480" y="3672720"/>
              <a:ext cx="0" cy="1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49800" y="384192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17480" y="384192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6049800" y="3706560"/>
              <a:ext cx="6768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117480" y="3706560"/>
              <a:ext cx="6732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3640" y="3605040"/>
              <a:ext cx="6732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749920" y="3230640"/>
            <a:ext cx="1306440" cy="285480"/>
          </a:xfrm>
          <a:prstGeom prst="rect">
            <a:avLst/>
          </a:prstGeom>
          <a:noFill/>
          <a:ln w="12600">
            <a:solidFill>
              <a:srgbClr val="8520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Uni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0" y="1998720"/>
            <a:ext cx="1814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1300" spc="-1" strike="noStrike">
                <a:solidFill>
                  <a:srgbClr val="852001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54440" y="5486400"/>
            <a:ext cx="1503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05320" y="2998800"/>
            <a:ext cx="2057400" cy="2792520"/>
            <a:chOff x="3505320" y="2998800"/>
            <a:chExt cx="2057400" cy="2792520"/>
          </a:xfrm>
        </p:grpSpPr>
        <p:sp>
          <p:nvSpPr>
            <p:cNvPr id="171" name=""/>
            <p:cNvSpPr/>
            <p:nvPr/>
          </p:nvSpPr>
          <p:spPr>
            <a:xfrm>
              <a:off x="3505320" y="3429000"/>
              <a:ext cx="2057400" cy="236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52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4421160" y="4145040"/>
              <a:ext cx="136440" cy="304560"/>
              <a:chOff x="4421160" y="4145040"/>
              <a:chExt cx="1364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448956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4421160" y="4381920"/>
                <a:ext cx="6840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89560" y="4381920"/>
                <a:ext cx="6804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4421160" y="4246200"/>
                <a:ext cx="6840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489560" y="4246200"/>
                <a:ext cx="6804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55360" y="4145040"/>
                <a:ext cx="6804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710240" y="4145040"/>
              <a:ext cx="137880" cy="304560"/>
              <a:chOff x="4710240" y="4145040"/>
              <a:chExt cx="137880" cy="304560"/>
            </a:xfrm>
          </p:grpSpPr>
          <p:sp>
            <p:nvSpPr>
              <p:cNvPr id="180" name=""/>
              <p:cNvSpPr/>
              <p:nvPr/>
            </p:nvSpPr>
            <p:spPr>
              <a:xfrm>
                <a:off x="477936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710240" y="4381920"/>
                <a:ext cx="6912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79360" y="4381920"/>
                <a:ext cx="6876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4710240" y="4246200"/>
                <a:ext cx="6912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779360" y="4246200"/>
                <a:ext cx="6876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44800" y="4145040"/>
                <a:ext cx="6876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130640" y="4145040"/>
              <a:ext cx="136440" cy="304560"/>
              <a:chOff x="4130640" y="4145040"/>
              <a:chExt cx="136440" cy="304560"/>
            </a:xfrm>
          </p:grpSpPr>
          <p:sp>
            <p:nvSpPr>
              <p:cNvPr id="187" name=""/>
              <p:cNvSpPr/>
              <p:nvPr/>
            </p:nvSpPr>
            <p:spPr>
              <a:xfrm>
                <a:off x="4199040" y="4212360"/>
                <a:ext cx="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4130640" y="4381920"/>
                <a:ext cx="6840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99040" y="4381920"/>
                <a:ext cx="6804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4130640" y="4246200"/>
                <a:ext cx="6840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199040" y="4246200"/>
                <a:ext cx="6804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64840" y="4145040"/>
                <a:ext cx="68040" cy="67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602160" y="3595680"/>
              <a:ext cx="18190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120" rIns="87120" tIns="43560" bIns="435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am leads, memb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871560"/>
                  <a:tab algn="l" pos="1743120"/>
                  <a:tab algn="l" pos="2614680"/>
                  <a:tab algn="l" pos="3486240"/>
                  <a:tab algn="l" pos="4357800"/>
                  <a:tab algn="l" pos="5229360"/>
                  <a:tab algn="l" pos="6100920"/>
                  <a:tab algn="l" pos="6972480"/>
                  <a:tab algn="l" pos="7843680"/>
                  <a:tab algn="l" pos="8715240"/>
                  <a:tab algn="l" pos="9586800"/>
                  <a:tab algn="l" pos="104583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olved Sta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2998800"/>
              <a:ext cx="2057400" cy="507960"/>
            </a:xfrm>
            <a:prstGeom prst="rect">
              <a:avLst/>
            </a:prstGeom>
            <a:solidFill>
              <a:srgbClr val="eaeaea"/>
            </a:solidFill>
            <a:ln w="38160">
              <a:solidFill>
                <a:srgbClr val="8520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mplementation of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QI Intervention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98720" y="4800600"/>
              <a:ext cx="228600" cy="456840"/>
              <a:chOff x="3798720" y="4800600"/>
              <a:chExt cx="228600" cy="456840"/>
            </a:xfrm>
          </p:grpSpPr>
          <p:sp>
            <p:nvSpPr>
              <p:cNvPr id="196" name=""/>
              <p:cNvSpPr/>
              <p:nvPr/>
            </p:nvSpPr>
            <p:spPr>
              <a:xfrm>
                <a:off x="3913200" y="490212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3798720" y="515592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13200" y="515592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3798720" y="495288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913200" y="495288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55960" y="480060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505320" y="45720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179960" y="4919760"/>
              <a:ext cx="228600" cy="456840"/>
              <a:chOff x="4179960" y="4919760"/>
              <a:chExt cx="228600" cy="45684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4440" y="502128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179960" y="527508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94440" y="527508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4179960" y="507204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4294440" y="507204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37200" y="491976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583160" y="4724280"/>
              <a:ext cx="228600" cy="456840"/>
              <a:chOff x="4583160" y="4724280"/>
              <a:chExt cx="228600" cy="456840"/>
            </a:xfrm>
          </p:grpSpPr>
          <p:sp>
            <p:nvSpPr>
              <p:cNvPr id="211" name=""/>
              <p:cNvSpPr/>
              <p:nvPr/>
            </p:nvSpPr>
            <p:spPr>
              <a:xfrm>
                <a:off x="4697640" y="482580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583160" y="507960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97640" y="507960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4583160" y="487656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4697640" y="487656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40400" y="472428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018040" y="4843440"/>
              <a:ext cx="228600" cy="456840"/>
              <a:chOff x="5018040" y="4843440"/>
              <a:chExt cx="228600" cy="456840"/>
            </a:xfrm>
          </p:grpSpPr>
          <p:sp>
            <p:nvSpPr>
              <p:cNvPr id="218" name=""/>
              <p:cNvSpPr/>
              <p:nvPr/>
            </p:nvSpPr>
            <p:spPr>
              <a:xfrm>
                <a:off x="5132520" y="494496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018040" y="519876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32520" y="519876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5018040" y="4995720"/>
                <a:ext cx="11448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5132520" y="4995720"/>
                <a:ext cx="11412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075280" y="4843440"/>
                <a:ext cx="114120" cy="101520"/>
              </a:xfrm>
              <a:prstGeom prst="ellipse">
                <a:avLst/>
              </a:prstGeom>
              <a:solidFill>
                <a:srgbClr val="85200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Implementation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600" y="24382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mplementation synergies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Implementation experiences 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hanges to clinical and operational processes </a:t>
            </a:r>
            <a:br>
              <a:rPr sz="2200"/>
            </a:b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(expected and actual)</a:t>
            </a: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2872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2438280"/>
            <a:ext cx="4419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7280" indent="-28728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ore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Change method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Process changes &amp; cyc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Monitoring and feedba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85480">
              <a:lnSpc>
                <a:spcPct val="100000"/>
              </a:lnSpc>
              <a:spcBef>
                <a:spcPts val="275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aeaea"/>
                </a:solidFill>
                <a:latin typeface="Arial"/>
              </a:rPr>
              <a:t>Sustain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a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144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Framework:  Key Stakeholder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7280" indent="-287280">
              <a:spcBef>
                <a:spcPts val="1500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ation team – champion, facilitator, team member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igher level (e.g., organization leaders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rizontal (e.g. other departments, services that coordinate with intervention)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rectly affected or involved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mplementers – physicians,  nurses, other clinical staff, administrative staff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7280" indent="-287280">
              <a:spcBef>
                <a:spcPts val="1199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nd-users – patients, family members</a:t>
            </a:r>
            <a:endParaRPr b="1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1T09:01:37Z</dcterms:created>
  <dc:creator>Donna O. Farley</dc:creator>
  <dc:description/>
  <cp:keywords/>
  <dc:language>en-US</dc:language>
  <cp:lastModifiedBy>rac</cp:lastModifiedBy>
  <cp:lastPrinted>2001-03-07T03:04:57Z</cp:lastPrinted>
  <dcterms:modified xsi:type="dcterms:W3CDTF">2008-10-02T15:08:44Z</dcterms:modified>
  <cp:revision>776</cp:revision>
  <dc:subject/>
  <dc:title>Draft Plan for Evaluation of the Medicare DoD Subvention Demonstration</dc:title>
</cp:coreProperties>
</file>