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45FB-C1F7-4D10-8D55-6D7D46866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C6F2-82B1-47D0-B505-5B105F76D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0DB179C-C66A-45E7-ADE6-74DF2999D138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73A5-5BA3-4B92-B910-C22A83A21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E097-99CC-417B-AA9D-69D9D2639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C17C-DEF3-476C-8311-88E89CD5A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5A57-BEA8-4288-BCB4-2CDFCBBAF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9CCE-A85D-4949-A7C0-33F1EBDEA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58C2-8973-479A-A7EF-86B508576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CA5-1C18-4463-B954-B48C6ED1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94C-7390-400E-A972-A6DD74B8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04D-D7FC-47A0-8B6D-99DBCFBD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E76-D596-41ED-8E58-4E049D2E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A29-DB43-4C4C-96CA-3C3B4034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7F3-FBCB-4C96-A864-2E27F33C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795-7E62-46E4-81CB-C1DC1CA0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F6E-333C-49A1-82D4-BEDF2BEA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251-9E9D-4140-867D-693BE74F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541-0C90-4DB7-92C9-5152545F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A20-28CE-4B1A-B2DB-46F2D456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7BF-3C68-48DB-A581-37C71D99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843D-5873-42DF-8518-4834024F5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4419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10280" cy="1413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057320" y="4295880"/>
            <a:ext cx="7010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  <a:ea typeface="Arial"/>
              </a:rPr>
              <a:t>Memphis, 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  <a:ea typeface="Arial"/>
              </a:rPr>
              <a:t>Thomas Duarte, Executive Director, MSe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6181560"/>
            <a:ext cx="3352680" cy="676440"/>
          </a:xfrm>
          <a:prstGeom prst="rect">
            <a:avLst/>
          </a:prstGeom>
          <a:ln w="0">
            <a:noFill/>
          </a:ln>
        </p:spPr>
      </p:pic>
      <p:sp>
        <p:nvSpPr>
          <p:cNvPr id="72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 data easily accessible and sec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 ease of search for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57150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 - U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d standardized mapping of lab results (LOINC) to aggregate clinical data from multiple 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66680" y="2844720"/>
            <a:ext cx="67881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c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1"/>
          <p:cNvSpPr/>
          <p:nvPr/>
        </p:nvSpPr>
        <p:spPr>
          <a:xfrm>
            <a:off x="609480" y="220968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 participants to th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gin with a narrow 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y data where there is agreement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cus on policies and procedures for a single use of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agnosis and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eate a flexible system that can be used in different work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ke as much data as you can you may need it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ly wins are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te visits for feedback, issue resolution and system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6181560"/>
            <a:ext cx="3352680" cy="676440"/>
          </a:xfrm>
          <a:prstGeom prst="rect">
            <a:avLst/>
          </a:prstGeom>
          <a:ln w="0">
            <a:noFill/>
          </a:ln>
        </p:spPr>
      </p:pic>
      <p:sp>
        <p:nvSpPr>
          <p:cNvPr id="81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4 hospital 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spitalists in 3 health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 primary care Safety Net cli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1 primary care Safety Net/Public Health cli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SeHA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1"/>
          <p:cNvSpPr/>
          <p:nvPr/>
        </p:nvSpPr>
        <p:spPr>
          <a:xfrm>
            <a:off x="762120" y="2362320"/>
            <a:ext cx="7924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tain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y population segments that will benefit from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monstrate th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y the potential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to payors, 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eas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cific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i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rkman’s co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SeHA Goals &amp;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 hospital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iminate unnecessary diagnostic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 ER vis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ve greater PCP invol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SeHA Evaluation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the quality of care by improving access to data at point of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monstrate the impact of the MSeHA in the 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monstrate how the MSeHA improves community healthcar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keholder D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omplete information increases admission rates and length of st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ck of data impacts ED efficiency and ambulato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omplete data at point of care impacts test or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omplete data at point of care impacts clinical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ontent Placeholder 1"/>
          <p:cNvSpPr/>
          <p:nvPr/>
        </p:nvSpPr>
        <p:spPr>
          <a:xfrm>
            <a:off x="609480" y="2209680"/>
            <a:ext cx="7925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01(c)3 organization serving the Memphis area of ~1.1 million citiz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Shelby County citizens are at or below the poverty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gan as a TN funded planning project in August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warded an AHRQ Regional Demonstration contract, Sept 20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eived additional funding from the State of Tenness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6181560"/>
            <a:ext cx="3352680" cy="676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SeHA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6181560"/>
            <a:ext cx="3352680" cy="67644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 year gr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SeHA to accomplish in years 1-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ta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oper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cumentation of lessons lea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SeHA to accomplish in years 4-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aluate the impact on patient treatment and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HRQ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SeHA Partici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1"/>
          <p:cNvSpPr/>
          <p:nvPr/>
        </p:nvSpPr>
        <p:spPr>
          <a:xfrm>
            <a:off x="609480" y="220968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ard was formed in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ptist Memorial Health Care Corporation (5 facilities including 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thodist Healthcare including Le Bonheur Children’s (7 facili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Regional Medical Center (The M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. Francis Hospital (2 facili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. Jude Children’s Research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rist Community Health Clinics (4 facili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elby County/Health Loop Clinics (11 facili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 Medical Group (400+ clinici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6181560"/>
            <a:ext cx="33526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6181560"/>
            <a:ext cx="3352680" cy="676440"/>
          </a:xfrm>
          <a:prstGeom prst="rect">
            <a:avLst/>
          </a:prstGeom>
          <a:ln w="0">
            <a:noFill/>
          </a:ln>
        </p:spPr>
      </p:pic>
      <p:sp>
        <p:nvSpPr>
          <p:cNvPr id="61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ipants identified data elements and agreed to provide clinical and demographic information from inpatient, outpatient and ER en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gan in the ER and expanded to include hospitalists and ambulatory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inimum data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ipants encouraged to send what they c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the Emergency Depart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ess to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bility to impact patient treatment and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 duplication of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tential to show 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data to gain sustainability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Obtain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tent Placeholder 1"/>
          <p:cNvSpPr/>
          <p:nvPr/>
        </p:nvSpPr>
        <p:spPr>
          <a:xfrm>
            <a:off x="609480" y="22096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 feeds include IP, OP, ER and Claims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 inclu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ient identification and demo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b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count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dication history (clai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ated repor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charge, imaging, cardio, H&amp;P, Diagnostic cod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er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8"/>
          <p:cNvSpPr/>
          <p:nvPr/>
        </p:nvSpPr>
        <p:spPr>
          <a:xfrm>
            <a:off x="0" y="152280"/>
            <a:ext cx="91440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May 200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1"/>
          <p:cNvSpPr/>
          <p:nvPr/>
        </p:nvSpPr>
        <p:spPr>
          <a:xfrm>
            <a:off x="609480" y="220968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ient medical record numbers = 1.14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ient records with clinical data = 87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tal records with ICD-9 codes &amp; clinical data = 915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umber of text repor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ing = 2.41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&amp;P = 3.35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charge Summaries = 87,4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tomic Pathology = 314,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ient encounters/month = 151,9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nical lab results/month = 2.97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It Happen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1"/>
          <p:cNvSpPr/>
          <p:nvPr/>
        </p:nvSpPr>
        <p:spPr>
          <a:xfrm>
            <a:off x="609480" y="220968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ipant costs: ~ $25-35K/year/site (less for subsequent sites)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ipant resourc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al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itment to NOT let the MSeHA interfere with participant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O commitment and champion for RHIO/H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lementation support (Vanderbilt Center for Better Heal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gning up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ining/support/sit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cy &amp;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ablishment of “Work Group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0:16:20Z</dcterms:created>
  <dc:creator>Thomas E Duarte</dc:creator>
  <dc:description/>
  <dc:language>en-US</dc:language>
  <cp:lastModifiedBy>PC Workstation User</cp:lastModifiedBy>
  <dcterms:modified xsi:type="dcterms:W3CDTF">2008-09-08T02:41:54Z</dcterms:modified>
  <cp:revision>25</cp:revision>
  <dc:subject/>
  <dc:title>Slide 1</dc:title>
</cp:coreProperties>
</file>