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B15F-D1DA-4528-9DF8-25301397A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CF97-2318-4A55-86E2-96FE6CC11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93ACBBA-CEF9-4F0C-8FCF-0CE04C3F733B}" type="slidenum">
              <a:rPr b="0" lang="en-US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CCD6-7800-4EF1-B2FF-395CF4307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C27D-9620-4CBF-BDDF-47A3AFA21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2801-51FC-49CC-96D5-7C539A375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C354-B151-4469-B95E-A5D9ADDE9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6714-BE0B-46BC-9495-CE883AE86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2D42-C628-4AAE-B5AA-73DCDCFB2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271D-D50F-4343-9326-B4AAF912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6AB-0119-4AB0-B6DD-2FDF2F25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8CFC-F1A1-446F-B0A3-C90CDAC2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1B2-6A36-4A55-969D-AB47D2F4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66D-8972-45E3-9576-21D7E3DE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D18-7886-4578-9A79-82846F57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E2D-6998-4DB5-BDFE-DCFFFEBD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A3F-F04A-4706-8229-52EB1525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4A45-C52E-4D51-ADDB-C04ABBC8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C5BD-0726-4366-948E-E82DA262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273-0227-4318-AFAB-16F96096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79CA-7147-4E3C-A05E-E91A3376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1E54-A808-4487-A87C-F199EEA32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4419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7010280" cy="1413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1057320" y="4295880"/>
            <a:ext cx="7010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  <a:ea typeface="Arial"/>
              </a:rPr>
              <a:t>Memphis, 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  <a:ea typeface="Arial"/>
              </a:rPr>
              <a:t>Thomas Duarte, Executive Director, MSe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6181560"/>
            <a:ext cx="3352680" cy="676440"/>
          </a:xfrm>
          <a:prstGeom prst="rect">
            <a:avLst/>
          </a:prstGeom>
          <a:ln w="0">
            <a:noFill/>
          </a:ln>
        </p:spPr>
      </p:pic>
      <p:sp>
        <p:nvSpPr>
          <p:cNvPr id="72" name="Content Placeholder 1"/>
          <p:cNvSpPr/>
          <p:nvPr/>
        </p:nvSpPr>
        <p:spPr>
          <a:xfrm>
            <a:off x="609480" y="2209680"/>
            <a:ext cx="7925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 data easily accessible and sec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 ease of search for 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571500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 - Us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tent Placeholder 1"/>
          <p:cNvSpPr/>
          <p:nvPr/>
        </p:nvSpPr>
        <p:spPr>
          <a:xfrm>
            <a:off x="609480" y="2209680"/>
            <a:ext cx="7925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vided standardized mapping of lab results (LOINC) to aggregate clinical data from multiple 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66680" y="2844720"/>
            <a:ext cx="67881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c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1"/>
          <p:cNvSpPr/>
          <p:nvPr/>
        </p:nvSpPr>
        <p:spPr>
          <a:xfrm>
            <a:off x="609480" y="220968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 participants to th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gin with a narrow fo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dentify data where there is agreement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cus on policies and procedures for a single use of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agnosis and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reate a flexible system that can be used in different work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ke as much data as you can you may need it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arly wins are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te visits for feedback, issue resolution and system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6181560"/>
            <a:ext cx="3352680" cy="676440"/>
          </a:xfrm>
          <a:prstGeom prst="rect">
            <a:avLst/>
          </a:prstGeom>
          <a:ln w="0">
            <a:noFill/>
          </a:ln>
        </p:spPr>
      </p:pic>
      <p:sp>
        <p:nvSpPr>
          <p:cNvPr id="81" name="Content Placeholder 1"/>
          <p:cNvSpPr/>
          <p:nvPr/>
        </p:nvSpPr>
        <p:spPr>
          <a:xfrm>
            <a:off x="609480" y="2209680"/>
            <a:ext cx="7925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4 hospital E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spitalists in 3 health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 primary care Safety Net cli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1 primary care Safety Net/Public Health cli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SeHA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8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stainabil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ontent Placeholder 1"/>
          <p:cNvSpPr/>
          <p:nvPr/>
        </p:nvSpPr>
        <p:spPr>
          <a:xfrm>
            <a:off x="609480" y="2209680"/>
            <a:ext cx="7925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ontent Placeholder 1"/>
          <p:cNvSpPr/>
          <p:nvPr/>
        </p:nvSpPr>
        <p:spPr>
          <a:xfrm>
            <a:off x="762120" y="2362320"/>
            <a:ext cx="79246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tain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dentify population segments that will benefit from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monstrate th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dentify the potential custo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to payors, 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eas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cific pop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in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orkman’s com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8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SeHA Goals &amp;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ontent Placeholder 1"/>
          <p:cNvSpPr/>
          <p:nvPr/>
        </p:nvSpPr>
        <p:spPr>
          <a:xfrm>
            <a:off x="609480" y="2209680"/>
            <a:ext cx="7925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uce hospital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liminate unnecessary diagnostic 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uce ER vis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ve greater PCP invol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SeHA Evaluation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ntent Placeholder 1"/>
          <p:cNvSpPr/>
          <p:nvPr/>
        </p:nvSpPr>
        <p:spPr>
          <a:xfrm>
            <a:off x="609480" y="2209680"/>
            <a:ext cx="7925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 the quality of care by improving access to data at point of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monstrate the impact of the MSeHA in the 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monstrate how the MSeHA improves community healthcar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8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keholder D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1"/>
          <p:cNvSpPr/>
          <p:nvPr/>
        </p:nvSpPr>
        <p:spPr>
          <a:xfrm>
            <a:off x="609480" y="2209680"/>
            <a:ext cx="7925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omplete information increases admission rates and length of st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ck of data impacts ED efficiency and ambulatory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omplete data at point of care impacts test ord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complete data at point of care impacts clinical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ontent Placeholder 1"/>
          <p:cNvSpPr/>
          <p:nvPr/>
        </p:nvSpPr>
        <p:spPr>
          <a:xfrm>
            <a:off x="609480" y="2209680"/>
            <a:ext cx="7925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01(c)3 organization serving the Memphis area of ~1.1 million citiz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Shelby County citizens are at or below the poverty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gan as a TN funded planning project in August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warded an AHRQ Regional Demonstration contract, Sept 200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eived additional funding from the State of Tenness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85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6181560"/>
            <a:ext cx="3352680" cy="676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SeHA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6181560"/>
            <a:ext cx="3352680" cy="676440"/>
          </a:xfrm>
          <a:prstGeom prst="rect">
            <a:avLst/>
          </a:prstGeom>
          <a:ln w="0">
            <a:noFill/>
          </a:ln>
        </p:spPr>
      </p:pic>
      <p:sp>
        <p:nvSpPr>
          <p:cNvPr id="55" name="Content Placeholder 1"/>
          <p:cNvSpPr/>
          <p:nvPr/>
        </p:nvSpPr>
        <p:spPr>
          <a:xfrm>
            <a:off x="609480" y="2209680"/>
            <a:ext cx="7925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5 year gra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SeHA to accomplish in years 1-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ata 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oper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cumentation of lessons lea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SeHA to accomplish in years 4-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valuate the impact on patient treatment and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HRQ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SeHA Partici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tent Placeholder 1"/>
          <p:cNvSpPr/>
          <p:nvPr/>
        </p:nvSpPr>
        <p:spPr>
          <a:xfrm>
            <a:off x="609480" y="220968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ard was formed in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ptist Memorial Health Care Corporation (5 facilities including 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thodist Healthcare including Le Bonheur Children’s (7 facili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Regional Medical Center (The M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. Francis Hospital (2 facili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. Jude Children’s Research Hosp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rist Community Health Clinics (4 facili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elby County/Health Loop Clinics (11 facili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 Medical Group (400+ clinici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6181560"/>
            <a:ext cx="335268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6181560"/>
            <a:ext cx="3352680" cy="676440"/>
          </a:xfrm>
          <a:prstGeom prst="rect">
            <a:avLst/>
          </a:prstGeom>
          <a:ln w="0">
            <a:noFill/>
          </a:ln>
        </p:spPr>
      </p:pic>
      <p:sp>
        <p:nvSpPr>
          <p:cNvPr id="61" name="Content Placeholder 1"/>
          <p:cNvSpPr/>
          <p:nvPr/>
        </p:nvSpPr>
        <p:spPr>
          <a:xfrm>
            <a:off x="609480" y="2209680"/>
            <a:ext cx="7925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ticipants identified data elements and agreed to provide clinical and demographic information from inpatient, outpatient and ER encou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gan in the ER and expanded to include hospitalists and ambulatory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inimum data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ticipants encouraged to send what they cou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ly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8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the Emergency Departm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ontent Placeholder 1"/>
          <p:cNvSpPr/>
          <p:nvPr/>
        </p:nvSpPr>
        <p:spPr>
          <a:xfrm>
            <a:off x="609480" y="2209680"/>
            <a:ext cx="79250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ccess to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bility to impact patient treatment and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duce duplication of 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tential to show 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data to gain sustainability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8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Obtain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tent Placeholder 1"/>
          <p:cNvSpPr/>
          <p:nvPr/>
        </p:nvSpPr>
        <p:spPr>
          <a:xfrm>
            <a:off x="609480" y="2209680"/>
            <a:ext cx="79250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 feeds include IP, OP, ER and Claims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ta inclu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tient identification and demograph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b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counte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dication history (clai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ated repor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366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charge, imaging, cardio, H&amp;P, Diagnostic code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er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8"/>
          <p:cNvSpPr/>
          <p:nvPr/>
        </p:nvSpPr>
        <p:spPr>
          <a:xfrm>
            <a:off x="0" y="152280"/>
            <a:ext cx="914400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ce May 200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tent Placeholder 1"/>
          <p:cNvSpPr/>
          <p:nvPr/>
        </p:nvSpPr>
        <p:spPr>
          <a:xfrm>
            <a:off x="609480" y="220968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tient medical record numbers = 1.14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tient records with clinical data = 874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tal records with ICD-9 codes &amp; clinical data = 915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umber of text repor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aging = 2.41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&amp;P = 3.35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charge Summaries = 87,4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atomic Pathology = 314,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tient encounters/month = 151,9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inical lab results/month = 2.97 m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8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It Happen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tent Placeholder 1"/>
          <p:cNvSpPr/>
          <p:nvPr/>
        </p:nvSpPr>
        <p:spPr>
          <a:xfrm>
            <a:off x="609480" y="220968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ticipant costs: ~ $25-35K/year/site (less for subsequent sites)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ticipant resource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nal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itment to NOT let the MSeHA interfere with participant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O commitment and champion for RHIO/H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lementation support (Vanderbilt Center for Better Heal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gning up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ining/support/sit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vacy &amp;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tablishment of “Work Group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79440" indent="-255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0:16:20Z</dcterms:created>
  <dc:creator>Thomas E Duarte</dc:creator>
  <dc:description/>
  <dc:language>en-US</dc:language>
  <cp:lastModifiedBy>PC Workstation User</cp:lastModifiedBy>
  <dcterms:modified xsi:type="dcterms:W3CDTF">2008-09-08T02:41:54Z</dcterms:modified>
  <cp:revision>25</cp:revision>
  <dc:subject/>
  <dc:title>Slide 1</dc:title>
</cp:coreProperties>
</file>