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3338-A20C-4190-8490-F61485899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128680" y="696960"/>
            <a:ext cx="2625840" cy="1969920"/>
          </a:xfrm>
          <a:prstGeom prst="rect">
            <a:avLst/>
          </a:prstGeom>
          <a:ln w="0">
            <a:noFill/>
          </a:ln>
        </p:spPr>
      </p:sp>
      <p:sp>
        <p:nvSpPr>
          <p:cNvPr id="213" name="PlaceHolder 2"/>
          <p:cNvSpPr>
            <a:spLocks noGrp="1"/>
          </p:cNvSpPr>
          <p:nvPr>
            <p:ph type="body"/>
          </p:nvPr>
        </p:nvSpPr>
        <p:spPr>
          <a:xfrm>
            <a:off x="688680" y="2895480"/>
            <a:ext cx="5505480" cy="570384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Erin.  I appreciate the opportunity to join Larah and Jim on the panel today. The TA to Medicaid and SCHIP project is a very important and exciting project.</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helping Medicaid and SCHIP programs improve the interoperability of their IT systems and integrate those systems with the larger, intersecting world of electronic HIE development, AHRQ aims to connect Medicaid/SCHIP programs more directly with on-going national initiatives in health care effectiveness, quality measurement/improvement, and patient safety.  </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itiative seeks to maximize the ability of policy makers and Medicaid/SCHIP programs to use health IT and HIE for improving the delivery and coordination of care and the proactive management of health for their beneficiaries, with the overall goal of improving health care for all Americans who rely on Medicaid or SCHI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7440" y="696960"/>
            <a:ext cx="4648320" cy="2808360"/>
          </a:xfrm>
          <a:prstGeom prst="rect">
            <a:avLst/>
          </a:prstGeom>
          <a:ln w="0">
            <a:noFill/>
          </a:ln>
        </p:spPr>
      </p:sp>
      <p:sp>
        <p:nvSpPr>
          <p:cNvPr id="229"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reported a number of challenges not the least of which is sustainability and funding (including ongoing funding support and resources available from organizations to support proje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ajor challenge is gaining and maintaining participation from providers.  There is a need to educate providers about the project, its value, etc.; getting them to see enough value in it for participation.  Ensuring providers use the tools made available by projec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also mention privacy and security issues, the challenge of implementing new systems in parallel with running legacy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of course last but not least is trying to align the goals/interests of multiple partners/participants in project; and then of course seeking and securing legislative approval for participation.  The Medicaid/SCHIP agencies in many states must be legislatively authorized to participate in these kinds of projects.</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2884320"/>
          </a:xfrm>
          <a:prstGeom prst="rect">
            <a:avLst/>
          </a:prstGeom>
          <a:ln w="0">
            <a:noFill/>
          </a:ln>
        </p:spPr>
      </p:sp>
      <p:sp>
        <p:nvSpPr>
          <p:cNvPr id="231" name="PlaceHolder 2"/>
          <p:cNvSpPr>
            <a:spLocks noGrp="1"/>
          </p:cNvSpPr>
          <p:nvPr>
            <p:ph type="body"/>
          </p:nvPr>
        </p:nvSpPr>
        <p:spPr>
          <a:xfrm>
            <a:off x="688680" y="3886200"/>
            <a:ext cx="5505480" cy="4713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all of the questions we ask about planned and current projects, both health IT and HIE, we also ask specifically about the specific areas of need an agency might be experiencing.  We developed set of 9 broad topic areas and asked the agencies to rank order them in an order of priority for their specific agency.  This is the list of 9 topic areas. Within each of these areas we asked the agencies to rank order a list of subtopics that fell within the category. For example, under the first category, there were four subtopics that the agencies were asked to rank order;  Federal and State guidance, regs and laws; Refining agency health IT and HIE policy and plans; Overview of national health IT and HIE initiatives, standards and products and prioritizing health iT and HIE projects and opportunities.  So each high level area had between 4 and 6 subtopics.</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17440" y="696960"/>
            <a:ext cx="4648320" cy="3486240"/>
          </a:xfrm>
          <a:prstGeom prst="rect">
            <a:avLst/>
          </a:prstGeom>
          <a:ln w="0">
            <a:noFill/>
          </a:ln>
        </p:spPr>
      </p:sp>
      <p:sp>
        <p:nvSpPr>
          <p:cNvPr id="23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9 areas these 4 were the highest priority for the agencies we talked to.</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just a glimpse of what we found and we will have a much richer picture of what the agencies are planning and what their needs are as we conduct the nationwide needs assessment and begin working with the agencies in a very real and practical way.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we gathered early this year from the NASMD multistate collaboratives and from the pilot test we developed a series of webinars that began in March and continue.  Here are some of the titles we have presented to date.  </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phase of the project will involve the development of the workshops which I mentioned earlier that will help agencies develop an action plan or roadmap that outlines the steps they will need to take to meet a clearly defined goal. We will follow up to document best or “good” practices/lessons learned, and we will develop  templates and/or tools that can be used by all agencie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be rolling out the first workshops early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lso ramping up the other resources for the agencies including the Medicaid/SCHIP Repository on the NRC site</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ctivities that will launch in 2009 include the communities of practice—3 or 4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anned activities include: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d peer-to-peer learning session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erson educational meeting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kit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Brief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ed “lessons learned” from the agencies on the websit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620720" y="696960"/>
            <a:ext cx="3641760" cy="2732040"/>
          </a:xfrm>
          <a:prstGeom prst="rect">
            <a:avLst/>
          </a:prstGeom>
          <a:ln w="0">
            <a:noFill/>
          </a:ln>
        </p:spPr>
      </p:sp>
      <p:sp>
        <p:nvSpPr>
          <p:cNvPr id="215" name="PlaceHolder 2"/>
          <p:cNvSpPr>
            <a:spLocks noGrp="1"/>
          </p:cNvSpPr>
          <p:nvPr>
            <p:ph type="body"/>
          </p:nvPr>
        </p:nvSpPr>
        <p:spPr>
          <a:xfrm>
            <a:off x="698040" y="3809880"/>
            <a:ext cx="5505480" cy="418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and the State Children’s Health Insurance Program (SCHIP) serve the nation’s most medically and financially vulnerable populations and therefore have a lot  to gain from the adoption of Health IT and the implementation of HI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is the largest payer and insurer in the nation accounting for 22% of total state expenditures and as such it  can influence the adoption of Health IT and HIE by providers that serve our vulnerable popula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Medicaid and SCHIP agencies face considerable challenges in the adoption of Health IT and HIE and our goal is to assist those agencies to overcome those challenges.</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27160" y="696960"/>
            <a:ext cx="2828880" cy="2122560"/>
          </a:xfrm>
          <a:prstGeom prst="rect">
            <a:avLst/>
          </a:prstGeom>
          <a:ln w="0">
            <a:noFill/>
          </a:ln>
        </p:spPr>
      </p:sp>
      <p:sp>
        <p:nvSpPr>
          <p:cNvPr id="217" name="PlaceHolder 2"/>
          <p:cNvSpPr>
            <a:spLocks noGrp="1"/>
          </p:cNvSpPr>
          <p:nvPr>
            <p:ph type="body"/>
          </p:nvPr>
        </p:nvSpPr>
        <p:spPr>
          <a:xfrm>
            <a:off x="774360" y="3200400"/>
            <a:ext cx="5505480" cy="5562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project is to </a:t>
            </a:r>
            <a:r>
              <a:rPr b="0" lang="en-US" sz="1800" spc="-1" strike="noStrike">
                <a:solidFill>
                  <a:srgbClr val="000000"/>
                </a:solidFill>
                <a:latin typeface="Arial"/>
              </a:rPr>
              <a:t>support Medicaid and SCHIP to identify and adopt </a:t>
            </a:r>
            <a:r>
              <a:rPr b="1" i="1" lang="en-US" sz="1800" spc="-1" strike="noStrike">
                <a:solidFill>
                  <a:srgbClr val="000000"/>
                </a:solidFill>
                <a:latin typeface="Arial"/>
              </a:rPr>
              <a:t>effective</a:t>
            </a:r>
            <a:r>
              <a:rPr b="0" lang="en-US" sz="1800" spc="-1" strike="noStrike">
                <a:solidFill>
                  <a:srgbClr val="000000"/>
                </a:solidFill>
                <a:latin typeface="Arial"/>
              </a:rPr>
              <a:t> health IT and to assist the agencies with plans to participate in electronic data exchange </a:t>
            </a:r>
            <a:r>
              <a:rPr b="1" i="1" lang="en-US" sz="1800" spc="-1" strike="noStrike">
                <a:solidFill>
                  <a:srgbClr val="000000"/>
                </a:solidFill>
                <a:latin typeface="Arial"/>
              </a:rPr>
              <a:t>to improve the quality and safety of their programs for the people who rely on them.</a:t>
            </a: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is to</a:t>
            </a:r>
            <a:r>
              <a:rPr b="0" lang="en-US" sz="1800" spc="-1" strike="noStrike">
                <a:solidFill>
                  <a:srgbClr val="000000"/>
                </a:solidFill>
                <a:latin typeface="Arial"/>
              </a:rPr>
              <a:t> develop a program of technical assistance that helps agencies </a:t>
            </a:r>
            <a:r>
              <a:rPr b="1" i="1" lang="en-US" sz="1800" spc="-1" strike="noStrike">
                <a:solidFill>
                  <a:srgbClr val="000000"/>
                </a:solidFill>
                <a:latin typeface="Arial"/>
              </a:rPr>
              <a:t>to</a:t>
            </a:r>
            <a:r>
              <a:rPr b="0" lang="en-US" sz="1800" spc="-1" strike="noStrike">
                <a:solidFill>
                  <a:srgbClr val="000000"/>
                </a:solidFill>
                <a:latin typeface="Arial"/>
              </a:rPr>
              <a:t> </a:t>
            </a:r>
            <a:r>
              <a:rPr b="1" i="1" lang="en-US" sz="1800" spc="-1" strike="noStrike">
                <a:solidFill>
                  <a:srgbClr val="000000"/>
                </a:solidFill>
                <a:latin typeface="Arial"/>
              </a:rPr>
              <a:t>identify and prioritize goals</a:t>
            </a:r>
            <a:r>
              <a:rPr b="0" lang="en-US" sz="1800" spc="-1" strike="noStrike">
                <a:solidFill>
                  <a:srgbClr val="000000"/>
                </a:solidFill>
                <a:latin typeface="Arial"/>
              </a:rPr>
              <a:t>, </a:t>
            </a:r>
            <a:r>
              <a:rPr b="1" i="1" lang="en-US" sz="1800" spc="-1" strike="noStrike">
                <a:solidFill>
                  <a:srgbClr val="000000"/>
                </a:solidFill>
                <a:latin typeface="Arial"/>
              </a:rPr>
              <a:t>overcome barriers to the adoption and implementation of appropriate technologies</a:t>
            </a:r>
            <a:r>
              <a:rPr b="0" lang="en-US" sz="1800" spc="-1" strike="noStrike">
                <a:solidFill>
                  <a:srgbClr val="000000"/>
                </a:solidFill>
                <a:latin typeface="Arial"/>
              </a:rPr>
              <a:t>, and to evaluate outcom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68440" y="696960"/>
            <a:ext cx="3946680" cy="2427120"/>
          </a:xfrm>
          <a:prstGeom prst="rect">
            <a:avLst/>
          </a:prstGeom>
          <a:ln w="0">
            <a:noFill/>
          </a:ln>
        </p:spPr>
      </p:sp>
      <p:sp>
        <p:nvSpPr>
          <p:cNvPr id="219" name="PlaceHolder 2"/>
          <p:cNvSpPr>
            <a:spLocks noGrp="1"/>
          </p:cNvSpPr>
          <p:nvPr>
            <p:ph type="body"/>
          </p:nvPr>
        </p:nvSpPr>
        <p:spPr>
          <a:xfrm>
            <a:off x="698400" y="3276360"/>
            <a:ext cx="5486400" cy="5181480"/>
          </a:xfrm>
          <a:prstGeom prst="rect">
            <a:avLst/>
          </a:prstGeom>
          <a:noFill/>
          <a:ln w="0">
            <a:noFill/>
          </a:ln>
        </p:spPr>
        <p:txBody>
          <a:bodyPr lIns="90000" rIns="90000" tIns="46800" bIns="46800"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provides technical assistance in a number of ways:</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ay is to provide general technical assistance to agencies through a series of webinars that bring leading experts together with agency staff to provide general in specific areas of need.</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ethod is to provide Targeted Technical Assistance through workshops that are conducted by experts and attended by 2 or 3 representatives from 3 to 4  agencies.  The focus of the workshops is to develop a roadmap or action plan that outlines the steps toward achieving a specific goal.</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plan to provide support through building a repository of resources we are building that have specific relevance for Medicaid and SCHIP.</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are developing Communities of Practice around specific topics of interest so that agency personnel can share war stories and lessons learned and learn from one-another in a supported environment.</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7440" y="696960"/>
            <a:ext cx="4648320" cy="2732040"/>
          </a:xfrm>
          <a:prstGeom prst="rect">
            <a:avLst/>
          </a:prstGeom>
          <a:ln w="0">
            <a:noFill/>
          </a:ln>
        </p:spPr>
      </p:sp>
      <p:sp>
        <p:nvSpPr>
          <p:cNvPr id="221"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graphic—</a:t>
            </a:r>
            <a:r>
              <a:rPr b="0" lang="en-US" sz="1400" spc="-1" strike="noStrike">
                <a:solidFill>
                  <a:srgbClr val="000000"/>
                </a:solidFill>
                <a:latin typeface="Arial"/>
              </a:rPr>
              <a:t> agencies represented various regions of the country as well as urban and rural classif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of Medicaid/SCHIP program—</a:t>
            </a:r>
            <a:r>
              <a:rPr b="0" lang="en-US" sz="1400" spc="-1" strike="noStrike">
                <a:solidFill>
                  <a:srgbClr val="000000"/>
                </a:solidFill>
                <a:latin typeface="Arial"/>
              </a:rPr>
              <a:t>  agencies represented a variety of agencies based on Medicaid/SCHIP spending and enroll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SCHIP affiliation/integration—</a:t>
            </a:r>
            <a:r>
              <a:rPr b="0" lang="en-US" sz="1400" spc="-1" strike="noStrike">
                <a:solidFill>
                  <a:srgbClr val="000000"/>
                </a:solidFill>
                <a:latin typeface="Arial"/>
              </a:rPr>
              <a:t>  agencies represented both integrated Medicaid/SCHIP programs and agencies where the Medicaid and SCHIP programs are independ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t of agency’s health IT/HIE activity—</a:t>
            </a:r>
            <a:r>
              <a:rPr b="0" lang="en-US" sz="1400" spc="-1" strike="noStrike">
                <a:solidFill>
                  <a:srgbClr val="000000"/>
                </a:solidFill>
                <a:latin typeface="Arial"/>
              </a:rPr>
              <a:t> agencies represented</a:t>
            </a:r>
            <a:r>
              <a:rPr b="1" lang="en-US" sz="1400" spc="-1" strike="noStrike">
                <a:solidFill>
                  <a:srgbClr val="000000"/>
                </a:solidFill>
                <a:latin typeface="Arial"/>
              </a:rPr>
              <a:t> </a:t>
            </a:r>
            <a:r>
              <a:rPr b="0" lang="en-US" sz="1400" spc="-1" strike="noStrike">
                <a:solidFill>
                  <a:srgbClr val="000000"/>
                </a:solidFill>
                <a:latin typeface="Arial"/>
              </a:rPr>
              <a:t>a range of experience in health IT/HIE.</a:t>
            </a:r>
            <a:r>
              <a:rPr b="1"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profiles of each agency’s activity to assist in the discussions and to prevent having to ask the agency staff questions that they have already answered.  We did ask the agency staff to validate the information that we had collected from secondary 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lso tested a couple of modes of collection—both in-person, in-person and teleconference, and teleconference and each worked equally well.  This will give us some flexibility to work around agency staff schedules when conducting the nationwide needs assessmen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first part of the interview we ask about projects we had learned that they were implementing through our research and what we found was that agencies plans change frequently and many had modified and updated that state’s health IT project plans in the past 12 month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st agencies, their MMIS/Medicaid Information Technology Architecture (MITA) was their main health IT project at the moment; in Nebraska, MMIS was seen as the main or only project under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health IT projects listed were statewide projects or projects implemented by entities in which Medicaid/SCHIP participation was limited (e.g., attend meetings; be a part of the leadership board but mainly as an observer).</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bout current or planned health IT initiatives and learned that if an agency did have a project in the works it was in the early planning st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rojects within states are in the early planning stages of develop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e slated for initial rollout later in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few projects are in the implementation phase (e.g., Montana’s Access to Health Web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somewhat surprised that when we asked about plans to evaluate the success factors that the staff we spoke to indicated that plans for a formal evaluation were limited.  We think that this is an area that the project can help the agencies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hallenges, sustainability of the project was noted as the primary challenge to implementation.  Als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particip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Security Issu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ing between MMIS syste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look at the goals and outcomes that the agencies reported they were trying to achieve, we see the high level goals of improving care for beneficiaries and business process improvement. But we also learned about some project specific goals of which the first 3 or 4 listed here are in the service of improved care and the latter 2 are in the service of business process improvement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5EC36-052A-4FED-A49C-1DD582986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44F7-738F-4149-B543-3C4FB11C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63FC-2124-4350-BC97-1023D618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CA395-765B-4CBE-A2A3-14C9D2236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8E9D6-0ACE-4E91-94AD-738CEF429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BA244-499D-431D-9C29-49C6EDB0D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1AC3F-E43A-42AE-8AA8-E860F46C7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E91E9-D00D-4CB3-BDEF-8D12D9FA3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F94BE-C8E7-4E2D-A402-9854DABAB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BAD9E-66B2-4CC5-8CBE-BE00CE753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BB8B-A5C2-4A83-AA1C-603B06A46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958E-FCDC-4F80-A436-90FB5FFD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72FFA-1647-4D0B-819D-3F75E6817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09C3D-7D37-4AC8-872D-F97594157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F80AB-B4EF-473B-AC13-E1E8DC0AF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CD15E-3276-4046-862B-2C0964AFE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22A6C-5F2C-4112-ACF2-751D5AD23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D228F-F275-465C-A00E-A26AA3B3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0F715-D640-41D4-9C68-571428A3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A709-2BA2-4BBD-BE81-8902A87E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2952C-B281-4DF2-8D46-A24E38D7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EB64-49BE-4000-9CEF-A9D03B4E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AC29-8128-472F-8995-0FB5460D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0960-DB8C-4AAD-AD53-61845B143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0455-D21D-41DB-8C33-ED4B6A9FE5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BEE4-B596-4F14-A88D-FFCBF999E9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healthit.ahrq.gov/Medicaid-SCHIP"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healthit.ahrq.gov/Medicaid-SCHIP" TargetMode="External"/><Relationship Id="rId3" Type="http://schemas.openxmlformats.org/officeDocument/2006/relationships/image" Target="../media/image4.png"/><Relationship Id="rId4" Type="http://schemas.openxmlformats.org/officeDocument/2006/relationships/hyperlink" Target="mailto:Medicaid-SCHIP-HIT@ahrq.hhs.gov" TargetMode="External"/><Relationship Id="rId5" Type="http://schemas.openxmlformats.org/officeDocument/2006/relationships/image" Target="../media/image4.png"/><Relationship Id="rId6" Type="http://schemas.openxmlformats.org/officeDocument/2006/relationships/hyperlink" Target="mailto:listserv@list.ahrq.gov?subject=Subscribe&amp;body=sub%20Medicaid-SCHIP-HIT"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aid/SCHIP Technical Assistance for Health IT/HIE</a:t>
            </a:r>
            <a:endParaRPr b="0" lang="en-US" sz="44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HRQ Annual Conferen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da Dimitropoulos, RTI Internat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to Implementing Initiative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funding of projec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participation from providers in the proj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 and security issue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ing new MMIS systems (while continuing to perform and operate concurrently under the old, legacy system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ing the goals/interests of multiple partners/participants in project; and</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ing and securing legislative approval for particip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 Topic Areas</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health IT/HIE policy issues</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HIE privacy and security issues for Medicaid/SCHIP</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ion and use of data and technical standards</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health IT project initiatives—general topics</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EHRs</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PHRs</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medication management/e-Prescribing</a:t>
            </a:r>
            <a:endParaRPr b="0" lang="en-US" sz="2400" spc="-1" strike="noStrike">
              <a:solidFill>
                <a:srgbClr val="ffffff"/>
              </a:solidFill>
              <a:latin typeface="Arial"/>
            </a:endParaRPr>
          </a:p>
          <a:p>
            <a:pPr marL="343080" indent="-34308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HIEs</a:t>
            </a:r>
            <a:endParaRPr b="0" lang="en-US" sz="2400" spc="-1" strike="noStrike">
              <a:solidFill>
                <a:srgbClr val="ffffff"/>
              </a:solidFill>
              <a:latin typeface="Arial"/>
            </a:endParaRPr>
          </a:p>
          <a:p>
            <a:pPr marL="343080" indent="-34308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health IT and HIE in quality improvement and business process impr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ported Priority Areas for TA</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health IT/HIE in quality improvement and business process improv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ion and use of data and technical standa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T/HIE privacy and security issues for Medicaid/SCHI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health IT/HIE policy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ity Sub-Topics </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Federal and state regulations/laws/guidance that impact Medicaid/SCHIP plans for health IT and HIE initiative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Business process analysis for the implementation of health IT projects in Medicaid/SCHIP agencies</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Cost/benefit analysis to support the implementation of health IT projects by Medicaid/SCHIP agencies (assessing resource requirements and cost/value to agency)</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Integration of e-Prescribing and medication management with MMIS, MITA, and other internal Medicaid/SCHIP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TA: Year 1 Webinars</a:t>
            </a:r>
            <a:endParaRPr b="0" lang="en-US" sz="3200" spc="-1" strike="noStrike">
              <a:solidFill>
                <a:srgbClr val="ffffff"/>
              </a:solidFill>
              <a:latin typeface="Arial"/>
            </a:endParaRPr>
          </a:p>
        </p:txBody>
      </p:sp>
      <p:sp>
        <p:nvSpPr>
          <p:cNvPr id="196" name="PlaceHolder 2"/>
          <p:cNvSpPr>
            <a:spLocks noGrp="1"/>
          </p:cNvSpPr>
          <p:nvPr>
            <p:ph/>
          </p:nvPr>
        </p:nvSpPr>
        <p:spPr>
          <a:xfrm>
            <a:off x="609120" y="1600200"/>
            <a:ext cx="7993080" cy="4572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raveling privacy and security in HIEs: An overview of requirements and options for Medicaid/SCHIP programs</a:t>
            </a:r>
            <a:r>
              <a:rPr b="0" lang="en-US" sz="2400" spc="-1" strike="noStrike">
                <a:solidFill>
                  <a:srgbClr val="ffffff"/>
                </a:solidFill>
                <a:latin typeface="Arial"/>
              </a:rPr>
              <a:t> – March 20,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dentity Management</a:t>
            </a:r>
            <a:r>
              <a:rPr b="0" lang="en-US" sz="2400" spc="-1" strike="noStrike">
                <a:solidFill>
                  <a:srgbClr val="ffffff"/>
                </a:solidFill>
                <a:latin typeface="Arial"/>
              </a:rPr>
              <a:t> </a:t>
            </a:r>
            <a:r>
              <a:rPr b="0" i="1" lang="en-US" sz="2400" spc="-1" strike="noStrike">
                <a:solidFill>
                  <a:srgbClr val="ffffff"/>
                </a:solidFill>
                <a:latin typeface="Arial"/>
              </a:rPr>
              <a:t>for Interoperable Health Information Exchanges</a:t>
            </a:r>
            <a:r>
              <a:rPr b="0" lang="en-US" sz="2400" spc="-1" strike="noStrike">
                <a:solidFill>
                  <a:srgbClr val="ffffff"/>
                </a:solidFill>
                <a:latin typeface="Arial"/>
              </a:rPr>
              <a:t> – March 26,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view of Technical and Data Standards for Health IT and HIE</a:t>
            </a:r>
            <a:r>
              <a:rPr b="0" lang="en-US" sz="2400" spc="-1" strike="noStrike">
                <a:solidFill>
                  <a:srgbClr val="ffffff"/>
                </a:solidFill>
                <a:latin typeface="Arial"/>
              </a:rPr>
              <a:t> – April 3,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valuating Health IT Projects: A Primer for Medicaid and SCHIP</a:t>
            </a:r>
            <a:r>
              <a:rPr b="0" lang="en-US" sz="2400" spc="-1" strike="noStrike">
                <a:solidFill>
                  <a:srgbClr val="ffffff"/>
                </a:solidFill>
                <a:latin typeface="Arial"/>
              </a:rPr>
              <a:t> – May 1,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ear 1 Webinars </a:t>
            </a:r>
            <a:r>
              <a:rPr b="0" lang="en-US" sz="2000" spc="-1" strike="noStrike">
                <a:solidFill>
                  <a:srgbClr val="ffffff"/>
                </a:solidFill>
                <a:latin typeface="Arial"/>
              </a:rPr>
              <a:t>(continued)</a:t>
            </a:r>
            <a:endParaRPr b="0" lang="en-US" sz="2000" spc="-1" strike="noStrike">
              <a:solidFill>
                <a:srgbClr val="ffffff"/>
              </a:solidFill>
              <a:latin typeface="Arial"/>
            </a:endParaRPr>
          </a:p>
        </p:txBody>
      </p:sp>
      <p:sp>
        <p:nvSpPr>
          <p:cNvPr id="198" name="PlaceHolder 2"/>
          <p:cNvSpPr>
            <a:spLocks noGrp="1"/>
          </p:cNvSpPr>
          <p:nvPr>
            <p:ph/>
          </p:nvPr>
        </p:nvSpPr>
        <p:spPr>
          <a:xfrm>
            <a:off x="456840" y="1523880"/>
            <a:ext cx="8381880" cy="510552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derstanding EHRs: Common features and strategic approaches for Medicaid/SCHIP</a:t>
            </a:r>
            <a:r>
              <a:rPr b="0" lang="en-US" sz="2000" spc="-1" strike="noStrike">
                <a:solidFill>
                  <a:srgbClr val="ffffff"/>
                </a:solidFill>
                <a:latin typeface="Arial"/>
              </a:rPr>
              <a:t> – June 5,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IEs for Medicaid and SCHIP Agencies: An Overview of Core Characteristics, Components and Approaches</a:t>
            </a:r>
            <a:r>
              <a:rPr b="0" lang="en-US" sz="2000" spc="-1" strike="noStrike">
                <a:solidFill>
                  <a:srgbClr val="ffffff"/>
                </a:solidFill>
                <a:latin typeface="Arial"/>
              </a:rPr>
              <a:t> – June 19,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valuating Health IT Projects: A State Perspective</a:t>
            </a:r>
            <a:r>
              <a:rPr b="0" lang="en-US" sz="2000" spc="-1" strike="noStrike">
                <a:solidFill>
                  <a:srgbClr val="ffffff"/>
                </a:solidFill>
                <a:latin typeface="Arial"/>
              </a:rPr>
              <a:t> – July 10,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linical Decision Support Systems – Critical Health IT Tools for Interoperable Health Information – </a:t>
            </a:r>
            <a:r>
              <a:rPr b="0" lang="en-US" sz="2000" spc="-1" strike="noStrike">
                <a:solidFill>
                  <a:srgbClr val="ffffff"/>
                </a:solidFill>
                <a:latin typeface="Arial"/>
              </a:rPr>
              <a:t>August 14,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7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lectronic Standards for Consent Directives</a:t>
            </a:r>
            <a:r>
              <a:rPr b="0" lang="en-US" sz="2000" spc="-1" strike="noStrike">
                <a:solidFill>
                  <a:srgbClr val="ffffff"/>
                </a:solidFill>
                <a:latin typeface="Arial"/>
              </a:rPr>
              <a:t>  </a:t>
            </a:r>
            <a:r>
              <a:rPr b="0" i="1" lang="en-US" sz="2000" spc="-1" strike="noStrike">
                <a:solidFill>
                  <a:srgbClr val="ffffff"/>
                </a:solidFill>
                <a:latin typeface="Arial"/>
              </a:rPr>
              <a:t>–</a:t>
            </a:r>
            <a:r>
              <a:rPr b="0" lang="en-US" sz="2000" spc="-1" strike="noStrike">
                <a:solidFill>
                  <a:srgbClr val="ffffff"/>
                </a:solidFill>
                <a:latin typeface="Arial"/>
              </a:rPr>
              <a:t> August 27, 2008</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cripts and Slides for all webinars can be found at: </a:t>
            </a:r>
            <a:r>
              <a:rPr b="0" lang="en-US" sz="1400" spc="-1" strike="noStrike" u="sng">
                <a:solidFill>
                  <a:srgbClr val="86d1ec"/>
                </a:solidFill>
                <a:uFillTx/>
                <a:latin typeface="Arial"/>
                <a:hlinkClick r:id="rId6"/>
              </a:rPr>
              <a:t>http://healthit.ahrq.gov/Medicaid-SCHIP</a:t>
            </a:r>
            <a:r>
              <a:rPr b="0" lang="en-US" sz="1000" spc="-1" strike="noStrike">
                <a:solidFill>
                  <a:srgbClr val="ffffff"/>
                </a:solidFill>
                <a:latin typeface="Arial"/>
              </a:rPr>
              <a:t> </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rgeted TA: Workshop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c Planning work shop</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goal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oadmap</a:t>
            </a:r>
            <a:endParaRPr b="0" lang="en-US" sz="28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tracking</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kit (development) or product or plan</a:t>
            </a:r>
            <a:endParaRPr b="0" lang="en-US" sz="3200" spc="-1" strike="noStrike">
              <a:solidFill>
                <a:srgbClr val="ffffff"/>
              </a:solidFill>
              <a:latin typeface="Arial"/>
            </a:endParaRPr>
          </a:p>
          <a:p>
            <a:pPr marL="609480" indent="-60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ss to Resources</a:t>
            </a:r>
            <a:endParaRPr b="0" lang="en-US" sz="4000" spc="-1" strike="noStrike">
              <a:solidFill>
                <a:srgbClr val="ffffff"/>
              </a:solidFill>
              <a:latin typeface="Arial"/>
            </a:endParaRPr>
          </a:p>
        </p:txBody>
      </p:sp>
      <p:sp>
        <p:nvSpPr>
          <p:cNvPr id="202" name="PlaceHolder 2"/>
          <p:cNvSpPr>
            <a:spLocks noGrp="1"/>
          </p:cNvSpPr>
          <p:nvPr>
            <p:ph/>
          </p:nvPr>
        </p:nvSpPr>
        <p:spPr>
          <a:xfrm>
            <a:off x="609120" y="1676520"/>
            <a:ext cx="7993080" cy="45720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maintain Medicaid/SCHIP-specific section on AHRQ National Resource Center website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sitory of information and tools specifically related to Medicaid and SCHI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eb-based learning community for Medicaid and SCHIP representatives to share experiences and lessons learned</a:t>
            </a:r>
            <a:endParaRPr b="0" lang="en-US" sz="24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7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nd support on-going learning community</a:t>
            </a:r>
            <a:endParaRPr b="0" lang="en-US" sz="2800" spc="-1" strike="noStrike">
              <a:solidFill>
                <a:srgbClr val="ffffff"/>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HRQ MEDICAID and SCHIP Website and Repository</a:t>
            </a:r>
            <a:endParaRPr b="0" lang="en-US" sz="4000" spc="-1" strike="noStrike">
              <a:solidFill>
                <a:srgbClr val="ffffff"/>
              </a:solidFill>
              <a:latin typeface="Arial"/>
            </a:endParaRPr>
          </a:p>
        </p:txBody>
      </p:sp>
      <p:pic>
        <p:nvPicPr>
          <p:cNvPr id="204" name="" descr=""/>
          <p:cNvPicPr/>
          <p:nvPr/>
        </p:nvPicPr>
        <p:blipFill>
          <a:blip r:embed="rId1"/>
          <a:stretch/>
        </p:blipFill>
        <p:spPr>
          <a:xfrm>
            <a:off x="914400" y="1600200"/>
            <a:ext cx="3962520" cy="2971800"/>
          </a:xfrm>
          <a:prstGeom prst="rect">
            <a:avLst/>
          </a:prstGeom>
          <a:ln w="0">
            <a:noFill/>
          </a:ln>
        </p:spPr>
      </p:pic>
      <p:pic>
        <p:nvPicPr>
          <p:cNvPr id="205" name="" descr=""/>
          <p:cNvPicPr/>
          <p:nvPr/>
        </p:nvPicPr>
        <p:blipFill>
          <a:blip r:embed="rId2"/>
          <a:stretch/>
        </p:blipFill>
        <p:spPr>
          <a:xfrm>
            <a:off x="4114800" y="327672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Technical Assistance and Support Activities</a:t>
            </a:r>
            <a:endParaRPr b="0" lang="en-US" sz="3200" spc="-1" strike="noStrike">
              <a:solidFill>
                <a:srgbClr val="ffffff"/>
              </a:solidFill>
              <a:latin typeface="Arial"/>
            </a:endParaRPr>
          </a:p>
        </p:txBody>
      </p:sp>
      <p:sp>
        <p:nvSpPr>
          <p:cNvPr id="207" name="PlaceHolder 2"/>
          <p:cNvSpPr>
            <a:spLocks noGrp="1"/>
          </p:cNvSpPr>
          <p:nvPr>
            <p:ph/>
          </p:nvPr>
        </p:nvSpPr>
        <p:spPr>
          <a:xfrm>
            <a:off x="609120" y="1676520"/>
            <a:ext cx="7993080" cy="442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nned activitie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d peer-to-peer learning s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educational mee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ki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Brief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ed lessons lear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edicaid and SCHIP?</a:t>
            </a:r>
            <a:endParaRPr b="0" lang="en-US" sz="44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nd the State Children’s Health Insurance Program (SCHIP) serve the most medically and financially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st payer and insurer in the nation</a:t>
            </a:r>
            <a:endParaRPr b="0" lang="en-US" sz="3200" spc="-1" strike="noStrike">
              <a:solidFill>
                <a:srgbClr val="ffffff"/>
              </a:solidFill>
              <a:latin typeface="Arial"/>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luence the adoption of Health IT and HIE by providers that serve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ies face considerable challeng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Keep Informed</a:t>
            </a:r>
            <a:endParaRPr b="0" lang="en-US" sz="4400" spc="-1" strike="noStrike">
              <a:solidFill>
                <a:srgbClr val="ffffff"/>
              </a:solidFill>
              <a:latin typeface="Arial"/>
            </a:endParaRPr>
          </a:p>
        </p:txBody>
      </p:sp>
      <p:sp>
        <p:nvSpPr>
          <p:cNvPr id="209" name="PlaceHolder 2"/>
          <p:cNvSpPr>
            <a:spLocks noGrp="1"/>
          </p:cNvSpPr>
          <p:nvPr>
            <p:ph/>
          </p:nvPr>
        </p:nvSpPr>
        <p:spPr>
          <a:xfrm>
            <a:off x="609120" y="1676520"/>
            <a:ext cx="7993080" cy="42717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 the website often!</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2"/>
              </a:rPr>
              <a:t>http://healthit.ahrq.gov/Medicaid-SC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ideas and comments to:</a:t>
            </a:r>
            <a:endParaRPr b="0" lang="en-US" sz="24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rPr>
              <a:t>Medicaid-SCHIP-HIT@ahrq.hhs.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gister for the listserv so you can keep informed about project event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 E-mail message to: </a:t>
            </a:r>
            <a:r>
              <a:rPr b="0" lang="en-US" sz="1800" spc="-1" strike="noStrike" u="sng">
                <a:solidFill>
                  <a:srgbClr val="86d1ec"/>
                </a:solidFill>
                <a:uFillTx/>
                <a:latin typeface="Arial"/>
                <a:hlinkClick r:id="rId6"/>
              </a:rPr>
              <a:t>listserv@list.ahrq.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ubject line, type: </a:t>
            </a:r>
            <a:r>
              <a:rPr b="1" lang="en-US" sz="1800" spc="-1" strike="noStrike">
                <a:solidFill>
                  <a:srgbClr val="ffffff"/>
                </a:solidFill>
                <a:latin typeface="Arial"/>
              </a:rPr>
              <a:t>Subscrib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body of the message type: </a:t>
            </a:r>
            <a:r>
              <a:rPr b="1" lang="en-US" sz="1800" spc="-1" strike="noStrike">
                <a:solidFill>
                  <a:srgbClr val="ffffff"/>
                </a:solidFill>
                <a:latin typeface="Arial"/>
              </a:rPr>
              <a:t>sub Medicaid-SCHIP-HIT</a:t>
            </a:r>
            <a:r>
              <a:rPr b="0" lang="en-US" sz="1800" spc="-1" strike="noStrike">
                <a:solidFill>
                  <a:srgbClr val="ffffff"/>
                </a:solidFill>
                <a:latin typeface="Arial"/>
              </a:rPr>
              <a:t> and </a:t>
            </a:r>
            <a:r>
              <a:rPr b="1" lang="en-US" sz="1800" spc="-1" strike="noStrike">
                <a:solidFill>
                  <a:srgbClr val="ffffff"/>
                </a:solidFill>
                <a:latin typeface="Arial"/>
              </a:rPr>
              <a:t>your full nam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receive a message asking you to confirm your intent to sign up. You must respond to the message to complete your regist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23880"/>
            <a:ext cx="81532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ld@rti.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71680"/>
            <a:ext cx="8229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Purpose and Focus</a:t>
            </a:r>
            <a:endParaRPr b="0" lang="en-US" sz="3600" spc="-1" strike="noStrike">
              <a:solidFill>
                <a:srgbClr val="ffffff"/>
              </a:solidFill>
              <a:latin typeface="Arial"/>
            </a:endParaRPr>
          </a:p>
        </p:txBody>
      </p:sp>
      <p:sp>
        <p:nvSpPr>
          <p:cNvPr id="174"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343080" indent="-343080">
              <a:spcBef>
                <a:spcPts val="75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a:t>
            </a:r>
            <a:r>
              <a:rPr b="0" lang="en-US" sz="2400" spc="-1" strike="noStrike">
                <a:solidFill>
                  <a:srgbClr val="ffffff"/>
                </a:solidFill>
                <a:latin typeface="Arial"/>
              </a:rPr>
              <a:t>  To support Medicaid and SCHIP program efforts to identify and adopt effective health IT and to participate in electronic data exchange to improve the quality and safety of their programs for the people who rely on them.</a:t>
            </a:r>
            <a:endParaRPr b="0"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38"/>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a:t>
            </a:r>
            <a:r>
              <a:rPr b="0" lang="en-US" sz="2400" spc="-1" strike="noStrike">
                <a:solidFill>
                  <a:srgbClr val="ffffff"/>
                </a:solidFill>
                <a:latin typeface="Arial"/>
              </a:rPr>
              <a:t>  To develop a program of technical assistance that helps agencies to</a:t>
            </a:r>
            <a:r>
              <a:rPr b="1" lang="en-US" sz="2400" spc="-1" strike="noStrike">
                <a:solidFill>
                  <a:srgbClr val="ffffff"/>
                </a:solidFill>
                <a:latin typeface="Arial"/>
              </a:rPr>
              <a:t> </a:t>
            </a:r>
            <a:r>
              <a:rPr b="0" lang="en-US" sz="2400" spc="-1" strike="noStrike" u="sng">
                <a:solidFill>
                  <a:srgbClr val="ffffff"/>
                </a:solidFill>
                <a:uFillTx/>
                <a:latin typeface="Arial"/>
              </a:rPr>
              <a:t>identify and prioritize goals</a:t>
            </a:r>
            <a:r>
              <a:rPr b="0" lang="en-US" sz="2400" spc="-1" strike="noStrike">
                <a:solidFill>
                  <a:srgbClr val="ffffff"/>
                </a:solidFill>
                <a:latin typeface="Arial"/>
              </a:rPr>
              <a:t>, to</a:t>
            </a:r>
            <a:r>
              <a:rPr b="1" lang="en-US" sz="2400" spc="-1" strike="noStrike">
                <a:solidFill>
                  <a:srgbClr val="ffffff"/>
                </a:solidFill>
                <a:latin typeface="Arial"/>
              </a:rPr>
              <a:t> </a:t>
            </a:r>
            <a:r>
              <a:rPr b="0" lang="en-US" sz="2400" spc="-1" strike="noStrike" u="sng">
                <a:solidFill>
                  <a:srgbClr val="ffffff"/>
                </a:solidFill>
                <a:uFillTx/>
                <a:latin typeface="Arial"/>
              </a:rPr>
              <a:t>overcome barriers to adoption and implementation</a:t>
            </a:r>
            <a:r>
              <a:rPr b="0" lang="en-US" sz="2400" spc="-1" strike="noStrike">
                <a:solidFill>
                  <a:srgbClr val="ffffff"/>
                </a:solidFill>
                <a:latin typeface="Arial"/>
              </a:rPr>
              <a:t>, and to </a:t>
            </a:r>
            <a:r>
              <a:rPr b="0" lang="en-US" sz="2400" spc="-1" strike="noStrike" u="sng">
                <a:solidFill>
                  <a:srgbClr val="ffffff"/>
                </a:solidFill>
                <a:uFillTx/>
                <a:latin typeface="Arial"/>
              </a:rPr>
              <a:t>evaluate outcomes</a:t>
            </a:r>
            <a:r>
              <a:rPr b="0" lang="en-US" sz="24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of Project Activities</a:t>
            </a:r>
            <a:endParaRPr b="0" lang="en-US" sz="4000" spc="-1" strike="noStrike">
              <a:solidFill>
                <a:srgbClr val="ffffff"/>
              </a:solidFill>
              <a:latin typeface="Arial"/>
            </a:endParaRPr>
          </a:p>
        </p:txBody>
      </p:sp>
      <p:sp>
        <p:nvSpPr>
          <p:cNvPr id="17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Nationwide Needs Assessment </a:t>
            </a:r>
            <a:endParaRPr b="0" lang="en-US" sz="32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Program of Assistance</a:t>
            </a:r>
            <a:endParaRPr b="0" lang="en-US" sz="32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ed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pository of Resources specific to Medicaid and SCHIP</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ies of practice and opportunities for peer-to-peer learning </a:t>
            </a: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Status</a:t>
            </a:r>
            <a:endParaRPr b="0" lang="en-US" sz="4400" spc="-1" strike="noStrike">
              <a:solidFill>
                <a:srgbClr val="ffffff"/>
              </a:solidFill>
              <a:latin typeface="Arial"/>
            </a:endParaRPr>
          </a:p>
        </p:txBody>
      </p:sp>
      <p:sp>
        <p:nvSpPr>
          <p:cNvPr id="178" name="PlaceHolder 2"/>
          <p:cNvSpPr>
            <a:spLocks noGrp="1"/>
          </p:cNvSpPr>
          <p:nvPr>
            <p:ph/>
          </p:nvPr>
        </p:nvSpPr>
        <p:spPr>
          <a:xfrm>
            <a:off x="609120" y="1676160"/>
            <a:ext cx="7993080" cy="472428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d pilot needs assessment</a:t>
            </a:r>
            <a:endParaRPr b="0" lang="en-US" sz="3000" spc="-1" strike="noStrike">
              <a:solidFill>
                <a:srgbClr val="ffffff"/>
              </a:solidFill>
              <a:latin typeface="Arial"/>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wide needs assessment is going on now through mid-November.</a:t>
            </a:r>
            <a:endParaRPr b="0" lang="en-US" sz="3000" spc="-1" strike="noStrike">
              <a:solidFill>
                <a:srgbClr val="ffffff"/>
              </a:solidFill>
              <a:latin typeface="Arial"/>
            </a:endParaRPr>
          </a:p>
          <a:p>
            <a:pPr marL="343080" indent="-3430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lts will inform program plans for 2009</a:t>
            </a:r>
            <a:endParaRPr b="0" lang="en-US" sz="3000" spc="-1" strike="noStrike">
              <a:solidFill>
                <a:srgbClr val="ffffff"/>
              </a:solidFill>
              <a:latin typeface="Arial"/>
            </a:endParaRPr>
          </a:p>
          <a:p>
            <a:pPr marL="343080" indent="-343080">
              <a:lnSpc>
                <a:spcPct val="90000"/>
              </a:lnSpc>
              <a:spcBef>
                <a:spcPts val="726"/>
              </a:spcBef>
              <a:buSzPct val="1022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going program evaluation will inform program changes</a:t>
            </a:r>
            <a:endParaRPr b="0" lang="en-US" sz="2900" spc="-1" strike="noStrike">
              <a:solidFill>
                <a:srgbClr val="ffffff"/>
              </a:solidFill>
              <a:latin typeface="Arial"/>
            </a:endParaRPr>
          </a:p>
          <a:p>
            <a:pPr marL="343080" indent="-343080">
              <a:lnSpc>
                <a:spcPct val="90000"/>
              </a:lnSpc>
              <a:spcBef>
                <a:spcPts val="726"/>
              </a:spcBef>
              <a:buSzPct val="102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oducts, best practices and lessons learned will be disseminated following each event</a:t>
            </a:r>
            <a:endParaRPr b="0" lang="en-US" sz="2900" spc="-1" strike="noStrike">
              <a:solidFill>
                <a:srgbClr val="ffffff"/>
              </a:solidFill>
              <a:latin typeface="Arial"/>
            </a:endParaRPr>
          </a:p>
          <a:p>
            <a:pPr marL="343080" indent="-343080">
              <a:lnSpc>
                <a:spcPct val="90000"/>
              </a:lnSpc>
              <a:spcBef>
                <a:spcPts val="726"/>
              </a:spcBef>
              <a:buSzPct val="1022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ssessment will be done in year 2—June/July 2009</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0" name="PlaceHolder 2"/>
          <p:cNvSpPr>
            <a:spLocks noGrp="1"/>
          </p:cNvSpPr>
          <p:nvPr>
            <p:ph/>
          </p:nvPr>
        </p:nvSpPr>
        <p:spPr>
          <a:xfrm>
            <a:off x="533160" y="1447920"/>
            <a:ext cx="7993080" cy="4952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gencies particip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as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graphics, Size of Medicaid/SCHIP program, Medicaid/SCHIP affiliation, Extent of Health IT/HIE Activi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d question guide provided in adva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of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erson and web conf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fication of Health IT Projects</a:t>
            </a:r>
            <a:endParaRPr b="0" lang="en-US" sz="40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ies plans change frequently and several agencies had modified/updated their state’s health IT project plans in the past 12 month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st agencies, their MMIS/Medicaid Information Technology Architecture (MITA) was their main health IT projec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SCHIP participation is largely limited to a role within a statewide health IT project or within a project implemented by another ent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4" name="PlaceHolder 2"/>
          <p:cNvSpPr>
            <a:spLocks noGrp="1"/>
          </p:cNvSpPr>
          <p:nvPr>
            <p:ph/>
          </p:nvPr>
        </p:nvSpPr>
        <p:spPr>
          <a:xfrm>
            <a:off x="533520" y="1676520"/>
            <a:ext cx="806904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Find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Health IT projects are in early planning stag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formal evaluation components specific to Medicaid/SCHIP are limi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 was noted as the primary challenge to implementation.  Als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participation</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Issues</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ing between MMIS system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and Outcomes</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are to Medicaid popul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fficiency of business processes with providers.</a:t>
            </a:r>
            <a:endParaRPr b="0" lang="en-US" sz="18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pecific</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 drug-related adverse events, fraud, and abuse (e-Prescrib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more clinically related data available electronically to providers (electronic health records [EHRs] built from Medicaid’s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aggregate health information with provider at point of care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consumers access to their health information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ord providers better/more timely access to Medicaid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overall efficiency of administrative systems (MMIS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6:41:25Z</dcterms:created>
  <dc:creator>srizk</dc:creator>
  <dc:description/>
  <dc:language>en-US</dc:language>
  <cp:lastModifiedBy>rac</cp:lastModifiedBy>
  <dcterms:modified xsi:type="dcterms:W3CDTF">2008-09-08T20:26:50Z</dcterms:modified>
  <cp:revision>21</cp:revision>
  <dc:subject/>
  <dc:title>Slide 1</dc:title>
</cp:coreProperties>
</file>