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FB00-63B0-40A8-8D7F-AF3DA70BA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A: AHRQ has published POA rates for the Patient Safety Indicators based on data from California and New York PSI 1, 3, 5-8, 10-13, 15-20 PDI 1-3, 5, 9-10, 12-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ercentage of missing data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 dates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des: PSI 1,5, 15, 16, 21, 25, 26 PDI, 1, 3,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ortance: A quality indicator must reflect variation in quality or have low levels of overall performance. It should also incorporate a key leverage point and a significant opportunity for improv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 validity: A quality indicator must have sound clinical and or empirical rationale for its use. It should measure an important aspect of quality that is subject to provider or health care system control. Expert consensus of validi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ding or criterion validity: The cases identified by the quality indicator reflect actual cases of the concept of interest (e.g. outcome of interest). This includes evidence of coding accura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truct validity: The quality indicator should be supported by evidence of a relationship to quality, important processes of care and should be related to other indicators intended to measure the same or related aspects of qua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sk adjustment: The quality indicator is not subject to systematic bias due to case mix, or adequate risk adjustment can be applied using availabl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ortanc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all indicators had to have substantial evidence for importance and face validity, either from prior use, published literature or clinical panel review, all indicators were assumed to pass this criterion, unless additional evidence has suggested otherwis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gathered since the development of the indicator suggests that the indicator is not viewed as important in quality improvement efforts, or is viewed as having little leverage capabilit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e validit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all indicators had to have substantial evidence for importance and face validity, either from prior use, published literature or clinical panel review, all indicators were assumed to pass this criterion, unless additional evidence has suggested otherwis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gathered since the development of the indicator suggests that the indicator is not viewed as valid by a majority of clinicians or other stakehold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iterion validit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idence from published literature or otherwise available chart review indicating poor sensitivity or specificity of coding for the complication, or other coding problems that reduce the accuracy of the indicator.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idence regarding criterion validity from literature and chart review is highly contradictory.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indicators definitions differed from those used in studies, judgments regarding the impact of the differences was made, and preferences were given to studies using identical or the most similar definit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truct validit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available evidence establishes a clear link between processes of care and the outcome of interest.  Volume-outcome relationships, or simple structure-outcomes relationships (such as staffing) do not qualif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idence regarding construct validity from chart review or literature is highly contradictory.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indicators definitions differed from those used in studies, judgments regarding the impact of the differences was made, and preferences were given to studies using identical or the most similar defini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sk adjustment:</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idence documents important risk factors which cannot be identified using administrative data, unless those risk factors have been shown not to vary systematically by provider or geographic area.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 often mirror NQF endorsement; NQF process was one source of vetting the indicators. However, some do not mirror, especially when we did not include the indicators in our original NQF submiss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1: Minor or no evidence gaps. Indicators in this tier have the strongest evidence base, with established evidence in several or most evidentiary areas and no substantial evidence suggesting that the indicator may not be useful for comparative reporting purposes. These indicators have all been endorsed by the National Quality Forum. A subset of Tier 1, labeled Tier 1B are serious reportable events, most suitable for public accountability and root cause analysis, but for which comparisons between hospitals may not be usefu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2: Moderate evidence gaps. Indicators in this tier have some evidence supporting their use, but all have some evidence gaps. These gaps are not judged to be serious enough to preclude use in comparative reporting, but these indicators would be stronger if highlighted issues are better understood through future validation efforts.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3: Significant, but addressable, evidence gaps. Indicators in this tier have at least one serious evidentiary gap or concern, which requires further development or validation work before the indicator is considered appropriate for comparative reporting. The required improvements and validation efforts are specified and underway, and once completed these indicators will be re-tiered.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4: Significant evidence gaps. The indicators in this tier have substantial gaps in the evidence that are unlikely to be addressed with further development or validation work. These indicators are not recommended for comparative reporting, but rather, can be used for internal quality improvement.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1: Minor or no evidence gaps. Indicators in this tier have the strongest evidence base, with established evidence in several or most evidentiary areas and no substantial evidence suggesting that the indicator may not be useful for comparative reporting purposes. These indicators have all been endorsed by the National Quality Forum. A subset of Tier 1, labeled Tier 1B are serious reportable events, most suitable for public accountability and root cause analysis, but for which comparisons between hospitals may not be usefu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2: Moderate evidence gaps. Indicators in this tier have some evidence supporting their use, but all have some evidence gaps. These gaps are not judged to be serious enough to preclude use in comparative reporting, but these indicators would be stronger if highlighted issues are better understood through future validation efforts.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3: Significant, but addressable, evidence gaps. Indicators in this tier have at least one serious evidentiary gap or concern, which requires further development or validation work before the indicator is considered appropriate for comparative reporting. The required improvements and validation efforts are specified and underway, and once completed these indicators will be re-tiered.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4: Significant evidence gaps. The indicators in this tier have substantial gaps in the evidence that are unlikely to be addressed with further development or validation work. These indicators are not recommended for comparative reporting, but rather, can be used for internal quality improvement.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1: Minor or no evidence gaps. Indicators in this tier have the strongest evidence base, with established evidence in several or most evidentiary areas and no substantial evidence suggesting that the indicator may not be useful for comparative reporting purposes. These indicators have all been endorsed by the National Quality Forum. A subset of Tier 1, labeled Tier 1B are serious reportable events, most suitable for public accountability and root cause analysis, but for which comparisons between hospitals may not be usefu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2: Moderate evidence gaps. Indicators in this tier have some evidence supporting their use, but all have some evidence gaps. These gaps are not judged to be serious enough to preclude use in comparative reporting, but these indicators would be stronger if highlighted issues are better understood through future validation efforts.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3: Significant, but addressable, evidence gaps. Indicators in this tier have at least one serious evidentiary gap or concern, which requires further development or validation work before the indicator is considered appropriate for comparative reporting. The required improvements and validation efforts are specified and underway, and once completed these indicators will be re-tiered.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4: Significant evidence gaps. The indicators in this tier have substantial gaps in the evidence that are unlikely to be addressed with further development or validation work. These indicators are not recommended for comparative reporting, but rather, can be used for internal quality improvement.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1: Minor or no evidence gaps. Indicators in this tier have the strongest evidence base, with established evidence in several or most evidentiary areas and no substantial evidence suggesting that the indicator may not be useful for comparative reporting purposes. These indicators have all been endorsed by the National Quality Forum. A subset of Tier 1, labeled Tier 1B are serious reportable events, most suitable for public accountability and root cause analysis, but for which comparisons between hospitals may not be usefu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2: Moderate evidence gaps. Indicators in this tier have some evidence supporting their use, but all have some evidence gaps. These gaps are not judged to be serious enough to preclude use in comparative reporting, but these indicators would be stronger if highlighted issues are better understood through future validation efforts.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3: Significant, but addressable, evidence gaps. Indicators in this tier have at least one serious evidentiary gap or concern, which requires further development or validation work before the indicator is considered appropriate for comparative reporting. The required improvements and validation efforts are specified and underway, and once completed these indicators will be re-tiered.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er 4: Significant evidence gaps. The indicators in this tier have substantial gaps in the evidence that are unlikely to be addressed with further development or validation work. These indicators are not recommended for comparative reporting, but rather, can be used for internal quality improvement. These indicators are not currently endorsed by the National Quality Fo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CDA3D-C6CC-450F-90FE-67A166278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16F6A-1E2B-4C69-AA82-16AB422F7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4A2A0-9BCC-4130-9C8C-2B0B4DAB4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2BF50-8A8C-48D4-BA18-74470CD59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FEE52-20C9-429C-8246-2F7ED1FEA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91DD1-BACA-4B7E-A7D3-103DC00BD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3F762-BBF0-4C75-84C3-90FF313F9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C228C-6075-4D01-B9CD-6615FB94B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4FD64-6940-495D-A500-41C2CC642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81EBB-F4E2-4D4A-9038-5913D3EC5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C65BB-F5B5-49A5-8AF9-CD3542A41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0DA61-DD23-415F-AF07-D3FEF1DE54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45CE-4078-4F26-9DB8-2B9FB8C0C9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HRQ QI Guide to Comparative Report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RQ Annual Conference</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ember 10, 2008</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hesda, MD</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ed by Sheryl Dav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 1B Indicator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th in Low Mortality DRG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usion Reac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Body Left in During Procedur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D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usion Reac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Body Left in During Procedure</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QF endors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 2 Indicators</a:t>
            </a:r>
            <a:endParaRPr b="0" lang="en-US" sz="4400" spc="-1" strike="noStrike">
              <a:solidFill>
                <a:srgbClr val="000000"/>
              </a:solidFill>
              <a:latin typeface="Arial"/>
            </a:endParaRPr>
          </a:p>
        </p:txBody>
      </p:sp>
      <p:sp>
        <p:nvSpPr>
          <p:cNvPr id="69" name="PlaceHolder 2"/>
          <p:cNvSpPr>
            <a:spLocks noGrp="1"/>
          </p:cNvSpPr>
          <p:nvPr>
            <p:ph/>
          </p:nvPr>
        </p:nvSpPr>
        <p:spPr>
          <a:xfrm>
            <a:off x="60948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QI</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 Replacement Mortality (#14)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I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rogenic Pneumothorax in Neonat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Hemorrhage or Hematoma (#0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Respiratory Failure (#09)</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Sepsis (#10)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I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Hemorrhage or Hematoma (#09)</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Physiologic and Metabolic Derangement (#10)</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Respiratory Failure (#1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DVT or PE (#12)*</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Sepsis (#13)</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rth Trauma (#17)*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QF endors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 3 Indicator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QI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G Mortality (#1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niotomy Mortality (#13)</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 Hemorrhage Mortality (#18)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DIs/NQI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 Acquired Vascular Catheter Related Infections (#12)</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natal Mortality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I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ubitus Ulcer (#03)</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 Acquired Vascular Catheter Related Infections (#07)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 4 Indicator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QIs</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G Volume (#05)</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TCA Volume (#06)</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otid Endarterectomy Volume (#07)</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sarean Delivery (#21 and #33)</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BAC Delivery (#22 and #34)</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paroscopic Cholecystectomy (#23)</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TCA Mortality (#30)</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otid Endarterectomy Mortality (#31) </a:t>
            </a: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Is</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cations of Anesthesia (#01)</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 Trauma-Cesarean Delivery (#2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ying Guidance to your Own Report</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ance document is </a:t>
            </a:r>
            <a:r>
              <a:rPr b="0" lang="en-US" sz="3200" spc="-1" strike="noStrike" u="sng">
                <a:solidFill>
                  <a:srgbClr val="000000"/>
                </a:solidFill>
                <a:uFillTx/>
                <a:latin typeface="Arial"/>
              </a:rPr>
              <a:t>a source of information</a:t>
            </a:r>
            <a:r>
              <a:rPr b="0" lang="en-US" sz="3200" spc="-1" strike="noStrike">
                <a:solidFill>
                  <a:srgbClr val="000000"/>
                </a:solidFill>
                <a:latin typeface="Arial"/>
              </a:rPr>
              <a:t>, users need to weigh their own situation to select indic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HRQ QI Reporting Templ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your purpo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r 2 indicators may be more useful for some purposes than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ying Guidance to Your Own Support: Data</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your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data check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s and variation in PO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 dates, Elective vs. Non-elective, E-cod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ospitals Like Mine” Tool – HCUPnet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RQ Tools</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record review</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hospitals</a:t>
            </a:r>
            <a:endParaRPr b="0" lang="en-US" sz="20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of documen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tool to select indicat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cators assigned to four tiers based on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s assessed for the following area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 Valid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ing/Criterion Valid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djus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of Evidenc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eratu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A, coding validity, preventability, correlation with cost, LOS or other indicators, impact of QI program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HRQ Validation Activi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 review of coding valid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Panel Review</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Quality Forum revie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ation of potential improv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r 1: Minor or no evidence ga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B Serious reportable event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uitable for comparative reporting/public account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est evidence b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d evidence in several are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ubstantial evidence against use for comparative repor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endorsed by the National Quality Forum</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r 2: Moderate evidence gap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may choose to utilize these indicators for comparative repor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upporting evidence for u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minor evidence gap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or would be stronger with some additional evide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not currently endorsed by the National Quality For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r 3: Significant, but addressable, evidence gap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currently suitable for comparative reporting, pending further develo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least one serious evidence gap or concer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development and validation work has been identifi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further work is completed, indicators will be re-assigned to another ti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ors not currently endorsed by NQ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r 4: Significant evidence gap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tial gaps in evidence for </a:t>
            </a:r>
            <a:r>
              <a:rPr b="0" lang="en-US" sz="2800" spc="-1" strike="noStrike" u="sng">
                <a:solidFill>
                  <a:srgbClr val="000000"/>
                </a:solidFill>
                <a:uFillTx/>
                <a:latin typeface="Arial"/>
              </a:rPr>
              <a:t>use in comparative repor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ps unlikely to be addressed with further development or valid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recommended for </a:t>
            </a:r>
            <a:r>
              <a:rPr b="0" lang="en-US" sz="2800" spc="-1" strike="noStrike" u="sng">
                <a:solidFill>
                  <a:srgbClr val="000000"/>
                </a:solidFill>
                <a:uFillTx/>
                <a:latin typeface="Arial"/>
              </a:rPr>
              <a:t>comparative repor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ors are not currently endorsed by NGF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 1 Indicator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Q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ophageal Resection Volume (#01)*</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creatic Resection Volume (#0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dominal Aortic Aneurysm (AAA) Repair Volume (#04)*</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ophageal Resection Mortality (#08)*</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creatic Resection Mortality (#09)*</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dominal Aortic Aneurysm (AAA) Repair Mortality (#11)*</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I Mortality (#15 and #3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F Mortality (#16)*</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ute Stroke Mortality (#17)*</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p Fracture Mortality (#19)*</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eumonia Mortality (#20)*</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idental Appendectomy in the Elderly (#24)*</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Catheterization (#25)*</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QF endors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 1 Indicator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I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al Puncture or Laceration (#0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ubitus Ulcer (#02)*</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rogenic Pneumothorax (#05)*</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diatric Heart Surgery Mortality (#06)*</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diatric Heart Surgery Volume (#07)*</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Wound Dehiscence (#11)*</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Stream Infection in Neonates (#02)*</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I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th among Surgical Inpatients with Treatable Serious Complications (#04)*</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rogenic Pneumothorax (#06)*</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Hip Fracture (#0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operative Wound Dehiscence (#14)*</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al Puncture or Laceration (#15)*</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 Trauma with and without Instrument (#18 and #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8T22:17:52Z</dcterms:created>
  <dc:creator>davies</dc:creator>
  <dc:description/>
  <dc:language>en-US</dc:language>
  <cp:lastModifiedBy>davies</cp:lastModifiedBy>
  <dcterms:modified xsi:type="dcterms:W3CDTF">2008-08-29T20:47:55Z</dcterms:modified>
  <cp:revision>19</cp:revision>
  <dc:subject/>
  <dc:title>AHRQ QI Guide to Comparative Reporting</dc:title>
</cp:coreProperties>
</file>