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-360" y="-4603680"/>
            <a:ext cx="360" cy="1059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52B-3044-4C19-83DF-155D8B2E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672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3800"/>
            <a:ext cx="768672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5C2-5385-4572-BAFF-ACBC8BB8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684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8ED-6E07-4578-B3FD-05B21229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7280" y="236196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6480" y="236196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380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7280" y="430380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6480" y="430380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57A-D7DF-4A7B-826B-BF56B4CB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5C09-D804-4AB7-9E2B-7C59A181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8672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EA28-BF10-4451-BF54-35304560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672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A723-85FA-468E-A872-880F7374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B08A-8B75-4C82-BAD3-ED980002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7F5C-D2B9-4EBC-9928-B948BECD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42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3A33-F7AE-4E12-9669-39A1E496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3BBE-83AB-4D02-ADB7-6B54A137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8672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3A5-615A-46FA-BE6F-4F142FD9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684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A370-F795-4010-9C15-E1F0D4D4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3800"/>
            <a:ext cx="768672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48C7-08A3-4319-8A13-5EC716D5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672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3800"/>
            <a:ext cx="768672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BD08-57A5-4819-8ABF-C12615A8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684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55A2-7251-4B81-AAC9-B2449D40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7280" y="236196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6480" y="236196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380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7280" y="430380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6480" y="430380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3DBB-C5C8-45E8-A6F4-0ECAD4FC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672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778-4E79-416D-AB24-051D0AAB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721-3AD1-466E-A6C0-0DB644F4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C3F-5200-49A5-A219-46888B10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42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2B3-8133-4EA8-B6B7-6DA64AA4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78B-3F59-421A-A142-3A55A914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684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4EE-376D-4798-A377-C10A1494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3800"/>
            <a:ext cx="768672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F31-A414-43EA-9077-7517F6AA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7960" cy="6856560"/>
            <a:chOff x="0" y="0"/>
            <a:chExt cx="76179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600" cy="6856560"/>
              <a:chOff x="0" y="0"/>
              <a:chExt cx="319860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176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6840" y="0"/>
                <a:ext cx="2741760" cy="116640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89720" cy="317520"/>
              <a:chOff x="228240" y="1981080"/>
              <a:chExt cx="738972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120" y="1981080"/>
                <a:ext cx="7008840" cy="3157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34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8672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160"/>
            <a:ext cx="2124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1320" y="6248160"/>
            <a:ext cx="2890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35200"/>
            <a:ext cx="5810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293A2-238F-4C0C-AB37-C280F0AA6B57}" type="slidenum">
              <a:rPr b="1" lang="en-GB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5480" cy="6856560"/>
            <a:chOff x="0" y="0"/>
            <a:chExt cx="586548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440" y="990360"/>
              <a:ext cx="5180040" cy="1904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5120" cy="317520"/>
            <a:chOff x="3632040" y="4889520"/>
            <a:chExt cx="4875120" cy="3175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4560" cy="3160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7240" y="4889520"/>
              <a:ext cx="25992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24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1320" y="6248160"/>
            <a:ext cx="2890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42040"/>
            <a:ext cx="5810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88D67-2DDE-44C6-9853-3540ACF40E2C}" type="slidenum">
              <a:rPr b="1" lang="en-GB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70080"/>
            <a:ext cx="76662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qualityforum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09720"/>
            <a:ext cx="822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uidelines for Consumer-focused Public Reporting</a:t>
            </a:r>
            <a:br>
              <a:rPr sz="2400"/>
            </a:b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800240" y="2927520"/>
            <a:ext cx="38862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AHRQ QI Users Meeting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Carol Cronin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Informed Patient Institut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September 10, 2008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Goals of Consumer-focused Public Reporting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5000" y="230976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 consumer motivation to use public reports by making reports more understandable and relevan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objective, unbiased, actionable and evaluable performance information to the public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rove quality of care provided across the industry; 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imulate further evolution of the quality and comparability of public reporting at the organization, state and national leve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uidance for Consumer-focused Public Reporting - Overview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P identified guidelines for public reporting in 7 are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so included Implementation Considerations that amplify the guidel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ssed AHRQ Model Reports against guidel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s AHRQ Model reports in Append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Guideline 1: Purpose of Web-based Repor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the purpose of the web-based report, its intended main consumer audience(s), and how the report will be made known to the audie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ture and purp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o is the audience? What are their info need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o are secondary audiences and how will their unique needs be addres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Guideline 2: Process of Developing the Web-based Repor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 the web-based report using a transparent process that involves consumers and other relevant stakehold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keholders include: sponsors, consumers, organizations being measu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ablish governance/decision making r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portunity for those being measured to preview and correct err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umer usability testing before, during, af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3400" y="846000"/>
            <a:ext cx="778032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3:Introduce concept of qual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5000" y="2308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the beginning of the report, set the stage by communicating what quality is, how quality varies and how making quality comparisons can be of value to consum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ain that quality varies within and across org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consistent, simple and familiar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4: Meaningful Meas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sure that measures included are meaningful to consumers, transparent, and meet widely accepted, rigorous criteria including importance, scientifically acceptable, feasible and us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evant to consum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monstrate var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information that reflects overall qu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5: Data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and explain data clearly and objectively in ways that help consumers understand and use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should be evalu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stent reporting (low or high scores better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stories to illustrate mea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 users to see what they w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82360"/>
            <a:ext cx="778032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5: Data Presentation (cont.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5000" y="251460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presenting comparative quality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ools such as rank ordering, symbols that help user quickly discern 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e benchmarks if pos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risk-adjusted rates into categories using words such as “better”, “averag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bel indicators in everyday langua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mit use of statistics that are difficult for consumers to underst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3400" y="846000"/>
            <a:ext cx="778032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5: Data Presentation (cont.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 presenting information from composite measures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port all measures that comprise the composi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 providing contextual/decision support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vide clear contextual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vide clear explanation for missing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sumer 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 reasonably current data and display dates cove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 presenting technical documentation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clude detailed measure definitions, specs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vide details about the methodolog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6: Report Usabil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sure that design and navigation features enhance report usabili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e information to let users make cho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engaging format/easy navig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y to sk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y to pri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 with aud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3400" y="739800"/>
            <a:ext cx="77803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4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ional Quality Forum Public Reporting Technical Advisory Panel (TAP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4000"/>
              </a:lnSpc>
              <a:spcBef>
                <a:spcPts val="700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4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 of NQF Steering Committee (SC)  - Hospital Care 2007 projec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4000"/>
              </a:lnSpc>
              <a:spcBef>
                <a:spcPts val="700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4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HRQ-fun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3400" y="846000"/>
            <a:ext cx="778032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7: Regularly Review and Improve Repor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gularly review and assess reports to ensure their effectiveness and currenc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 use and impa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olve stakeholders in revi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learnings to drive improvement and usefulness of performance measures and public reporting fiel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earch Recommend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act of public repor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 of public repor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ntended consequ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ing issues related to cultural and linguistic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ect of public reporting on quality impro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 Stat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5000" y="2285640"/>
            <a:ext cx="769320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blic comment period: June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al NQF member voting: Aug.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SAC/Board consideration: Sept.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blicly available: Late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more informatio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7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National Quality Forum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qualityforum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uidelines for Consumer-focused Public Reporting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HRQ Model Repor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nd request to: support@qualityindicators.ahrq.g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alking Quality: www.talkingquality.go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 Char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5000" y="2430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mmend a web-based approach for public reporting of acute hospital quality data that can be used, at minimum, to report the AHRQ Quality Indicators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ope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es on reporting healthcare quality data from acute care hospitals in a web-based format; though generalizable to other types of sett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nded primarily for use by sponsors of consumer-focused sites to enable reports that support consumer understanding and participation in care dec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AP Member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ir: Carol Cronin – Informed Patient Institute- Annapolis, M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atherine Brown- Hospital Quality Alliance, Washington, D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san Dragoo, INTEGRIS Health, Oklahoma City, O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udy Hibbard, University of Oregon, Eugene, 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rt Levin, Center for Medical Consumers, New York, N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nise Love, National Assoc. of Health Data Orgs., Salt Lake City, U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eanne McGee, Mcgee &amp; Evers Consulting, Vancouver, W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irdre Mylod, Press Ganey Assoc., Inc., South Bend,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mesh Sachdeva, Children's Hospital and Health System, Milwaukee, W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ibeth Shannon, California HealthCare Foundation, Oakland, 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ruce Spurlock, CA Hospital Assesment &amp; Reporting Taskforce, Roseville, 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ject Staff: Melinda Murhpy – NQF Consulta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erature re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of existing web-based resources-Talkingquality.gov, Usability.go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 interviews with researchers, report spons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erative develop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HRQ Model Repo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ed to report comparative hospital Q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by researchers including Shoshanna Sofaer – Baruch Colle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d testing with consum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resulting model repor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alth Topics – individual QI indicators grouped into catego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osites – QI compo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 Sponsor Challeng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ing what constitutes a useful re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uring reports support consumer understanding of quality and healthcare cho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veying information that provides the right amount of information at the right time in a way that resonates with target audi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stomization of results to the aud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3400" y="846000"/>
            <a:ext cx="778032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 Princ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5000" y="2482920"/>
            <a:ext cx="76932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blic and other stakeholders have right to access objective measures of quality provided by organizations in/from which they receive care, deliver care, purchase care, or provide funding/regulation and to receive the information in an understandable forma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of the public reporting guidance can/should provide incentives for quality improvemen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formation should be displayed for an array of common, cross-cutting conditions, all ages and be available across organizational settings/service lines and over tim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wareness and understanding of inherent values and biases is important to responsible report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cambridge</cp:lastModifiedBy>
  <dcterms:modified xsi:type="dcterms:W3CDTF">2008-10-17T13:14:20Z</dcterms:modified>
  <cp:revision>1</cp:revision>
  <dc:subject/>
  <dc:title>Slide 1</dc:title>
</cp:coreProperties>
</file>