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-360" y="-4603680"/>
            <a:ext cx="360" cy="1059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6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A39F-0077-4E9B-A507-64453E29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672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3800"/>
            <a:ext cx="768672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BB6-145C-44B9-8A8C-703A2CD0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380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6840" y="430380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2E3-94DD-4F33-9EF1-D12452C7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7280" y="236196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6480" y="236196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380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7280" y="430380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6480" y="430380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4DF-C9AF-4EBC-8F76-DEF3CD0C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5A73-0EA5-4692-A0C4-58E71E59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8672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D35F-D232-4BDE-92B7-21F33017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672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2AF6-9A69-4BCD-B39E-B41C822B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8536-5502-445F-AEE6-707B852B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C07E-FF02-4FD9-8724-13FFB2BF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42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7E6F-3615-48BA-92F3-B1328E50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380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047DC-7EDD-4891-8215-BB61D167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8672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0D5-E548-4B11-94F4-1F09641B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6840" y="430380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88A4-68BA-4465-A7CF-542780FF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3800"/>
            <a:ext cx="768672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2FF3-B899-4DFA-AD5F-14206930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672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3800"/>
            <a:ext cx="768672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B5F5-0862-4B44-BAAC-934C38C8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380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6840" y="430380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1E9F-C1BB-470F-B76D-F39FF4B9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7280" y="236196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6480" y="236196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380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7280" y="430380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6480" y="4303800"/>
            <a:ext cx="247500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A87F-4207-447A-A66D-21FA1E70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8672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26D-F48B-49D7-AC23-3830B8EA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12A-51DF-4AEF-9739-6A74172B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84F-B213-4AB3-A120-2C3AF06D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42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6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EED-4020-4CEC-836E-38F2EB9C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380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9F6-2FE7-4F40-BF51-60CDD564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6840" y="430380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FCE-86FD-467B-91A2-070EE52F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6840" y="2361960"/>
            <a:ext cx="375084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3800"/>
            <a:ext cx="768672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961-D9CE-4138-881D-4424C514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17960" cy="6856560"/>
            <a:chOff x="0" y="0"/>
            <a:chExt cx="76179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198600" cy="6856560"/>
              <a:chOff x="0" y="0"/>
              <a:chExt cx="319860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176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6840" y="0"/>
                <a:ext cx="2741760" cy="116640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240" y="1981080"/>
              <a:ext cx="7389720" cy="317520"/>
              <a:chOff x="228240" y="1981080"/>
              <a:chExt cx="7389720" cy="317520"/>
            </a:xfrm>
          </p:grpSpPr>
          <p:sp>
            <p:nvSpPr>
              <p:cNvPr id="5" name=""/>
              <p:cNvSpPr/>
              <p:nvPr/>
            </p:nvSpPr>
            <p:spPr>
              <a:xfrm>
                <a:off x="609120" y="1981080"/>
                <a:ext cx="7008840" cy="3157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7880" y="1981080"/>
                <a:ext cx="3934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4200" cy="9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8672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160"/>
            <a:ext cx="2124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1320" y="6248160"/>
            <a:ext cx="2890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35200"/>
            <a:ext cx="5810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0A96C-9652-4085-AF96-C525C502651D}" type="slidenum">
              <a:rPr b="1" lang="en-GB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5480" cy="6856560"/>
            <a:chOff x="0" y="0"/>
            <a:chExt cx="5865480" cy="685656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440" y="990360"/>
              <a:ext cx="5180040" cy="1904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5120" cy="317520"/>
            <a:chOff x="3632040" y="4889520"/>
            <a:chExt cx="4875120" cy="31752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4560" cy="3160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7240" y="4889520"/>
              <a:ext cx="25992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160"/>
            <a:ext cx="212436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1320" y="6248160"/>
            <a:ext cx="2890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42040"/>
            <a:ext cx="5810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BF16CD-F49E-4A92-AEFE-E2AC7E698D5D}" type="slidenum">
              <a:rPr b="1" lang="en-GB" sz="26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70080"/>
            <a:ext cx="76662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76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76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qualityforum.or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09720"/>
            <a:ext cx="82296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uidelines for Consumer-focused Public Reporting</a:t>
            </a:r>
            <a:br>
              <a:rPr sz="2400"/>
            </a:b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800240" y="2927520"/>
            <a:ext cx="38862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AHRQ QI Users Meeting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Carol Cronin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Informed Patient Institut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September 10, 2008</a:t>
            </a:r>
            <a:br>
              <a:rPr sz="1800"/>
            </a:b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Goals of Consumer-focused Public Reporting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5000" y="230976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 consumer motivation to use public reports by making reports more understandable and relevan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objective, unbiased, actionable and evaluable performance information to the public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mprove quality of care provided across the industry; 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imulate further evolution of the quality and comparability of public reporting at the organization, state and national leve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uidance for Consumer-focused Public Reporting - Overview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P identified guidelines for public reporting in 7 are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so included Implementation Considerations that amplify the guidel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essed AHRQ Model Reports against guidel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s AHRQ Model reports in Appendi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Guideline 1: Purpose of Web-based Repor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the purpose of the web-based report, its intended main consumer audience(s), and how the report will be made known to the audien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ture and purp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o is the audience? What are their info need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o are secondary audiences and how will their unique needs be addres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Guideline 2: Process of Developing the Web-based Repor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 the web-based report using a transparent process that involves consumers and other relevant stakehold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keholders include: sponsors, consumers, organizations being measu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tablish governance/decision making ru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portunity for those being measured to preview and correct err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umer usability testing before, during, af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3400" y="846000"/>
            <a:ext cx="778032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deline 3:Introduce concept of qual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5000" y="2308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the beginning of the report, set the stage by communicating what quality is, how quality varies and how making quality comparisons can be of value to consum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ain that quality varies within and across org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consistent, simple and familiar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deline 4: Meaningful Measu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sure that measures included are meaningful to consumers, transparent, and meet widely accepted, rigorous criteria including importance, scientifically acceptable, feasible and us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levant to consum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monstrate var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information that reflects overall qu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deline 5: Data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and explain data clearly and objectively in ways that help consumers understand and use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should be evalu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istent reporting (low or high scores better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stories to illustrate mea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 users to see what they w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82360"/>
            <a:ext cx="7780320" cy="9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deline 5: Data Presentation (cont.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5000" y="251460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presenting comparative quality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ools such as rank ordering, symbols that help user quickly discern perform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de benchmarks if poss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risk-adjusted rates into categories using words such as “better”, “averag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bel indicators in everyday langua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mit use of statistics that are difficult for consumers to underst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3400" y="846000"/>
            <a:ext cx="778032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deline 5: Data Presentation (cont.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 presenting information from composite measures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port all measures that comprise the composi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 providing contextual/decision support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vide clear contextual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vide clear explanation for missing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sumer 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 reasonably current data and display dates cove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In presenting technical documentation: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clude detailed measure definitions, specs 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ovide details about the methodolog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deline 6: Report Usabil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sure that design and navigation features enhance report usabili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ganize information to let users make cho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engaging format/easy navig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sy to ski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asy to pri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 with aud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3400" y="739800"/>
            <a:ext cx="778032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ground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84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ional Quality Forum Public Reporting Technical Advisory Panel (TAP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4000"/>
              </a:lnSpc>
              <a:spcBef>
                <a:spcPts val="700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4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 of NQF Steering Committee (SC)  - Hospital Care 2007 projec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4000"/>
              </a:lnSpc>
              <a:spcBef>
                <a:spcPts val="700"/>
              </a:spcBef>
              <a:tabLst>
                <a:tab algn="l" pos="0"/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4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6600"/>
                <a:tab algn="l" pos="793800"/>
                <a:tab algn="l" pos="1251000"/>
                <a:tab algn="l" pos="1708200"/>
                <a:tab algn="l" pos="2165400"/>
                <a:tab algn="l" pos="2622600"/>
                <a:tab algn="l" pos="3079800"/>
                <a:tab algn="l" pos="3537000"/>
                <a:tab algn="l" pos="3994200"/>
                <a:tab algn="l" pos="4451400"/>
                <a:tab algn="l" pos="4908600"/>
                <a:tab algn="l" pos="5365800"/>
                <a:tab algn="l" pos="5823000"/>
                <a:tab algn="l" pos="6280200"/>
                <a:tab algn="l" pos="6737400"/>
                <a:tab algn="l" pos="7194600"/>
                <a:tab algn="l" pos="7651800"/>
                <a:tab algn="l" pos="8109000"/>
                <a:tab algn="l" pos="8566200"/>
                <a:tab algn="l" pos="9023400"/>
                <a:tab algn="l" pos="9480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HRQ-fund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3400" y="846000"/>
            <a:ext cx="778032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deline 7: Regularly Review and Improve Repor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gularly review and assess reports to ensure their effectiveness and currenc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 use and impa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olve stakeholders in revi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learnings to drive improvement and usefulness of performance measures and public reporting fiel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earch Recommend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act of public repor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tent of public repor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ntended consequ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ing issues related to cultural and linguistic 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ffect of public reporting on quality improv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ject Stat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5000" y="2285640"/>
            <a:ext cx="7693200" cy="37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blic comment period: June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al NQF member voting: Aug.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SAC/Board consideration: Sept.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blicly available: Late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 more informatio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7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National Quality Forum: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qualityforum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1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uidelines for Consumer-focused Public Reporting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HRQ Model Repor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76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Send request to: support@qualityindicators.ahrq.go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alking Quality: www.talkingquality.go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 Char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5000" y="2430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0" algn="ctr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mmend a web-based approach for public reporting of acute hospital quality data that can be used, at minimum, to report the AHRQ Quality Indicators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ope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cuses on reporting healthcare quality data from acute care hospitals in a web-based format; though generalizable to other types of sett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nded primarily for use by sponsors of consumer-focused sites to enable reports that support consumer understanding and participation in care deci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AP Member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hair: Carol Cronin – Informed Patient Institute- Annapolis, M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atherine Brown- Hospital Quality Alliance, Washington, D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san Dragoo, INTEGRIS Health, Oklahoma City, O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udy Hibbard, University of Oregon, Eugene, 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rt Levin, Center for Medical Consumers, New York, N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nise Love, National Assoc. of Health Data Orgs., Salt Lake City, U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Jeanne McGee, Mcgee &amp; Evers Consulting, Vancouver, W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irdre Mylod, Press Ganey Assoc., Inc., South Bend, 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amesh Sachdeva, Children's Hospital and Health System, Milwaukee, W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ribeth Shannon, California HealthCare Foundation, Oakland, 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ruce Spurlock, CA Hospital Assesment &amp; Reporting Taskforce, Roseville, 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75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ject Staff: Melinda Murhpy – NQF Consulta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terature revie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view of existing web-based resources-Talkingquality.gov, Usability.go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d interviews with researchers, report spons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93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terative develop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HRQ Model Repo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gned to report comparative hospital Q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by researchers including Shoshanna Sofaer – Baruch Colle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d testing with consum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o resulting model report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alth Topics – individual QI indicators grouped into categor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6560" indent="-279360">
              <a:lnSpc>
                <a:spcPct val="87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osites – QI composi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3400" y="879120"/>
            <a:ext cx="778032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ort Sponsor Challeng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ing what constitutes a useful re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uring reports support consumer understanding of quality and healthcare cho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veying information that provides the right amount of information at the right time in a way that resonates with target audi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stomization of results to the aud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3400" y="846000"/>
            <a:ext cx="778032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P Princip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5000" y="2482920"/>
            <a:ext cx="769320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blic and other stakeholders have right to access objective measures of quality provided by organizations in/from which they receive care, deliver care, purchase care, or provide funding/regulation and to receive the information in an understandable forma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of the public reporting guidance can/should provide incentives for quality improvemen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formation should be displayed for an array of common, cross-cutting conditions, all ages and be available across organizational settings/service lines and over tim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6600" indent="-336600">
              <a:lnSpc>
                <a:spcPct val="87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wareness and understanding of inherent values and biases is important to responsible report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cambridge</cp:lastModifiedBy>
  <dcterms:modified xsi:type="dcterms:W3CDTF">2008-10-17T13:14:20Z</dcterms:modified>
  <cp:revision>1</cp:revision>
  <dc:subject/>
  <dc:title>Slide 1</dc:title>
</cp:coreProperties>
</file>