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32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png" ContentType="image/png"/>
  <Override PartName="/ppt/media/image34.png" ContentType="image/png"/>
  <Override PartName="/ppt/media/image4.png" ContentType="image/png"/>
  <Override PartName="/ppt/media/image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4BFE-16A6-4D34-BF6D-5EE2AD27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bladder HVH discharges from 67% in 1988-92 to 70% in 1998-02 (p&lt;.0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renal cancer surgical discharges from 67% to 73% at HVH from 1988-92 to 1998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increase in prostate HVH surgical discharges from 76.1% to 76.5% (p=.02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prosate HVH non-surgical discharges from 71% to 69% (p&lt;.0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increase in surgical but not non-surgical discharges from HVH in the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slight increases in both surgical and non-surgical discharges from HVH in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slight decreases in both surgical and non-surgical discharges from HVH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slight decrease in surgical discharges, flat non-surgical discharges from HVH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der cancer: 26K surgical discharges at 1764 hospitals; HVH threshold &gt;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4K non-surgical discharges at 2645 hospitals; HVH threshold &gt;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cancer: 64K surgical discharges at 2182 hospitals, HVH threshold &gt;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K non-surgical discharges at 2288 hospitals, HVH threshold &gt;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tate cancer: 178K surgical discharges at 2065 hospitals, HVH threshold &gt;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6K non-surgical discharges at 2775 hospitals, HVH threshold &gt;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9016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8972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29060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9016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8972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3840" y="442440"/>
            <a:ext cx="7686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9016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8972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060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89016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8972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93840" y="442440"/>
            <a:ext cx="7686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6480" y="6594480"/>
            <a:ext cx="9026640" cy="263520"/>
          </a:xfrm>
          <a:prstGeom prst="rect">
            <a:avLst/>
          </a:prstGeom>
          <a:gradFill rotWithShape="0">
            <a:gsLst>
              <a:gs pos="0">
                <a:srgbClr val="dbe2e2"/>
              </a:gs>
              <a:gs pos="100000">
                <a:srgbClr val="aebec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550"/>
              </a:spcBef>
              <a:spcAft>
                <a:spcPts val="55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spcBef>
                <a:spcPts val="550"/>
              </a:spcBef>
              <a:spcAft>
                <a:spcPts val="550"/>
              </a:spcAft>
              <a:buClr>
                <a:srgbClr val="88bbb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spcAft>
                <a:spcPts val="550"/>
              </a:spcAft>
              <a:buClr>
                <a:srgbClr val="88bb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01960" indent="-173160">
              <a:spcBef>
                <a:spcPts val="550"/>
              </a:spcBef>
              <a:spcAft>
                <a:spcPts val="550"/>
              </a:spcAft>
              <a:buClr>
                <a:srgbClr val="bbbbaa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01960" indent="-173160">
              <a:spcBef>
                <a:spcPts val="550"/>
              </a:spcBef>
              <a:spcAft>
                <a:spcPts val="550"/>
              </a:spcAft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01960" indent="-173160">
              <a:spcBef>
                <a:spcPts val="550"/>
              </a:spcBef>
              <a:spcAft>
                <a:spcPts val="550"/>
              </a:spcAft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016920" y="0"/>
            <a:ext cx="127080" cy="6858000"/>
          </a:xfrm>
          <a:prstGeom prst="rect">
            <a:avLst/>
          </a:prstGeom>
          <a:solidFill>
            <a:srgbClr val="679d9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0" y="355680"/>
            <a:ext cx="7791480" cy="6235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016920" cy="366840"/>
          </a:xfrm>
          <a:prstGeom prst="rect">
            <a:avLst/>
          </a:prstGeom>
          <a:gradFill rotWithShape="0">
            <a:gsLst>
              <a:gs pos="0">
                <a:srgbClr val="aabec0"/>
              </a:gs>
              <a:gs pos="100000">
                <a:srgbClr val="d9e2e2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4680" y="0"/>
            <a:ext cx="9148680" cy="6858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1193760" y="582480"/>
            <a:ext cx="42840" cy="747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0" y="455760"/>
            <a:ext cx="1230480" cy="8650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368280"/>
            <a:ext cx="1220760" cy="6222960"/>
          </a:xfrm>
          <a:prstGeom prst="rect">
            <a:avLst/>
          </a:prstGeom>
          <a:solidFill>
            <a:srgbClr val="679d9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219320" y="1270080"/>
            <a:ext cx="7797600" cy="0"/>
          </a:xfrm>
          <a:prstGeom prst="line">
            <a:avLst/>
          </a:prstGeom>
          <a:ln w="9360">
            <a:solidFill>
              <a:srgbClr val="640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9360" y="380880"/>
            <a:ext cx="1269720" cy="768960"/>
            <a:chOff x="9360" y="380880"/>
            <a:chExt cx="1269720" cy="768960"/>
          </a:xfrm>
        </p:grpSpPr>
        <p:sp>
          <p:nvSpPr>
            <p:cNvPr id="15" name=""/>
            <p:cNvSpPr/>
            <p:nvPr/>
          </p:nvSpPr>
          <p:spPr>
            <a:xfrm>
              <a:off x="9360" y="380880"/>
              <a:ext cx="4446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9240" y="380880"/>
              <a:ext cx="4442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4120" y="488880"/>
              <a:ext cx="4446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3120" y="493560"/>
              <a:ext cx="4446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33360" y="873000"/>
              <a:ext cx="945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University of California</a:t>
              </a:r>
              <a:endParaRPr b="0" lang="en-US" sz="600" spc="-1" strike="noStrike">
                <a:solidFill>
                  <a:srgbClr val="0d6072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an Francisco</a:t>
              </a:r>
              <a:endParaRPr b="0" lang="en-US" sz="600" spc="-1" strike="noStrike">
                <a:solidFill>
                  <a:srgbClr val="0d6072"/>
                </a:solidFill>
                <a:latin typeface="Arial"/>
              </a:endParaRPr>
            </a:p>
          </p:txBody>
        </p:sp>
      </p:grpSp>
      <p:sp>
        <p:nvSpPr>
          <p:cNvPr id="20" name=""/>
          <p:cNvSpPr/>
          <p:nvPr/>
        </p:nvSpPr>
        <p:spPr>
          <a:xfrm>
            <a:off x="1219320" y="358920"/>
            <a:ext cx="0" cy="623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5">
            <a:lum contrast="-4000"/>
          </a:blip>
          <a:srcRect l="1560" t="2700" r="5251" b="1389"/>
          <a:stretch/>
        </p:blipFill>
        <p:spPr>
          <a:xfrm>
            <a:off x="25560" y="4165560"/>
            <a:ext cx="1166760" cy="233676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6">
            <a:lum contrast="-4000"/>
          </a:blip>
          <a:srcRect l="1560" t="2700" r="5251" b="1389"/>
          <a:stretch/>
        </p:blipFill>
        <p:spPr>
          <a:xfrm>
            <a:off x="25560" y="4165560"/>
            <a:ext cx="1166760" cy="2336760"/>
          </a:xfrm>
          <a:prstGeom prst="rect">
            <a:avLst/>
          </a:prstGeom>
          <a:ln w="0">
            <a:noFill/>
          </a:ln>
        </p:spPr>
      </p:pic>
      <p:sp>
        <p:nvSpPr>
          <p:cNvPr id="23" name=""/>
          <p:cNvSpPr/>
          <p:nvPr/>
        </p:nvSpPr>
        <p:spPr>
          <a:xfrm>
            <a:off x="1219320" y="1270080"/>
            <a:ext cx="7797600" cy="0"/>
          </a:xfrm>
          <a:prstGeom prst="line">
            <a:avLst/>
          </a:prstGeom>
          <a:ln w="9360">
            <a:solidFill>
              <a:srgbClr val="640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9360" y="380880"/>
            <a:ext cx="444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219240" y="380880"/>
            <a:ext cx="444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84120" y="488880"/>
            <a:ext cx="444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577800" y="493560"/>
            <a:ext cx="444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299160" y="871560"/>
            <a:ext cx="996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 Unicode MS"/>
              </a:rPr>
              <a:t>University of California</a:t>
            </a:r>
            <a:endParaRPr b="0" lang="en-US" sz="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 Unicode MS"/>
              </a:rPr>
              <a:t>San Francisco</a:t>
            </a:r>
            <a:endParaRPr b="0" lang="en-US" sz="6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219320" y="380880"/>
            <a:ext cx="0" cy="621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4680" y="2984400"/>
            <a:ext cx="4381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304812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d6072"/>
                </a:solidFill>
                <a:latin typeface="Verdana"/>
              </a:rPr>
              <a:t>Click to edit the outline text format</a:t>
            </a:r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88bbbb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88bbbb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spcAft>
                <a:spcPts val="349"/>
              </a:spcAft>
              <a:buClr>
                <a:srgbClr val="bbbbaa"/>
              </a:buClr>
              <a:buSzPct val="105000"/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68320" cy="100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2560" t="6803" r="186" b="2040"/>
          <a:stretch/>
        </p:blipFill>
        <p:spPr>
          <a:xfrm>
            <a:off x="16765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2971440"/>
            <a:ext cx="5410440" cy="213372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81756e">
                <a:alpha val="5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rends in Regionalization of Inpatient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are for Urological Malignancie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3867840"/>
            <a:ext cx="2895480" cy="2863080"/>
          </a:xfrm>
          <a:prstGeom prst="rect">
            <a:avLst/>
          </a:prstGeom>
          <a:noFill/>
          <a:ln w="0">
            <a:noFill/>
          </a:ln>
          <a:effectLst>
            <a:outerShdw dist="12620" dir="16003771" blurRad="0" rotWithShape="0">
              <a:srgbClr val="808080">
                <a:alpha val="8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Matthew R. Cooperberg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Sanjukta Modak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Badrinath R. Konety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Department of Urology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4f4"/>
                </a:solidFill>
                <a:latin typeface="Verdana"/>
              </a:rPr>
              <a:t>University of California,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4f4"/>
                </a:solidFill>
                <a:latin typeface="Verdana"/>
              </a:rPr>
              <a:t>San Franicsco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4f4f4"/>
                </a:solidFill>
                <a:latin typeface="Verdana"/>
              </a:rPr>
              <a:t>AHRQ Annual Conference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4f4f4"/>
                </a:solidFill>
                <a:latin typeface="Verdana"/>
              </a:rPr>
              <a:t>Bethesda, MD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4f4f4"/>
                </a:solidFill>
                <a:latin typeface="Verdana"/>
              </a:rPr>
              <a:t>September 10, 2008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657240" y="5029200"/>
            <a:ext cx="5257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40f15"/>
                </a:solidFill>
                <a:latin typeface="Verdana"/>
              </a:rPr>
              <a:t>A Heath Care Utilization Project Nationwide Inpatient Sample Study</a:t>
            </a:r>
            <a:endParaRPr b="1" i="1" lang="en-US" sz="2000" spc="-1" strike="noStrike">
              <a:solidFill>
                <a:srgbClr val="0d6072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09760" y="1778040"/>
            <a:ext cx="7327800" cy="4178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 in Admis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27280" y="3105000"/>
          <a:ext cx="291780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7280" y="3105000"/>
                    <a:ext cx="2917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60520" y="1836720"/>
            <a:ext cx="7238880" cy="407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36840" y="19810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9760" y="1778040"/>
            <a:ext cx="7327800" cy="4178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 in Admis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254560" y="3395520"/>
          <a:ext cx="2917800" cy="14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4560" y="3395520"/>
                    <a:ext cx="29178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460520" y="1841400"/>
            <a:ext cx="7238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9760" y="1778040"/>
            <a:ext cx="7327800" cy="4178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 in Admis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254560" y="3395520"/>
          <a:ext cx="2917800" cy="14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4560" y="3395520"/>
                    <a:ext cx="29178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461960" y="1836720"/>
            <a:ext cx="7224840" cy="4076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38560" y="2514600"/>
            <a:ext cx="7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09760" y="1778040"/>
            <a:ext cx="7264440" cy="4394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: Medicare / Medicaid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536840" y="19810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60520" y="1828800"/>
            <a:ext cx="7162920" cy="4289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73120" y="6108840"/>
            <a:ext cx="712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9760" y="1778040"/>
            <a:ext cx="7264440" cy="4394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: Medicare / Medicaid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60520" y="1828800"/>
            <a:ext cx="716292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09760" y="1778040"/>
            <a:ext cx="7264440" cy="4394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: Medicare / Medicaid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138560" y="2514600"/>
            <a:ext cx="7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62520" y="3048120"/>
          <a:ext cx="3139920" cy="191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048120"/>
                    <a:ext cx="313992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60520" y="1828800"/>
            <a:ext cx="7167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221000" y="4215960"/>
            <a:ext cx="47707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40f15"/>
                </a:solidFill>
                <a:latin typeface="Verdana"/>
              </a:rPr>
              <a:t>Surgical Volume and Outcomes</a:t>
            </a:r>
            <a:endParaRPr b="1" i="1" lang="en-US" sz="2200" spc="-1" strike="noStrike">
              <a:solidFill>
                <a:srgbClr val="0d60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br>
              <a:rPr sz="3000"/>
            </a:br>
            <a:br>
              <a:rPr sz="26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lusions and Implications</a:t>
            </a:r>
            <a:br>
              <a:rPr sz="3000"/>
            </a:br>
            <a:br>
              <a:rPr sz="26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144680" y="4708080"/>
            <a:ext cx="4381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Summary of finding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49"/>
              </a:spcBef>
              <a:spcAft>
                <a:spcPts val="64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out 2/3 of urologic oncology admissions at HV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49"/>
              </a:spcBef>
              <a:spcAft>
                <a:spcPts val="64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ve increase in region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5% for bladder can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.9% for renal can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increase for prostate cancer but higher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49"/>
              </a:spcBef>
              <a:spcAft>
                <a:spcPts val="64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stantial regional var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spital surgical volume associated with better outcomes, first noted 1979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Luft et al. NEJM 1979; 301:1364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jor cancer surgery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Begg et al. JAMA 1998; 280:1747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ologic oncologic surgery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Joudi et al. J Urol 2005; 174:432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CUP NIS cystectomy studies: postop mortality 2.9% vs 6.4% in highest vs lowest quintile volume hospital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Birkmeyer et al. NEJM 2002; 346:112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volume assoc with shorter LOS, lower charges, lower complication rate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Konety et al. J Urol 2005; 175:1695. Konety et al. Urology 2006; 68:5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VH status for other urologic or non-urologic surgery not assoc with outcome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Konety et al. J Clin Oncol 2006; 24:2006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11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84351"/>
                </a:solidFill>
                <a:latin typeface="Verdana"/>
              </a:rPr>
              <a:t>Associating volume and outcomes</a:t>
            </a:r>
            <a:endParaRPr b="1" lang="en-US" sz="2900" spc="-1" strike="noStrike">
              <a:solidFill>
                <a:srgbClr val="08435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Is regionalization a good trend?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0600" y="1317240"/>
            <a:ext cx="768816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CUP study: hospitals meeting Leapfrog Group volume standards had similar in-hospital mortality to others. Volume standards would adversely impact low volume hospitals and increase patient travel time.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Ward et al. J Rural Health 2004; 20:34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rural areas lack the referral base to support even one HVH for some procedures.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Dimick et al. Health Aff 2004; web VAR45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nvasive bladder cancer a delay of &gt;3 months from diagnosis to cystectomy is associated with increased mortality.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Chang et al. J Urol 2003; 170: 1085. Sanchez-Ortiz et al. J Urol 2003; 169:11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Is regionalization a good trend?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90600" y="1281240"/>
            <a:ext cx="768816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portion of US hospitals performing cystectomy varied from 45 to 50% between 1988 and 1996, then fell to 39% by 2000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Taub et al. J Urol 2006; 176:26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nwhite patients, those with Medicaid / no insurance less likely to receive complex surgical care at HVH (in general and cystectomy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Liu et al. JAMA 2006; 296:1973. Konety et al. Cancer 2007; 109:54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ladder cancer patients tend to be older and low SES; radical cystectomy generally perceived to be under-compensated. Regionalization increases burden of uncompensated care on HVH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Soloway. Cancer 2005; 104:155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6320" y="2000160"/>
            <a:ext cx="8877240" cy="4476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Urologist Distribution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00680" y="65469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Odisho et al. J Urol, in press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1460520"/>
            <a:ext cx="45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Data from HRSA Area Resource File, 2006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320" y="2000160"/>
            <a:ext cx="8877240" cy="4476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Urologist Distribution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00680" y="65469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Odisho et al. J Urol, in press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1460520"/>
            <a:ext cx="45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Data from HRSA Area Resource File, 2006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4480" y="2030400"/>
            <a:ext cx="8775360" cy="4357800"/>
            <a:chOff x="114480" y="2030400"/>
            <a:chExt cx="8775360" cy="435780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rcRect l="1944" t="2372" r="2084" b="7648"/>
            <a:stretch/>
          </p:blipFill>
          <p:spPr>
            <a:xfrm>
              <a:off x="114480" y="2030400"/>
              <a:ext cx="877536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6080" y="601992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40f15"/>
                  </a:solidFill>
                  <a:latin typeface="Verdana"/>
                </a:rPr>
                <a:t>Urologists &lt;45</a:t>
              </a:r>
              <a:endParaRPr b="0" lang="en-US" sz="1800" spc="-1" strike="noStrike">
                <a:solidFill>
                  <a:srgbClr val="0d6072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Conclu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gionalization of bladder and renal cancer care has occurred over the past 15 yea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end is likely to continue given provider demographic tre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icy decisions must balance (possible) benefit due to regionalization with (likely) harm if access is reduc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ternative: identify and promulgate HVH processes of 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CUP/NIS invaluable for descriptive health services research; clinically rich data needed to better define volume-outcomes associ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hospital volume or surgeon volume more importan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care analysis: surgeon volume accounts for 39% of the effect of hospital volume </a:t>
            </a:r>
            <a:r>
              <a:rPr b="0" lang="en-US" sz="1600" spc="-1" strike="noStrike">
                <a:solidFill>
                  <a:srgbClr val="640f15"/>
                </a:solidFill>
                <a:latin typeface="Verdana"/>
              </a:rPr>
              <a:t>[Birkmeyer et al. NEJM 2004; 349:2117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5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lse drives the associ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pital size (beds / capac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ban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ing 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ing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 age, LOS, other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11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4351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84351"/>
                </a:solidFill>
                <a:latin typeface="Verdana"/>
              </a:rPr>
              <a:t>Getting under the hood”</a:t>
            </a:r>
            <a:endParaRPr b="1" lang="en-US" sz="28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791320"/>
            <a:ext cx="499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Hollenbeck et al. J Urol 2007; 177:2095 Konety et al. J Urol 2004; 172:1056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Konety et al. J Urol 2005; 173:1695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Volume-outcomes continued…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M systemic review 2002: 135 studies across 27 diagnoses / procedures </a:t>
            </a:r>
            <a:r>
              <a:rPr b="0" lang="en-US" sz="1500" spc="-1" strike="noStrike">
                <a:solidFill>
                  <a:srgbClr val="640f15"/>
                </a:solidFill>
                <a:latin typeface="Verdana"/>
              </a:rPr>
              <a:t>[Halm et al. Ann Intern Med 2002; 137:51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 higher volumes associate with better outcomes, but magnitude of association varies widely, as does methodological quality of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r variables may be outweighed by patient variables, perhaps insufficiently reflected in claims-based data (NSQIP investigators) [</a:t>
            </a: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Khuri et al. World J Surg 2005; 29:1222, Best et al. J Am Coll Surg 2002; 194:257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lar / temporal tr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, NIS analysis CABG: during period of declining volume, 50% decline in proportion of HVH, mortality declined consistently with greatest decline among LVH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Ricciardi et al. Arch Surg 2008; 143:33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alization already supported by policy (public and private, mostly reimbursement-driven) in some ca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44680" y="4708080"/>
            <a:ext cx="4381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15-year Trends in Regionalization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CUP NIS data 1988-2002: accessible source of population-based data on health services tre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dder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al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state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pitals ranked to tertiles in each year by numbers of discharges (excluding those with no discharg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 analyses of </a:t>
            </a:r>
            <a:r>
              <a:rPr b="0" lang="en-US" sz="2400" spc="-1" strike="noStrike">
                <a:solidFill>
                  <a:srgbClr val="640f15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640f15"/>
                </a:solidFill>
                <a:latin typeface="Verdana"/>
              </a:rPr>
              <a:t>non-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d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et analyses by geographic region and primary p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sults</a:t>
            </a:r>
            <a:br>
              <a:rPr sz="3000"/>
            </a:br>
            <a:br>
              <a:rPr sz="26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144680" y="4708080"/>
            <a:ext cx="4381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7160" y="1917720"/>
            <a:ext cx="7429320" cy="389880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Surgical volume threshold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968480"/>
          <a:ext cx="6858000" cy="35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68480"/>
                    <a:ext cx="68580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73152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23:01:30Z</dcterms:created>
  <dc:creator>m c</dc:creator>
  <dc:description/>
  <dc:language>en-US</dc:language>
  <cp:lastModifiedBy>Ibukun_2</cp:lastModifiedBy>
  <dcterms:modified xsi:type="dcterms:W3CDTF">2008-10-09T18:45:59Z</dcterms:modified>
  <cp:revision>291</cp:revision>
  <dc:subject/>
  <dc:title>PowerPoint Presentation</dc:title>
</cp:coreProperties>
</file>