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27.wmf" ContentType="image/x-wmf"/>
  <Override PartName="/ppt/media/image26.wmf" ContentType="image/x-wmf"/>
  <Override PartName="/ppt/media/image25.wmf" ContentType="image/x-wmf"/>
  <Override PartName="/ppt/media/image15.wmf" ContentType="image/x-wmf"/>
  <Override PartName="/ppt/media/image7.png" ContentType="image/png"/>
  <Override PartName="/ppt/media/image11.wmf" ContentType="image/x-wmf"/>
  <Override PartName="/ppt/media/image12.png" ContentType="image/png"/>
  <Override PartName="/ppt/media/image32.wmf" ContentType="image/x-wmf"/>
  <Override PartName="/ppt/media/image8.png" ContentType="image/png"/>
  <Override PartName="/ppt/media/image3.png" ContentType="image/png"/>
  <Override PartName="/ppt/media/image33.png" ContentType="image/png"/>
  <Override PartName="/ppt/media/image5.png" ContentType="image/png"/>
  <Override PartName="/ppt/media/image13.wmf" ContentType="image/x-wmf"/>
  <Override PartName="/ppt/media/image9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31.wmf" ContentType="image/x-wmf"/>
  <Override PartName="/ppt/media/image6.png" ContentType="image/png"/>
  <Override PartName="/ppt/media/image34.png" ContentType="image/png"/>
  <Override PartName="/ppt/media/image4.png" ContentType="image/png"/>
  <Override PartName="/ppt/media/image2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20.png" ContentType="image/png"/>
  <Override PartName="/ppt/media/image19.wmf" ContentType="image/x-wmf"/>
  <Override PartName="/ppt/media/image18.png" ContentType="image/png"/>
  <Override PartName="/ppt/media/image21.wmf" ContentType="image/x-wmf"/>
  <Override PartName="/ppt/media/image22.wmf" ContentType="image/x-wmf"/>
  <Override PartName="/ppt/media/image23.wmf" ContentType="image/x-wmf"/>
  <Override PartName="/ppt/media/image2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d6072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5CF80-3218-496E-BCE6-90020EC36B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 in bladder HVH discharges from 67% in 1988-92 to 70% in 1998-02 (p&lt;.000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 in renal cancer surgical discharges from 67% to 73% at HVH from 1988-92 to 1998-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imal increase in prostate HVH surgical discharges from 76.1% to 76.5% (p=.029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line in prosate HVH non-surgical discharges from 71% to 69% (p&lt;.000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ional variation: increase in surgical but not non-surgical discharges from HVH in the north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ional variation: slight increases in both surgical and non-surgical discharges from HVH in the Midw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ional variation: slight decreases in both surgical and non-surgical discharges from HVH in the S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ional variation: slight decrease in surgical discharges, flat non-surgical discharges from HVH in the W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dder cancer: 26K surgical discharges at 1764 hospitals; HVH threshold &gt;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4K non-surgical discharges at 2645 hospitals; HVH threshold &gt;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nal cancer: 64K surgical discharges at 2182 hospitals, HVH threshold &gt;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1K non-surgical discharges at 2288 hospitals, HVH threshold &gt;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state cancer: 178K surgical discharges at 2065 hospitals, HVH threshold &gt;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6K non-surgical discharges at 2775 hospitals, HVH threshold &gt;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93840" y="442440"/>
            <a:ext cx="76867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84351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90600" y="1371600"/>
            <a:ext cx="7688160" cy="24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290600" y="4039200"/>
            <a:ext cx="7688160" cy="24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93840" y="442440"/>
            <a:ext cx="76867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84351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90600" y="1371600"/>
            <a:ext cx="3751560" cy="24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230080" y="1371600"/>
            <a:ext cx="3751560" cy="24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290600" y="4039200"/>
            <a:ext cx="3751560" cy="24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5230080" y="4039200"/>
            <a:ext cx="3751560" cy="24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93840" y="442440"/>
            <a:ext cx="76867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84351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90600" y="1371600"/>
            <a:ext cx="2475360" cy="24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890160" y="1371600"/>
            <a:ext cx="2475360" cy="24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489720" y="1371600"/>
            <a:ext cx="2475360" cy="24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290600" y="4039200"/>
            <a:ext cx="2475360" cy="24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890160" y="4039200"/>
            <a:ext cx="2475360" cy="24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489720" y="4039200"/>
            <a:ext cx="2475360" cy="24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93840" y="442440"/>
            <a:ext cx="76867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84351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290600" y="1371600"/>
            <a:ext cx="7688160" cy="51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76"/>
              </a:spcBef>
              <a:spcAft>
                <a:spcPts val="4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900" spc="-1" strike="noStrike">
              <a:solidFill>
                <a:srgbClr val="0d6072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93840" y="442440"/>
            <a:ext cx="76867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84351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0600" y="1371600"/>
            <a:ext cx="7688160" cy="51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93840" y="442440"/>
            <a:ext cx="76867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84351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90600" y="1371600"/>
            <a:ext cx="3751560" cy="51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230080" y="1371600"/>
            <a:ext cx="3751560" cy="51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93840" y="442440"/>
            <a:ext cx="76867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84351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1293840" y="442440"/>
            <a:ext cx="7686720" cy="36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i="1" lang="en-US" sz="1900" spc="-1" strike="noStrike">
              <a:solidFill>
                <a:srgbClr val="0d6072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93840" y="442440"/>
            <a:ext cx="76867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84351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0600" y="1371600"/>
            <a:ext cx="3751560" cy="24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230080" y="1371600"/>
            <a:ext cx="3751560" cy="51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0600" y="4039200"/>
            <a:ext cx="3751560" cy="24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93840" y="442440"/>
            <a:ext cx="76867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84351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290600" y="1371600"/>
            <a:ext cx="7688160" cy="51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76"/>
              </a:spcBef>
              <a:spcAft>
                <a:spcPts val="4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900" spc="-1" strike="noStrike">
              <a:solidFill>
                <a:srgbClr val="0d6072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93840" y="442440"/>
            <a:ext cx="76867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84351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90600" y="1371600"/>
            <a:ext cx="3751560" cy="51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30080" y="1371600"/>
            <a:ext cx="3751560" cy="24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230080" y="4039200"/>
            <a:ext cx="3751560" cy="24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3840" y="442440"/>
            <a:ext cx="76867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84351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90600" y="1371600"/>
            <a:ext cx="3751560" cy="24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30080" y="1371600"/>
            <a:ext cx="3751560" cy="24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290600" y="4039200"/>
            <a:ext cx="7688160" cy="24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93840" y="442440"/>
            <a:ext cx="76867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84351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90600" y="1371600"/>
            <a:ext cx="7688160" cy="24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1290600" y="4039200"/>
            <a:ext cx="7688160" cy="24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93840" y="442440"/>
            <a:ext cx="76867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84351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90600" y="1371600"/>
            <a:ext cx="3751560" cy="24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30080" y="1371600"/>
            <a:ext cx="3751560" cy="24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290600" y="4039200"/>
            <a:ext cx="3751560" cy="24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5230080" y="4039200"/>
            <a:ext cx="3751560" cy="24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93840" y="442440"/>
            <a:ext cx="76867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84351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90600" y="1371600"/>
            <a:ext cx="2475360" cy="24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890160" y="1371600"/>
            <a:ext cx="2475360" cy="24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489720" y="1371600"/>
            <a:ext cx="2475360" cy="24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1290600" y="4039200"/>
            <a:ext cx="2475360" cy="24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890160" y="4039200"/>
            <a:ext cx="2475360" cy="24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489720" y="4039200"/>
            <a:ext cx="2475360" cy="24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3840" y="442440"/>
            <a:ext cx="76867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84351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90600" y="1371600"/>
            <a:ext cx="7688160" cy="51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93840" y="442440"/>
            <a:ext cx="76867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84351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0600" y="1371600"/>
            <a:ext cx="3751560" cy="51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30080" y="1371600"/>
            <a:ext cx="3751560" cy="51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93840" y="442440"/>
            <a:ext cx="76867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84351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93840" y="442440"/>
            <a:ext cx="7686720" cy="36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i="1" lang="en-US" sz="1900" spc="-1" strike="noStrike">
              <a:solidFill>
                <a:srgbClr val="0d6072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93840" y="442440"/>
            <a:ext cx="76867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84351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0600" y="1371600"/>
            <a:ext cx="3751560" cy="24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30080" y="1371600"/>
            <a:ext cx="3751560" cy="51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90600" y="4039200"/>
            <a:ext cx="3751560" cy="24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93840" y="442440"/>
            <a:ext cx="76867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84351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90600" y="1371600"/>
            <a:ext cx="3751560" cy="51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230080" y="1371600"/>
            <a:ext cx="3751560" cy="24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230080" y="4039200"/>
            <a:ext cx="3751560" cy="24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442440"/>
            <a:ext cx="76867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84351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90600" y="1371600"/>
            <a:ext cx="3751560" cy="24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230080" y="1371600"/>
            <a:ext cx="3751560" cy="24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290600" y="4039200"/>
            <a:ext cx="7688160" cy="24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-6480" y="6594480"/>
            <a:ext cx="9026640" cy="263520"/>
          </a:xfrm>
          <a:prstGeom prst="rect">
            <a:avLst/>
          </a:prstGeom>
          <a:gradFill rotWithShape="0">
            <a:gsLst>
              <a:gs pos="0">
                <a:srgbClr val="dbe2e2"/>
              </a:gs>
              <a:gs pos="100000">
                <a:srgbClr val="aebec0"/>
              </a:gs>
            </a:gsLst>
            <a:lin ang="10800000"/>
          </a:gra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d6072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1290600" y="1371600"/>
            <a:ext cx="7688160" cy="51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-289080">
              <a:spcBef>
                <a:spcPts val="550"/>
              </a:spcBef>
              <a:spcAft>
                <a:spcPts val="550"/>
              </a:spcAft>
              <a:buClr>
                <a:srgbClr val="640f15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spcAft>
                <a:spcPts val="550"/>
              </a:spcAft>
              <a:buClr>
                <a:srgbClr val="640f1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087560" indent="-173160">
              <a:spcBef>
                <a:spcPts val="550"/>
              </a:spcBef>
              <a:spcAft>
                <a:spcPts val="550"/>
              </a:spcAft>
              <a:buClr>
                <a:srgbClr val="88bbb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50"/>
              </a:spcBef>
              <a:spcAft>
                <a:spcPts val="550"/>
              </a:spcAft>
              <a:buClr>
                <a:srgbClr val="88bbbb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4" marL="2001960" indent="-173160">
              <a:spcBef>
                <a:spcPts val="550"/>
              </a:spcBef>
              <a:spcAft>
                <a:spcPts val="550"/>
              </a:spcAft>
              <a:buClr>
                <a:srgbClr val="bbbbaa"/>
              </a:buClr>
              <a:buSzPct val="105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5" marL="2001960" indent="-173160">
              <a:spcBef>
                <a:spcPts val="550"/>
              </a:spcBef>
              <a:spcAft>
                <a:spcPts val="550"/>
              </a:spcAft>
              <a:buClr>
                <a:srgbClr val="0d6072"/>
              </a:buClr>
              <a:buSzPct val="105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6" marL="2001960" indent="-173160">
              <a:spcBef>
                <a:spcPts val="550"/>
              </a:spcBef>
              <a:spcAft>
                <a:spcPts val="550"/>
              </a:spcAft>
              <a:buClr>
                <a:srgbClr val="0d6072"/>
              </a:buClr>
              <a:buSzPct val="105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293840" y="442440"/>
            <a:ext cx="76867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4351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4351"/>
              </a:solidFill>
              <a:latin typeface="Verdana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d6072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d6072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9016920" y="0"/>
            <a:ext cx="127080" cy="6858000"/>
          </a:xfrm>
          <a:prstGeom prst="rect">
            <a:avLst/>
          </a:prstGeom>
          <a:solidFill>
            <a:srgbClr val="679d9d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d6072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1224000" y="355680"/>
            <a:ext cx="7791480" cy="623556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d6072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0"/>
            <a:ext cx="9016920" cy="366840"/>
          </a:xfrm>
          <a:prstGeom prst="rect">
            <a:avLst/>
          </a:prstGeom>
          <a:gradFill rotWithShape="0">
            <a:gsLst>
              <a:gs pos="0">
                <a:srgbClr val="aabec0"/>
              </a:gs>
              <a:gs pos="100000">
                <a:srgbClr val="d9e2e2"/>
              </a:gs>
            </a:gsLst>
            <a:lin ang="10800000"/>
          </a:gra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d6072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-4680" y="0"/>
            <a:ext cx="9148680" cy="68580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d6072"/>
              </a:solidFill>
              <a:latin typeface="Arial"/>
            </a:endParaRPr>
          </a:p>
        </p:txBody>
      </p:sp>
      <p:pic>
        <p:nvPicPr>
          <p:cNvPr id="10" name="" descr=""/>
          <p:cNvPicPr/>
          <p:nvPr/>
        </p:nvPicPr>
        <p:blipFill>
          <a:blip r:embed="rId3"/>
          <a:stretch/>
        </p:blipFill>
        <p:spPr>
          <a:xfrm>
            <a:off x="1193760" y="582480"/>
            <a:ext cx="42840" cy="747720"/>
          </a:xfrm>
          <a:prstGeom prst="rect">
            <a:avLst/>
          </a:prstGeom>
          <a:ln w="0">
            <a:noFill/>
          </a:ln>
        </p:spPr>
      </p:pic>
      <p:pic>
        <p:nvPicPr>
          <p:cNvPr id="11" name="" descr=""/>
          <p:cNvPicPr/>
          <p:nvPr/>
        </p:nvPicPr>
        <p:blipFill>
          <a:blip r:embed="rId4"/>
          <a:stretch/>
        </p:blipFill>
        <p:spPr>
          <a:xfrm>
            <a:off x="0" y="455760"/>
            <a:ext cx="1230480" cy="865080"/>
          </a:xfrm>
          <a:prstGeom prst="rect">
            <a:avLst/>
          </a:prstGeom>
          <a:ln w="0">
            <a:noFill/>
          </a:ln>
        </p:spPr>
      </p:pic>
      <p:sp>
        <p:nvSpPr>
          <p:cNvPr id="12" name=""/>
          <p:cNvSpPr/>
          <p:nvPr/>
        </p:nvSpPr>
        <p:spPr>
          <a:xfrm>
            <a:off x="0" y="368280"/>
            <a:ext cx="1220760" cy="6222960"/>
          </a:xfrm>
          <a:prstGeom prst="rect">
            <a:avLst/>
          </a:prstGeom>
          <a:solidFill>
            <a:srgbClr val="679d9d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d6072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1219320" y="1270080"/>
            <a:ext cx="7797600" cy="0"/>
          </a:xfrm>
          <a:prstGeom prst="line">
            <a:avLst/>
          </a:prstGeom>
          <a:ln w="9360">
            <a:solidFill>
              <a:srgbClr val="640f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d6072"/>
              </a:solidFill>
              <a:latin typeface="Arial"/>
            </a:endParaRPr>
          </a:p>
        </p:txBody>
      </p:sp>
      <p:grpSp>
        <p:nvGrpSpPr>
          <p:cNvPr id="14" name=""/>
          <p:cNvGrpSpPr/>
          <p:nvPr/>
        </p:nvGrpSpPr>
        <p:grpSpPr>
          <a:xfrm>
            <a:off x="9360" y="380880"/>
            <a:ext cx="1269720" cy="768960"/>
            <a:chOff x="9360" y="380880"/>
            <a:chExt cx="1269720" cy="768960"/>
          </a:xfrm>
        </p:grpSpPr>
        <p:sp>
          <p:nvSpPr>
            <p:cNvPr id="15" name=""/>
            <p:cNvSpPr/>
            <p:nvPr/>
          </p:nvSpPr>
          <p:spPr>
            <a:xfrm>
              <a:off x="9360" y="380880"/>
              <a:ext cx="444600" cy="49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endParaRPr b="0" lang="en-US" sz="2800" spc="-1" strike="noStrike">
                <a:solidFill>
                  <a:srgbClr val="0d6072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9240" y="380880"/>
              <a:ext cx="444240" cy="49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d6072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84120" y="488880"/>
              <a:ext cx="444600" cy="49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2800" spc="-1" strike="noStrike">
                <a:solidFill>
                  <a:srgbClr val="0d6072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73120" y="493560"/>
              <a:ext cx="444600" cy="49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F</a:t>
              </a:r>
              <a:endParaRPr b="0" lang="en-US" sz="2800" spc="-1" strike="noStrike">
                <a:solidFill>
                  <a:srgbClr val="0d6072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33360" y="873000"/>
              <a:ext cx="94572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ffff"/>
                  </a:solidFill>
                  <a:latin typeface="Arial"/>
                </a:rPr>
                <a:t>University of California</a:t>
              </a:r>
              <a:endParaRPr b="0" lang="en-US" sz="600" spc="-1" strike="noStrike">
                <a:solidFill>
                  <a:srgbClr val="0d6072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ffff"/>
                  </a:solidFill>
                  <a:latin typeface="Arial"/>
                </a:rPr>
                <a:t>San Francisco</a:t>
              </a:r>
              <a:endParaRPr b="0" lang="en-US" sz="600" spc="-1" strike="noStrike">
                <a:solidFill>
                  <a:srgbClr val="0d6072"/>
                </a:solidFill>
                <a:latin typeface="Arial"/>
              </a:endParaRPr>
            </a:p>
          </p:txBody>
        </p:sp>
      </p:grpSp>
      <p:sp>
        <p:nvSpPr>
          <p:cNvPr id="20" name=""/>
          <p:cNvSpPr/>
          <p:nvPr/>
        </p:nvSpPr>
        <p:spPr>
          <a:xfrm>
            <a:off x="1219320" y="358920"/>
            <a:ext cx="0" cy="6232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d6072"/>
              </a:solidFill>
              <a:latin typeface="Arial"/>
            </a:endParaRPr>
          </a:p>
        </p:txBody>
      </p:sp>
      <p:pic>
        <p:nvPicPr>
          <p:cNvPr id="21" name="" descr=""/>
          <p:cNvPicPr/>
          <p:nvPr/>
        </p:nvPicPr>
        <p:blipFill>
          <a:blip r:embed="rId5">
            <a:lum contrast="-4000"/>
          </a:blip>
          <a:srcRect l="1560" t="2700" r="5251" b="1389"/>
          <a:stretch/>
        </p:blipFill>
        <p:spPr>
          <a:xfrm>
            <a:off x="25560" y="4165560"/>
            <a:ext cx="1166760" cy="2336760"/>
          </a:xfrm>
          <a:prstGeom prst="rect">
            <a:avLst/>
          </a:prstGeom>
          <a:ln w="0">
            <a:noFill/>
          </a:ln>
        </p:spPr>
      </p:pic>
      <p:pic>
        <p:nvPicPr>
          <p:cNvPr id="22" name="" descr=""/>
          <p:cNvPicPr/>
          <p:nvPr/>
        </p:nvPicPr>
        <p:blipFill>
          <a:blip r:embed="rId6">
            <a:lum contrast="-4000"/>
          </a:blip>
          <a:srcRect l="1560" t="2700" r="5251" b="1389"/>
          <a:stretch/>
        </p:blipFill>
        <p:spPr>
          <a:xfrm>
            <a:off x="25560" y="4165560"/>
            <a:ext cx="1166760" cy="2336760"/>
          </a:xfrm>
          <a:prstGeom prst="rect">
            <a:avLst/>
          </a:prstGeom>
          <a:ln w="0">
            <a:noFill/>
          </a:ln>
        </p:spPr>
      </p:pic>
      <p:sp>
        <p:nvSpPr>
          <p:cNvPr id="23" name=""/>
          <p:cNvSpPr/>
          <p:nvPr/>
        </p:nvSpPr>
        <p:spPr>
          <a:xfrm>
            <a:off x="1219320" y="1270080"/>
            <a:ext cx="7797600" cy="0"/>
          </a:xfrm>
          <a:prstGeom prst="line">
            <a:avLst/>
          </a:prstGeom>
          <a:ln w="9360">
            <a:solidFill>
              <a:srgbClr val="640f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d6072"/>
              </a:solidFill>
              <a:latin typeface="Arial"/>
            </a:endParaRPr>
          </a:p>
        </p:txBody>
      </p:sp>
      <p:sp>
        <p:nvSpPr>
          <p:cNvPr id="24" name=""/>
          <p:cNvSpPr/>
          <p:nvPr/>
        </p:nvSpPr>
        <p:spPr>
          <a:xfrm>
            <a:off x="9360" y="380880"/>
            <a:ext cx="4446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</a:t>
            </a:r>
            <a:endParaRPr b="0" lang="en-US" sz="2800" spc="-1" strike="noStrike">
              <a:solidFill>
                <a:srgbClr val="0d6072"/>
              </a:solidFill>
              <a:latin typeface="Arial"/>
            </a:endParaRPr>
          </a:p>
        </p:txBody>
      </p:sp>
      <p:sp>
        <p:nvSpPr>
          <p:cNvPr id="25" name=""/>
          <p:cNvSpPr/>
          <p:nvPr/>
        </p:nvSpPr>
        <p:spPr>
          <a:xfrm>
            <a:off x="219240" y="380880"/>
            <a:ext cx="444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d6072"/>
              </a:solidFill>
              <a:latin typeface="Arial"/>
            </a:endParaRPr>
          </a:p>
        </p:txBody>
      </p:sp>
      <p:sp>
        <p:nvSpPr>
          <p:cNvPr id="26" name=""/>
          <p:cNvSpPr/>
          <p:nvPr/>
        </p:nvSpPr>
        <p:spPr>
          <a:xfrm>
            <a:off x="384120" y="488880"/>
            <a:ext cx="4446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d6072"/>
              </a:solidFill>
              <a:latin typeface="Arial"/>
            </a:endParaRPr>
          </a:p>
        </p:txBody>
      </p:sp>
      <p:sp>
        <p:nvSpPr>
          <p:cNvPr id="27" name=""/>
          <p:cNvSpPr/>
          <p:nvPr/>
        </p:nvSpPr>
        <p:spPr>
          <a:xfrm>
            <a:off x="577800" y="493560"/>
            <a:ext cx="4446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2800" spc="-1" strike="noStrike">
              <a:solidFill>
                <a:srgbClr val="0d6072"/>
              </a:solidFill>
              <a:latin typeface="Arial"/>
            </a:endParaRPr>
          </a:p>
        </p:txBody>
      </p:sp>
      <p:sp>
        <p:nvSpPr>
          <p:cNvPr id="28" name=""/>
          <p:cNvSpPr/>
          <p:nvPr/>
        </p:nvSpPr>
        <p:spPr>
          <a:xfrm>
            <a:off x="299160" y="871560"/>
            <a:ext cx="99612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 Unicode MS"/>
              </a:rPr>
              <a:t>University of California</a:t>
            </a:r>
            <a:endParaRPr b="0" lang="en-US" sz="600" spc="-1" strike="noStrike">
              <a:solidFill>
                <a:srgbClr val="0d6072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 Unicode MS"/>
              </a:rPr>
              <a:t>San Francisco</a:t>
            </a:r>
            <a:endParaRPr b="0" lang="en-US" sz="600" spc="-1" strike="noStrike">
              <a:solidFill>
                <a:srgbClr val="0d6072"/>
              </a:solidFill>
              <a:latin typeface="Arial"/>
            </a:endParaRPr>
          </a:p>
        </p:txBody>
      </p:sp>
      <p:sp>
        <p:nvSpPr>
          <p:cNvPr id="29" name=""/>
          <p:cNvSpPr/>
          <p:nvPr/>
        </p:nvSpPr>
        <p:spPr>
          <a:xfrm>
            <a:off x="1219320" y="380880"/>
            <a:ext cx="0" cy="621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d6072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44680" y="2984400"/>
            <a:ext cx="438156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d6072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0"/>
            <a:ext cx="3048120" cy="6858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d607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spcAft>
                <a:spcPts val="4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d6072"/>
                </a:solidFill>
                <a:latin typeface="Verdana"/>
              </a:rPr>
              <a:t>Click to edit the outline text format</a:t>
            </a:r>
            <a:endParaRPr b="1" i="1" lang="en-US" sz="1900" spc="-1" strike="noStrike">
              <a:solidFill>
                <a:srgbClr val="0d6072"/>
              </a:solidFill>
              <a:latin typeface="Verdana"/>
            </a:endParaRPr>
          </a:p>
          <a:p>
            <a:pPr lvl="1" marL="457200" indent="0"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51"/>
              </a:spcBef>
              <a:spcAft>
                <a:spcPts val="451"/>
              </a:spcAft>
              <a:buClr>
                <a:srgbClr val="88bbbb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00"/>
              </a:spcBef>
              <a:spcAft>
                <a:spcPts val="400"/>
              </a:spcAft>
              <a:buClr>
                <a:srgbClr val="88bbbb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349"/>
              </a:spcBef>
              <a:spcAft>
                <a:spcPts val="349"/>
              </a:spcAft>
              <a:buClr>
                <a:srgbClr val="bbbbaa"/>
              </a:buClr>
              <a:buSzPct val="105000"/>
              <a:buFont typeface="Arial"/>
              <a:buChar char="&gt;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349"/>
              </a:spcBef>
              <a:buClr>
                <a:srgbClr val="0d6072"/>
              </a:buClr>
              <a:buSzPct val="105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349"/>
              </a:spcBef>
              <a:buClr>
                <a:srgbClr val="0d6072"/>
              </a:buClr>
              <a:buSzPct val="105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7086600" y="228600"/>
            <a:ext cx="1768320" cy="10065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rcRect l="2560" t="6803" r="186" b="2040"/>
          <a:stretch/>
        </p:blipFill>
        <p:spPr>
          <a:xfrm>
            <a:off x="1676520" y="0"/>
            <a:ext cx="678168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352320" y="2971440"/>
            <a:ext cx="5410440" cy="2133720"/>
          </a:xfrm>
          <a:prstGeom prst="rect">
            <a:avLst/>
          </a:prstGeom>
          <a:noFill/>
          <a:ln w="0">
            <a:noFill/>
          </a:ln>
          <a:effectLst>
            <a:outerShdw dist="38183" dir="13500000" blurRad="0" rotWithShape="0">
              <a:srgbClr val="81756e">
                <a:alpha val="58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Trends in Regionalization of Inpatient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Care for Urological Malignancies</a:t>
            </a:r>
            <a:endParaRPr b="1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"/>
          <p:cNvSpPr/>
          <p:nvPr/>
        </p:nvSpPr>
        <p:spPr>
          <a:xfrm>
            <a:off x="88920" y="3867840"/>
            <a:ext cx="2895480" cy="2863080"/>
          </a:xfrm>
          <a:prstGeom prst="rect">
            <a:avLst/>
          </a:prstGeom>
          <a:noFill/>
          <a:ln w="0">
            <a:noFill/>
          </a:ln>
          <a:effectLst>
            <a:outerShdw dist="12620" dir="16003771" blurRad="0" rotWithShape="0">
              <a:srgbClr val="808080">
                <a:alpha val="8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4f4f4"/>
                </a:solidFill>
                <a:latin typeface="Verdana"/>
              </a:rPr>
              <a:t>Matthew R. Cooperberg</a:t>
            </a:r>
            <a:endParaRPr b="0" lang="en-US" sz="1600" spc="-1" strike="noStrike">
              <a:solidFill>
                <a:srgbClr val="0d6072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4f4f4"/>
                </a:solidFill>
                <a:latin typeface="Verdana"/>
              </a:rPr>
              <a:t>Sanjukta Modak</a:t>
            </a:r>
            <a:endParaRPr b="0" lang="en-US" sz="1600" spc="-1" strike="noStrike">
              <a:solidFill>
                <a:srgbClr val="0d6072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4f4f4"/>
                </a:solidFill>
                <a:latin typeface="Verdana"/>
              </a:rPr>
              <a:t>Badrinath R. Konety</a:t>
            </a:r>
            <a:endParaRPr b="0" lang="en-US" sz="1600" spc="-1" strike="noStrike">
              <a:solidFill>
                <a:srgbClr val="0d6072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d6072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4f4f4"/>
                </a:solidFill>
                <a:latin typeface="Verdana"/>
              </a:rPr>
              <a:t>Department of Urology</a:t>
            </a:r>
            <a:endParaRPr b="0" lang="en-US" sz="1600" spc="-1" strike="noStrike">
              <a:solidFill>
                <a:srgbClr val="0d6072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4f4f4"/>
                </a:solidFill>
                <a:latin typeface="Verdana"/>
              </a:rPr>
              <a:t>University of California,</a:t>
            </a:r>
            <a:endParaRPr b="0" lang="en-US" sz="1400" spc="-1" strike="noStrike">
              <a:solidFill>
                <a:srgbClr val="0d6072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4f4f4"/>
                </a:solidFill>
                <a:latin typeface="Verdana"/>
              </a:rPr>
              <a:t>San Franicsco</a:t>
            </a:r>
            <a:endParaRPr b="0" lang="en-US" sz="1400" spc="-1" strike="noStrike">
              <a:solidFill>
                <a:srgbClr val="0d6072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d6072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4f4f4"/>
                </a:solidFill>
                <a:latin typeface="Verdana"/>
              </a:rPr>
              <a:t>AHRQ Annual Conference</a:t>
            </a:r>
            <a:endParaRPr b="0" lang="en-US" sz="1600" spc="-1" strike="noStrike">
              <a:solidFill>
                <a:srgbClr val="0d6072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4f4f4"/>
                </a:solidFill>
                <a:latin typeface="Verdana"/>
              </a:rPr>
              <a:t>Bethesda, MD</a:t>
            </a:r>
            <a:endParaRPr b="0" lang="en-US" sz="1400" spc="-1" strike="noStrike">
              <a:solidFill>
                <a:srgbClr val="0d6072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d6072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4f4f4"/>
                </a:solidFill>
                <a:latin typeface="Verdana"/>
              </a:rPr>
              <a:t>September 10, 2008</a:t>
            </a:r>
            <a:endParaRPr b="0" lang="en-US" sz="1400" spc="-1" strike="noStrike">
              <a:solidFill>
                <a:srgbClr val="0d607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3657240" y="5029200"/>
            <a:ext cx="525780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40f15"/>
                </a:solidFill>
                <a:latin typeface="Verdana"/>
              </a:rPr>
              <a:t>A Heath Care Utilization Project Nationwide Inpatient Sample Study</a:t>
            </a:r>
            <a:endParaRPr b="1" i="1" lang="en-US" sz="2000" spc="-1" strike="noStrike">
              <a:solidFill>
                <a:srgbClr val="0d6072"/>
              </a:solidFill>
              <a:latin typeface="Verdan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409760" y="1778040"/>
            <a:ext cx="7327800" cy="4178160"/>
          </a:xfrm>
          <a:prstGeom prst="rect">
            <a:avLst/>
          </a:prstGeom>
          <a:solidFill>
            <a:srgbClr val="618c8c"/>
          </a:solidFill>
          <a:ln w="9360">
            <a:solidFill>
              <a:srgbClr val="0d6072"/>
            </a:solidFill>
            <a:miter/>
          </a:ln>
          <a:effectLst>
            <a:outerShdw dist="17819" dir="2700000" blurRad="0" rotWithShape="0">
              <a:srgbClr val="bbbba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d6072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93840" y="442440"/>
            <a:ext cx="76867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4351"/>
                </a:solidFill>
                <a:latin typeface="Verdana"/>
              </a:rPr>
              <a:t>Trends in Admissions</a:t>
            </a:r>
            <a:endParaRPr b="1" lang="en-US" sz="3000" spc="-1" strike="noStrike">
              <a:solidFill>
                <a:srgbClr val="084351"/>
              </a:solidFill>
              <a:latin typeface="Verdana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3527280" y="3105000"/>
          <a:ext cx="2917800" cy="1463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27280" y="3105000"/>
                    <a:ext cx="2917800" cy="146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1460520" y="1836720"/>
            <a:ext cx="7238880" cy="407664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1536840" y="1981080"/>
            <a:ext cx="75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d60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409760" y="1778040"/>
            <a:ext cx="7327800" cy="4178160"/>
          </a:xfrm>
          <a:prstGeom prst="rect">
            <a:avLst/>
          </a:prstGeom>
          <a:solidFill>
            <a:srgbClr val="618c8c"/>
          </a:solidFill>
          <a:ln w="9360">
            <a:solidFill>
              <a:srgbClr val="0d6072"/>
            </a:solidFill>
            <a:miter/>
          </a:ln>
          <a:effectLst>
            <a:outerShdw dist="17819" dir="2700000" blurRad="0" rotWithShape="0">
              <a:srgbClr val="bbbba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d6072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93840" y="442440"/>
            <a:ext cx="76867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4351"/>
                </a:solidFill>
                <a:latin typeface="Verdana"/>
              </a:rPr>
              <a:t>Trends in Admissions</a:t>
            </a:r>
            <a:endParaRPr b="1" lang="en-US" sz="3000" spc="-1" strike="noStrike">
              <a:solidFill>
                <a:srgbClr val="084351"/>
              </a:solidFill>
              <a:latin typeface="Verdana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5254560" y="3395520"/>
          <a:ext cx="2917800" cy="1465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4560" y="3395520"/>
                    <a:ext cx="2917800" cy="146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1460520" y="1841400"/>
            <a:ext cx="723888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409760" y="1778040"/>
            <a:ext cx="7327800" cy="4178160"/>
          </a:xfrm>
          <a:prstGeom prst="rect">
            <a:avLst/>
          </a:prstGeom>
          <a:solidFill>
            <a:srgbClr val="618c8c"/>
          </a:solidFill>
          <a:ln w="9360">
            <a:solidFill>
              <a:srgbClr val="0d6072"/>
            </a:solidFill>
            <a:miter/>
          </a:ln>
          <a:effectLst>
            <a:outerShdw dist="17819" dir="2700000" blurRad="0" rotWithShape="0">
              <a:srgbClr val="bbbba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d6072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93840" y="442440"/>
            <a:ext cx="76867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4351"/>
                </a:solidFill>
                <a:latin typeface="Verdana"/>
              </a:rPr>
              <a:t>Trends in Admissions</a:t>
            </a:r>
            <a:endParaRPr b="1" lang="en-US" sz="3000" spc="-1" strike="noStrike">
              <a:solidFill>
                <a:srgbClr val="084351"/>
              </a:solidFill>
              <a:latin typeface="Verdana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5254560" y="3395520"/>
          <a:ext cx="2917800" cy="1465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4560" y="3395520"/>
                    <a:ext cx="2917800" cy="146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1461960" y="1836720"/>
            <a:ext cx="7224840" cy="407664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4138560" y="2514600"/>
            <a:ext cx="763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d60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409760" y="1778040"/>
            <a:ext cx="7264440" cy="4394160"/>
          </a:xfrm>
          <a:prstGeom prst="rect">
            <a:avLst/>
          </a:prstGeom>
          <a:solidFill>
            <a:srgbClr val="618c8c"/>
          </a:solidFill>
          <a:ln w="9360">
            <a:solidFill>
              <a:srgbClr val="0d6072"/>
            </a:solidFill>
            <a:miter/>
          </a:ln>
          <a:effectLst>
            <a:outerShdw dist="17819" dir="2700000" blurRad="0" rotWithShape="0">
              <a:srgbClr val="bbbba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d6072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93840" y="442440"/>
            <a:ext cx="76867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4351"/>
                </a:solidFill>
                <a:latin typeface="Verdana"/>
              </a:rPr>
              <a:t>Trends: Medicare / Medicaid</a:t>
            </a:r>
            <a:endParaRPr b="1" lang="en-US" sz="3000" spc="-1" strike="noStrike">
              <a:solidFill>
                <a:srgbClr val="084351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1536840" y="1981080"/>
            <a:ext cx="75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d6072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460520" y="1828800"/>
            <a:ext cx="7162920" cy="42894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1473120" y="6108840"/>
            <a:ext cx="7124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d6072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409760" y="1778040"/>
            <a:ext cx="7264440" cy="4394160"/>
          </a:xfrm>
          <a:prstGeom prst="rect">
            <a:avLst/>
          </a:prstGeom>
          <a:solidFill>
            <a:srgbClr val="618c8c"/>
          </a:solidFill>
          <a:ln w="9360">
            <a:solidFill>
              <a:srgbClr val="0d6072"/>
            </a:solidFill>
            <a:miter/>
          </a:ln>
          <a:effectLst>
            <a:outerShdw dist="17819" dir="2700000" blurRad="0" rotWithShape="0">
              <a:srgbClr val="bbbba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d6072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93840" y="442440"/>
            <a:ext cx="76867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4351"/>
                </a:solidFill>
                <a:latin typeface="Verdana"/>
              </a:rPr>
              <a:t>Trends: Medicare / Medicaid</a:t>
            </a:r>
            <a:endParaRPr b="1" lang="en-US" sz="3000" spc="-1" strike="noStrike">
              <a:solidFill>
                <a:srgbClr val="084351"/>
              </a:solidFill>
              <a:latin typeface="Verdan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460520" y="1828800"/>
            <a:ext cx="7162920" cy="429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409760" y="1778040"/>
            <a:ext cx="7264440" cy="4394160"/>
          </a:xfrm>
          <a:prstGeom prst="rect">
            <a:avLst/>
          </a:prstGeom>
          <a:solidFill>
            <a:srgbClr val="618c8c"/>
          </a:solidFill>
          <a:ln w="9360">
            <a:solidFill>
              <a:srgbClr val="0d6072"/>
            </a:solidFill>
            <a:miter/>
          </a:ln>
          <a:effectLst>
            <a:outerShdw dist="17819" dir="2700000" blurRad="0" rotWithShape="0">
              <a:srgbClr val="bbbba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d6072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93840" y="442440"/>
            <a:ext cx="76867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4351"/>
                </a:solidFill>
                <a:latin typeface="Verdana"/>
              </a:rPr>
              <a:t>Trends: Medicare / Medicaid</a:t>
            </a:r>
            <a:endParaRPr b="1" lang="en-US" sz="3000" spc="-1" strike="noStrike">
              <a:solidFill>
                <a:srgbClr val="084351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>
            <a:off x="4138560" y="2514600"/>
            <a:ext cx="763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d6072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962520" y="3048120"/>
          <a:ext cx="3139920" cy="1912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2520" y="3048120"/>
                    <a:ext cx="3139920" cy="191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1460520" y="1828800"/>
            <a:ext cx="716760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32000" y="1511280"/>
            <a:ext cx="7505640" cy="4724280"/>
          </a:xfrm>
          <a:prstGeom prst="rect">
            <a:avLst/>
          </a:prstGeom>
          <a:solidFill>
            <a:srgbClr val="0d6072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bbbba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d6072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293840" y="442800"/>
            <a:ext cx="768672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4351"/>
                </a:solidFill>
                <a:latin typeface="Verdana"/>
              </a:rPr>
              <a:t>Bladder Cancer HVH Admissions</a:t>
            </a:r>
            <a:endParaRPr b="0" lang="en-US" sz="3000" spc="-1" strike="noStrike">
              <a:solidFill>
                <a:srgbClr val="0d6072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1319040" y="1486080"/>
          <a:ext cx="7533000" cy="474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19040" y="1486080"/>
                    <a:ext cx="7533000" cy="474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32000" y="1511280"/>
            <a:ext cx="7505640" cy="4724280"/>
          </a:xfrm>
          <a:prstGeom prst="rect">
            <a:avLst/>
          </a:prstGeom>
          <a:solidFill>
            <a:srgbClr val="0d6072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bbbba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d6072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319040" y="1486080"/>
          <a:ext cx="7533000" cy="474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19040" y="1486080"/>
                    <a:ext cx="7533000" cy="474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"/>
          <p:cNvSpPr/>
          <p:nvPr/>
        </p:nvSpPr>
        <p:spPr>
          <a:xfrm>
            <a:off x="1293840" y="442800"/>
            <a:ext cx="768672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4351"/>
                </a:solidFill>
                <a:latin typeface="Verdana"/>
              </a:rPr>
              <a:t>Bladder Cancer HVH Admissions</a:t>
            </a:r>
            <a:endParaRPr b="0" lang="en-US" sz="3000" spc="-1" strike="noStrike">
              <a:solidFill>
                <a:srgbClr val="0d6072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32000" y="1511280"/>
            <a:ext cx="7505640" cy="4724280"/>
          </a:xfrm>
          <a:prstGeom prst="rect">
            <a:avLst/>
          </a:prstGeom>
          <a:solidFill>
            <a:srgbClr val="0d6072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bbbba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d6072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1319040" y="1486080"/>
          <a:ext cx="7533000" cy="474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19040" y="1486080"/>
                    <a:ext cx="7533000" cy="474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"/>
          <p:cNvSpPr/>
          <p:nvPr/>
        </p:nvSpPr>
        <p:spPr>
          <a:xfrm>
            <a:off x="1293840" y="442800"/>
            <a:ext cx="768672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4351"/>
                </a:solidFill>
                <a:latin typeface="Verdana"/>
              </a:rPr>
              <a:t>Bladder Cancer HVH Admissions</a:t>
            </a:r>
            <a:endParaRPr b="0" lang="en-US" sz="3000" spc="-1" strike="noStrike">
              <a:solidFill>
                <a:srgbClr val="0d6072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32000" y="1511280"/>
            <a:ext cx="7505640" cy="4724280"/>
          </a:xfrm>
          <a:prstGeom prst="rect">
            <a:avLst/>
          </a:prstGeom>
          <a:solidFill>
            <a:srgbClr val="0d6072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bbbba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d6072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1319040" y="1486080"/>
          <a:ext cx="7533000" cy="474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19040" y="1486080"/>
                    <a:ext cx="7533000" cy="474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"/>
          <p:cNvSpPr/>
          <p:nvPr/>
        </p:nvSpPr>
        <p:spPr>
          <a:xfrm>
            <a:off x="1293840" y="442800"/>
            <a:ext cx="768672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4351"/>
                </a:solidFill>
                <a:latin typeface="Verdana"/>
              </a:rPr>
              <a:t>Bladder Cancer HVH Admissions</a:t>
            </a:r>
            <a:endParaRPr b="0" lang="en-US" sz="3000" spc="-1" strike="noStrike">
              <a:solidFill>
                <a:srgbClr val="0d6072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221000" y="4215960"/>
            <a:ext cx="47707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550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640f15"/>
                </a:solidFill>
                <a:latin typeface="Verdana"/>
              </a:rPr>
              <a:t>Surgical Volume and Outcomes</a:t>
            </a:r>
            <a:endParaRPr b="1" i="1" lang="en-US" sz="2200" spc="-1" strike="noStrike">
              <a:solidFill>
                <a:srgbClr val="0d6072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4114800" y="3558960"/>
            <a:ext cx="5029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Introduction</a:t>
            </a:r>
            <a:br>
              <a:rPr sz="3000"/>
            </a:br>
            <a:br>
              <a:rPr sz="2600"/>
            </a:b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505320" y="1219320"/>
            <a:ext cx="1768320" cy="100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32000" y="1511280"/>
            <a:ext cx="7505640" cy="4724280"/>
          </a:xfrm>
          <a:prstGeom prst="rect">
            <a:avLst/>
          </a:prstGeom>
          <a:solidFill>
            <a:srgbClr val="0d6072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bbbba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d6072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293840" y="442800"/>
            <a:ext cx="768672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4351"/>
                </a:solidFill>
                <a:latin typeface="Verdana"/>
              </a:rPr>
              <a:t>Renal Cancer HVH Admissions</a:t>
            </a:r>
            <a:endParaRPr b="0" lang="en-US" sz="3000" spc="-1" strike="noStrike">
              <a:solidFill>
                <a:srgbClr val="0d6072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1319040" y="1486080"/>
          <a:ext cx="7533000" cy="474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19040" y="1486080"/>
                    <a:ext cx="7533000" cy="474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32000" y="1511280"/>
            <a:ext cx="7505640" cy="4724280"/>
          </a:xfrm>
          <a:prstGeom prst="rect">
            <a:avLst/>
          </a:prstGeom>
          <a:solidFill>
            <a:srgbClr val="0d6072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bbbba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d6072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1319040" y="1486080"/>
          <a:ext cx="7533000" cy="474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19040" y="1486080"/>
                    <a:ext cx="7533000" cy="474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"/>
          <p:cNvSpPr/>
          <p:nvPr/>
        </p:nvSpPr>
        <p:spPr>
          <a:xfrm>
            <a:off x="1293840" y="442800"/>
            <a:ext cx="768672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4351"/>
                </a:solidFill>
                <a:latin typeface="Verdana"/>
              </a:rPr>
              <a:t>Renal Cancer HVH Admissions</a:t>
            </a:r>
            <a:endParaRPr b="0" lang="en-US" sz="3000" spc="-1" strike="noStrike">
              <a:solidFill>
                <a:srgbClr val="0d6072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32000" y="1511280"/>
            <a:ext cx="7505640" cy="4724280"/>
          </a:xfrm>
          <a:prstGeom prst="rect">
            <a:avLst/>
          </a:prstGeom>
          <a:solidFill>
            <a:srgbClr val="0d6072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bbbba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d6072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1319040" y="1486080"/>
          <a:ext cx="7533000" cy="474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19040" y="1486080"/>
                    <a:ext cx="7533000" cy="474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"/>
          <p:cNvSpPr/>
          <p:nvPr/>
        </p:nvSpPr>
        <p:spPr>
          <a:xfrm>
            <a:off x="1293840" y="442800"/>
            <a:ext cx="768672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4351"/>
                </a:solidFill>
                <a:latin typeface="Verdana"/>
              </a:rPr>
              <a:t>Renal Cancer HVH Admissions</a:t>
            </a:r>
            <a:endParaRPr b="0" lang="en-US" sz="3000" spc="-1" strike="noStrike">
              <a:solidFill>
                <a:srgbClr val="0d6072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332000" y="1511280"/>
            <a:ext cx="7505640" cy="4724280"/>
          </a:xfrm>
          <a:prstGeom prst="rect">
            <a:avLst/>
          </a:prstGeom>
          <a:solidFill>
            <a:srgbClr val="0d6072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bbbba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d6072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1319040" y="1486080"/>
          <a:ext cx="7533000" cy="474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19040" y="1486080"/>
                    <a:ext cx="7533000" cy="474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5" name=""/>
          <p:cNvSpPr/>
          <p:nvPr/>
        </p:nvSpPr>
        <p:spPr>
          <a:xfrm>
            <a:off x="1293840" y="442800"/>
            <a:ext cx="768672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4351"/>
                </a:solidFill>
                <a:latin typeface="Verdana"/>
              </a:rPr>
              <a:t>Renal Cancer HVH Admissions</a:t>
            </a:r>
            <a:endParaRPr b="0" lang="en-US" sz="3000" spc="-1" strike="noStrike">
              <a:solidFill>
                <a:srgbClr val="0d6072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1332000" y="1511280"/>
            <a:ext cx="7505640" cy="4724280"/>
          </a:xfrm>
          <a:prstGeom prst="rect">
            <a:avLst/>
          </a:prstGeom>
          <a:solidFill>
            <a:srgbClr val="0d6072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bbbba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d6072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293840" y="442800"/>
            <a:ext cx="768672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4351"/>
                </a:solidFill>
                <a:latin typeface="Verdana"/>
              </a:rPr>
              <a:t>Prostate Cancer HVH Admissions</a:t>
            </a:r>
            <a:endParaRPr b="0" lang="en-US" sz="3000" spc="-1" strike="noStrike">
              <a:solidFill>
                <a:srgbClr val="0d6072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1319040" y="1486080"/>
          <a:ext cx="7533000" cy="474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19040" y="1486080"/>
                    <a:ext cx="7533000" cy="474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332000" y="1511280"/>
            <a:ext cx="7505640" cy="4724280"/>
          </a:xfrm>
          <a:prstGeom prst="rect">
            <a:avLst/>
          </a:prstGeom>
          <a:solidFill>
            <a:srgbClr val="0d6072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bbbba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d6072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293840" y="442800"/>
            <a:ext cx="768672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4351"/>
                </a:solidFill>
                <a:latin typeface="Verdana"/>
              </a:rPr>
              <a:t>Prostate Cancer HVH Admissions</a:t>
            </a:r>
            <a:endParaRPr b="0" lang="en-US" sz="3000" spc="-1" strike="noStrike">
              <a:solidFill>
                <a:srgbClr val="0d6072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1319040" y="1486080"/>
          <a:ext cx="7533000" cy="474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19040" y="1486080"/>
                    <a:ext cx="7533000" cy="474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332000" y="1511280"/>
            <a:ext cx="7505640" cy="4724280"/>
          </a:xfrm>
          <a:prstGeom prst="rect">
            <a:avLst/>
          </a:prstGeom>
          <a:solidFill>
            <a:srgbClr val="0d6072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bbbba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d6072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293840" y="442800"/>
            <a:ext cx="768672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4351"/>
                </a:solidFill>
                <a:latin typeface="Verdana"/>
              </a:rPr>
              <a:t>Prostate Cancer HVH Admissions</a:t>
            </a:r>
            <a:endParaRPr b="0" lang="en-US" sz="3000" spc="-1" strike="noStrike">
              <a:solidFill>
                <a:srgbClr val="0d6072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319040" y="1486080"/>
          <a:ext cx="7533000" cy="474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19040" y="1486080"/>
                    <a:ext cx="7533000" cy="474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332000" y="1511280"/>
            <a:ext cx="7505640" cy="4724280"/>
          </a:xfrm>
          <a:prstGeom prst="rect">
            <a:avLst/>
          </a:prstGeom>
          <a:solidFill>
            <a:srgbClr val="0d6072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bbbba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d6072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293840" y="442800"/>
            <a:ext cx="768672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4351"/>
                </a:solidFill>
                <a:latin typeface="Verdana"/>
              </a:rPr>
              <a:t>Prostate Cancer HVH Admissions</a:t>
            </a:r>
            <a:endParaRPr b="0" lang="en-US" sz="3000" spc="-1" strike="noStrike">
              <a:solidFill>
                <a:srgbClr val="0d6072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1319040" y="1486080"/>
          <a:ext cx="7533000" cy="474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19040" y="1486080"/>
                    <a:ext cx="7533000" cy="474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114800" y="3558960"/>
            <a:ext cx="5029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Conclusions and Implications</a:t>
            </a:r>
            <a:br>
              <a:rPr sz="3000"/>
            </a:br>
            <a:br>
              <a:rPr sz="2600"/>
            </a:b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3505320" y="1219320"/>
            <a:ext cx="1768320" cy="100620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4144680" y="4708080"/>
            <a:ext cx="438156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i="1" lang="en-US" sz="1900" spc="-1" strike="noStrike">
              <a:solidFill>
                <a:srgbClr val="0d6072"/>
              </a:solidFill>
              <a:latin typeface="Verdan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293840" y="442440"/>
            <a:ext cx="76867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4351"/>
                </a:solidFill>
                <a:latin typeface="Verdana"/>
              </a:rPr>
              <a:t>Summary of findings</a:t>
            </a:r>
            <a:endParaRPr b="1" lang="en-US" sz="3000" spc="-1" strike="noStrike">
              <a:solidFill>
                <a:srgbClr val="084351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290600" y="1371600"/>
            <a:ext cx="7688160" cy="51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-289080">
              <a:spcBef>
                <a:spcPts val="649"/>
              </a:spcBef>
              <a:spcAft>
                <a:spcPts val="649"/>
              </a:spcAft>
              <a:buClr>
                <a:srgbClr val="640f15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bout 2/3 of urologic oncology admissions at HVH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649"/>
              </a:spcBef>
              <a:spcAft>
                <a:spcPts val="649"/>
              </a:spcAft>
              <a:buClr>
                <a:srgbClr val="640f15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lative increase in regional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640f1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.5% for bladder canc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640f1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8.9% for renal canc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640f1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 increase for prostate cancer but higher baseli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649"/>
              </a:spcBef>
              <a:spcAft>
                <a:spcPts val="649"/>
              </a:spcAft>
              <a:buClr>
                <a:srgbClr val="640f15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ubstantial regional vari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290600" y="1371600"/>
            <a:ext cx="7688160" cy="51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-289080">
              <a:lnSpc>
                <a:spcPct val="115000"/>
              </a:lnSpc>
              <a:spcAft>
                <a:spcPts val="300"/>
              </a:spcAft>
              <a:buClr>
                <a:srgbClr val="640f15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Hospital surgical volume associated with better outcomes, first noted 1979 </a:t>
            </a:r>
            <a:r>
              <a:rPr b="0" lang="en-US" sz="1400" spc="-1" strike="noStrike">
                <a:solidFill>
                  <a:srgbClr val="640f15"/>
                </a:solidFill>
                <a:latin typeface="Verdana"/>
              </a:rPr>
              <a:t>[Luft et al. NEJM 1979; 301:1364]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115000"/>
              </a:lnSpc>
              <a:spcAft>
                <a:spcPts val="300"/>
              </a:spcAft>
              <a:buClr>
                <a:srgbClr val="640f15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jor cancer surgery </a:t>
            </a:r>
            <a:r>
              <a:rPr b="0" lang="en-US" sz="1400" spc="-1" strike="noStrike">
                <a:solidFill>
                  <a:srgbClr val="640f15"/>
                </a:solidFill>
                <a:latin typeface="Verdana"/>
              </a:rPr>
              <a:t>[Begg et al. JAMA 1998; 280:1747]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115000"/>
              </a:lnSpc>
              <a:spcAft>
                <a:spcPts val="300"/>
              </a:spcAft>
              <a:buClr>
                <a:srgbClr val="640f15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rologic oncologic surgery </a:t>
            </a:r>
            <a:r>
              <a:rPr b="0" lang="en-US" sz="1400" spc="-1" strike="noStrike">
                <a:solidFill>
                  <a:srgbClr val="640f15"/>
                </a:solidFill>
                <a:latin typeface="Verdana"/>
              </a:rPr>
              <a:t>[Joudi et al. J Urol 2005; 174:432]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Aft>
                <a:spcPts val="300"/>
              </a:spcAft>
              <a:buClr>
                <a:srgbClr val="640f1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CUP NIS cystectomy studies: postop mortality 2.9% vs 6.4% in highest vs lowest quintile volume hospitals </a:t>
            </a:r>
            <a:r>
              <a:rPr b="0" lang="en-US" sz="1400" spc="-1" strike="noStrike">
                <a:solidFill>
                  <a:srgbClr val="640f15"/>
                </a:solidFill>
                <a:latin typeface="Verdana"/>
              </a:rPr>
              <a:t>[Birkmeyer et al. NEJM 2002; 346:1128]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Aft>
                <a:spcPts val="300"/>
              </a:spcAft>
              <a:buClr>
                <a:srgbClr val="640f1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igher volume assoc with shorter LOS, lower charges, lower complication rates </a:t>
            </a:r>
            <a:r>
              <a:rPr b="0" lang="en-US" sz="1400" spc="-1" strike="noStrike">
                <a:solidFill>
                  <a:srgbClr val="640f15"/>
                </a:solidFill>
                <a:latin typeface="Verdana"/>
              </a:rPr>
              <a:t>[Konety et al. J Urol 2005; 175:1695. Konety et al. Urology 2006; 68:58]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Aft>
                <a:spcPts val="300"/>
              </a:spcAft>
              <a:buClr>
                <a:srgbClr val="640f1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VH status for other urologic or non-urologic surgery not assoc with outcomes </a:t>
            </a:r>
            <a:r>
              <a:rPr b="0" lang="en-US" sz="1400" spc="-1" strike="noStrike">
                <a:solidFill>
                  <a:srgbClr val="640f15"/>
                </a:solidFill>
                <a:latin typeface="Verdana"/>
              </a:rPr>
              <a:t>[Konety et al. J Clin Oncol 2006; 24:2006]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89080" indent="0">
              <a:lnSpc>
                <a:spcPct val="115000"/>
              </a:lnSpc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1293840" y="442440"/>
            <a:ext cx="7686720" cy="7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84351"/>
                </a:solidFill>
                <a:latin typeface="Verdana"/>
              </a:rPr>
              <a:t>Associating volume and outcomes</a:t>
            </a:r>
            <a:endParaRPr b="1" lang="en-US" sz="2900" spc="-1" strike="noStrike">
              <a:solidFill>
                <a:srgbClr val="08435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93840" y="442440"/>
            <a:ext cx="76867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4351"/>
                </a:solidFill>
                <a:latin typeface="Verdana"/>
              </a:rPr>
              <a:t>Is regionalization a good trend?</a:t>
            </a:r>
            <a:endParaRPr b="1" lang="en-US" sz="3000" spc="-1" strike="noStrike">
              <a:solidFill>
                <a:srgbClr val="084351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290600" y="1317240"/>
            <a:ext cx="768816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-289080">
              <a:spcBef>
                <a:spcPts val="451"/>
              </a:spcBef>
              <a:spcAft>
                <a:spcPts val="451"/>
              </a:spcAft>
              <a:buClr>
                <a:srgbClr val="640f15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CUP study: hospitals meeting Leapfrog Group volume standards had similar in-hospital mortality to others. Volume standards would adversely impact low volume hospitals and increase patient travel time. </a:t>
            </a:r>
            <a:r>
              <a:rPr b="0" lang="en-US" sz="1800" spc="-1" strike="noStrike">
                <a:solidFill>
                  <a:srgbClr val="640f15"/>
                </a:solidFill>
                <a:latin typeface="Verdana"/>
              </a:rPr>
              <a:t>[Ward et al. J Rural Health 2004; 20:344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451"/>
              </a:spcBef>
              <a:spcAft>
                <a:spcPts val="451"/>
              </a:spcAft>
              <a:buClr>
                <a:srgbClr val="640f15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y rural areas lack the referral base to support even one HVH for some procedures. </a:t>
            </a:r>
            <a:r>
              <a:rPr b="0" lang="en-US" sz="1800" spc="-1" strike="noStrike">
                <a:solidFill>
                  <a:srgbClr val="640f15"/>
                </a:solidFill>
                <a:latin typeface="Verdana"/>
              </a:rPr>
              <a:t>[Dimick et al. Health Aff 2004; web VAR45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451"/>
              </a:spcBef>
              <a:spcAft>
                <a:spcPts val="451"/>
              </a:spcAft>
              <a:buClr>
                <a:srgbClr val="640f15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 invasive bladder cancer a delay of &gt;3 months from diagnosis to cystectomy is associated with increased mortality. </a:t>
            </a:r>
            <a:r>
              <a:rPr b="0" lang="en-US" sz="1800" spc="-1" strike="noStrike">
                <a:solidFill>
                  <a:srgbClr val="640f15"/>
                </a:solidFill>
                <a:latin typeface="Verdana"/>
              </a:rPr>
              <a:t>[Chang et al. J Urol 2003; 170: 1085. Sanchez-Ortiz et al. J Urol 2003; 169:110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293840" y="442440"/>
            <a:ext cx="76867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4351"/>
                </a:solidFill>
                <a:latin typeface="Verdana"/>
              </a:rPr>
              <a:t>Is regionalization a good trend?</a:t>
            </a:r>
            <a:endParaRPr b="1" lang="en-US" sz="3000" spc="-1" strike="noStrike">
              <a:solidFill>
                <a:srgbClr val="084351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290600" y="1281240"/>
            <a:ext cx="7688160" cy="53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-289080">
              <a:spcBef>
                <a:spcPts val="451"/>
              </a:spcBef>
              <a:spcAft>
                <a:spcPts val="451"/>
              </a:spcAft>
              <a:buClr>
                <a:srgbClr val="640f15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Proportion of US hospitals performing cystectomy varied from 45 to 50% between 1988 and 1996, then fell to 39% by 2000.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640f15"/>
                </a:solidFill>
                <a:latin typeface="Verdana"/>
              </a:rPr>
              <a:t>[Taub et al. J Urol 2006; 176:2612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451"/>
              </a:spcBef>
              <a:spcAft>
                <a:spcPts val="451"/>
              </a:spcAft>
              <a:buClr>
                <a:srgbClr val="640f15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Nonwhite patients, those with Medicaid / no insurance less likely to receive complex surgical care at HVH (in general and cystectomy)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640f15"/>
                </a:solidFill>
                <a:latin typeface="Verdana"/>
              </a:rPr>
              <a:t>[Liu et al. JAMA 2006; 296:1973. Konety et al. Cancer 2007; 109:542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451"/>
              </a:spcBef>
              <a:spcAft>
                <a:spcPts val="451"/>
              </a:spcAft>
              <a:buClr>
                <a:srgbClr val="640f15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Bladder cancer patients tend to be older and low SES; radical cystectomy generally perceived to be under-compensated. Regionalization increases burden of uncompensated care on HVH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640f15"/>
                </a:solidFill>
                <a:latin typeface="Verdana"/>
              </a:rPr>
              <a:t>[Soloway. Cancer 2005; 104:1559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76320" y="2000160"/>
            <a:ext cx="8877240" cy="44769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232" name=""/>
          <p:cNvSpPr/>
          <p:nvPr/>
        </p:nvSpPr>
        <p:spPr>
          <a:xfrm>
            <a:off x="1293840" y="442800"/>
            <a:ext cx="768672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4351"/>
                </a:solidFill>
                <a:latin typeface="Verdana"/>
              </a:rPr>
              <a:t>Urologist Distribution</a:t>
            </a:r>
            <a:endParaRPr b="0" lang="en-US" sz="3000" spc="-1" strike="noStrike">
              <a:solidFill>
                <a:srgbClr val="0d6072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000680" y="6546960"/>
            <a:ext cx="502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e0a14"/>
                </a:solidFill>
                <a:latin typeface="Verdana"/>
              </a:rPr>
              <a:t>Odisho et al. J Urol, in press</a:t>
            </a:r>
            <a:endParaRPr b="0" lang="en-US" sz="1600" spc="-1" strike="noStrike">
              <a:solidFill>
                <a:srgbClr val="0d6072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590920" y="1460520"/>
            <a:ext cx="454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e0a14"/>
                </a:solidFill>
                <a:latin typeface="Verdana"/>
              </a:rPr>
              <a:t>Data from HRSA Area Resource File, 2006</a:t>
            </a:r>
            <a:endParaRPr b="0" lang="en-US" sz="1600" spc="-1" strike="noStrike">
              <a:solidFill>
                <a:srgbClr val="0d60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76320" y="2000160"/>
            <a:ext cx="8877240" cy="44769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236" name=""/>
          <p:cNvSpPr/>
          <p:nvPr/>
        </p:nvSpPr>
        <p:spPr>
          <a:xfrm>
            <a:off x="1293840" y="442800"/>
            <a:ext cx="768672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4351"/>
                </a:solidFill>
                <a:latin typeface="Verdana"/>
              </a:rPr>
              <a:t>Urologist Distribution</a:t>
            </a:r>
            <a:endParaRPr b="0" lang="en-US" sz="3000" spc="-1" strike="noStrike">
              <a:solidFill>
                <a:srgbClr val="0d6072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000680" y="6546960"/>
            <a:ext cx="502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e0a14"/>
                </a:solidFill>
                <a:latin typeface="Verdana"/>
              </a:rPr>
              <a:t>Odisho et al. J Urol, in press</a:t>
            </a:r>
            <a:endParaRPr b="0" lang="en-US" sz="1600" spc="-1" strike="noStrike">
              <a:solidFill>
                <a:srgbClr val="0d6072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590920" y="1460520"/>
            <a:ext cx="454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e0a14"/>
                </a:solidFill>
                <a:latin typeface="Verdana"/>
              </a:rPr>
              <a:t>Data from HRSA Area Resource File, 2006</a:t>
            </a:r>
            <a:endParaRPr b="0" lang="en-US" sz="1600" spc="-1" strike="noStrike">
              <a:solidFill>
                <a:srgbClr val="0d6072"/>
              </a:solidFill>
              <a:latin typeface="Arial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114480" y="2030400"/>
            <a:ext cx="8775360" cy="4357800"/>
            <a:chOff x="114480" y="2030400"/>
            <a:chExt cx="8775360" cy="4357800"/>
          </a:xfrm>
        </p:grpSpPr>
        <p:pic>
          <p:nvPicPr>
            <p:cNvPr id="240" name="" descr=""/>
            <p:cNvPicPr/>
            <p:nvPr/>
          </p:nvPicPr>
          <p:blipFill>
            <a:blip r:embed="rId2"/>
            <a:srcRect l="1944" t="2372" r="2084" b="7648"/>
            <a:stretch/>
          </p:blipFill>
          <p:spPr>
            <a:xfrm>
              <a:off x="114480" y="2030400"/>
              <a:ext cx="8775360" cy="433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226080" y="6019920"/>
              <a:ext cx="1733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40f15"/>
                  </a:solidFill>
                  <a:latin typeface="Verdana"/>
                </a:rPr>
                <a:t>Urologists &lt;45</a:t>
              </a:r>
              <a:endParaRPr b="0" lang="en-US" sz="1800" spc="-1" strike="noStrike">
                <a:solidFill>
                  <a:srgbClr val="0d6072"/>
                </a:solidFill>
                <a:latin typeface="Arial"/>
              </a:endParaRPr>
            </a:p>
          </p:txBody>
        </p:sp>
      </p:grpSp>
    </p:spTree>
  </p:cSld>
  <p:transition spd="slow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93840" y="442440"/>
            <a:ext cx="76867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4351"/>
                </a:solidFill>
                <a:latin typeface="Verdana"/>
              </a:rPr>
              <a:t>Conclusions</a:t>
            </a:r>
            <a:endParaRPr b="1" lang="en-US" sz="3000" spc="-1" strike="noStrike">
              <a:solidFill>
                <a:srgbClr val="084351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290600" y="1371600"/>
            <a:ext cx="7688160" cy="51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-28908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Clr>
                <a:srgbClr val="640f15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Regionalization of bladder and renal cancer care has occurred over the past 15 year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Clr>
                <a:srgbClr val="640f15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Trend is likely to continue given provider demographic trend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Clr>
                <a:srgbClr val="640f15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olicy decisions must balance (possible) benefit due to regionalization with (likely) harm if access is reduce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Clr>
                <a:srgbClr val="640f15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lternative: identify and promulgate HVH processes of car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Clr>
                <a:srgbClr val="640f15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HCUP/NIS invaluable for descriptive health services research; clinically rich data needed to better define volume-outcomes association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289080" indent="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290600" y="1371600"/>
            <a:ext cx="7688160" cy="51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-289080">
              <a:lnSpc>
                <a:spcPct val="115000"/>
              </a:lnSpc>
              <a:spcAft>
                <a:spcPts val="300"/>
              </a:spcAft>
              <a:buClr>
                <a:srgbClr val="640f15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s hospital volume or surgeon volume more important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Aft>
                <a:spcPts val="300"/>
              </a:spcAft>
              <a:buClr>
                <a:srgbClr val="640f1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edicare analysis: surgeon volume accounts for 39% of the effect of hospital volume </a:t>
            </a:r>
            <a:r>
              <a:rPr b="0" lang="en-US" sz="1600" spc="-1" strike="noStrike">
                <a:solidFill>
                  <a:srgbClr val="640f15"/>
                </a:solidFill>
                <a:latin typeface="Verdana"/>
              </a:rPr>
              <a:t>[Birkmeyer et al. NEJM 2004; 349:2117]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155000"/>
              </a:lnSpc>
              <a:spcAft>
                <a:spcPts val="300"/>
              </a:spcAft>
              <a:buClr>
                <a:srgbClr val="640f15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hat else drives the associ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Aft>
                <a:spcPts val="300"/>
              </a:spcAft>
              <a:buClr>
                <a:srgbClr val="640f1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ospital size (beds / capacity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Aft>
                <a:spcPts val="300"/>
              </a:spcAft>
              <a:buClr>
                <a:srgbClr val="640f1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rban loc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Aft>
                <a:spcPts val="300"/>
              </a:spcAft>
              <a:buClr>
                <a:srgbClr val="640f1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eaching miss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Aft>
                <a:spcPts val="300"/>
              </a:spcAft>
              <a:buClr>
                <a:srgbClr val="640f1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ffing rati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Aft>
                <a:spcPts val="300"/>
              </a:spcAft>
              <a:buClr>
                <a:srgbClr val="640f1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atient age, LOS, other procedur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15000"/>
              </a:lnSpc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9080" indent="0">
              <a:lnSpc>
                <a:spcPct val="115000"/>
              </a:lnSpc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1293840" y="442440"/>
            <a:ext cx="7686720" cy="7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4351"/>
                </a:solidFill>
                <a:latin typeface="Verdana"/>
              </a:rPr>
              <a:t>“</a:t>
            </a:r>
            <a:r>
              <a:rPr b="1" lang="en-US" sz="2800" spc="-1" strike="noStrike">
                <a:solidFill>
                  <a:srgbClr val="084351"/>
                </a:solidFill>
                <a:latin typeface="Verdana"/>
              </a:rPr>
              <a:t>Getting under the hood”</a:t>
            </a:r>
            <a:endParaRPr b="1" lang="en-US" sz="2800" spc="-1" strike="noStrike">
              <a:solidFill>
                <a:srgbClr val="084351"/>
              </a:solidFill>
              <a:latin typeface="Verdana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5791320"/>
            <a:ext cx="4991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e0a14"/>
                </a:solidFill>
                <a:latin typeface="Verdana"/>
              </a:rPr>
              <a:t>Hollenbeck et al. J Urol 2007; 177:2095 Konety et al. J Urol 2004; 172:1056</a:t>
            </a:r>
            <a:endParaRPr b="0" lang="en-US" sz="1600" spc="-1" strike="noStrike">
              <a:solidFill>
                <a:srgbClr val="0d6072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e0a14"/>
                </a:solidFill>
                <a:latin typeface="Verdana"/>
              </a:rPr>
              <a:t>Konety et al. J Urol 2005; 173:1695</a:t>
            </a:r>
            <a:endParaRPr b="0" lang="en-US" sz="1600" spc="-1" strike="noStrike">
              <a:solidFill>
                <a:srgbClr val="0d60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93840" y="442440"/>
            <a:ext cx="76867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4351"/>
                </a:solidFill>
                <a:latin typeface="Verdana"/>
              </a:rPr>
              <a:t>Volume-outcomes continued…</a:t>
            </a:r>
            <a:endParaRPr b="1" lang="en-US" sz="3000" spc="-1" strike="noStrike">
              <a:solidFill>
                <a:srgbClr val="084351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90600" y="1371600"/>
            <a:ext cx="7688160" cy="51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-289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640f15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OM systemic review 2002: 135 studies across 27 diagnoses / procedures </a:t>
            </a:r>
            <a:r>
              <a:rPr b="0" lang="en-US" sz="1500" spc="-1" strike="noStrike">
                <a:solidFill>
                  <a:srgbClr val="640f15"/>
                </a:solidFill>
                <a:latin typeface="Verdana"/>
              </a:rPr>
              <a:t>[Halm et al. Ann Intern Med 2002; 137:511]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640f1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general higher volumes associate with better outcomes, but magnitude of association varies widely, as does methodological quality of studi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Clr>
                <a:srgbClr val="640f15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vider variables may be outweighed by patient variables, perhaps insufficiently reflected in claims-based data (NSQIP investigators) [</a:t>
            </a:r>
            <a:r>
              <a:rPr b="0" lang="en-US" sz="1600" spc="-1" strike="noStrike">
                <a:solidFill>
                  <a:srgbClr val="6e0a14"/>
                </a:solidFill>
                <a:latin typeface="Verdana"/>
              </a:rPr>
              <a:t>Khuri et al. World J Surg 2005; 29:1222, Best et al. J Am Coll Surg 2002; 194:257]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640f15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ular / temporal trend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Clr>
                <a:srgbClr val="640f1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.g., NIS analysis CABG: during period of declining volume, 50% decline in proportion of HVH, mortality declined consistently with greatest decline among LVHs </a:t>
            </a:r>
            <a:r>
              <a:rPr b="0" lang="en-US" sz="1400" spc="-1" strike="noStrike">
                <a:solidFill>
                  <a:srgbClr val="640f15"/>
                </a:solidFill>
                <a:latin typeface="Verdana"/>
              </a:rPr>
              <a:t>[Ricciardi et al. Arch Surg 2008; 143:338]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640f15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gionalization already supported by policy (public and private, mostly reimbursement-driven) in some case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114800" y="3558960"/>
            <a:ext cx="5029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Methods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505320" y="1219320"/>
            <a:ext cx="1768320" cy="100620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144680" y="4708080"/>
            <a:ext cx="438156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i="1" lang="en-US" sz="1900" spc="-1" strike="noStrike">
              <a:solidFill>
                <a:srgbClr val="0d6072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93840" y="442440"/>
            <a:ext cx="76867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4351"/>
                </a:solidFill>
                <a:latin typeface="Verdana"/>
              </a:rPr>
              <a:t>15-year Trends in Regionalization</a:t>
            </a:r>
            <a:endParaRPr b="1" lang="en-US" sz="3000" spc="-1" strike="noStrike">
              <a:solidFill>
                <a:srgbClr val="084351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90600" y="1371600"/>
            <a:ext cx="7688160" cy="51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-289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640f15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CUP NIS data 1988-2002: accessible source of population-based data on health services tren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640f1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ladder canc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640f1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nal canc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640f1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state canc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640f15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ospitals ranked to tertiles in each year by numbers of discharges (excluding those with no discharg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640f15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parate analyses of </a:t>
            </a:r>
            <a:r>
              <a:rPr b="0" lang="en-US" sz="2400" spc="-1" strike="noStrike">
                <a:solidFill>
                  <a:srgbClr val="640f15"/>
                </a:solidFill>
                <a:latin typeface="Verdana"/>
              </a:rPr>
              <a:t>surgical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US" sz="2400" spc="-1" strike="noStrike">
                <a:solidFill>
                  <a:srgbClr val="640f15"/>
                </a:solidFill>
                <a:latin typeface="Verdana"/>
              </a:rPr>
              <a:t>non-surgical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dmiss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640f15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bset analyses by geographic region and primary pay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114800" y="3558960"/>
            <a:ext cx="5029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Results</a:t>
            </a:r>
            <a:br>
              <a:rPr sz="3000"/>
            </a:br>
            <a:br>
              <a:rPr sz="2600"/>
            </a:b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505320" y="1219320"/>
            <a:ext cx="1768320" cy="100620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144680" y="4708080"/>
            <a:ext cx="438156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i="1" lang="en-US" sz="1900" spc="-1" strike="noStrike">
              <a:solidFill>
                <a:srgbClr val="0d6072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397160" y="1917720"/>
            <a:ext cx="7429320" cy="3898800"/>
          </a:xfrm>
          <a:prstGeom prst="rect">
            <a:avLst/>
          </a:prstGeom>
          <a:solidFill>
            <a:srgbClr val="618c8c"/>
          </a:solidFill>
          <a:ln w="9360">
            <a:solidFill>
              <a:srgbClr val="0d6072"/>
            </a:solidFill>
            <a:miter/>
          </a:ln>
          <a:effectLst>
            <a:outerShdw dist="17819" dir="2700000" blurRad="0" rotWithShape="0">
              <a:srgbClr val="bbbba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d6072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93840" y="442440"/>
            <a:ext cx="76867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4351"/>
                </a:solidFill>
                <a:latin typeface="Verdana"/>
              </a:rPr>
              <a:t>Surgical volume thresholds</a:t>
            </a:r>
            <a:endParaRPr b="1" lang="en-US" sz="3000" spc="-1" strike="noStrike">
              <a:solidFill>
                <a:srgbClr val="084351"/>
              </a:solidFill>
              <a:latin typeface="Verdan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1523880" y="1968480"/>
          <a:ext cx="6858000" cy="3530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968480"/>
                    <a:ext cx="6858000" cy="353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1447920" y="1981080"/>
            <a:ext cx="7315200" cy="37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4T23:01:30Z</dcterms:created>
  <dc:creator>m c</dc:creator>
  <dc:description/>
  <dc:language>en-US</dc:language>
  <cp:lastModifiedBy>Ibukun_2</cp:lastModifiedBy>
  <dcterms:modified xsi:type="dcterms:W3CDTF">2008-10-09T18:45:59Z</dcterms:modified>
  <cp:revision>291</cp:revision>
  <dc:subject/>
  <dc:title>PowerPoint Presentation</dc:title>
</cp:coreProperties>
</file>