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E: Myths, Mirages and Re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nald P.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8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8 AHRQ Annual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A4B3C2-6E63-4E2E-A246-6D38E5500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.coolquotes.com/categories/leo_tolstoy.html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410089-ACB8-4F31-B472-D49F8BF2B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48D42-7F2E-476F-9284-B48EB0359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FCEFF-54C4-4B11-98E5-E5C81D2EF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Dakota State Capitol Building with flower beds in foreground spelling out “North Dakot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96060-59E4-45AD-8293-0B8D63589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 to the highway bridge that crosses the Missouri River at Bismarck, 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261619-13BF-4285-8C1B-111D8ECC1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DC9CB-7DC0-4FDF-A41A-0D4AAEF04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ce quot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o Tolstoy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 "The two most powerful warriors are patience and time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FF815A-893A-4A9C-BD9E-921A5215E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ariachi Band with singe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4E98CE-EA71-4F2B-9894-96117CF58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CFB85-4762-4585-9453-E5C9A7C80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C39DC6-F10F-4CA2-A0A2-809D28025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263840"/>
            <a:ext cx="63086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D45167-C6C8-477F-8A5A-82A654B2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50DFF4-335F-403E-BD78-8D9661964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DDB6D5-E939-490E-BD6C-BEDEB7D87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BEBC74-5BDF-476B-AD94-33112EC5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0E30C2-2631-46FA-9071-E63C79DE1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700FE7-2032-4BE8-BF4E-838112B13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4B15A2-7FDE-462F-A63D-CFBAC31CF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D27-06A0-48B0-BFB7-F82D29C2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674-2FE7-4FC9-949F-466F0B65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6CF-FCE0-4A30-86BE-BA50673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A55-A159-4E4F-864B-A2ABE691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62A-6F1C-44A8-B5EB-77673891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5C5A-0F54-414C-AB43-FF4C275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4771-2285-44A2-BD1D-ADA6BAD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9A0-6FC3-4314-9905-48CA2F5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1EE-CE7C-484D-8FA4-BF5623A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FA5-20B6-4D05-8B06-A3411A1F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D1A9-09DE-4DA4-AE63-AC2240B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240-7C32-4846-B1B6-A7E82DDA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26BE-ECC0-45E3-872A-8F2656A4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B530-AE24-4EC7-9611-71D1C6B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ECF-9C5C-45C2-B051-8350567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A9A-6B5A-4EFF-B8C6-CA39481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1981-21F2-4128-AD1E-16547AA9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7B7E-BA93-459F-870F-1AE71062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BE27-FA61-4973-A0BE-40E133D5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E6A7-9303-4FE5-8D5D-4768DF9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F735-D7EC-4436-9D23-CDC648C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9B81-AD1A-4DF5-B93E-3A2F05AD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D8F-10DE-415A-82F8-412B0D0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13E7-C884-4E28-806C-8DE0CE2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9336-B23D-49E0-8546-078CF3F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7708-5F28-4497-89A9-E526065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40A5-183E-451D-9F0A-131A596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D00F-7E0D-46E5-9E30-3580B53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F6C0-CEDE-4560-9BE2-E041657F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1BD8-0C7D-41C4-8B86-8AF2F09F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499-7258-4233-AD52-2019B77B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96D-880F-4BF4-AC77-8902B67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006-E173-424E-AB26-0AC5AB9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C75-5B53-43E3-87D8-BDBA0AE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47A-09DE-44DB-8F56-E7FA16F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DEB-FD4B-43E9-9177-E3C2A0C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0C3-ECBB-41C7-B34C-74D5239D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F2DA-7BEB-476D-84F3-43175F359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C21F-9936-419C-AB67-E6500DBE44A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ealth Information Exchange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yths, Mirages and Re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Donald P. Connelly, MD, Ph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University of Minnesota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ptember 8, 2008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2008 AHRQ Annual Conferenc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N HIE </a:t>
            </a:r>
            <a:br>
              <a:rPr sz="4000"/>
            </a:b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(Minnesota’s Health Information Exchange)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2017800"/>
            <a:ext cx="8726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ticipation in MN HIE’s formation was important to ensure a public-private solu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concept using e-prescribing history was demonstrated earl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mmitment to use MN HIE to transport abstract made last fal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ilot use of MN HIE scheduled near end of grant period and limited to e-prescrib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road acceptance, sustainability and privacy remain as key challeng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ystems respond to external driv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ocal healthcare competition has heightened over the past few yea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fitability is in a down cycle in our local competitive, low margin set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 of our six healthcare system board members have moved on including one of our strongest advocates for “It’s the patient’s data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lectronic information sharing very strong in terms of administrative claims data sharing but still nascent for clinical dat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th Dakota Capitol Buil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96160" cy="3200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ing the wide Missou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dma’s 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457200" y="2027160"/>
            <a:ext cx="8153280" cy="4830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culture, work, &amp; relationships takes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2017800"/>
            <a:ext cx="8650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ivacy is a societal issue – citizens, legislators, and stakeholders are now engag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eroperability standards are new and need some evolu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business case for clinical information sharing must be made. Use it to solve real problems and demonstrate its val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s all takes time. Have patience. You can’t do it al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 takes collaborative eff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421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ny dedicated and committed participants f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na Hospitals and Cli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view Health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Part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Minnes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project’s Board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H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600200" y="52578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ject was funded in part under Grant Number UC1 HS016155 from the Agency for Healthcare Research and Quality, US Department of Health and Human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478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Gaps in the Emergency Dep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2017440"/>
            <a:ext cx="8763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aps are frequent -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2% of vis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aps are consequent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ry important or essential 48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mewhat important 32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long the ED st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 cos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ndant testing &amp; repeated MD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181480" y="60958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ell A et al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MA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3; 169:1023-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MCj02868640000[1]"/>
          <p:cNvPicPr/>
          <p:nvPr/>
        </p:nvPicPr>
        <p:blipFill>
          <a:blip r:embed="rId1"/>
          <a:stretch/>
        </p:blipFill>
        <p:spPr>
          <a:xfrm>
            <a:off x="7162920" y="152280"/>
            <a:ext cx="1738080" cy="1738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tionale for sharing an abstract instead of the entire reco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bounded &amp; defi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“get it.” They understand the value of a concise clinical abstract for themselves and their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ing sensitive content means easier consenting &amp; wider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etter first step for a public wary of confidentiality bre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not the entire record, clinicians endorse the abstract as having high clinical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stract’s succinctness is preferred by some emergency room physic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ility across vendor platforms should be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Emergency Data” 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362320" y="19051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Care MD &amp; Cli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 Dir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Problem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Med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r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u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gical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Medical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ohol and Tobacc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et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1080"/>
            <a:ext cx="8421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in Cities’ healthcare delivery market is highly concentrated into a few large healthcare systems (i.e., an oligopo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project’s health system partne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na Hospitals and Cli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view Health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Part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artner system has adopted Epic as its primary EMR ven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ighway mir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885080" cy="395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ightened privacy concerns and changing law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9810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nesota privacy law is especially string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consent is required for nearly all disclosur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luding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exception to consent requ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cal emerg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 movement within “related” health care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consent (signed &amp; dated)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ightened privacy concerns and changing law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nesota’s new 2007 privacy law facilitated HI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lowed representation of cons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ortioned liability for inappropriate disclos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ned record locater service (RL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LS clause presumed a centralized mod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lobal opt-out option is requir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tners’ EMR software doesn’t appear to comp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itigation leery lawy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erstate clinical information transfer is even more problematic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low and circuitous uptake of interoperability standard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tinuity of Care Document (CCD) standard approved in slow-to-develop SDO compromise in early 200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HIC endorsed HITSP’s recommendation of the CCD standa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VA included CDA/CCD in their interoperability roadma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EMR vendor’s interoperability business model continues to evol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single-vendor dominant, universal-sharing mod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king with CCD for multi-vendor shar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great EMR-PHR debat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07:21Z</dcterms:created>
  <dc:creator>Don Connelly</dc:creator>
  <dc:description/>
  <dc:language>en-US</dc:language>
  <cp:lastModifiedBy>Don Connelly</cp:lastModifiedBy>
  <dcterms:modified xsi:type="dcterms:W3CDTF">2008-09-07T03:50:18Z</dcterms:modified>
  <cp:revision>174</cp:revision>
  <dc:subject/>
  <dc:title>Myths</dc:title>
</cp:coreProperties>
</file>