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IE: Myths, Mirages and Re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onald P. Connel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ptember 8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08 AHRQ Annual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F714B8-CE62-4260-8703-0D7DBF495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hyperlink" Target="http://www.coolquotes.com/categories/leo_tolstoy.html" TargetMode="External"/><Relationship Id="rId2" Type="http://schemas.openxmlformats.org/officeDocument/2006/relationships/slide" Target="../slides/slide15.xml"/><Relationship Id="rId3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5434B5-66FC-41EC-AEE0-F9EB352BE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58938B-83AD-4E89-9539-3895D9119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EDE17B-D19B-4A45-BB5F-B7FC7E1FC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th Dakota State Capitol Building with flower beds in foreground spelling out “North Dakot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A2F7FC-CF2B-4DCE-8BC9-13F510BD44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ach to the highway bridge that crosses the Missouri River at Bismarck, 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34E55D-C424-43CC-89DA-96CE19518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EB4DFB-233F-441A-808D-B6E34AFEC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ce quote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eo Tolstoy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, "The two most powerful warriors are patience and time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F84BF3-0938-4EAA-9D05-2FCF5A968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ariachi Band with singer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79FC66-15D4-41B2-AA7B-C1F0DEA05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ring a Clinical Abstract : Privacy Considerations in Minnesota</a:t>
            </a:r>
            <a:br>
              <a:rPr sz="1000"/>
            </a:b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Donald Connelly  and Daniel Rou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7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dings from AHRQ’s State Privacy &amp; Security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50CC7B-0720-430B-AD03-4ADC8997C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ring a Clinical Abstract : Privacy Considerations in Minnesota</a:t>
            </a:r>
            <a:br>
              <a:rPr sz="1000"/>
            </a:b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Donald Connelly  and Daniel Rou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7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dings from AHRQ’s State Privacy &amp; Security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11FC20-BA6A-44D0-AECB-E69220526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640" y="4263840"/>
            <a:ext cx="63086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ring a Clinical Abstract : Privacy Considerations in Minnesota</a:t>
            </a:r>
            <a:br>
              <a:rPr sz="1000"/>
            </a:b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Donald Connelly  and Daniel Rou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7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dings from AHRQ’s State Privacy &amp; Security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7DC744-FCB0-40B5-9CE1-14C57F29B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ring a Clinical Abstract : Privacy Considerations in Minnesota</a:t>
            </a:r>
            <a:br>
              <a:rPr sz="1000"/>
            </a:b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Donald Connelly  and Daniel Rou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7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dings from AHRQ’s State Privacy &amp; Security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97D395-E274-46E1-A241-CF0DCB860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aring a Clinical Abstract : Privacy Considerations in Minnesota</a:t>
            </a:r>
            <a:br>
              <a:rPr sz="1000"/>
            </a:b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Donald Connelly  and Daniel Rou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27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dings from AHRQ’s State Privacy &amp; Security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2F2BD9-C489-4A26-92FD-05EAAE47E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59C011-837E-4280-A676-057F9319E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93A95E-6AE9-407B-95DB-7FAD6DB2E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F3C9C6-7DC2-485F-9A69-C3E09EC40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C908C0-F909-4A07-BDE7-D557F013D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5B1-1642-41F1-8E5C-F597E92C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DD3-79BF-4CD3-ADEF-DDBB7E0F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E799-9B90-43D6-9541-744B1D22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49DC-061F-4B0A-BBDF-38A3FB1D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A6B9-A4B7-4347-99C7-2EBCA02A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7B2E-DA27-487C-B277-F49BAE88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A0DF-AA72-41CE-82CA-20E6E1B8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4346-79AC-4333-A464-62E621C9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4F45-1696-48B1-B957-87CF1EF8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E4FD-63FA-439D-BC5A-7B4A047E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728B-3C13-41C9-AC42-9784F46A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EC9-4087-4786-8305-A88742CE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0C57-A489-482B-869D-1DCDD1A4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3166-09F1-45A6-B4F6-E29E5396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19AE-3072-4E2C-AE67-6AC10983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A2AB-B5F4-4667-B580-4B880AEE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8812-8B6C-4FDE-84F4-DD3142CC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88C4-D1EC-4F3E-A330-D0040CAB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7B145-EC23-4B2B-8509-67E52AE4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2F3E0-56D1-4B46-BB81-D759F8CB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E360D-6C85-4926-9B2A-2A3DCD90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F7CF7-D4BD-4829-9BCF-9D63D9F4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F1A-BBEC-431F-8A51-13E22680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D5A8A-C078-4B8C-9FCB-2F80AE05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C461D-FE8C-4EE8-845B-15456298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9FCF7-E34A-42D6-B122-628CB2B4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3E722-BD18-488E-9591-3AB077DE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9CD74-C935-4DA3-B3CF-5DB81DA5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C3528-B3F1-4021-AB13-CC132EE3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099C7-5C1B-4DF2-B927-CD4A00E80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8DE-3710-4599-BE2F-4D20FDC6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EB4-CBA4-456C-AF13-83694FFB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820-1571-4A4E-A124-516D3F5E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754-A67E-42F6-A8CE-FAC8D15C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ACC-9FCB-4DC5-A6D7-F6AD2E19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CC1-87FF-4D2E-A384-5A7EADCC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90A0-1B90-4E8B-84E1-8BD7C4A37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7B0B-0756-4CEC-9ADA-4A84DC129D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36D1-99E8-4EB2-BB9F-895A1397EAC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Health Information Exchange: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yths, Mirages and Rea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Donald P. Connelly, MD, PhD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University of Minnesota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ptember 8, 2008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2008 AHRQ Annual Conferenc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N HIE </a:t>
            </a:r>
            <a:br>
              <a:rPr sz="4000"/>
            </a:br>
            <a:r>
              <a:rPr b="0" lang="en-US" sz="2900" spc="-1" strike="noStrike">
                <a:solidFill>
                  <a:srgbClr val="333399"/>
                </a:solidFill>
                <a:latin typeface="Tahoma"/>
              </a:rPr>
              <a:t>(Minnesota’s Health Information Exchange)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2017800"/>
            <a:ext cx="8726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articipation in MN HIE’s formation was important to ensure a public-private solu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of of concept using e-prescribing history was demonstrated earl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mmitment to use MN HIE to transport abstract made last fal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ilot use of MN HIE scheduled near end of grant period and limited to e-prescrib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road acceptance, sustainability and privacy remain as key challeng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althcare systems respond to external driv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ocal healthcare competition has heightened over the past few yea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fitability is in a down cycle in our local competitive, low margin sett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 of our six healthcare system board members have moved on including one of our strongest advocates for “It’s the patient’s data”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lectronic information sharing very strong in terms of administrative claims data sharing but still nascent for clinical dat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th Dakota Capitol Buil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96160" cy="32004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ossing the wide Missour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620120" cy="50770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dma’s ho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457200" y="2027160"/>
            <a:ext cx="8153280" cy="48308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ing culture, work, &amp; relationships takes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2017800"/>
            <a:ext cx="86500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ivacy is a societal issue – citizens, legislators, and stakeholders are now engag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Interoperability standards are new and need some evolu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business case for clinical information sharing must be made. Use it to solve real problems and demonstrate its valu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s all takes time. Have patience. You can’t do it all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 takes collaborative eff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knowledg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981080"/>
            <a:ext cx="84218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ny dedicated and committed participants fr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ina Hospitals and Clin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view Health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Part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ity of Minneso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project’s Board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HR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1600200" y="52578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ject was funded in part under Grant Number UC1 HS016155 from the Agency for Healthcare Research and Quality, US Department of Health and Human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54784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tion Gaps in the Emergency Dep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2017440"/>
            <a:ext cx="87631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aps are frequent -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32% of visi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aps are consequent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ery important or essential 48%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mewhat important 32%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long the ED sta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 cos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ndant testing &amp; repeated MD assess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181480" y="60958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ell A et al.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MA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3; 169:1023-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MCj02868640000[1]"/>
          <p:cNvPicPr/>
          <p:nvPr/>
        </p:nvPicPr>
        <p:blipFill>
          <a:blip r:embed="rId1"/>
          <a:stretch/>
        </p:blipFill>
        <p:spPr>
          <a:xfrm>
            <a:off x="7162920" y="152280"/>
            <a:ext cx="1738080" cy="1738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ationale for sharing an abstract instead of the entire recor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s are bounded &amp; defin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s “get it.” They understand the value of a concise clinical abstract for themselves and their provi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ing sensitive content means easier consenting &amp; wider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etter first step for a public wary of confidentiality brea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not the entire record, clinicians endorse the abstract as having high clinical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bstract’s succinctness is preferred by some emergency room physici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operability across vendor platforms should be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y Emergency Data” Abstra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362320" y="19051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Care MD &amp; Cli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ce Direc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Problem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Med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r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mun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gical 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Medical 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cohol and Tobacco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set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81080"/>
            <a:ext cx="842184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win Cities’ healthcare delivery market is highly concentrated into a few large healthcare systems (i.e., an oligopo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project’s health system partner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ina Hospitals and Clin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view Health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Part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artner system has adopted Epic as its primary EMR vend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highway mir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7885080" cy="3951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ightened privacy concerns and changing law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9810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nesota privacy law is especially string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 consent is required for nearly all disclosure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cluding treat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exception to consent requ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cal emerg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rd movement within “related” health care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ten consent (signed &amp; dated)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eightened privacy concerns and changing law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Minnesota’s new 2007 privacy law facilitated HI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llowed representation of cons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pportioned liability for inappropriate disclos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fined record locater service (RL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RLS clause presumed a centralized mod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lobal opt-out option is requir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artners’ EMR software doesn’t appear to compl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itigation leery lawye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Interstate clinical information transfer is even more problematic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low and circuitous uptake of interoperability standard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9810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tinuity of Care Document (CCD) standard approved in slow-to-develop SDO compromise in early 2007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HIC endorsed HITSP’s recommendation of the CCD standar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HRVA included CDA/CCD in their interoperability roadma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EMR vendor’s interoperability business model continues to evolv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single-vendor dominant, universal-sharing mod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orking with CCD for multi-vendor shar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great EMR-PHR debat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9:07:21Z</dcterms:created>
  <dc:creator>Don Connelly</dc:creator>
  <dc:description/>
  <dc:language>en-US</dc:language>
  <cp:lastModifiedBy>Don Connelly</cp:lastModifiedBy>
  <dcterms:modified xsi:type="dcterms:W3CDTF">2008-09-07T03:50:18Z</dcterms:modified>
  <cp:revision>174</cp:revision>
  <dc:subject/>
  <dc:title>Myths</dc:title>
</cp:coreProperties>
</file>