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8.pct" ContentType="image/x-pict"/>
  <Override PartName="/ppt/media/image7.jpeg" ContentType="image/jpeg"/>
  <Override PartName="/ppt/media/image20.png" ContentType="image/png"/>
  <Override PartName="/ppt/media/image11.pct" ContentType="image/x-pict"/>
  <Override PartName="/ppt/media/image13.jpeg" ContentType="image/jpeg"/>
  <Override PartName="/ppt/media/image9.png" ContentType="image/png"/>
  <Override PartName="/ppt/media/image21.png" ContentType="image/png"/>
  <Override PartName="/ppt/media/image4.png" ContentType="image/png"/>
  <Override PartName="/ppt/media/image19.jpeg" ContentType="image/jpeg"/>
  <Override PartName="/ppt/media/image18.jpeg" ContentType="image/jpeg"/>
  <Override PartName="/ppt/media/image17.pct" ContentType="image/x-pict"/>
  <Override PartName="/ppt/media/image14.jpeg" ContentType="image/jpeg"/>
  <Override PartName="/ppt/media/image16.jpeg" ContentType="image/jpeg"/>
  <Override PartName="/ppt/media/image3.png" ContentType="image/png"/>
  <Override PartName="/ppt/media/image2.jpeg" ContentType="image/jpeg"/>
  <Override PartName="/ppt/media/image5.pct" ContentType="image/x-pict"/>
  <Override PartName="/ppt/media/image22.png" ContentType="image/png"/>
  <Override PartName="/ppt/media/image10.pct" ContentType="image/x-pict"/>
  <Override PartName="/ppt/media/image6.pct" ContentType="image/x-pict"/>
  <Override PartName="/ppt/media/image15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480" y="6583320"/>
            <a:ext cx="316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GH Laboratory of Compute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943600" y="6583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novative Designs for Infor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6248520"/>
            <a:ext cx="9144000" cy="9360"/>
          </a:xfrm>
          <a:prstGeom prst="line">
            <a:avLst/>
          </a:prstGeom>
          <a:ln w="57240">
            <a:solidFill>
              <a:srgbClr val="fa9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3880"/>
            <a:ext cx="2000520" cy="35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HRQ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ing Quality … Partnering for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hesda, M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 8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2200320" y="0"/>
            <a:ext cx="9360" cy="6858000"/>
          </a:xfrm>
          <a:prstGeom prst="line">
            <a:avLst/>
          </a:prstGeom>
          <a:ln w="57240">
            <a:solidFill>
              <a:srgbClr val="fa9c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38280" y="2255760"/>
            <a:ext cx="6477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igning for ACCOR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C. Chueh, MD,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achusetts General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ton, 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ragile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2133720"/>
            <a:ext cx="3657600" cy="358128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2126400">
            <a:off x="6041880" y="4811760"/>
            <a:ext cx="228600" cy="228600"/>
          </a:xfrm>
          <a:prstGeom prst="downArrow">
            <a:avLst>
              <a:gd name="adj1" fmla="val 100000"/>
              <a:gd name="adj2" fmla="val 930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966200">
            <a:off x="4800600" y="2012400"/>
            <a:ext cx="228600" cy="228600"/>
          </a:xfrm>
          <a:prstGeom prst="downArrow">
            <a:avLst>
              <a:gd name="adj1" fmla="val 100000"/>
              <a:gd name="adj2" fmla="val 930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1752480"/>
            <a:ext cx="1523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7692000">
            <a:off x="3471120" y="5257440"/>
            <a:ext cx="228600" cy="228600"/>
          </a:xfrm>
          <a:prstGeom prst="downArrow">
            <a:avLst>
              <a:gd name="adj1" fmla="val 100000"/>
              <a:gd name="adj2" fmla="val 930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50840" y="160020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 of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4720" y="23623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9640" y="449568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for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7120" y="30481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9174200">
            <a:off x="5867280" y="2579400"/>
            <a:ext cx="228600" cy="228600"/>
          </a:xfrm>
          <a:prstGeom prst="downArrow">
            <a:avLst>
              <a:gd name="adj1" fmla="val 100000"/>
              <a:gd name="adj2" fmla="val 930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2111000">
            <a:off x="2786760" y="3276000"/>
            <a:ext cx="228600" cy="228600"/>
          </a:xfrm>
          <a:prstGeom prst="downArrow">
            <a:avLst>
              <a:gd name="adj1" fmla="val 100000"/>
              <a:gd name="adj2" fmla="val 930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2040" y="53341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65080" y="5038560"/>
            <a:ext cx="710280" cy="916920"/>
            <a:chOff x="5365080" y="5038560"/>
            <a:chExt cx="710280" cy="916920"/>
          </a:xfrm>
        </p:grpSpPr>
        <p:sp>
          <p:nvSpPr>
            <p:cNvPr id="142" name=""/>
            <p:cNvSpPr/>
            <p:nvPr/>
          </p:nvSpPr>
          <p:spPr>
            <a:xfrm flipV="1">
              <a:off x="5465880" y="5038560"/>
              <a:ext cx="60948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126400">
              <a:off x="5410080" y="5681520"/>
              <a:ext cx="228600" cy="228600"/>
            </a:xfrm>
            <a:prstGeom prst="downArrow">
              <a:avLst>
                <a:gd name="adj1" fmla="val 100000"/>
                <a:gd name="adj2" fmla="val 9305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069600" y="2792160"/>
            <a:ext cx="745200" cy="892440"/>
            <a:chOff x="6069600" y="2792160"/>
            <a:chExt cx="745200" cy="892440"/>
          </a:xfrm>
        </p:grpSpPr>
        <p:sp>
          <p:nvSpPr>
            <p:cNvPr id="145" name=""/>
            <p:cNvSpPr/>
            <p:nvPr/>
          </p:nvSpPr>
          <p:spPr>
            <a:xfrm flipH="1" flipV="1">
              <a:off x="6069600" y="2792160"/>
              <a:ext cx="646920" cy="80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247400">
              <a:off x="6539760" y="3409200"/>
              <a:ext cx="228600" cy="228600"/>
            </a:xfrm>
            <a:prstGeom prst="downArrow">
              <a:avLst>
                <a:gd name="adj1" fmla="val 100000"/>
                <a:gd name="adj2" fmla="val 9305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592360" y="4523040"/>
            <a:ext cx="876240" cy="765720"/>
            <a:chOff x="2592360" y="4523040"/>
            <a:chExt cx="876240" cy="765720"/>
          </a:xfrm>
        </p:grpSpPr>
        <p:sp>
          <p:nvSpPr>
            <p:cNvPr id="148" name=""/>
            <p:cNvSpPr/>
            <p:nvPr/>
          </p:nvSpPr>
          <p:spPr>
            <a:xfrm>
              <a:off x="2676960" y="4619880"/>
              <a:ext cx="791640" cy="66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7776600">
              <a:off x="2638800" y="4569480"/>
              <a:ext cx="228600" cy="228600"/>
            </a:xfrm>
            <a:prstGeom prst="downArrow">
              <a:avLst>
                <a:gd name="adj1" fmla="val 100000"/>
                <a:gd name="adj2" fmla="val 9305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018960" y="2107800"/>
            <a:ext cx="531360" cy="1005840"/>
            <a:chOff x="3018960" y="2107800"/>
            <a:chExt cx="531360" cy="1005840"/>
          </a:xfrm>
        </p:grpSpPr>
        <p:sp>
          <p:nvSpPr>
            <p:cNvPr id="151" name=""/>
            <p:cNvSpPr/>
            <p:nvPr/>
          </p:nvSpPr>
          <p:spPr>
            <a:xfrm flipH="1">
              <a:off x="3018960" y="2166840"/>
              <a:ext cx="421560" cy="94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2204600">
              <a:off x="3285720" y="2143440"/>
              <a:ext cx="228600" cy="228600"/>
            </a:xfrm>
            <a:prstGeom prst="downArrow">
              <a:avLst>
                <a:gd name="adj1" fmla="val 100000"/>
                <a:gd name="adj2" fmla="val 9305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191120" y="3429000"/>
            <a:ext cx="99036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Clinical Decision Support Syst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 to be physician-oriented and visit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effect for interventions that cannot be completed at the point of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-centered approaches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lack the ability to “close the loop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esign for Systems to Support Clinical Deci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53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828800" y="2133720"/>
          <a:ext cx="556272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33720"/>
                    <a:ext cx="5562720" cy="27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0" y="2536920"/>
          <a:ext cx="182520" cy="17841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6784200" y="571500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pka et al 2003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3840" y="5105520"/>
            <a:ext cx="26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logic Framewor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tor and Patient C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ed for age and insurance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factors associated with appropriate follow-up c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 documentation of follow-up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understanding of need for follow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on, Haas, Puopol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ulatory Care Compact to Organize Risk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Ambulatory Safety and QualityProgram: Heal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1630440"/>
            <a:ext cx="7924680" cy="4465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Clear Decisions Together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083520" cy="1150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-provider centered, informed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and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docum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agreements with high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-saf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with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concept and initial design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centives and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743880" y="847800"/>
            <a:ext cx="2514600" cy="602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924520"/>
            <a:ext cx="9144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533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GH PCP Network – Adult and FP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216480"/>
            <a:ext cx="861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Ds = 178    •    FTEs = 101    •    Practices = 15    •    Patients = 155,5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2209680"/>
            <a:ext cx="13716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W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4029120"/>
            <a:ext cx="205740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ar M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GH Downtown MGH Beacon Hill MGM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Healt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GH Back Bay NEC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00920" y="4038480"/>
            <a:ext cx="20574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01080" y="2209680"/>
            <a:ext cx="1409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2666880"/>
            <a:ext cx="1447560" cy="381240"/>
          </a:xfrm>
          <a:prstGeom prst="wedgeRectCallout">
            <a:avLst>
              <a:gd name="adj1" fmla="val 39912"/>
              <a:gd name="adj2" fmla="val 105416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es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4680"/>
            <a:ext cx="925848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828800"/>
            <a:ext cx="914400" cy="380880"/>
          </a:xfrm>
          <a:prstGeom prst="wedgeRectCallout">
            <a:avLst>
              <a:gd name="adj1" fmla="val 94444"/>
              <a:gd name="adj2" fmla="val 49583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ret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048120"/>
            <a:ext cx="1218960" cy="533160"/>
          </a:xfrm>
          <a:prstGeom prst="wedgeRectCallout">
            <a:avLst>
              <a:gd name="adj1" fmla="val -27472"/>
              <a:gd name="adj2" fmla="val -7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lsea</a:t>
            </a:r>
            <a:br>
              <a:rPr sz="16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057400"/>
            <a:ext cx="1067040" cy="380880"/>
          </a:xfrm>
          <a:prstGeom prst="wedgeRectCallout">
            <a:avLst>
              <a:gd name="adj1" fmla="val -42856"/>
              <a:gd name="adj2" fmla="val 1425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lt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733560" y="3141720"/>
            <a:ext cx="339084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809520" y="4114800"/>
            <a:ext cx="3124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57200"/>
            <a:ext cx="3581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0880"/>
            <a:ext cx="77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GH Primary Car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286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1600200"/>
            <a:ext cx="1066680" cy="533520"/>
          </a:xfrm>
          <a:prstGeom prst="wedgeRectCallout">
            <a:avLst>
              <a:gd name="adj1" fmla="val -76041"/>
              <a:gd name="adj2" fmla="val 67856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Group Les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tors worried about workflow intr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worried about do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concerned about potential barriers to access to their do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enhance/increase face time with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needed for ACCORD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model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 systems for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impact on Patient experience, qua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267080" cy="2133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276720" y="3429000"/>
            <a:ext cx="6172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n AC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966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9664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966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966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39751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828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Ch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31748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Guidelin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10080" y="3505320"/>
            <a:ext cx="317520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actic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 rot="1809600">
            <a:off x="3123720" y="2285640"/>
            <a:ext cx="2159280" cy="3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ventive car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 rot="3803400">
            <a:off x="3136320" y="3339720"/>
            <a:ext cx="2159280" cy="355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dication safet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 rot="6746400">
            <a:off x="2190240" y="4286160"/>
            <a:ext cx="2463840" cy="29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tient centered car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 rot="9477600">
            <a:off x="1980720" y="5409720"/>
            <a:ext cx="2463840" cy="29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onic disease mgm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76320" y="76320"/>
            <a:ext cx="94014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64440" rIns="356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1920" y="2000160"/>
            <a:ext cx="9020160" cy="39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ystems to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Support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nical Decisi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RD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n Atlas, M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anhee Chung, MD,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Grant, M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an Edgman-Levitan,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in Weinick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 Chiao Chang, P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g Est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Berkowicz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Ye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Wy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ff Ashbu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cia W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 hours in the life of a P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662360"/>
            <a:ext cx="7696080" cy="16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mpending Collapse of Primary Care Medicine and Its Implications for the State of the Nation’s Health Care,” a report from the American College of Physicians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arnall KS, et al. Primary care: is there enough time for prevention?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m J Public Heal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003; 93:63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tbye T, et al. Is there time for management of patients with chronic diseases in primary care?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nn Fam M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2005; 3:2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-457200" y="990720"/>
          <a:ext cx="8904240" cy="402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990720"/>
                    <a:ext cx="8904240" cy="40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23960" y="1599840"/>
            <a:ext cx="7696080" cy="441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4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ized clinical information systems will help physicians close this quality gap by performing many of the repetiti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tocol-driven task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Clement McDonald, 19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mise of Information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GH Quality Measures By Linkage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8280" y="1752480"/>
          <a:ext cx="82026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752480"/>
                    <a:ext cx="82026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design, build and implement the health information technology (HIT) tools to support and encourage busy practitioner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ients to “do the right thing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16240" y="4267080"/>
            <a:ext cx="451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at they’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-provider linkage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visit workflow accep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rs will use well-design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ity of care processes can impact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cus on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s time inappropr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can result in poor outcome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st growing area of claim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s have interes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3960" y="5410080"/>
            <a:ext cx="42530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rnest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efer 2000, Boohaker et al 1996, Murff HJ et al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OM 2001, WSJ Poll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4:47:41Z</dcterms:created>
  <dc:creator>NPSF</dc:creator>
  <dc:description/>
  <dc:language>en-US</dc:language>
  <cp:lastModifiedBy>Henry Chueh</cp:lastModifiedBy>
  <dcterms:modified xsi:type="dcterms:W3CDTF">2008-09-08T10:47:22Z</dcterms:modified>
  <cp:revision>1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