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20.png" ContentType="image/png"/>
  <Override PartName="/ppt/media/image6.jpeg" ContentType="image/jpeg"/>
  <Override PartName="/ppt/media/image18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C963-1956-49DC-AE32-F05FC1221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2796-1857-404C-AB0E-38CD01056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E148-9E6F-49A2-9349-E5587B399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A353-D910-45EB-9183-20A92E8B8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C6A-02E7-4170-9A8B-254F6F6D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BD4-0834-419C-BF83-4B97A867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2C0-3C13-448A-BFA3-B5E5A4C8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D2A8-B49A-4C9B-9355-16594E83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03B1-D359-47E5-A142-0F64319C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4FFF-D95A-454D-9A0B-D10ABF70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B8D4-A563-48EF-BD67-0C2BCA25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9071-CCBF-470B-B2B2-8A80E7C3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3A2C-1A3C-401B-907A-337770E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8A9B-DF36-439A-9857-D944732C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5E49-3E52-4434-9A1D-C6855F7A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544-336A-4DA9-BC1F-16120337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F9AA-46C1-41DC-B576-6877509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D398-ABA2-4B9B-A080-20C25C72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AB23-BF03-43CB-9D7E-EAD0AEAC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40F6-8D60-4CAD-8789-1FDD090E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25DA-B142-4D2D-AF1C-6A3248E5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54C91-1D65-4DBC-8A89-D30CFAE6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5E98-BAD0-4D61-88FF-0757666B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B25F-7D80-43F4-BDE6-DC2D4E66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3E72-0D50-4000-AB20-406C3CD0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7417-D480-4ABA-B8D0-60990ADC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5201-91AA-49D1-A28E-FD032FF7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2581-1DE4-41C3-88C6-CA6CB885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6BAA-2328-47FA-B380-CE432F25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FD49-4B41-4F45-AB2E-EE22EE4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00E0-24CE-480F-88A0-5234F53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6D4AA-6EDA-4709-9A34-E2E089C6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3931-F00E-4A9E-B80C-16C65525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B125-091A-44CB-903E-70E3BC30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D3E1-921E-44DC-AC56-A7540855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DF6D-B171-47ED-94FD-A3454CD5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3610-5833-4AF5-B3CA-ADB88D1B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560-10F4-4822-BEE9-FC1FE860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D4E19-0644-4B4E-9847-FD445B9F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DF30A-CD44-482B-8490-51D3E699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E03A9-FEC2-4ABA-A12F-00A769A4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BD97-620C-43B9-92D4-D3A6C71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F34BC-7748-48E9-A298-1CE5B70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35C0-BC40-42C9-BC93-008B516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C9ED-6CC9-43F8-9FEA-9E4B7A97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CA25-EAE4-4B5E-B3FA-A357FAA6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D3DC6-4351-4FE3-ABB4-31C93C00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8B5E1-88E3-4147-80CD-360A77DB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5CA-27A9-4EE4-9002-07604607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4BEAA-09CA-4541-A112-33B4ADF7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59A7A-EF51-4AFA-8853-D2D56BFF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98EF3-0E8F-4629-BDAB-51F4FBF8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267E-27A7-4686-84CB-13A59353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E6F18-C637-46E4-BB12-8DA23B57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4F2C6-1726-4335-A3F4-CB2A0664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50BC-4D99-4BA7-BAA9-58043D7A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536E1-6570-4B95-99A0-9855242F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409D-D20E-41FA-AD1A-86566D6D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E029-BE7D-49D2-9C33-E4AA6CB5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E6F-4798-4759-9941-37A1122A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CCB58-2A86-44BA-8446-21E3E395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F3B44-71C6-45BD-BFDD-36D40001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59446-08E8-4E51-90EE-1B57B791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1EDBC-8048-4CB6-BC22-941594F1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44B56-AF3E-4B27-B769-D0DEEEF7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F866-3702-48E5-B4D8-DA7D6B95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9F79A-57E2-49F6-981B-CAC1C5BA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6A85F-0AF7-4923-A623-B025F8D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FE3FB-852F-41AA-A78B-D752FF7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76C23-D6AC-42BC-A41E-74046C54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650-10EC-4591-98C1-252EEE2B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5ECA8-626C-4224-86F3-4DDE942E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F01CF-B243-4DE6-A71D-53E121FC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F0163-24C3-4F2A-8834-CD656EC7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A2794-FD60-471A-9FBC-820EFFC67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2B034-4A40-4CA0-ABE5-4BC5BBF4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E7687-EAEC-404A-A8C2-4BA9237D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F1DB5-C5AE-4E54-9A8B-84234861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0629-1678-4851-846F-3D772D07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F7818-D294-45B1-9EF5-16118FBF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159FD-AFB6-412F-AD4B-C0464D2C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DAC-ED89-48B2-99FF-19E27670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90577-6A64-42EC-8E74-0DC96745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99754-3D2B-4CD3-A35B-159E5DC6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EAC07-775C-43DC-B859-7729E4DF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0CBF9-FD50-40E2-9212-24F8699D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5BB11-895F-40A8-BAD4-CB61EBFA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D77-B772-4B0F-A84E-F521B893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6BCC-2342-4BD7-ADDB-3296F24614D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E689-CF19-4348-94DA-D7985600AFA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3B89-F02F-415A-ABC3-6F942794E5F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107F-E880-4CF9-96AD-0315B824B22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2BD9-B656-43D0-A4AF-FCCEC420C9D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5192-7BE3-4E19-B47A-37567345928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590-5E0A-4CF0-B12F-0C28B60190E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2"/>
          <a:stretch/>
        </p:blipFill>
        <p:spPr>
          <a:xfrm>
            <a:off x="433440" y="1195560"/>
            <a:ext cx="8034120" cy="21081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AHRQ 2008 Annual Meeting:  Patient–Clinician Communication through Consumer Health IT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Presenting:  Elizabeth Chrischilles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a,b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Contributors: Jeanette Daly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c 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William Doucette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b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David Eichmann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d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Karen Farris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a,b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Brian Gryzlak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Juan Pablo Hourcade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e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Barcey Levy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d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 Jane Pendergast,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a </a:t>
            </a:r>
            <a:r>
              <a:rPr b="0" lang="en-US" sz="1500" spc="-1" strike="noStrike">
                <a:solidFill>
                  <a:srgbClr val="ffffff"/>
                </a:solidFill>
                <a:latin typeface="Corbel"/>
              </a:rPr>
              <a:t>Matthew Witry</a:t>
            </a:r>
            <a:r>
              <a:rPr b="0" lang="en-US" sz="1500" spc="-1" strike="noStrike" baseline="30000">
                <a:solidFill>
                  <a:srgbClr val="ffffff"/>
                </a:solidFill>
                <a:latin typeface="Corbel"/>
              </a:rPr>
              <a:t>b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The University of Iowa Center for Education and Research on Therapeutics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Personal Health Records and Elder Medication Use Quality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rbel"/>
              </a:rPr>
              <a:t>1 R18 HS017034-01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a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 College of Public Health;   </a:t>
            </a: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b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 College of Pharmacy;   </a:t>
            </a: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c 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 College of Medicine; </a:t>
            </a: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d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Institute for Clinical and Translational Science;   </a:t>
            </a:r>
            <a:r>
              <a:rPr b="0" lang="en-US" sz="700" spc="-1" strike="noStrike" baseline="30000">
                <a:solidFill>
                  <a:srgbClr val="ffffff"/>
                </a:solidFill>
                <a:latin typeface="Corbel"/>
              </a:rPr>
              <a:t>e</a:t>
            </a:r>
            <a:r>
              <a:rPr b="0" lang="en-US" sz="700" spc="-1" strike="noStrike">
                <a:solidFill>
                  <a:srgbClr val="ffffff"/>
                </a:solidFill>
                <a:latin typeface="Corbel"/>
              </a:rPr>
              <a:t>College of Liberal Arts (Computer Science)</a:t>
            </a: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#1 barrier was discomfort with security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Limiting information to specific providers would be important, “laboratory persons do not need to see med lists”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Do not want to provide payers with ammunition to limit coverag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Really want doctors and pharmacies to maintain currency of lists/information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Keeping a PHR is busy-wor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mporting information from pharmacy, lab, hospital re software compatibility is a problem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Unsure how physicians or healthcare system will access electronic PHR from patient 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ay interfere with patient/physician interactions… “because the doctors are typing instead of listening”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Physically typing can be issue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Rectangle 2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 Participating Clinic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amily medicine clinic at major academic medical cen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ultiple physician clinic in small c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ural physician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sidency program in metro are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vited physicians, nurses, medical assistants, pharmacists, other staff involved with medication manag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dication lis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re encouraged by physicia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hould include herba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re fairly common, especially older adults, though not always curr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seful components of a PHR inclu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edication lis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st procedur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ppointm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muniz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D contact inf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abs, screening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ates are importa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s who move arou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s with complicated dise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R admissions/New pati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ngage patient in their own ca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celerate transfer of health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rease duplic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ecrease medication erro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PHRs could be used in their pract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can into EM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ave medical assistant populate EMR fiel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ck of patient responsi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gnitively impaired pati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 computer literac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tients think it’s the physician’s and clinic’s job to transfer recor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ccuracy of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atibility with EM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ipul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arcotic ab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lf diagnosi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7896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bout what should be collected in a PH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bout the general value of a PH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Accelerated information sharing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bout value of PHR for out-of-system or acute car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Health events while traveling, other physicians, new patient/doctor, emergency room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about th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orbel"/>
              </a:rPr>
              <a:t>lack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 of value of PHR for regular care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hysicians:  concern about reliability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atients:  busy-work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at computer environment is a major barrier to PHR us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atients:  security fears, lack of computer comfort, “I’d have my son/daughter use it because s/he uses on-line banking.”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atients:  may interfere with doctor-patient relationship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hysicians:  PHR-EMR interface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at most patients won’t maintain a PHR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atients:  busy-work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bel"/>
              </a:rPr>
              <a:t>Physicians:  patients won’t take responsibility to do it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at generally barriers outweigh benefi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97800" cy="1262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bout who should maintain the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tients:  provid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oviders:  pati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mobile, trav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s caregiv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es multiple physicia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s complex health situ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s conditions requiring self-care activit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s (or caregiver is) comfortable with compu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-36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viewed 58 PHRs listed in myphr.or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4 were operational when we reviewed them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geared towards young famili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mily rather than individual orient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w provided easy to access online demonstratio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reasingly tied to data entry services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majority were poorly designe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only found 12 out of 58 could be potentially used in our stud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s includ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orly designed form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icult navig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lex user interfac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952880" y="2182680"/>
            <a:ext cx="4064040" cy="3146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Poor forms:  Left-justified labels, limited medication use functionality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Difficult navigation:  Too many clicks to access a function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Complex interfaces:  Too many options, most of which would be rarely used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PHRs for older adults should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eet full medication use functionality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ake into account declines in vision, working memory and motor skills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have simple user interface with large targets for clicking, larger text, and simple navigation; and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omply with standard usability principles or AARP recommendations on website design for older adult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Rectangle 2" descr=""/>
          <p:cNvPicPr/>
          <p:nvPr/>
        </p:nvPicPr>
        <p:blipFill>
          <a:blip r:embed="rId1"/>
          <a:stretch/>
        </p:blipFill>
        <p:spPr>
          <a:xfrm>
            <a:off x="596880" y="-79200"/>
            <a:ext cx="8321760" cy="1822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9144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edicare Modernization Act described the purpose of MTM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optimize therapeutic outcomes (of targeted beneficiaries) through improved medication use, and to reduce the risk of adverse events, including adverse drug interactions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s simple user interface and simple navig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signed for mobile, low literacy patient popul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require a teaching compon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80880" y="1523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udy 1:  Study PHR, by age grou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tudy 2:  Study PHR vs. Prototype PH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lf-administered questionnair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ttitude towards compute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omputer literac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ealth literac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R task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ink aloud protoco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easure efficiency and effectivenes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ample tasks: login, physician visit, add existing prescriptions, add new prescription, adjust existing prescription, prescription refills, making note on forgetting to take a prescription, symptom notes, immunizations, add regularly seen do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ser satisfaction questionnai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briefing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iscuss low satisfaction scores, areas where participants have difficult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7" descr=""/>
          <p:cNvPicPr/>
          <p:nvPr/>
        </p:nvPicPr>
        <p:blipFill>
          <a:blip r:embed="rId1"/>
          <a:stretch/>
        </p:blipFill>
        <p:spPr>
          <a:xfrm>
            <a:off x="738360" y="4937040"/>
            <a:ext cx="7497720" cy="622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ancer faces.jpg"/>
          <p:cNvPicPr/>
          <p:nvPr/>
        </p:nvPicPr>
        <p:blipFill>
          <a:blip r:embed="rId2"/>
          <a:srcRect l="0" t="12997" r="58688" b="23273"/>
          <a:stretch/>
        </p:blipFill>
        <p:spPr>
          <a:xfrm>
            <a:off x="533520" y="2438280"/>
            <a:ext cx="1474560" cy="1600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cancer faces 2.jpg"/>
          <p:cNvPicPr/>
          <p:nvPr/>
        </p:nvPicPr>
        <p:blipFill>
          <a:blip r:embed="rId3"/>
          <a:srcRect l="44448" t="40034" r="33333" b="44855"/>
          <a:stretch/>
        </p:blipFill>
        <p:spPr>
          <a:xfrm>
            <a:off x="7130880" y="152280"/>
            <a:ext cx="1708200" cy="12956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4"/>
          <a:srcRect l="0" t="0" r="0" b="54984"/>
          <a:stretch/>
        </p:blipFill>
        <p:spPr>
          <a:xfrm>
            <a:off x="228600" y="228600"/>
            <a:ext cx="1828800" cy="12351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DSC_0014.JPG"/>
          <p:cNvPicPr/>
          <p:nvPr/>
        </p:nvPicPr>
        <p:blipFill>
          <a:blip r:embed="rId5"/>
          <a:stretch/>
        </p:blipFill>
        <p:spPr>
          <a:xfrm>
            <a:off x="7315200" y="2514600"/>
            <a:ext cx="1419120" cy="152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7617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TM should includ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rgeting of high risk pati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lecting patient inform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viewing complete medication regime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commending drug therapy adjustment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ducating patients about medication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nitoring patients’ response to therap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formed and engaged patients get more from MT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TM foundation - Accurate medication li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Question – Can a PHR increase patient engagement in managing their medication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8" name="Picture 6" descr="cancer faces.jpg"/>
          <p:cNvPicPr/>
          <p:nvPr/>
        </p:nvPicPr>
        <p:blipFill>
          <a:blip r:embed="rId2"/>
          <a:srcRect l="0" t="12997" r="58688" b="23273"/>
          <a:stretch/>
        </p:blipFill>
        <p:spPr>
          <a:xfrm>
            <a:off x="228600" y="5029200"/>
            <a:ext cx="1474920" cy="1600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cancer faces 2.jpg"/>
          <p:cNvPicPr/>
          <p:nvPr/>
        </p:nvPicPr>
        <p:blipFill>
          <a:blip r:embed="rId3"/>
          <a:srcRect l="44448" t="40034" r="33333" b="44855"/>
          <a:stretch/>
        </p:blipFill>
        <p:spPr>
          <a:xfrm>
            <a:off x="2438280" y="5181480"/>
            <a:ext cx="1708200" cy="1295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4"/>
          <a:srcRect l="0" t="0" r="0" b="54984"/>
          <a:stretch/>
        </p:blipFill>
        <p:spPr>
          <a:xfrm>
            <a:off x="4876920" y="5181480"/>
            <a:ext cx="1828800" cy="1235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DSC_0014.JPG"/>
          <p:cNvPicPr/>
          <p:nvPr/>
        </p:nvPicPr>
        <p:blipFill>
          <a:blip r:embed="rId5"/>
          <a:stretch/>
        </p:blipFill>
        <p:spPr>
          <a:xfrm>
            <a:off x="7543800" y="4983120"/>
            <a:ext cx="1219320" cy="164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71680" indent="-57168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tient and physician focus group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urvey of commercially available PH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ability study in human-computer interaction laborato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680" indent="-571680">
              <a:buClr>
                <a:srgbClr val="f0ad00"/>
              </a:buClr>
              <a:buSzPct val="80000"/>
              <a:buFont typeface="Corbe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eld test in practice-based research net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ain understanding o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rrent patient/physician medication management practic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orkfl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arriers to using PHRs in practi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8976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 older adults; 4 caregiv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% white, average age 73.3 ± 6.4, average meds 5.4 ± 2.0; 33% some college &amp; 67% college degre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Chart 3" descr=""/>
          <p:cNvPicPr/>
          <p:nvPr/>
        </p:nvPicPr>
        <p:blipFill>
          <a:blip r:embed="rId2"/>
          <a:stretch/>
        </p:blipFill>
        <p:spPr>
          <a:xfrm>
            <a:off x="225360" y="4035600"/>
            <a:ext cx="3882960" cy="2268360"/>
          </a:xfrm>
          <a:prstGeom prst="rect">
            <a:avLst/>
          </a:prstGeom>
          <a:ln w="0">
            <a:noFill/>
          </a:ln>
        </p:spPr>
      </p:pic>
      <p:pic>
        <p:nvPicPr>
          <p:cNvPr id="329" name="Chart 5" descr=""/>
          <p:cNvPicPr/>
          <p:nvPr/>
        </p:nvPicPr>
        <p:blipFill>
          <a:blip r:embed="rId3"/>
          <a:stretch/>
        </p:blipFill>
        <p:spPr>
          <a:xfrm>
            <a:off x="4413240" y="4035600"/>
            <a:ext cx="3944880" cy="2286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older adults keep a medication list, but not a PH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y share lists when they go to health providers, mostly physician visit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ything they currently do that approaches a PHR involves a manila folder with everything in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arriers of using a computerized PHR overwhelmed benefits for mos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10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50% 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said they would consider using an electronic PHR, if they were taught to use and it was simple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ve information if traveling or injur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 easily share information with numerous physicians or other provid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amily at a distance can access their relative’s health inform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0:54:49Z</dcterms:created>
  <dc:creator>kfarris</dc:creator>
  <dc:description/>
  <dc:language>en-US</dc:language>
  <cp:lastModifiedBy>william.hyde</cp:lastModifiedBy>
  <dcterms:modified xsi:type="dcterms:W3CDTF">2009-01-02T14:18:53Z</dcterms:modified>
  <cp:revision>43</cp:revision>
  <dc:subject/>
  <dc:title>Slide 1</dc:title>
</cp:coreProperties>
</file>