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7D5E-F789-4833-A331-2BA40ED58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EAC-019C-4CD4-AB69-FE0E3624C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EF0-0276-422A-9C52-D23EDACCF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AC5-26A7-4EC5-B92B-997295846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43E-DD47-4CF3-827C-043C7822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F80-66C5-4AA4-9ACA-CBD8ED4A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6FE-DD6A-436E-89EB-D86424E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CE6-80E9-4F8C-B9A8-4C7DAB81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10B-D487-4BA9-8E7C-813392C4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0502-D87C-454F-A452-81A8469C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5688-164D-40A2-9271-2E04FCC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610D-ED6F-48D9-9B23-0C329C04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846-72A3-4775-A172-4243B839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7E1-C98B-49E7-946A-7908CE73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7D7-7B1C-4066-BC14-238561F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575-6213-4D1B-A96D-9A9EE31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4B4-7ED7-4786-BB8C-E67787A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5E5F-81F5-401C-AEF8-5F39A63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343-A8DE-4FF2-AC89-BBFF64F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1DA9-7263-486D-A2B2-8BF12DF0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4BF-3C28-4E64-97B2-313D03C2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A3B6-2C06-4CCB-8F7C-5E1075E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E1BE-445D-4898-8276-D01F7B23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AA9D8-2EBB-4DD3-8C38-32392DE7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62F3-B785-4C05-8263-685CD869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6438-2BF8-46C8-9CF1-F987B2B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0FD-AC7E-4D2D-B0B2-B3CC888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C238-23FA-4319-892E-0CEA4EB6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BE47-5365-47CA-A8C1-B629B83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2BA6-CB90-4FE5-8784-353DE44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4B8C-8B0C-4921-824E-7E20188C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048D-6C8C-4AD4-A5D2-85B4F0B1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859D-D1AB-4352-8ABD-DF6C8580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3C46-2808-4485-B189-E9B41276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65D6-A1C9-4594-9344-4990045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8703-3F5D-4F33-B438-13D99C9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5492-3FE6-4644-BB6E-FBAAE5A3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BA4-3A87-4007-B95D-2B94EA8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B85F-51AB-4FA3-BB51-3C07F6D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1AF8-A0BA-451C-860F-03B19B6F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3034-F985-431F-8282-7EDC03A1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46E2-477F-4126-AFFB-DEE05E5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3AD3-D670-4BE4-BF7C-8B9FF9FB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8281-3648-419F-BEA0-75CEDF3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D9F4-8D06-40D3-AC2B-6B15A4A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1743-6D46-480E-A74F-0665281D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3227-74CD-4742-8872-84E7EE41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758C-E547-404F-A140-BFDCAD15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C71-BD42-4AC9-8C56-8DAE8B9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7257-603B-48DA-9A37-3910BE8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812D-79A2-43CE-A69A-D12A8FC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E3B5-D663-44BD-B8FA-25EDEE9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FB6FE-A69D-4F6F-AD35-E91424B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BE5A7-0899-4D60-98F3-396512D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5B1E-A083-4D70-B931-3502D93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A9EC-F4DC-47D2-B605-7AA1953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0A8A-4437-4757-8E67-6069DD4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AF20-7F4D-463F-AE79-78E7028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B89F-C588-4E74-8DDE-FF296157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533-A9CF-47F0-99B5-A08C9975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1E35D-B09E-4A8F-8196-50869D8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4153-0103-41AD-B65F-E6675773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7DE1-E6A1-47CD-A82E-E78CDF8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FAF7-B273-4413-B440-368D116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DFFC-9FC4-4ECA-B57C-0596201C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B6BB-508B-4B94-9D5C-6983874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4991-BD6B-4E12-8329-6F790DA3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A047-1A7E-423A-83CD-57C46E5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DAF1-1E8D-4015-9077-CC6D7EA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2105-6FC2-4FE1-953A-26309AA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48E-29E1-4A5D-B729-AA4E2F1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BCC9-6608-41EC-B41F-5313756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27DB-FB18-43A4-9E42-85A6E45A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2CD8-2019-4B0A-9274-1B3BC684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C56F-580C-4C4F-B615-BE5CD25E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603B-2F2E-4D79-9E49-122BC9A1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CA36-957B-485D-B904-F5A599E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C984D-9029-48AA-B48F-953F7B8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F2CE-7E0D-4788-A22A-6398D25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E589-4EA9-47B6-BCB9-34CBE37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2CD3-E5CD-4361-91BE-DF78392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03E-2F31-41E0-8096-52BA660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3BFC-7002-494A-A156-B4D4452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4F11-C0ED-43B4-A4CD-010A91C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CD8C3-1579-45C0-BA3E-4C429C1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8B580-6115-4B3E-BEBC-B6E325EF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1052-9C4E-4466-BB19-7692B4EC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677-77B9-4FE0-8397-1DC89AA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C26B-2561-4D1A-B521-31FAB849F1C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40A-D7C1-4479-9408-3589A32C3C6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A84-642D-4588-953C-8A09B598085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55A9-A841-4276-A23D-37D1CA6403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5E1-01C0-4AC9-96BD-3E7ED0EA6F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292-CD7F-4948-BE82-0F4F6C65DCC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C01-A6C1-4897-A735-5FBAA5C2A2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33440" y="1195560"/>
            <a:ext cx="8034120" cy="21081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AHRQ 2008 Annual Meeting:  Patient–Clinician Communication through Consumer Health IT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Presenting:  Elizabeth Chrischilles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,b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Contributors: Jeanette Daly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c 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William Doucette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David Eichmann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Karen Farris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,b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Brian Gryzlak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Juan Pablo Hourcade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Barcey Levy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Jane Pendergast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 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Matthew Witry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The University of Iowa Center for Education and Research on Therapeutics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Personal Health Records and Elder Medication Use Quality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1 R18 HS017034-01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Public Health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Pharmacy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c 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Medicine;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Institute for Clinical and Translational Science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College of Liberal Arts (Computer Science)</a:t>
            </a: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#1 barrier was discomfort with security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miting information to specific providers would be important, “laboratory persons do not need to see med lists”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o not want to provide payers with ammunition to limit coverag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Really want doctors and pharmacies to maintain currency of lists/information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eeping a PHR is busy-wor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mporting information from pharmacy, lab, hospital re software compatibility is a problem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Unsure how physicians or healthcare system will access electronic PHR from patient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y interfere with patient/physician interactions… “because the doctors are typing instead of listening”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hysically typing can be issue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 Participating Clin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amily medicine clinic at major academic medical cen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ltiple physician clinic in small c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ural physician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sidency program in metro ar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vited physicians, nurses, medical assistants, pharmacists, other staff involved with medication manag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cation lis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encouraged by physici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ould include herb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fairly common, especially older adults, though not always curr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ful components of a PHR incl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dication li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st procedur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pointm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muniz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D contact inf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bs, screenin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are importa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who move arou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with complicated dise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R admissions/New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ngage patient in their own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celerate transfer of health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rease dupl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rease medication erro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PHRs could be used in their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can into EM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medical assistant populate EMR fiel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ck of patient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gnitively impaired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 computer litera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think it’s the physician’s and clinic’s job to transfer reco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curacy of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tibility with EM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ipul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rcotic ab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lf diagnos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7896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what should be collected in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the general value of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Accelerated information sharing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value of PHR for out-of-system or acute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ealth events while traveling, other physicians, new patient/doctor, emergency room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about th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rbel"/>
              </a:rPr>
              <a:t>lack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of value of PHR for regular care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concern about reliabilit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busy-work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computer environment is a major barrier to PHR us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security fears, lack of computer comfort, “I’d have my son/daughter use it because s/he uses on-line banking.”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may interfere with doctor-patient relationship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PHR-EMR interfac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most patients won’t maintain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busy-work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patients won’t take responsibility to do i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generally barriers outweigh benefi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out who should maintain the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tients:  provid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viders:  pati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obile, trav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aregiv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es multiple physici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omplex health sit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onditions requiring self-care activ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(or caregiver is) comfortable with compu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ed 58 PHRs listed in myphr.or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4 were operational when we reviewed the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geared towards young famili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mily rather than individual orient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w provided easy to access online demonstr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ingly tied to data entry services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ajority were poorly designe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only found 12 out of 58 could be potentially used in our stud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clud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orly designed form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navig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x user interfac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952880" y="2182680"/>
            <a:ext cx="4064040" cy="3146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oor forms:  Left-justified labels, limited medication use functionality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Difficult navigation:  Too many clicks to access a function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Complex interfaces:  Too many options, most of which would be rarely used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HRs for older adults should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eet full medication use functionality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ake into account declines in vision, working memory and motor skills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ave simple user interface with large targets for clicking, larger text, and simple navigation; and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omply with standard usability principles or AARP recommendations on website design for older adult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596880" y="-79200"/>
            <a:ext cx="8321760" cy="1822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edicare Modernization Act described the purpose of MT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optimize therapeutic outcomes (of targeted beneficiaries) through improved medication use, and to reduce the risk of adverse events, including adverse drug interactions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simple user interface and simple navig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igned for mobile, low literacy patient pop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require a teaching compon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udy 1:  Study PHR, by age gro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udy 2:  Study PHR vs. Prototype PH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lf-administered questionnair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ttitude towards comput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omputer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ealth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R task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nk aloud protoco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easure efficiency and effectivenes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ample tasks: login, physician visit, add existing prescriptions, add new prescription, adjust existing prescription, prescription refills, making note on forgetting to take a prescription, symptom notes, immunizations, add regularly seen do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r satisfaction questionnai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brief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scuss low satisfaction scores, areas where participants have difficul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7" descr=""/>
          <p:cNvPicPr/>
          <p:nvPr/>
        </p:nvPicPr>
        <p:blipFill>
          <a:blip r:embed="rId1"/>
          <a:stretch/>
        </p:blipFill>
        <p:spPr>
          <a:xfrm>
            <a:off x="738360" y="4937040"/>
            <a:ext cx="7497720" cy="622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ancer faces.jpg"/>
          <p:cNvPicPr/>
          <p:nvPr/>
        </p:nvPicPr>
        <p:blipFill>
          <a:blip r:embed="rId2"/>
          <a:srcRect l="0" t="12997" r="58688" b="23273"/>
          <a:stretch/>
        </p:blipFill>
        <p:spPr>
          <a:xfrm>
            <a:off x="533520" y="2438280"/>
            <a:ext cx="1474560" cy="1600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cancer faces 2.jpg"/>
          <p:cNvPicPr/>
          <p:nvPr/>
        </p:nvPicPr>
        <p:blipFill>
          <a:blip r:embed="rId3"/>
          <a:srcRect l="44448" t="40034" r="33333" b="44855"/>
          <a:stretch/>
        </p:blipFill>
        <p:spPr>
          <a:xfrm>
            <a:off x="7130880" y="152280"/>
            <a:ext cx="170820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4"/>
          <a:srcRect l="0" t="0" r="0" b="54984"/>
          <a:stretch/>
        </p:blipFill>
        <p:spPr>
          <a:xfrm>
            <a:off x="228600" y="228600"/>
            <a:ext cx="1828800" cy="1235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DSC_0014.JPG"/>
          <p:cNvPicPr/>
          <p:nvPr/>
        </p:nvPicPr>
        <p:blipFill>
          <a:blip r:embed="rId5"/>
          <a:stretch/>
        </p:blipFill>
        <p:spPr>
          <a:xfrm>
            <a:off x="7315200" y="2514600"/>
            <a:ext cx="1419120" cy="152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TM should includ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rgeting of high risk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lecting patient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viewing complete medication regim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ommending drug therapy adjustment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ucating patients about medicatio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nitoring patients’ response to therap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ormed and engaged patients get more from MT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TM foundation - Accurate medication li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Question – Can a PHR increase patient engagement in managing their medicat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6" descr="cancer faces.jpg"/>
          <p:cNvPicPr/>
          <p:nvPr/>
        </p:nvPicPr>
        <p:blipFill>
          <a:blip r:embed="rId2"/>
          <a:srcRect l="0" t="12997" r="58688" b="23273"/>
          <a:stretch/>
        </p:blipFill>
        <p:spPr>
          <a:xfrm>
            <a:off x="228600" y="5029200"/>
            <a:ext cx="1474920" cy="160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ancer faces 2.jpg"/>
          <p:cNvPicPr/>
          <p:nvPr/>
        </p:nvPicPr>
        <p:blipFill>
          <a:blip r:embed="rId3"/>
          <a:srcRect l="44448" t="40034" r="33333" b="44855"/>
          <a:stretch/>
        </p:blipFill>
        <p:spPr>
          <a:xfrm>
            <a:off x="2438280" y="5181480"/>
            <a:ext cx="1708200" cy="1295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4"/>
          <a:srcRect l="0" t="0" r="0" b="54984"/>
          <a:stretch/>
        </p:blipFill>
        <p:spPr>
          <a:xfrm>
            <a:off x="4876920" y="5181480"/>
            <a:ext cx="1828800" cy="1235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SC_0014.JPG"/>
          <p:cNvPicPr/>
          <p:nvPr/>
        </p:nvPicPr>
        <p:blipFill>
          <a:blip r:embed="rId5"/>
          <a:stretch/>
        </p:blipFill>
        <p:spPr>
          <a:xfrm>
            <a:off x="7543800" y="4983120"/>
            <a:ext cx="1219320" cy="164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tient and physician focus group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rvey of commercially available PH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ability study in human-computer interaction laborat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eld test in practice-based research net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ain understanding o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rrent patient/physician medication management practi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rriers to using PHRs in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older adults; 4 caregiv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% white, average age 73.3 ± 6.4, average meds 5.4 ± 2.0; 33% some college &amp; 67% college degre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Chart 3" descr=""/>
          <p:cNvPicPr/>
          <p:nvPr/>
        </p:nvPicPr>
        <p:blipFill>
          <a:blip r:embed="rId2"/>
          <a:stretch/>
        </p:blipFill>
        <p:spPr>
          <a:xfrm>
            <a:off x="225360" y="4035600"/>
            <a:ext cx="3882960" cy="2268360"/>
          </a:xfrm>
          <a:prstGeom prst="rect">
            <a:avLst/>
          </a:prstGeom>
          <a:ln w="0">
            <a:noFill/>
          </a:ln>
        </p:spPr>
      </p:pic>
      <p:pic>
        <p:nvPicPr>
          <p:cNvPr id="329" name="Chart 5" descr=""/>
          <p:cNvPicPr/>
          <p:nvPr/>
        </p:nvPicPr>
        <p:blipFill>
          <a:blip r:embed="rId3"/>
          <a:stretch/>
        </p:blipFill>
        <p:spPr>
          <a:xfrm>
            <a:off x="4413240" y="4035600"/>
            <a:ext cx="3944880" cy="2286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older adults keep a medication list, but not a PH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share lists when they go to health providers, mostly physician visi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ything they currently do that approaches a PHR involves a manila folder with everything in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rriers of using a computerized PHR overwhelmed benefits for mo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50%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aid they would consider using an electronic PHR, if they were taught to use and it was simpl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information if traveling or inju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easily share information with numerous physicians or other provi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mily at a distance can access their relative’s health in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4:49Z</dcterms:created>
  <dc:creator>kfarris</dc:creator>
  <dc:description/>
  <dc:language>en-US</dc:language>
  <cp:lastModifiedBy>william.hyde</cp:lastModifiedBy>
  <dcterms:modified xsi:type="dcterms:W3CDTF">2009-01-02T14:18:53Z</dcterms:modified>
  <cp:revision>43</cp:revision>
  <dc:subject/>
  <dc:title>Slide 1</dc:title>
</cp:coreProperties>
</file>