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4296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4296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236520" y="268200"/>
            <a:ext cx="746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4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5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6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26000" y="380880"/>
            <a:ext cx="152388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c-ims.net/RevMan" TargetMode="External"/><Relationship Id="rId2" Type="http://schemas.openxmlformats.org/officeDocument/2006/relationships/hyperlink" Target="http://www.meta-analysis.com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tephanie.chang@ahrq.hhs.gov" TargetMode="External"/><Relationship Id="rId2" Type="http://schemas.openxmlformats.org/officeDocument/2006/relationships/hyperlink" Target="mailto:Stephanie.chang@ahrq.hhs.gov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10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tephanie Chang MD,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enter for Outcomes and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209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ducting a methodologically sound systematic review with limited resources: An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breadth of methods issues in conducting systematic revi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vailable resources for methods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vailable resources for conducting a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ducting systematic review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2971800" cy="23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48520" y="2743200"/>
            <a:ext cx="22636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7524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ments of systematic re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y critic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appropriate sources of information to address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quality of individu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458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and external 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evidence for each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458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synthesis, 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458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Decision analysis, Cost-effective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hodology of systematic review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6240" indent="-2462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, but 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ing partn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Key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 partners for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expe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, rigorous, unbi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literatur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of study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iori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of methods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7320" indent="-2102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417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Evidence-based Practice Cen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39182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/BS T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Co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s Hopkins 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Master 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Minnes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274320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H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So California. - R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– U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SF - Stanford 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Alb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Ottaw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7069" t="17391" r="12201" b="19569"/>
          <a:stretch/>
        </p:blipFill>
        <p:spPr>
          <a:xfrm>
            <a:off x="7696080" y="1371600"/>
            <a:ext cx="129564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80880" y="1523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idence-based Practice Centers conduct systematic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417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hods Guide Re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Guide for Conducting Comparative Effectiveness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pic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lecting 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ing 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ing Quality of individu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ing Applic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ing Ha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itative 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ing a body of 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effectivehealthcare.ahrq.g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ffectivehealthcare.ahrq.gov/repFiles/2007_10DraftMethodsGuide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hrane Handbook and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ochrane.org/resources/handboo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too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cc-ims.net/Rev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P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cc-ims.net/gradep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 Meta-analysis (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meta-analysis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A, SAS, SPSS (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Stat! (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trialsta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417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estions?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anie Ch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tephanie.chang@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1898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5:12Z</dcterms:created>
  <dc:creator>Carolyn Clancy</dc:creator>
  <dc:description>October 9, 2003
user driven research</dc:description>
  <cp:keywords>ebm qualtiy</cp:keywords>
  <dc:language>en-US</dc:language>
  <cp:lastModifiedBy>bcambridge</cp:lastModifiedBy>
  <dcterms:modified xsi:type="dcterms:W3CDTF">2008-10-17T13:50:58Z</dcterms:modified>
  <cp:revision>107</cp:revision>
  <dc:subject>ECRI</dc:subject>
  <dc:title>Creating the Knowledge Base and Disseminating the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