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455840" y="349200"/>
            <a:ext cx="714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455840" y="349200"/>
            <a:ext cx="714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8035920" y="5791320"/>
          <a:ext cx="1071720" cy="105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5920" y="5791320"/>
                    <a:ext cx="10717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" name=""/>
          <p:cNvGrpSpPr/>
          <p:nvPr/>
        </p:nvGrpSpPr>
        <p:grpSpPr>
          <a:xfrm>
            <a:off x="12600" y="19080"/>
            <a:ext cx="1252800" cy="1362960"/>
            <a:chOff x="12600" y="19080"/>
            <a:chExt cx="1252800" cy="1362960"/>
          </a:xfrm>
        </p:grpSpPr>
        <p:sp>
          <p:nvSpPr>
            <p:cNvPr id="5" name=""/>
            <p:cNvSpPr/>
            <p:nvPr/>
          </p:nvSpPr>
          <p:spPr>
            <a:xfrm>
              <a:off x="12600" y="19080"/>
              <a:ext cx="1252800" cy="12952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43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1440" y="704880"/>
              <a:ext cx="10760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66ccff"/>
                  </a:solidFill>
                  <a:latin typeface="Arial"/>
                </a:rPr>
                <a:t>Advancing Excellence in Health Ca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3640" y="704880"/>
              <a:ext cx="981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9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1" name=""/>
          <p:cNvGraphicFramePr/>
          <p:nvPr/>
        </p:nvGraphicFramePr>
        <p:xfrm>
          <a:off x="-22320" y="76320"/>
          <a:ext cx="1333440" cy="73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2320" y="76320"/>
                    <a:ext cx="133344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14400" y="152280"/>
            <a:ext cx="7515000" cy="2360880"/>
            <a:chOff x="914400" y="152280"/>
            <a:chExt cx="7515000" cy="2360880"/>
          </a:xfrm>
        </p:grpSpPr>
        <p:sp>
          <p:nvSpPr>
            <p:cNvPr id="51" name=""/>
            <p:cNvSpPr/>
            <p:nvPr/>
          </p:nvSpPr>
          <p:spPr>
            <a:xfrm>
              <a:off x="914400" y="228600"/>
              <a:ext cx="7315200" cy="213372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1049760" y="152280"/>
            <a:ext cx="2137680" cy="236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49760" y="152280"/>
                      <a:ext cx="2137680" cy="236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2844720" y="1514520"/>
              <a:ext cx="558468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Agency for Healthcare Research and Qua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ccff"/>
                  </a:solidFill>
                  <a:latin typeface="Arial"/>
                </a:rPr>
                <a:t>Advancing Excellence in Health Care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 </a:t>
              </a:r>
              <a:r>
                <a:rPr b="0" lang="en-US" sz="1800" spc="-1" strike="noStrike">
                  <a:solidFill>
                    <a:srgbClr val="99ccff"/>
                  </a:solidFill>
                  <a:latin typeface="Arial"/>
                  <a:ea typeface="Arial"/>
                </a:rPr>
                <a:t>www.ahrq.go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49280" y="228600"/>
              <a:ext cx="0" cy="213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53600" y="1871640"/>
              <a:ext cx="507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58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0" name=""/>
          <p:cNvGraphicFramePr/>
          <p:nvPr/>
        </p:nvGraphicFramePr>
        <p:xfrm>
          <a:off x="2897280" y="142920"/>
          <a:ext cx="3333600" cy="18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7280" y="142920"/>
                    <a:ext cx="333360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28195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vision of Preventiv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Services in the Complex Pati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2640" y="4876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HRQ Annual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ptember 9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Iss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ing American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alence and burden of chronic ill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quality metrics designed for the uncomplicated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oals of the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Funding Opportun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 prioritization of guidelines, whether for prevention or disease management, in order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 effective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inappropriate incentives for clinic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ect patient autonomy and choice in the setting of a limited life s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ree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Study Types Envision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criptive Epidemi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alytic Epidemi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scriptive Epidemiolog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data set analyses (population surveys, medical databases, EHR, insurance clai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illnesses n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 his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 on quality of life over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expectanc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mulative burden of therapies over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and types of 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recommended trea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s for tertiary preventio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nalytic Epidemiolog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ospective cohort desig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benefits and harms of preventive or therapeutic interven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“real world” settings for patients who have multiple chronic co-morbid condi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 sufficient clinical data and innovative statistical techniques to determine the relative positive and negative impacts of prevention/therapy in a populations with co-morbid il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deling stud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sion models and cost-effectiveness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impact of recommended therapies and preventive services on patients with two or more co-morbid chronic cond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s sufficiently comprehensive to model the impact of the co-morbid illness 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s of competing morbidity and/or mort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s and harms of the interven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21 Grant Progra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2976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8 funds $ 3.7 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 a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21 :  exploratory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phase planned for 2010 to build on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day’s Presente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9930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lex Patient’ R21 grante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ra M. De Castro MD; Duke 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onship of Depression to Sickle Cell Disease Severity, Health Care Utilization and Quality of Life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ureen Smith MD;  U. Wiscons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ideline Adherence and Health Outcomes in Medicare FFS Patients with Diabete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ert commenta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bara J. Turner MD, MSED, M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or of Medici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sion of General Internal Medici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of Pennsylvania School of Medic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21:53:03Z</dcterms:created>
  <dc:creator>MBarton</dc:creator>
  <dc:description/>
  <dc:language>en-US</dc:language>
  <cp:lastModifiedBy>rac</cp:lastModifiedBy>
  <dcterms:modified xsi:type="dcterms:W3CDTF">2008-10-02T14:52:11Z</dcterms:modified>
  <cp:revision>6</cp:revision>
  <dc:subject/>
  <dc:title>Funding Opportunity Announcement    RFA-(HS-08-003) </dc:title>
</cp:coreProperties>
</file>