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E73AA4-A9B0-42F7-B273-44BA255AA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eutics = pain relievers, tranquilizers, stimulants, sed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CF44-FB9E-4068-A8AC-E75A4CA8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090A-E1D5-46E3-A9A1-16C33A3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906A-2052-4E02-BDBC-E392D2AB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1822-751A-4154-979D-46EE1703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5B05-4D8B-49A0-838D-ED2C60E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D22-C39D-4A78-A779-E3331E1E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3A2C-FFA1-4EE7-9D68-60D585A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3B34-D375-4ECA-BC39-A9F7A0A6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EF9D-8E6F-4435-AD46-46961181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731A-B4E2-4884-B7D7-DD119E2E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1E56-9880-4DF5-A015-621E9E92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FF12-2D5C-4845-A0B7-77EA2F1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AE08-D68F-45FB-83B1-9F2F5C8D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B10-9DAA-4C8F-A857-6B1AA459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B588-B338-452D-9483-B6D02CDE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182-091A-495B-B496-19913474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0CB9-51EE-4C9A-85BD-89346EA1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FB7E-BA0F-496D-AA56-338BF6D2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64E7-ED87-4107-A5D1-70F7351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6247-F6FF-4E5A-8DD4-D361003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0FE3-FE76-4E0D-83A9-AE3E73F0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A063-D84F-4EB2-B182-3D25A865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5A35-01BF-475E-8EC1-2F03E73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C8AD-366D-4DC7-A9F8-37C6512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3FE3-D548-4623-9CB1-21442CBAD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079-1965-47EC-9526-400C084646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nabling Electronic Prescribing and Enhanced Management of Controlled Substa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M. Carrow, Ph.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achusetts Department of Public Heal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for Health Care Safety and Qu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Control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4114800"/>
            <a:ext cx="2895840" cy="0"/>
          </a:xfrm>
          <a:prstGeom prst="line">
            <a:avLst/>
          </a:prstGeom>
          <a:ln w="73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enefits Unique to EP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dition, there are potential benefits unique to EP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ions in non-medical use and abuse of federally controlled pharmaceut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 in adoption of e-prescribing of non-controlled (legend) med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ion of need for two separate systems (i.e., e-prescribing for legend medications and paper for controlled medication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curity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EA has identified a set of security elements that must be included in a health IT solution for EPC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curity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8288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uthent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ly identifying the signer and establishing who is sending and receiving 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on-repudi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t parties to an activity cannot reasonably deny having participated in the acti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cord Integr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and signature have not been altered after sign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curity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8288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gal Suffici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igation strength for prosecution, i.e., the ability to be proven beyond a reasonable dou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gnature Verif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ertainment that an identified signer intended to endorse a wri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fidentia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 authorized persons have access to the 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-prescribing Transaction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(non-EPCS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PCS Transa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gulatory Mileston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re Modernization Act mandated standard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-prescrib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:  AHIC charte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final rule on foundation standard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dicare Part 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M report on role of e-prescribing in reduc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tion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:  All states and D.C. allow e-prescribing of non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(legend) med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final rule on additional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:  DEA Notice of Proposed Rulemaking for EP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Specific Ai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776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1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, implement and verify a system of safe and secure electronic transmission of prescriptions for federally controlled substances in an ambulatory care sett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2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and test the interfacing of the e-prescribing system developed in Aim 1 with the Massachusetts Prescription Monitoring Progra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Specific Aim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9600" cy="531036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3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uct systems process and outcomes evaluations of improvements to patient care, risk reductions, patient and clinician benefits, patient safety, information privacy, confidentialit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4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and implement a plan for dissemination of findings for Aims 1, 2 and 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udy Si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kshire Health Systems Catchment A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HS is primary provider in Berkshire County, MA (contained “laboratory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y Pain Management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ership in EHR ado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300 physicians, dentists, nurse practitioners, physician assist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to medically underserved pop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ject Collaborator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 Department of Public Health, Drug Control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First, Inc., Rockville, M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deis University, Heller School for Social Policy and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kshire Health Systems, In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. S. Department of Justice, Drug Enforcement Admini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ed by a grant from the U.S. 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months 1 – 6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tain DEA waiver to allow e-prescribing of Schedule II-V drugs at Berkshire Health Syst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 project to Berkshire medical commun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ruit providers to participate in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authentication process for use by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vider and pharmacy interviews/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s will use e-prescribing technology utilizing DrFirst’s Rcopia 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oup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current DrFirst users) will be split into 2 sub-group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 to use EPCS (including digital signa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to use standard prescribing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oup I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new users of  e-prescribing) will be split into 2 sub-group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 to use EPCS (including digital signa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to use standard prescribing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 (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nths 7 – 1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 (control) will use standard prescribing process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 (test) will begin using e-prescribing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I baseline data collection beg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ss prescription pick-up compli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and test interfacing between DrFirst and the Massachusetts Prescription Monitoring Program (PM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PMP data to assess potential diversion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outcomes fo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ment in patient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tions in adverse drug events (ADE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rease in non-medical use of controlled substan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vider and pharmacy 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I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months 13 – 2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 (test and control) continue to use e- prescribing and standard prescribing process respectively,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I (control) will use standard prescribing process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I (test) will begin using EP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collection on Groups I and II contin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I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review of PMP data to assess potential diversion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assess prescription pick-up compli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evaluate outcomes for improvement 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tions in adverse drug events (AD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rease in non-medical use of controlled substa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vider and pharmacy interviews/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V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months 28 - 36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e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mit Final Reports to AHRQ and D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emination of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ependent Security Analy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ST Trained/Certif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the design of the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the security of the pilot system once it is operat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-deployment Risk Analy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ic (6 month) assessments throughout the proje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 on essential DEA security components for EP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to assess/report on major security breach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cess and outcome evaluations of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1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ments to Patient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tion of Ri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ts val="25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tion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ts val="25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er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ts val="25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and Clinician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Safet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Privacy and Confidenti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tential State Regulatory Barri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state laws allow EPC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, MA, NY: laws allow for EPCS pending DEA regul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, MA regulations set minimum security standards and adopt DEA regulations by referenc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248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. Code Regs., 105 CMR 721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Te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ele Audet, RPh, D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nold Bilansky, RPh, D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ael B. Blackman, MD, MBA, Berkshire Health Systems, Inc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 M. Carrow, PhD, DPH, Principal Investiga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ncy Coffey, U.S. Drug Enforcement Administr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L. Eadie, MPA, D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N. Kaufman, MD, DrFirst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hen J. Kelleher, Jr., MHA, FACHE, Project Manag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Lee Kim, BA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Kreiner, PhD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n McDonald, RN, MN, BHS &amp; Project Liais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e Panas, MS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dy Parks Thomas, MSPH, PhD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 Walczyk, RPh, O’Laughlin’s Pharmacy &amp; DPH Formulary Comm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otential Regulatory Barriers (cont’d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state laws allow EPCS (cont’d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 law requires written prescription for Schedule II drug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X law prohibits e-prescribing of Schedule II prescriptions and requires manual signatu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,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needed to change state laws and regulations may be signific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867280"/>
            <a:ext cx="71629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. Statutes, Chapter 8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. Health &amp; Safety Code, Chapter 4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. Admin. Code, Title 22, §291.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her Potential Challeng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laws and regulations can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controlled substances laws can be more restrictive than federal la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states place responsibility for security and validity of prescriptions on prescribers and pharmacies, both of which are regulated/licensed at state and federal lev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action system providers (e.g., eRx software, transmission network and switches, pharmacy software) are not separately regulated/licen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ther Potential Challenges (cont’d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s may be unprepared to conduct in-person identity proofing (e.g., regulations, infrastructure,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ptance of controlled substance e-prescriptions for reimbursement by third-party payors (currently automatically rejected by Medica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pected Outcom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tate and expedite adoption and expand diffusion of electronic prescribing throug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eld testing security standards prior to finalization and implementation of DEA proposed regulations governing EP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ing unexpected barriers and outcomes prior to 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pected Outcom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rlier adoption and expanded diffusion of e-prescribing is expected to result in benefits such 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medication management by ambulatory care clinicians at the point-of-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s access to needed pharmaceuticals, particularly by those with chronic medical cond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d non-medical use and abuse of controlled substa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M. Carrow, Ph.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al Investig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.Carrow@state.ma.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hen J. Kelleher, Jr., MHA, FAC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ve.Kelleher@state.ma.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95480" y="2895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Purpose and 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Specific Ai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cted Outco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Purpose and Metho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ourage the expansion, adoption and diffusion of e-prescribing, a key component of health IT and electronic health records, to improve medication management by ambulatory care clinicians at the point-of-c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and demonstrate the safety, security, quality and effectiveness of electronic transmission of prescriptions for federally controlled medications in the ambulatory care sett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Unique to EP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there is a lack of approved security standards for the electronic prescribing of controlled substances (EPC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tandards for EPCS are a unique challenge because of the need to prevent pharmaceutical (or drug) diver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maceutical (or drug) diversion is the channeling of licit controlled substances or other pharmaceuticals for illegal purposes or abus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ersion may include, but is not limited to, theft, burglary and robbery; tampering; stealing, forging and counterfeiting prescriptions; doctor shopping; indiscriminate prescribing; and illegal sales of prescriptions and pharmaceutic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3244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Alliance of States with Prescription Monitoring Programs,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led substances prescriptions estimated to comprise 326M prescription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ca. 8.8%) of total 3,700M U.S. prescription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alence of non-medical use of prescription psychotherapeutics in U.S. estimated at 7M current user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idence of non-medical use of prescription psychotherapeutics in U.S. estimated at 2.2M new user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867280"/>
            <a:ext cx="70102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.S. Drug Enforcement Administration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S Health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.S. Substance Abuse and Mental Health Services Administration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ck of approved standards has contributed to a delay in realizing the full patient safety, clinical benefits, and risk reductions that are known to result from e-prescribing, inclu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medication management and coordination of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decision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ian workflow impr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 of medication erro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9:28:07Z</dcterms:created>
  <dc:creator>G.M.Carrow</dc:creator>
  <dc:description/>
  <dc:language>en-US</dc:language>
  <cp:lastModifiedBy>User</cp:lastModifiedBy>
  <dcterms:modified xsi:type="dcterms:W3CDTF">2008-09-08T14:02:06Z</dcterms:modified>
  <cp:revision>171</cp:revision>
  <dc:subject/>
  <dc:title>Slide 1</dc:title>
</cp:coreProperties>
</file>