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AEE7F1-4602-45F7-9DE8-43F55E05B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therapeutics = pain relievers, tranquilizers, stimulants, sed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E954-0C76-44DC-B0A4-C0DAA705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5CF32-C735-4B8E-9CA9-97B68067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AB34-620E-4340-BEB1-CEC4946F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AB8E-9625-49FD-8E37-2E3430BD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CA53-0BDF-4A55-8260-3DE3A809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28EB-BB5B-481A-B878-AAE1315D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811C-88BF-4ED5-8728-DEB00496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90DB-996E-4F16-8C5C-83916293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3F06-CC26-439C-9FF9-E575FBCA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5F58-70A5-401A-B693-0DA9BACD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A461-2844-4865-9E64-56E35521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2B81-3A05-451E-AB0C-387899E0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1EC3-A6D3-457E-AD54-4EDE19C4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7E40-8CF5-4FA3-881E-75E9F58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6826-AA79-48FA-9C34-695965C7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C8D7-C43C-47D2-A9AA-7D1F7C3D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7D8D-B070-4D8F-A96A-DEC96A4C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4EEF-7478-475C-9004-349D395A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871B-A676-40FB-A14D-3F9FAC2C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9E15-026A-4DE2-A416-9406E2A3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C2722-3038-4549-BE28-5957E8A1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DAF7-6CB7-404A-BDA7-9E094CDA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D91A-324F-44B0-9BB0-A610902B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07FB4-13F9-499D-9EA2-CF924987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0687-1715-42B0-8939-ED1AE089A4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B788-5565-4811-976F-31DD3738AB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nabling Electronic Prescribing and Enhanced Management of Controlled Substan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HRQ Annual Conf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ptember 8,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M. Carrow, Ph.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sachusetts Department of Public Heal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reau for Health Care Safety and Qua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ug Control Progra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4114800"/>
            <a:ext cx="2895840" cy="0"/>
          </a:xfrm>
          <a:prstGeom prst="line">
            <a:avLst/>
          </a:prstGeom>
          <a:ln w="73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enefits Unique to EPC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ddition, there are potential benefits unique to EPC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2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tions in non-medical use and abuse of federally controlled pharmaceutic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rease in adoption of e-prescribing of non-controlled (legend) medic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mination of need for two separate systems (i.e., e-prescribing for legend medications and paper for controlled medication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curity Require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EA has identified a set of security elements that must be included in a health IT solution for EPC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curity Require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8288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uthent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ly identifying the signer and establishing who is sending and receiving 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on-repudi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at parties to an activity cannot reasonably deny having participated in the activ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cord Integr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and signature have not been altered after signa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ecurity Requirement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8288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egal Sufficien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igation strength for prosecution, i.e., the ability to be proven beyond a reasonable doub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gnature Verif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ertainment that an identified signer intended to endorse a wri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fidential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 authorized persons have access to the 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-prescribing Transaction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(non-EPCS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93432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PCS Transa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438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Regulatory Mileston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re Modernization Act mandated standard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e-prescrib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:  AHIC charter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 final rule on foundation standard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edicare Part 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OM report on role of e-prescribing in reduc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tion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:  All states and D.C. allow e-prescribing of non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led (legend) medic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8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 final rule on additional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8:  DEA Notice of Proposed Rulemaking for EP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ject Specific Aim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477684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im 1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1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, implement and verify a system of safe and secure electronic transmission of prescriptions for federally controlled substances in an ambulatory care settin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im 2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1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and test the interfacing of the e-prescribing system developed in Aim 1 with the Massachusetts Prescription Monitoring Program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ject Specific Aims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00200"/>
          <a:ext cx="8229600" cy="5310360"/>
        </p:xfrm>
        <a:graphic>
          <a:graphicData uri="http://schemas.openxmlformats.org/drawingml/2006/table">
            <a:tbl>
              <a:tblPr/>
              <a:tblGrid>
                <a:gridCol w="1447920"/>
                <a:gridCol w="6781680"/>
              </a:tblGrid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im 3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1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uct systems process and outcomes evaluations of improvements to patient care, risk reductions, patient and clinician benefits, patient safety, information privacy, confidentialit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Aim 4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21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and implement a plan for dissemination of findings for Aims 1, 2 and 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tudy Sit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1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ts val="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rkshire Health Systems Catchment Ar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HS is primary provider in Berkshire County, MA (contained “laboratory”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ty Pain Management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dership in EHR adop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300 physicians, dentists, nurse practitioners, physician assista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 to medically underserved popul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roject Collaborator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 Department of Public Health, Drug Control Progr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First, Inc., Rockville, M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andeis University, Heller School for Social Policy and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rkshire Health Systems, In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. S. Department of Justice, Drug Enforcement Administ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ed by a grant from the U.S. Agency for Healthcare Research and Qu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 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months 1 – 6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tain DEA waiver to allow e-prescribing of Schedule II-V drugs at Berkshire Health Syste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e project to Berkshire medical commun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ruit providers to participate in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authentication process for use by provid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provider and pharmacy interviews/surve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rs will use e-prescribing technology utilizing DrFirst’s Rcopia softw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roup 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current DrFirst users) will be split into 2 sub-group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 to use EPCS (including digital signatu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to use standard prescribing pro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roup I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new users of  e-prescribing) will be split into 2 sub-group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 to use EPCS (including digital signatur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 to use standard prescribing proc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I (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onths 7 – 1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 (control) will use standard prescribing process for Schedule II-V dru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 (test) will begin using e-prescribing for Schedule II-V dru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I baseline data collection begi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ess prescription pick-up compli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I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and test interfacing between DrFirst and the Massachusetts Prescription Monitoring Program (PM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PMP data to assess potential diversion iss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e outcomes for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ment in patient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tions in adverse drug events (ADEs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rease in non-medical use of controlled substanc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provider and pharmacy surve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II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months 13 – 27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 (test and control) continue to use e- prescribing and standard prescribing process respectively, for Schedule II-V dru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I (control) will use standard prescribing process for Schedule II-V dru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 II (test) will begin using EP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collection on Groups I and II continu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II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review of PMP data to assess potential diversion issu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to assess prescription pick-up compli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to evaluate outcomes for improvement i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tions in adverse drug events (AD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rease in non-medical use of controlled substa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provider and pharmacy interviews/survey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9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on of resul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se IV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(months 28 - 36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te Eval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are Repor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mit Final Reports to AHRQ and D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semination of Findin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ndependent Security Analys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ST Trained/Certifi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the design of the projec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 the security of the pilot system once it is operat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-deployment Risk Analys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ic (6 month) assessments throughout the projec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ort on essential DEA security components for EP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le to assess/report on major security breach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tocol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valu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process and outcome evaluations of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ts val="1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ments to Patient 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tion of Ris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ts val="25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tion Err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ts val="25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ver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ts val="25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u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and Clinician Benefi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Safet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ts val="4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Privacy and Confidentia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liminary Findings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otential State Regulatory Barrier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state laws allow EPC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, MA, NY: laws allow for EPCS pending DEA regul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, MA regulations set minimum security standards and adopt DEA regulations by referenc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62485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s. Code Regs., 105 CMR 721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ject Tea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ele Audet, RPh, D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nold Bilansky, RPh, D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chael B. Blackman, MD, MBA, Berkshire Health Systems, Inc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nt M. Carrow, PhD, DPH, Principal Investigat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ncy Coffey, U.S. Drug Enforcement Administr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hn L. Eadie, MPA, DP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ter N. Kaufman, MD, DrFirst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hen J. Kelleher, Jr., MHA, FACHE, Project Manager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Lee Kim, BA, Brandeis Univers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ter Kreiner, PhD, Brandeis Univers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n McDonald, RN, MN, BHS &amp; Project Liais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e Panas, MS, Brandeis Univers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ndy Parks Thomas, MSPH, PhD, Brandeis Univers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 Walczyk, RPh, O’Laughlin’s Pharmacy &amp; DPH Formulary Comm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liminary Findings:</a:t>
            </a: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otential Regulatory Barriers (cont’d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 state laws allow EPCS (cont’d)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 law requires written prescription for Schedule II drug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X law prohibits e-prescribing of Schedule II prescriptions and requires manual signatu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,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me needed to change state laws and regulations may be signific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5867280"/>
            <a:ext cx="716292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. Statutes, Chapter 89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. Health &amp; Safety Code, Chapter 4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. Admin. Code, Title 22, §291.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liminary Findings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ther Potential Challeng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laws and regulations can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controlled substances laws can be more restrictive than federal la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states place responsibility for security and validity of prescriptions on prescribers and pharmacies, both of which are regulated/licensed at state and federal lev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action system providers (e.g., eRx software, transmission network and switches, pharmacy software) are not separately regulated/licen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eliminary Findings:</a:t>
            </a: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ther Potential Challenges (cont’d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s may be unprepared to conduct in-person identity proofing (e.g., regulations, infrastructure, cost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ptance of controlled substance e-prescriptions for reimbursement by third-party payors (currently automatically rejected by Medicai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pected Outcom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cilitate and expedite adoption and expand diffusion of electronic prescribing through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eld testing security standards prior to finalization and implementation of DEA proposed regulations governing EP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entifying unexpected barriers and outcomes prior to implem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xpected Outcomes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rlier adoption and expanded diffusion of e-prescribing is expected to result in benefits such a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d medication management by ambulatory care clinicians at the point-of-c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s access to needed pharmaceuticals, particularly by those with chronic medical condi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ed non-medical use and abuse of controlled substanc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 M. Carrow, Ph.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al Investig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t.Carrow@state.ma.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hen J. Kelleher, Jr., MHA, FACH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ve.Kelleher@state.ma.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95480" y="2895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Purpose and 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ject Specific Ai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cted Outco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roject Purpose and Metho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ourage the expansion, adoption and diffusion of e-prescribing, a key component of health IT and electronic health records, to improve medication management by ambulatory care clinicians at the point-of-ca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and demonstrate the safety, security, quality and effectiveness of electronic transmission of prescriptions for federally controlled medications in the ambulatory care settin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llenges Unique to EPC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ly there is a lack of approved security standards for the electronic prescribing of controlled substances (EPC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rity standards for EPCS are a unique challenge because of the need to prevent pharmaceutical (or drug) diver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2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llenges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armaceutical (or drug) diversion is the channeling of licit controlled substances or other pharmaceuticals for illegal purposes or abus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ersion may include, but is not limited to, theft, burglary and robbery; tampering; stealing, forging and counterfeiting prescriptions; doctor shopping; indiscriminate prescribing; and illegal sales of prescriptions and pharmaceutic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2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63244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:  Alliance of States with Prescription Monitoring Programs, 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llenges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led substances prescriptions estimated to comprise 326M prescription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ca. 8.8%) of total 3,700M U.S. prescription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alence of non-medical use of prescription psychotherapeutics in U.S. estimated at 7M current user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idence of non-medical use of prescription psychotherapeutics in U.S. estimated at 2.2M new user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2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5867280"/>
            <a:ext cx="70102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.S. Drug Enforcement Administration,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S Health,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.S. Substance Abuse and Mental Health Services Administration, 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ackground: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hallenges (cont’d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ck of approved standards has contributed to a delay in realizing the full patient safety, clinical benefits, and risk reductions that are known to result from e-prescribing, inclu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lnSpc>
                <a:spcPct val="25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 medication management and coordination of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lnSpc>
                <a:spcPct val="2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 decision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lnSpc>
                <a:spcPct val="2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nician workflow improv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lnSpc>
                <a:spcPct val="25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ention of medication erro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0">
              <a:lnSpc>
                <a:spcPct val="2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9:28:07Z</dcterms:created>
  <dc:creator>G.M.Carrow</dc:creator>
  <dc:description/>
  <dc:language>en-US</dc:language>
  <cp:lastModifiedBy>User</cp:lastModifiedBy>
  <dcterms:modified xsi:type="dcterms:W3CDTF">2008-09-08T14:02:06Z</dcterms:modified>
  <cp:revision>171</cp:revision>
  <dc:subject/>
  <dc:title>Slide 1</dc:title>
</cp:coreProperties>
</file>