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A4F-AF48-4C3B-B23A-D824FF709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1B4-3EB3-45C7-AC95-0134A37B3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“untrained” insta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I’m using the device, not the device using m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320-5D27-4299-9743-13D190C6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439-4191-412E-9CCE-B8DB75F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BB7-B9A6-446A-BB25-839DC4AF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57F-D976-4A71-B86D-88DB58EE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6D2E-7145-4D9B-8435-ECC82665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9E4-32A0-4B87-AB8D-DD83CB7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E0E7-A969-427C-BDCB-CDAC16B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AF68-0E84-4D40-99A9-07A9182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DBB-3B13-4C78-89CE-73303B9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9E3-7C7A-446E-905C-48E3232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AEC2-4FAB-458E-B751-BCB8A64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0DA-2085-4C5C-802A-B25160A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BF9D-DE9B-4163-B7BB-D7E7AB0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390-75DD-4673-B0E2-E078956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CFE-D4A4-4ADD-B04D-A71ABB0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ADBA-DE1C-4B1A-A01D-2F616B75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01E-3074-4617-8808-6F4926DD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7AAC-0E74-45E0-BCBE-9CAF364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85D5-AB30-4EAB-8279-377DE40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CC11-B95F-4E48-8A33-A0520586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2F91-F8BB-406E-A844-BBFE5584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3BCB-D893-4A7A-B9C5-06AF94A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953-12D4-4AD1-ABA0-B59B906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6257-3B6A-4CC0-AF8C-282B975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CF0F-27AA-43A4-BB8F-E602D93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3677-8B37-467E-BF03-ADE2F14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3572-5F88-4BBD-9D1A-102D374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6102-8513-448D-9F40-3DD53AA7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B7B3-E669-4E1A-86BC-371BFAE9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9A3F-4431-4E96-A8E0-235D7B0D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2BB-D307-4866-8EA5-3A6A144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767-4F70-4648-B169-F8C3069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AE0-B67C-4731-9804-E1B6B21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189-D5A7-4331-944B-1C1E29E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27D-F1ED-408B-816A-CDD25C0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395-5D14-485C-B11F-029D77A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E99-FCEF-4DB9-9BF7-87DA5DC6E18C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77A-E043-4E8E-9E97-8E7083385B3D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C5F-7D78-4CCA-83AA-D19893F1EF8F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2"/>
          <a:stretch/>
        </p:blipFill>
        <p:spPr>
          <a:xfrm>
            <a:off x="311040" y="944640"/>
            <a:ext cx="8508960" cy="2566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h Burns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l College of Wiscons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lwaukee, W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5600" y="1219320"/>
            <a:ext cx="1496880" cy="31240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ympt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n do 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ed &amp; w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r. S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est Sh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lood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6200" y="1676520"/>
            <a:ext cx="1676520" cy="1371600"/>
          </a:xfrm>
          <a:prstGeom prst="rect">
            <a:avLst/>
          </a:prstGeom>
          <a:solidFill>
            <a:srgbClr val="69676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9c2d1"/>
                </a:solidFill>
                <a:uFillTx/>
                <a:latin typeface="Arial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9c2d1"/>
                </a:solidFill>
                <a:latin typeface="Arial"/>
              </a:rPr>
              <a:t>Ok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9c2d1"/>
                </a:solidFill>
                <a:latin typeface="Arial"/>
              </a:rPr>
              <a:t>No Symp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057400" y="2286000"/>
            <a:ext cx="1413000" cy="916920"/>
          </a:xfrm>
          <a:prstGeom prst="rect">
            <a:avLst/>
          </a:prstGeom>
          <a:solidFill>
            <a:srgbClr val="6967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Ask Mysel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How do I fe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5562720" y="2361960"/>
            <a:ext cx="83808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1752480" y="2620800"/>
            <a:ext cx="26352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1600200"/>
            <a:ext cx="1690920" cy="1465560"/>
          </a:xfrm>
          <a:prstGeom prst="rect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Should I t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meds, diet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control diab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if I feel Ok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505320" y="2590920"/>
            <a:ext cx="45720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7471800" y="5318280"/>
            <a:ext cx="1361880" cy="106740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Act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Use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gluco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&amp; comput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7772400" y="3352680"/>
            <a:ext cx="380880" cy="190512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809880" y="5486400"/>
            <a:ext cx="2819520" cy="8380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nitor &amp; Appra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lood sugar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088000" y="4896000"/>
            <a:ext cx="1454760" cy="824040"/>
          </a:xfrm>
          <a:prstGeom prst="rect">
            <a:avLst/>
          </a:prstGeom>
          <a:solidFill>
            <a:srgbClr val="ffff3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f high: Tak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dicat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xercis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H="1">
            <a:off x="6629400" y="5867280"/>
            <a:ext cx="83808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438840" y="4921200"/>
            <a:ext cx="1060200" cy="1310760"/>
          </a:xfrm>
          <a:prstGeom prst="rect">
            <a:avLst/>
          </a:prstGeom>
          <a:solidFill>
            <a:srgbClr val="ffff66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Pl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Tak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d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xercis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3124080" y="5791320"/>
            <a:ext cx="685800" cy="45720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8001000" y="2332080"/>
            <a:ext cx="29700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8271000" y="2173320"/>
            <a:ext cx="637920" cy="459720"/>
          </a:xfrm>
          <a:prstGeom prst="rect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453720" y="3200400"/>
            <a:ext cx="1884600" cy="642600"/>
          </a:xfrm>
          <a:prstGeom prst="rect">
            <a:avLst/>
          </a:prstGeom>
          <a:solidFill>
            <a:srgbClr val="ffff3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t’s time to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y blood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943600" y="3505320"/>
            <a:ext cx="45720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828800" y="3429000"/>
            <a:ext cx="1981080" cy="4608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V="1">
            <a:off x="1523880" y="5410080"/>
            <a:ext cx="533520" cy="15264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914400" y="4343400"/>
            <a:ext cx="76320" cy="60948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834120" y="68580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Blood Sugar Readings: Objectiv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3787920" y="3236760"/>
            <a:ext cx="2126880" cy="916920"/>
          </a:xfrm>
          <a:prstGeom prst="rect">
            <a:avLst/>
          </a:prstGeom>
          <a:solidFill>
            <a:srgbClr val="ffff3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don’t know 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lood suga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can’t feel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3581280" y="4267080"/>
            <a:ext cx="44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roper timing and consideration is necessary for this to work- </a:t>
            </a:r>
            <a:r>
              <a:rPr b="1" i="1" lang="en-US" sz="1800" spc="-1" strike="noStrike">
                <a:solidFill>
                  <a:srgbClr val="ffff00"/>
                </a:solidFill>
                <a:latin typeface="Calibri"/>
              </a:rPr>
              <a:t>DO THE NUMBERS MAKE SENSE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?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304920" y="193680"/>
          <a:ext cx="5715000" cy="657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3680"/>
                    <a:ext cx="5715000" cy="65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Box 7"/>
          <p:cNvSpPr/>
          <p:nvPr/>
        </p:nvSpPr>
        <p:spPr>
          <a:xfrm>
            <a:off x="6019920" y="860400"/>
            <a:ext cx="304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ight-blue boxes = computer lo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Green boxes = patient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dividualized in logic: 1) scheduled glucose reading times, 2) goals for scheduled time for trend sum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rend summary begins after 10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D based on 25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1447920" y="28195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System 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Co-Investigators &amp; Research Team</a:t>
            </a:r>
            <a:endParaRPr b="0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ffrey Whittle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Knudson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gei Tarim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mbi Wessel, 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exis Dye, 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hen Flax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972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oan Pleuss, CDE, 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n Strub, B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ristin Wiescorek, B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ard Leventhal, PhD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51360" y="5867280"/>
            <a:ext cx="86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enter for Health &amp; Behavior, Rutgers University and UMDNJ, New Brunswick, N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904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frequency and consistency of SMBG led to improved glycemic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baseline depression scores had higher baseline HbA1c and showed greater improvement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HbA1c was not correlated to baseline cognitive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09480" y="838080"/>
            <a:ext cx="784872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study to rigorously test thi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llness cognition, change ove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inder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anded feedbac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ends i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schedule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ing measures to diet and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% of all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adul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adul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5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,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um management requires patients to take volitional control of a process that is automatic in health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regulation/Control processes take place in “real world” settings- day-to-day life at home,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609480" y="1600200"/>
            <a:ext cx="76201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-sense Models of Ill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fe experience of acute illness teaches us to use symptoms as indicators of sickness-we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most chronic illnesses, symptoms are unreliable as indicators of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to utilize objective measures by performing self-monitoring (e.g., SMBG, 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6bb1c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2DM is a “chaotic”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buClr>
                <a:srgbClr val="ceb96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factors contribute to acute fluctuations in blood glucose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buClr>
                <a:srgbClr val="ceb96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 SMBG measures at any given point in time may provide ambiguous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6bb1c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 we teach patients to learn to use SMBG more effectively to become better self managers of a chaotic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Study Design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n automated reminder and feedback system (ASM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ed, prospective, “usual care”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provides reminders AND feedba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620800"/>
          <a:ext cx="6188040" cy="2789280"/>
        </p:xfrm>
        <a:graphic>
          <a:graphicData uri="http://schemas.openxmlformats.org/drawingml/2006/table">
            <a:tbl>
              <a:tblPr/>
              <a:tblGrid>
                <a:gridCol w="2062440"/>
                <a:gridCol w="2063520"/>
                <a:gridCol w="2062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ual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M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-vets T2D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 T2D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22"/>
          <p:cNvSpPr/>
          <p:nvPr/>
        </p:nvSpPr>
        <p:spPr>
          <a:xfrm>
            <a:off x="689760" y="5562720"/>
            <a:ext cx="67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of 200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in-home visits; intervention begins at visit 2 after 3 month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t interview at 15 mon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Qualities Desired in the Assisted-Self-Management Monitor (ASMM)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me-bas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mall footpri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mited compon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mple docking syst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idden” technolog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individual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CP &amp; participant-determined schedu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45880">
              <a:lnSpc>
                <a:spcPct val="90000"/>
              </a:lnSpc>
              <a:spcBef>
                <a:spcPts val="476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atient “controls” the technolog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P807006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Qualities Desired in the Assisted-Self-Management Monitor (ASMM), continued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01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3280">
              <a:lnSpc>
                <a:spcPct val="90000"/>
              </a:lnSpc>
              <a:spcBef>
                <a:spcPts val="79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y – importance of what the results me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heduled measu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scheduled measu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pto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 to management behaviors (tim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88520" indent="-198720">
              <a:lnSpc>
                <a:spcPct val="90000"/>
              </a:lnSpc>
              <a:spcBef>
                <a:spcPts val="451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388520" indent="-198720">
              <a:lnSpc>
                <a:spcPct val="90000"/>
              </a:lnSpc>
              <a:spcBef>
                <a:spcPts val="451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3280">
              <a:lnSpc>
                <a:spcPct val="90000"/>
              </a:lnSpc>
              <a:spcBef>
                <a:spcPts val="79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end d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s “catastrophizing” of single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8:36:44Z</dcterms:created>
  <dc:creator>Howard Leventhal</dc:creator>
  <dc:description/>
  <dc:language>en-US</dc:language>
  <cp:lastModifiedBy>rac</cp:lastModifiedBy>
  <dcterms:modified xsi:type="dcterms:W3CDTF">2008-10-02T14:22:28Z</dcterms:modified>
  <cp:revision>44</cp:revision>
  <dc:subject/>
  <dc:title>Using Home Information Technology to Optimize Self-Management of T2DM</dc:title>
</cp:coreProperties>
</file>