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75D1-E649-4C19-AE48-1EEFEBF48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05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C322-856A-4300-90B7-9877ACB1F0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“untrained” insta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I’m using the device, not the device using m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FB9-75BF-4BEB-88DE-6F76D593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DF7-D7BF-4F9D-87A6-4F097DED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F72-FA51-45E3-8EFA-F024CDC4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9CA-A4AD-4C89-AE7B-E0499A76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CA0B-273E-4563-9A90-473372AE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A7F1-9D0E-44AC-A916-8F386F0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B100-10E3-4601-8C73-8A2007FC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91DA-91D6-418F-BA63-63727F8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8FC8-CF82-4319-9C62-0AB5A9C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20D8-670B-41D2-8051-3ADA8BB8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D6F-46AA-4BA7-B7CD-C89D9FD8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199-B5A8-4577-8EA3-4FC6A480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1ED-1E1E-4A65-83C5-390DB815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F6C-1733-40A0-AE24-05CFFED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3540-5ECC-426B-A34E-1E6369E9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49B1-B4D2-4366-A5EC-229D17A6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AEFB-99E0-4D5C-9EA6-FF0C6F21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1310-D2DD-41BE-9CF4-616652BF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B901-979E-42B4-AE81-A953AFA0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F2D0-67AB-47B5-B096-F4A3DE76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BA61-700A-46AD-991E-174E26B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59D9-BE7F-454F-A997-D76E88BA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368-30AE-4E90-A740-71AC39F3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649D-930F-41F2-BD34-C2EAD42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4765B-D922-4CCF-B5C1-06337F78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963D-F3C4-40C0-AB89-A82E836C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B439-10CB-4108-B225-138F8332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E56A-C093-4D22-8B15-08ACFF85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9333-1CBE-4A0C-B671-5B12494B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63752-5064-439C-B22C-AE64A04B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7CD-6FCF-4C68-B420-C094B24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6A8-04EC-4DC5-A922-9C7F0B7D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65E-1B7B-4060-95EC-1DAAFC95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6AA-E560-4D33-B1D4-18300BFE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02F-FF6E-475A-BB3A-2E29AF9C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25F-4F6A-4882-B99D-8C5ABAA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C7EA-F0A1-4078-A9BB-24CDB3B7CB25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b9c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8C30-E807-4DA4-B6FC-FFB5E2A0DE89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0b9c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4642-01D3-4279-A67A-1D8770BB7BD5}" type="slidenum">
              <a:rPr b="0" lang="en-US" sz="1200" spc="-1" strike="noStrike">
                <a:solidFill>
                  <a:srgbClr val="c0b9c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2"/>
          <a:stretch/>
        </p:blipFill>
        <p:spPr>
          <a:xfrm>
            <a:off x="311040" y="944640"/>
            <a:ext cx="8508960" cy="25668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h Burns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dical College of Wiscons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lwaukee, W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5600" y="1219320"/>
            <a:ext cx="1496880" cy="31240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ympto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n do w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eed &amp; w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r. S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est Sh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lood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6200" y="1676520"/>
            <a:ext cx="1676520" cy="1371600"/>
          </a:xfrm>
          <a:prstGeom prst="rect">
            <a:avLst/>
          </a:prstGeom>
          <a:solidFill>
            <a:srgbClr val="69676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9c2d1"/>
                </a:solidFill>
                <a:uFillTx/>
                <a:latin typeface="Arial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9c2d1"/>
                </a:solidFill>
                <a:latin typeface="Arial"/>
              </a:rPr>
              <a:t>Oka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9c2d1"/>
                </a:solidFill>
                <a:latin typeface="Arial"/>
              </a:rPr>
              <a:t>No Sympt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057400" y="2286000"/>
            <a:ext cx="1413000" cy="916920"/>
          </a:xfrm>
          <a:prstGeom prst="rect">
            <a:avLst/>
          </a:prstGeom>
          <a:solidFill>
            <a:srgbClr val="69676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Ask Mysel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How do I fee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 flipV="1">
            <a:off x="5562720" y="2361960"/>
            <a:ext cx="838080" cy="228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1752480" y="2620800"/>
            <a:ext cx="26352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1600200"/>
            <a:ext cx="1690920" cy="1465560"/>
          </a:xfrm>
          <a:prstGeom prst="rect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Should I ta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meds, diet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control diab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c2d1"/>
                </a:solidFill>
                <a:latin typeface="Arial"/>
              </a:rPr>
              <a:t>if I feel Ok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505320" y="2590920"/>
            <a:ext cx="45720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7471800" y="5318280"/>
            <a:ext cx="1361880" cy="106740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Act 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Use th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gluco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&amp; comput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7772400" y="3352680"/>
            <a:ext cx="380880" cy="190512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809880" y="5486400"/>
            <a:ext cx="2819520" cy="838080"/>
          </a:xfrm>
          <a:prstGeom prst="rect">
            <a:avLst/>
          </a:prstGeom>
          <a:solidFill>
            <a:srgbClr val="ffff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onitor &amp; Appra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blood sugar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088000" y="4896000"/>
            <a:ext cx="1454760" cy="824040"/>
          </a:xfrm>
          <a:prstGeom prst="rect">
            <a:avLst/>
          </a:prstGeom>
          <a:solidFill>
            <a:srgbClr val="ffff3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If high: Tak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dication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xercis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H="1">
            <a:off x="6629400" y="5867280"/>
            <a:ext cx="83808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438840" y="4921200"/>
            <a:ext cx="1060200" cy="1310760"/>
          </a:xfrm>
          <a:prstGeom prst="rect">
            <a:avLst/>
          </a:prstGeom>
          <a:solidFill>
            <a:srgbClr val="ffff66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0000"/>
                </a:solidFill>
                <a:uFillTx/>
                <a:latin typeface="Arial"/>
              </a:rPr>
              <a:t>Pl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Tak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med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xercis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3124080" y="5791320"/>
            <a:ext cx="685800" cy="45720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8001000" y="2332080"/>
            <a:ext cx="297000" cy="46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8271000" y="2173320"/>
            <a:ext cx="637920" cy="459720"/>
          </a:xfrm>
          <a:prstGeom prst="rect">
            <a:avLst/>
          </a:prstGeom>
          <a:solidFill>
            <a:srgbClr val="6967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6453720" y="3200400"/>
            <a:ext cx="1884600" cy="642600"/>
          </a:xfrm>
          <a:prstGeom prst="rect">
            <a:avLst/>
          </a:prstGeom>
          <a:solidFill>
            <a:srgbClr val="ffff3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t’s time to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y blood su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943600" y="3505320"/>
            <a:ext cx="457200" cy="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828800" y="3429000"/>
            <a:ext cx="1981080" cy="4608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V="1">
            <a:off x="1523880" y="5410080"/>
            <a:ext cx="533520" cy="15264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914400" y="4343400"/>
            <a:ext cx="76320" cy="609480"/>
          </a:xfrm>
          <a:prstGeom prst="line">
            <a:avLst/>
          </a:prstGeom>
          <a:ln w="57240">
            <a:solidFill>
              <a:srgbClr val="99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834120" y="685800"/>
            <a:ext cx="77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 Blood Sugar Readings: Objectiv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3787920" y="3236760"/>
            <a:ext cx="2126880" cy="916920"/>
          </a:xfrm>
          <a:prstGeom prst="rect">
            <a:avLst/>
          </a:prstGeom>
          <a:solidFill>
            <a:srgbClr val="ffff31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don’t know 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blood sugar lev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 can’t feel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3581280" y="4267080"/>
            <a:ext cx="444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Proper timing and consideration is necessary for this to work- </a:t>
            </a:r>
            <a:r>
              <a:rPr b="1" i="1" lang="en-US" sz="1800" spc="-1" strike="noStrike">
                <a:solidFill>
                  <a:srgbClr val="ffff00"/>
                </a:solidFill>
                <a:latin typeface="Calibri"/>
              </a:rPr>
              <a:t>DO THE NUMBERS MAKE SENSE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?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Object 4"/>
          <p:cNvGraphicFramePr/>
          <p:nvPr/>
        </p:nvGraphicFramePr>
        <p:xfrm>
          <a:off x="304920" y="193680"/>
          <a:ext cx="5715000" cy="657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3680"/>
                    <a:ext cx="5715000" cy="65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Box 7"/>
          <p:cNvSpPr/>
          <p:nvPr/>
        </p:nvSpPr>
        <p:spPr>
          <a:xfrm>
            <a:off x="6019920" y="860400"/>
            <a:ext cx="30477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ight-blue boxes = computer lo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Green boxes = patient 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dividualized in logic: 1) scheduled glucose reading times, 2) goals for scheduled time for trend summ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rend summary begins after 10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D based on 25 read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1447920" y="281952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System 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Co-Investigators &amp; Research Team</a:t>
            </a:r>
            <a:endParaRPr b="0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effrey Whittle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ul Knudson, M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gei Tarim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mbi Wessel, 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exis Dye, 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ephen Flax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9720" y="1951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oan Pleuss, CDE, 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in Strub, B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ristin Wiescorek, B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ard Leventhal, PhD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51360" y="5867280"/>
            <a:ext cx="86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enter for Health &amp; Behavior, Rutgers University and UMDNJ, New Brunswick, N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904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frequency and consistency of SMBG led to improved glycemic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baseline depression scores had higher baseline HbA1c and showed greater improvement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n HbA1c was not correlated to baseline cognitive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09480" y="838080"/>
            <a:ext cx="784872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study to rigorously test thi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llness cognition, change over ti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inder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anded feedback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ends in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scheduled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lating measures to diet and a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2D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2% of all diabe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adul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% of adul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5 years of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,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um management requires patients to take volitional control of a process that is automatic in healthy individu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regulation/Control processes take place in “real world” settings- day-to-day life at home,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609480" y="1600200"/>
            <a:ext cx="7620120" cy="38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-sense Models of Ill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fe experience of acute illness teaches us to use symptoms as indicators of sickness-wel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 most chronic illnesses, symptoms are unreliable as indicators of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to utilize objective measures by performing self-monitoring (e.g., SMBG, 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buClr>
                <a:srgbClr val="6bb1c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2DM is a “chaotic”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buClr>
                <a:srgbClr val="ceb96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ple factors contribute to acute fluctuations in blood glucose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buClr>
                <a:srgbClr val="ceb96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ividual SMBG measures at any given point in time may provide ambiguous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6bb1c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n we teach patients to learn to use SMBG more effectively to become better self managers of a chaotic disea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000"/>
                </a:solidFill>
                <a:latin typeface="Arial"/>
              </a:rPr>
              <a:t>Study Design</a:t>
            </a:r>
            <a:endParaRPr b="0" lang="en-US" sz="50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an automated reminder and feedback system (ASM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ed, prospective, “usual care”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provides reminders AND feedbac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2620800"/>
          <a:ext cx="6188040" cy="2789280"/>
        </p:xfrm>
        <a:graphic>
          <a:graphicData uri="http://schemas.openxmlformats.org/drawingml/2006/table">
            <a:tbl>
              <a:tblPr/>
              <a:tblGrid>
                <a:gridCol w="2062440"/>
                <a:gridCol w="2063520"/>
                <a:gridCol w="2062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ual C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ven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M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-vets T2D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 T2D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Text Box 22"/>
          <p:cNvSpPr/>
          <p:nvPr/>
        </p:nvSpPr>
        <p:spPr>
          <a:xfrm>
            <a:off x="689760" y="5562720"/>
            <a:ext cx="670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of 200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 in-home visits; intervention begins at visit 2 after 3 month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t interview at 15 mon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Qualities Desired in the Assisted-Self-Management Monitor (ASMM)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48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me-bas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mall footpri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mited component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nstallati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mple docking syste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idden” technolog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ility to individual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ind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CP &amp; participant-determined schedul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45880">
              <a:lnSpc>
                <a:spcPct val="90000"/>
              </a:lnSpc>
              <a:spcBef>
                <a:spcPts val="476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Patient “controls” the technolog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P807006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Qualities Desired in the Assisted-Self-Management Monitor (ASMM), continued</a:t>
            </a:r>
            <a:endParaRPr b="0" lang="en-US" sz="32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901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3280">
              <a:lnSpc>
                <a:spcPct val="90000"/>
              </a:lnSpc>
              <a:spcBef>
                <a:spcPts val="79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y – importance of what the results me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t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cheduled measu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nscheduled measur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ptom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onship to management behaviors (tim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88520" indent="-198720">
              <a:lnSpc>
                <a:spcPct val="90000"/>
              </a:lnSpc>
              <a:spcBef>
                <a:spcPts val="451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388520" indent="-198720">
              <a:lnSpc>
                <a:spcPct val="90000"/>
              </a:lnSpc>
              <a:spcBef>
                <a:spcPts val="451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ercis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7680" indent="-233280">
              <a:lnSpc>
                <a:spcPct val="90000"/>
              </a:lnSpc>
              <a:spcBef>
                <a:spcPts val="79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233640">
              <a:lnSpc>
                <a:spcPct val="90000"/>
              </a:lnSpc>
              <a:spcBef>
                <a:spcPts val="524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end d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127880" indent="-198720">
              <a:lnSpc>
                <a:spcPct val="90000"/>
              </a:lnSpc>
              <a:spcBef>
                <a:spcPts val="49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izes “catastrophizing” of single rea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8:36:44Z</dcterms:created>
  <dc:creator>Howard Leventhal</dc:creator>
  <dc:description/>
  <dc:language>en-US</dc:language>
  <cp:lastModifiedBy>rac</cp:lastModifiedBy>
  <dcterms:modified xsi:type="dcterms:W3CDTF">2008-10-02T14:22:28Z</dcterms:modified>
  <cp:revision>44</cp:revision>
  <dc:subject/>
  <dc:title>Using Home Information Technology to Optimize Self-Management of T2DM</dc:title>
</cp:coreProperties>
</file>