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38000" y="349200"/>
            <a:ext cx="80391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325440" indent="-325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775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08000" indent="-24444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47760" indent="-159840">
              <a:lnSpc>
                <a:spcPct val="9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487880" indent="-159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9107640" y="5791320"/>
          <a:ext cx="1071360" cy="105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07640" y="5791320"/>
                    <a:ext cx="1071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" name=""/>
          <p:cNvGrpSpPr/>
          <p:nvPr/>
        </p:nvGrpSpPr>
        <p:grpSpPr>
          <a:xfrm>
            <a:off x="14400" y="19080"/>
            <a:ext cx="1409760" cy="1295280"/>
            <a:chOff x="14400" y="19080"/>
            <a:chExt cx="1409760" cy="1295280"/>
          </a:xfrm>
        </p:grpSpPr>
        <p:sp>
          <p:nvSpPr>
            <p:cNvPr id="5" name=""/>
            <p:cNvSpPr/>
            <p:nvPr/>
          </p:nvSpPr>
          <p:spPr>
            <a:xfrm>
              <a:off x="14400" y="19080"/>
              <a:ext cx="1409760" cy="129528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43a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3320" y="704880"/>
              <a:ext cx="12110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66ccff"/>
                  </a:solidFill>
                  <a:latin typeface="Arial"/>
                </a:rPr>
                <a:t>Advancing Excellence in Health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2000" y="704880"/>
              <a:ext cx="1104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9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" name=""/>
          <p:cNvGraphicFramePr/>
          <p:nvPr/>
        </p:nvGraphicFramePr>
        <p:xfrm>
          <a:off x="57240" y="76320"/>
          <a:ext cx="1333440" cy="73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240" y="76320"/>
                    <a:ext cx="13334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Base" hidden="1"/>
          <p:cNvSpPr/>
          <p:nvPr/>
        </p:nvSpPr>
        <p:spPr>
          <a:xfrm>
            <a:off x="1714680" y="114300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028880" y="152280"/>
            <a:ext cx="8229600" cy="2360880"/>
            <a:chOff x="1028880" y="152280"/>
            <a:chExt cx="8229600" cy="2360880"/>
          </a:xfrm>
        </p:grpSpPr>
        <p:sp>
          <p:nvSpPr>
            <p:cNvPr id="52" name=""/>
            <p:cNvSpPr/>
            <p:nvPr/>
          </p:nvSpPr>
          <p:spPr>
            <a:xfrm>
              <a:off x="1028880" y="228600"/>
              <a:ext cx="8229600" cy="2133720"/>
            </a:xfrm>
            <a:prstGeom prst="rect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1181160" y="152280"/>
            <a:ext cx="2405160" cy="2360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81160" y="152280"/>
                      <a:ext cx="2405160" cy="236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" name=""/>
            <p:cNvSpPr/>
            <p:nvPr/>
          </p:nvSpPr>
          <p:spPr>
            <a:xfrm>
              <a:off x="3549600" y="1514520"/>
              <a:ext cx="558468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Agency for Healthcare Research and Quali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99ccff"/>
                  </a:solidFill>
                  <a:latin typeface="Arial"/>
                </a:rPr>
                <a:t>Advancing Excellence in Health Care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• </a:t>
              </a:r>
              <a:r>
                <a:rPr b="0" lang="en-US" sz="1800" spc="-1" strike="noStrike">
                  <a:solidFill>
                    <a:srgbClr val="99ccff"/>
                  </a:solidFill>
                  <a:latin typeface="Arial"/>
                  <a:ea typeface="Arial"/>
                </a:rPr>
                <a:t>www.ahrq.go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43480" y="228600"/>
              <a:ext cx="0" cy="213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48160" y="1871640"/>
              <a:ext cx="5710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3867120"/>
            <a:ext cx="8985240" cy="19080"/>
            <a:chOff x="0" y="3867120"/>
            <a:chExt cx="8985240" cy="19080"/>
          </a:xfrm>
        </p:grpSpPr>
        <p:sp>
          <p:nvSpPr>
            <p:cNvPr id="59" name=""/>
            <p:cNvSpPr/>
            <p:nvPr/>
          </p:nvSpPr>
          <p:spPr>
            <a:xfrm>
              <a:off x="6480" y="388620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86712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61" name=""/>
          <p:cNvGraphicFramePr/>
          <p:nvPr/>
        </p:nvGraphicFramePr>
        <p:xfrm>
          <a:off x="3467160" y="142920"/>
          <a:ext cx="3333600" cy="183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67160" y="142920"/>
                    <a:ext cx="3333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76040" algn="ctr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82520" algn="ctr">
              <a:lnSpc>
                <a:spcPct val="90000"/>
              </a:lnSpc>
              <a:spcBef>
                <a:spcPts val="751"/>
              </a:spcBef>
              <a:buClr>
                <a:srgbClr val="66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8400" algn="ctr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195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hodological Issues in Outcome Research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4920" y="3962160"/>
            <a:ext cx="723924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ive Health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HRQ 2008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7-10, 20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state of the art analytical approaches to adjust for confounding in observational research within the Effective Health Car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d confounders: Propensity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measured confound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itivit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40000" indent="-34956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al vari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nelis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hn D. Seeger, PharmD., Dr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ior scientist, Ingenix/i3 Drug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parency in the Use of Propensity Score Meth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bastian Schneeweiss, M.D., Sc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partment of Medicine, Harvard Medical Scho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825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ncipal Investigator of Brigham and Women’s Hospital DEcIDE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nsitivity Analysis for Residual Confo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an M. Brookhart, Ph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gham and Women’s Hospital, Harvard medical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39672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9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trumental variable analysis for comparative effectiveness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8"/>
            </a:gs>
            <a:gs pos="100000">
              <a:srgbClr val="1b8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38000" y="349200"/>
            <a:ext cx="803916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round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nelist will present for ~20-25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 and comments should be made at the end of sess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question, please come to the microphone if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identify the panelist to whom the question is addres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Sandy K. Cummings</dc:creator>
  <dc:description>6/24/04</dc:description>
  <cp:keywords/>
  <dc:language>en-US</dc:language>
  <cp:lastModifiedBy>rac</cp:lastModifiedBy>
  <cp:lastPrinted>2003-01-21T20:19:23Z</cp:lastPrinted>
  <dcterms:modified xsi:type="dcterms:W3CDTF">2008-10-02T14:16:00Z</dcterms:modified>
  <cp:revision>135</cp:revision>
  <dc:subject/>
  <dc:title>AHRQ Slide Template 2004</dc:title>
</cp:coreProperties>
</file>