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8E1-8A90-4BC0-A1C9-9EE4AD46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669-6B21-4F67-92C0-3BA2C7F7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CA8-4D18-4315-9E9D-23C320A6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1B9-8AB2-4121-B54C-9E384E80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BDB-5179-4978-B94E-6B0B11C5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B6F-12A6-4CC3-A4D2-8B2D2218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228-6E52-47DF-8C5A-37FA281F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545-0F34-4C86-8B9D-8769E81B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B0B-6007-40E0-A583-E690A22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D64-C47A-4594-B012-C7D74AE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43C-0BA6-4B9D-88E9-2ECC5EA5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CD8-3FF1-4382-BB84-EBECBE7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C75B-C9BB-4498-9452-3357C18F7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10252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strumental variables for comparative effectiveness research: a review of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809520"/>
            <a:ext cx="75438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Alan Brookhart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Pharmacoepidemiolog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gham &amp; Women’s Hospital, Harvard Medical Sch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al Study of Non-steroidal Anti-Inflammatory Drug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GI bleeding risk in an elderly popul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rookhart et al, Epidemiology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short-term risk of GI outcomes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elective NS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X-2 selective NS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xibs are slightly less likely to cause GI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xibs are likely to be selectively prescribed to patients at increased GI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 problem of confounding by in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aracteristics of Coho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305920" cy="4892760"/>
        </p:xfrm>
        <a:graphic>
          <a:graphicData uri="http://schemas.openxmlformats.org/drawingml/2006/table">
            <a:tbl>
              <a:tblPr/>
              <a:tblGrid>
                <a:gridCol w="4038480"/>
                <a:gridCol w="2362320"/>
                <a:gridCol w="190512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xi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 NSA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 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&gt;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son Score&gt;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Hospital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Warfarin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Peptic Ulcer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GI Blee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mitant GI drug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GI drug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Rheumatoid 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Osteo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952560" cy="136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952560" cy="1362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1371600"/>
            <a:ext cx="528480" cy="99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15000" y="1371600"/>
            <a:ext cx="48744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48640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X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38098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X-2 Preferring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3280" y="617220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 NSAID Preferring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920" y="5029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 NS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11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286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 Pati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467480" y="1371600"/>
            <a:ext cx="48744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X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X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30800" y="5029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 NS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7120" y="31240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 NS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91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838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838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04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’s GI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ng P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NSAID prescribing varies considerably among physi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r approach: use the type of the last NSAID prescription written by each physician as a measure of current prefer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for last patient, physician wrote a coxib prescription, for the current patient he is classified as a “coxib preferring physician” other he is classified as an “non-selective NSAID preferring physician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952560" cy="136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48708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487440" cy="914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0" y="3581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33360" y="1676520"/>
            <a:ext cx="1904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765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819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Patient’s IV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Patient’s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8320" y="1981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11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0600" y="419112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with NS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4040" y="41148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1000" y="205740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54864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8880" y="5029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ment should be related to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8560" y="2268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24120" y="2268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362320"/>
          <a:ext cx="8458200" cy="2896920"/>
        </p:xfrm>
        <a:graphic>
          <a:graphicData uri="http://schemas.openxmlformats.org/drawingml/2006/table">
            <a:tbl>
              <a:tblPr/>
              <a:tblGrid>
                <a:gridCol w="2816280"/>
                <a:gridCol w="2736720"/>
                <a:gridCol w="290520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A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ri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V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rescrip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ctual Treatmen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x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Selective N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x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73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7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Selective N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ment should be unrelated to observed patient risk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76520"/>
          <a:ext cx="8229600" cy="498780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  <a:gridCol w="213372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xib Pre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=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 NSAID Pre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=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 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&gt;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son Score &gt;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Hospital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Warfarin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Peptic Ulcer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GI Blee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mitant GI drug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GI drug use (e.g., PP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Rheumatoid 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Osteo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 estimate of the effect of coxib exposure on GI 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981080"/>
            <a:ext cx="708660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 Estimat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Y|Z=1]-E[Y|Z=0]          -0.2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----   =    --------   =  -0.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X|Z=1]-E[X|Z=0]           22.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Y|X=1]-E[Y|X=0]    =   +0.0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multivariabl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0.0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xamples of preference-based instr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, hospital as 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ston SC, J Clin E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neeweiss, Seeger, Walker NEJM 2008: Aprotinin during CA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region as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, J &amp; Kramer J Clin Epi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oks et al, HSR, Breast cancer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ckel T, et. al JAMA – Cardiac cathete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vailable, but vulnerable to case-mix bias, concomitant treatments associated with the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to Specialty Provider as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cClellan, M., B. McNeil and J. Newhous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199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Does More Intensive Treatment of Acute Myocardial Infarction Reduce Mortalit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re claims data identify admissions for AMI, 1987-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Cardiac catheterization (marker for aggressive ca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utcome: Survival to 1 day, 30 days, 90 day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: Indicator of whether the hospital nearest to a patient’s residence does catheteriz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of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introduction to instrumental variabl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nstrumental variables, som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IV in observational studies of medic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assumptions valid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IV associated with treatment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.2% get cath if nearest hospital does c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.5% get cath if nearest hospital does not do ca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IV associated with outcome other than through it effect on treat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emonstrated IV is largely unassociated with observed patient 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lellan, et al.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92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60020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tion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Crude estimate  -30% (17% 1-year mortality if catheterized vs. 47%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OLS estimate is -24%, adjusting for observable risk facto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 estimator suggest catheterization associated with 10 percentage point reduction in mortalit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Y|Z=1]-E[Y|Z=0]          -0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----   =    --------   =  -1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X|Z=1]-E[X|Z=0]           6.7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Examples of Distance I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oks et al  -- Effect of dialysis center profit status on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cConnell K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al -- Treatment of head injuries at level I vs level II traum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sed studying a treatment that is dispensed at particular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pplicable to many prescription med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must depend on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05320" cy="3549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1447920"/>
            <a:ext cx="43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blocker after HF hospitalization and 1-yea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07200" y="1454040"/>
            <a:ext cx="0" cy="31003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76920" y="3657600"/>
            <a:ext cx="1158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IV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be0e3"/>
                </a:solidFill>
                <a:latin typeface="Arial"/>
              </a:rPr>
              <a:t>Bef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24840" y="1476360"/>
            <a:ext cx="1158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IV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be0e3"/>
                </a:solidFill>
                <a:latin typeface="Arial"/>
              </a:rPr>
              <a:t>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endar Time as an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21000">
            <a:off x="3204360" y="2709720"/>
            <a:ext cx="2909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BB use after HF hospi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4724280"/>
            <a:ext cx="30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ston et al. Stat Med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512280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: Secular trends in other things related to the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used when there is a dramatic shift in practice in a short time period: e.g, changes in guidelines, or safety warn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s can also be c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encouragement’ designs (Ten Have et 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delays (McClure M., Dormuth C; work in British Colu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off Instr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y of the week of hospital admission as an instrument for waiting time for surgery (Ho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geons operate only on weekdays and therefore patients admitted on the weekend may have to wait longer for surgical treatmen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as: patients admitted on the weekend were different from those admitted on the week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as: IV could be independently related to the outcome if other aspects of hospital care that could affect the outcome were different over the week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Good Application of I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should be have theoretical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should be strongly associated with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should be largely unrelated to patient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sideration should be given to generalizing the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setting of a larg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of Instrumental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assumptions are different from those underlying conventional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IV excellent for seconda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 et al, NEJM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arises if methods given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method deserve primary status if IV is strong&amp;valid, sample size is large, and unmeasured confounding expected to be gr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 to the AHRQ websi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al guide to IV Methods for Comparative Effectiveness Research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Brookhart, Rassen, and Schneewei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hallenge of Observational Studies of Intended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unding by indication is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ho need treatment are more likely to receive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ions unmeasured or poorly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Unmeasured confounding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a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ermit estimation of causal effects even when important confounders are un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should be correlated with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should be related to outcome only through association with treatment (often termed the exclusion restr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unverifiable, but can be explored in observ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ounding and Instrumental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365760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47760" y="3581280"/>
            <a:ext cx="15238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5334120"/>
            <a:ext cx="1143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d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89920" y="5638680"/>
            <a:ext cx="106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93400" y="26668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ou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9720" y="274320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ment Arm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66880" y="3200400"/>
            <a:ext cx="1523880" cy="380880"/>
            <a:chOff x="2666880" y="3200400"/>
            <a:chExt cx="1523880" cy="380880"/>
          </a:xfrm>
        </p:grpSpPr>
        <p:sp>
          <p:nvSpPr>
            <p:cNvPr id="60" name=""/>
            <p:cNvSpPr/>
            <p:nvPr/>
          </p:nvSpPr>
          <p:spPr>
            <a:xfrm>
              <a:off x="2666880" y="3429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3200400"/>
              <a:ext cx="380880" cy="380880"/>
            </a:xfrm>
            <a:prstGeom prst="noSmoking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19520" y="3733920"/>
            <a:ext cx="3429000" cy="1447560"/>
            <a:chOff x="2819520" y="3733920"/>
            <a:chExt cx="3429000" cy="1447560"/>
          </a:xfrm>
        </p:grpSpPr>
        <p:sp>
          <p:nvSpPr>
            <p:cNvPr id="63" name=""/>
            <p:cNvSpPr/>
            <p:nvPr/>
          </p:nvSpPr>
          <p:spPr>
            <a:xfrm>
              <a:off x="2819520" y="3733920"/>
              <a:ext cx="342900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886200"/>
              <a:ext cx="381240" cy="380520"/>
            </a:xfrm>
            <a:prstGeom prst="noSmoking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212120" y="1295280"/>
            <a:ext cx="70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andomized Controlled Trial with Non-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06920" y="1828800"/>
            <a:ext cx="2137680" cy="1371600"/>
            <a:chOff x="1906920" y="1828800"/>
            <a:chExt cx="2137680" cy="1371600"/>
          </a:xfrm>
        </p:grpSpPr>
        <p:sp>
          <p:nvSpPr>
            <p:cNvPr id="67" name=""/>
            <p:cNvSpPr/>
            <p:nvPr/>
          </p:nvSpPr>
          <p:spPr>
            <a:xfrm>
              <a:off x="1906920" y="1828800"/>
              <a:ext cx="198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ndom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"/>
            <p:cNvCxnSpPr>
              <a:stCxn id="67" idx="3"/>
              <a:endCxn id="61" idx="0"/>
            </p:cNvCxnSpPr>
            <p:nvPr/>
          </p:nvCxnSpPr>
          <p:spPr>
            <a:xfrm flipH="1">
              <a:off x="3512520" y="2026800"/>
              <a:ext cx="303840" cy="1173960"/>
            </a:xfrm>
            <a:prstGeom prst="curvedConnector5">
              <a:avLst>
                <a:gd name="adj1" fmla="val -75326"/>
                <a:gd name="adj2" fmla="val 29202"/>
                <a:gd name="adj3" fmla="val -7532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411840" y="4210920"/>
            <a:ext cx="3072960" cy="607320"/>
            <a:chOff x="411840" y="4210920"/>
            <a:chExt cx="3072960" cy="607320"/>
          </a:xfrm>
        </p:grpSpPr>
        <p:sp>
          <p:nvSpPr>
            <p:cNvPr id="70" name=""/>
            <p:cNvSpPr/>
            <p:nvPr/>
          </p:nvSpPr>
          <p:spPr>
            <a:xfrm>
              <a:off x="411840" y="44193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in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70" idx="3"/>
              <a:endCxn id="64" idx="3"/>
            </p:cNvCxnSpPr>
            <p:nvPr/>
          </p:nvCxnSpPr>
          <p:spPr>
            <a:xfrm flipV="1">
              <a:off x="1533240" y="4210920"/>
              <a:ext cx="1951920" cy="407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2" name=""/>
          <p:cNvSpPr/>
          <p:nvPr/>
        </p:nvSpPr>
        <p:spPr>
          <a:xfrm>
            <a:off x="4569120" y="32004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5320" y="5257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5600" y="51814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96080" y="2362320"/>
            <a:ext cx="1529640" cy="2818440"/>
            <a:chOff x="1396080" y="2362320"/>
            <a:chExt cx="1529640" cy="2818440"/>
          </a:xfrm>
        </p:grpSpPr>
        <p:grpSp>
          <p:nvGrpSpPr>
            <p:cNvPr id="76" name=""/>
            <p:cNvGrpSpPr/>
            <p:nvPr/>
          </p:nvGrpSpPr>
          <p:grpSpPr>
            <a:xfrm>
              <a:off x="2133000" y="3246480"/>
              <a:ext cx="534240" cy="1934280"/>
              <a:chOff x="2133000" y="3246480"/>
              <a:chExt cx="534240" cy="1934280"/>
            </a:xfrm>
          </p:grpSpPr>
          <p:sp>
            <p:nvSpPr>
              <p:cNvPr id="77" name=""/>
              <p:cNvSpPr/>
              <p:nvPr/>
            </p:nvSpPr>
            <p:spPr>
              <a:xfrm>
                <a:off x="2133000" y="32464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38640" y="3961800"/>
                <a:ext cx="2286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396080" y="2362320"/>
              <a:ext cx="152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stru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tion-to-tr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(Wald) IV Estim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92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T Estimator =  E[Y|Z=1] - E[Y|Z=0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Y|Z=1] - E[Y|Z=0]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 Estim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 ------------------------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X|Z=1] - E[X|Z=0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the Instrument on the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the Instrument on the Exp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 of an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eatment effects are heterogeneous, IV estimator may be biased for average treatment effect (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estimates a weighted average of causal treatmen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groups of patients whose treatment status is more likely to be influenced by the IV are weight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data, subject-matter knowledge may be used to anticipate direction of bias in IV relative to 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s For Comparative Effect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e-based Instrumenta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 variation in medical practice across regions, hospitals,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medical practice may represent a natural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IVs defined at level of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</cp:lastModifiedBy>
  <dcterms:modified xsi:type="dcterms:W3CDTF">2008-10-02T16:02:26Z</dcterms:modified>
  <cp:revision>15</cp:revision>
  <dc:subject/>
  <dc:title>Instrumental variable methods in pharmacoepidemiology </dc:title>
</cp:coreProperties>
</file>