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BD51-328A-44D3-9FEF-29594BB4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C22B-9FF3-483A-A6F6-7B28A26B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601E-74F5-4543-9D17-4C0595DC7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CFAD-4827-4913-B5E6-976E8CADA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D570-C189-42D2-B406-F9505F23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EBCB-3FDF-4A49-B576-D637E76C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C3C4-8329-4FD7-AAA1-1CF850EF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3C85-0738-4976-8281-2C171251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A322-8CFF-44C6-A517-D905092E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A798-7262-45C4-9E33-AD48F79D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E557-7123-4A5E-8E8C-2780E70F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89DE-A699-4F39-ADAF-FA33691C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6ED0-95FD-43CC-8454-C24A98392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810252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Instrumental variables for comparative effectiveness research: a review of applica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3809520"/>
            <a:ext cx="7543800" cy="23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. Alan Brookhart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sion of Pharmacoepidemiology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igham &amp; Women’s Hospital, Harvard Medical Schoo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447920" cy="961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848720" y="22860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servational Study of Non-steroidal Anti-Inflammatory Drug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GI bleeding risk in an elderly popul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Brookhart et al, Epidemiology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short-term risk of GI outcomes betw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selective NS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X-2 selective NS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xibs are slightly less likely to cause GI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xibs are likely to be selectively prescribed to patients at increased GI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c problem of confounding by in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haracteristics of Cohor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600200"/>
          <a:ext cx="8305920" cy="4892760"/>
        </p:xfrm>
        <a:graphic>
          <a:graphicData uri="http://schemas.openxmlformats.org/drawingml/2006/table">
            <a:tbl>
              <a:tblPr/>
              <a:tblGrid>
                <a:gridCol w="4038480"/>
                <a:gridCol w="2362320"/>
                <a:gridCol w="1905120"/>
              </a:tblGrid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xib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 NSA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 Gen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 &gt;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lson Score&gt;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y of Hospitaliz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y of Warfarin 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y of Peptic Ulcer Dise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y of GI Blee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omitant GI drug 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y GI drug 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y of Rheumatoid Arthri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y of Osteoarthri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952560" cy="1361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219320" y="4495680"/>
            <a:ext cx="952560" cy="1362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886200" y="1371600"/>
            <a:ext cx="528480" cy="990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715000" y="1371600"/>
            <a:ext cx="487440" cy="914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486400" y="3124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X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560" y="380988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X-2 Preferring Phys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3280" y="6172200"/>
            <a:ext cx="33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 NSAID Preferring Phys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920" y="50292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 NS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4191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411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2860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inal Pati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7467480" y="1371600"/>
            <a:ext cx="487440" cy="9144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238880" y="3124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X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X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30800" y="50292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 NS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7120" y="31240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 NS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3352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5257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9880" y="914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838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91520" y="838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76920" y="3049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’s GI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ing P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 of NSAID prescribing varies considerably among physici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ur approach: use the type of the last NSAID prescription written by each physician as a measure of current prefere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f for last patient, physician wrote a coxib prescription, for the current patient he is classified as a “coxib preferring physician” other he is classified as an “non-selective NSAID preferring physician.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952560" cy="1362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676520" y="3200400"/>
            <a:ext cx="487080" cy="914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858000" y="3048120"/>
            <a:ext cx="487440" cy="914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0" y="35812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133360" y="1676520"/>
            <a:ext cx="19047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16765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28195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Patient’s IV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 Patient’s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78320" y="19810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4191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11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40600" y="4191120"/>
            <a:ext cx="23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ed with NSA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04040" y="41148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21000" y="2057400"/>
            <a:ext cx="16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0" y="54864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68880" y="5029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rument should be related to 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8560" y="226836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24120" y="226836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8600" y="2362320"/>
          <a:ext cx="8458200" cy="2896920"/>
        </p:xfrm>
        <a:graphic>
          <a:graphicData uri="http://schemas.openxmlformats.org/drawingml/2006/table">
            <a:tbl>
              <a:tblPr/>
              <a:tblGrid>
                <a:gridCol w="2816280"/>
                <a:gridCol w="2736720"/>
                <a:gridCol w="2905200"/>
              </a:tblGrid>
              <a:tr h="764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AI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crip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V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 Prescripti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Actual Treatment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x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Selective NSA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x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=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73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27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Selective NSA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=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50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50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rument should be unrelated to observed patient risk fa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676520"/>
          <a:ext cx="8229600" cy="4987800"/>
        </p:xfrm>
        <a:graphic>
          <a:graphicData uri="http://schemas.openxmlformats.org/drawingml/2006/table">
            <a:tbl>
              <a:tblPr/>
              <a:tblGrid>
                <a:gridCol w="3809880"/>
                <a:gridCol w="2286000"/>
                <a:gridCol w="2133720"/>
              </a:tblGrid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xib Pre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=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 NSAID Pre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=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 Gen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 &gt;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lson Score &gt;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y of Hospitaliz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y of Warfarin 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y of Peptic Ulcer Dise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y of GI Blee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omitant GI drug 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y GI drug use (e.g., PPI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y of Rheumatoid Arthri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y of Osteoarthri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V estimate of the effect of coxib exposure on GI out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1981080"/>
            <a:ext cx="708660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V Estimate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[Y|Z=1]-E[Y|Z=0]          -0.2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------------------------   =    --------   =  -0.9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[X|Z=1]-E[X|Z=0]           22.8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[Y|X=1]-E[Y|X=0]    =   +0.0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fter multivariable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0.0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examples of preference-based instr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, hospital as I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ston SC, J Clin E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neeweiss, Seeger, Walker NEJM 2008: Aprotinin during CA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ic region as instr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n, J &amp; Kramer J Clin Epi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oks et al, HSR, Breast cancer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ckel T, et. al JAMA – Cardiac cathete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available, but vulnerable to case-mix bias, concomitant treatments associated with the 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to Specialty Provider as 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cClellan, M., B. McNeil and J. Newhouse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A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199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"Does More Intensive Treatment of Acute Myocardial Infarction Reduce Mortality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dicare claims data identify admissions for AMI, 1987-9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eatment: Cardiac catheterization (marker for aggressive car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utcome: Survival to 1 day, 30 days, 90 day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ment: Indicator of whether the hospital nearest to a patient’s residence does catheteriz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 of L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 introduction to instrumental variabl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instrumental variables, some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IV in observational studies of medical inter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assumptions valid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IV associated with treatment?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6.2% get cath if nearest hospital does c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9.5% get cath if nearest hospital does not do cat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IV associated with outcome other than through it effect on treat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demonstrated IV is largely unassociated with observed patient characterist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cClellan, et al.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2925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600200"/>
            <a:ext cx="83059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554400" indent="-5544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ventional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Crude estimate  -30% (17% 1-year mortality if catheterized vs. 47%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 OLS estimate is -24%, adjusting for observable risk factor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V estimator suggest catheterization associated with 10 percentage point reduction in mortality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[Y|Z=1]-E[Y|Z=0]          -0.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------------------------   =    --------   =  -10.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[X|Z=1]-E[X|Z=0]           6.7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Examples of Distance IV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oks et al  -- Effect of dialysis center profit status on surv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cConnell K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 al -- Treatment of head injuries at level I vs level II trauma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used studying a treatment that is dispensed at particular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pplicable to many prescription med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must depend on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419720" y="1219320"/>
            <a:ext cx="4405320" cy="3549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80880" y="1447920"/>
            <a:ext cx="43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a blocker after HF hospitalization and 1-year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207200" y="1454040"/>
            <a:ext cx="0" cy="310032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76920" y="3657600"/>
            <a:ext cx="11588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IV stat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bbe0e3"/>
                </a:solidFill>
                <a:latin typeface="Arial"/>
              </a:rPr>
              <a:t>Bef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224840" y="1476360"/>
            <a:ext cx="11588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be0e3"/>
                </a:solidFill>
                <a:latin typeface="Arial"/>
              </a:rPr>
              <a:t>IV stat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bbe0e3"/>
                </a:solidFill>
                <a:latin typeface="Arial"/>
              </a:rPr>
              <a:t>Af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0102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endar Time as an 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6221000">
            <a:off x="3204360" y="2709720"/>
            <a:ext cx="2909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 BB use after HF hospit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05520" y="4724280"/>
            <a:ext cx="30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nston et al. Stat Med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5122800"/>
            <a:ext cx="8229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as: Secular trends in other things related to the 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used when there is a dramatic shift in practice in a short time period: e.g, changes in guidelines, or safety warn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Vs can also be cre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ized encouragement’ designs (Ten Have et 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delays (McClure M., Dormuth C; work in British Columb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-off Instr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y of the week of hospital admission as an instrument for waiting time for surgery (Ho et a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rgeons operate only on weekdays and therefore patients admitted on the weekend may have to wait longer for surgical treatment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as: patients admitted on the weekend were different from those admitted on the weekda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as: IV could be independently related to the outcome if other aspects of hospital care that could affect the outcome were different over the weeke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Good Application of I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 should be have theoretical 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 should be strongly associated with 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 should be largely unrelated to patient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nsideration should be given to generalizing the est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the setting of a large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le of Instrumental Vari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 assumptions are different from those underlying conventional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IV excellent for secondary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g et al, NEJM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arises if methods given differen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 method deserve primary status if IV is strong&amp;valid, sample size is large, and unmeasured confounding expected to be gre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ing soon to the AHRQ websit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actical guide to IV Methods for Comparative Effectiveness Research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Brookhart, Rassen, and Schneewei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hallenge of Observational Studies of Intended Eff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ounding by indication is st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s who need treatment are more likely to receive 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ions unmeasured or poorly meas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Unmeasured confounding 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rumental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permit estimation of causal effects even when important confounders are unmeasu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ment should be correlated with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ment should be related to outcome only through association with treatment (often termed the exclusion restri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irically unverifiable, but can be explored in observed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ounding and Instrumental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5486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3657600"/>
            <a:ext cx="1600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47760" y="3581280"/>
            <a:ext cx="152388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5334120"/>
            <a:ext cx="1143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eived Trea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89920" y="5638680"/>
            <a:ext cx="1060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93400" y="266688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oun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9720" y="2743200"/>
            <a:ext cx="34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eatment Arm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666880" y="3200400"/>
            <a:ext cx="1523880" cy="380880"/>
            <a:chOff x="2666880" y="3200400"/>
            <a:chExt cx="1523880" cy="380880"/>
          </a:xfrm>
        </p:grpSpPr>
        <p:sp>
          <p:nvSpPr>
            <p:cNvPr id="60" name=""/>
            <p:cNvSpPr/>
            <p:nvPr/>
          </p:nvSpPr>
          <p:spPr>
            <a:xfrm>
              <a:off x="2666880" y="34290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76360" y="3200400"/>
              <a:ext cx="380880" cy="380880"/>
            </a:xfrm>
            <a:prstGeom prst="noSmoking">
              <a:avLst>
                <a:gd name="adj" fmla="val 12500"/>
              </a:avLst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819520" y="3733920"/>
            <a:ext cx="3429000" cy="1447560"/>
            <a:chOff x="2819520" y="3733920"/>
            <a:chExt cx="3429000" cy="1447560"/>
          </a:xfrm>
        </p:grpSpPr>
        <p:sp>
          <p:nvSpPr>
            <p:cNvPr id="63" name=""/>
            <p:cNvSpPr/>
            <p:nvPr/>
          </p:nvSpPr>
          <p:spPr>
            <a:xfrm>
              <a:off x="2819520" y="3733920"/>
              <a:ext cx="342900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29000" y="3886200"/>
              <a:ext cx="381240" cy="380520"/>
            </a:xfrm>
            <a:prstGeom prst="noSmoking">
              <a:avLst>
                <a:gd name="adj" fmla="val 12500"/>
              </a:avLst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212120" y="1295280"/>
            <a:ext cx="703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Randomized Controlled Trial with Non-Comp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906920" y="1828800"/>
            <a:ext cx="2137680" cy="1371600"/>
            <a:chOff x="1906920" y="1828800"/>
            <a:chExt cx="2137680" cy="1371600"/>
          </a:xfrm>
        </p:grpSpPr>
        <p:sp>
          <p:nvSpPr>
            <p:cNvPr id="67" name=""/>
            <p:cNvSpPr/>
            <p:nvPr/>
          </p:nvSpPr>
          <p:spPr>
            <a:xfrm>
              <a:off x="1906920" y="1828800"/>
              <a:ext cx="198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andom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" name=""/>
            <p:cNvCxnSpPr>
              <a:stCxn id="67" idx="3"/>
              <a:endCxn id="61" idx="0"/>
            </p:cNvCxnSpPr>
            <p:nvPr/>
          </p:nvCxnSpPr>
          <p:spPr>
            <a:xfrm flipH="1">
              <a:off x="3512520" y="2026800"/>
              <a:ext cx="303840" cy="1173960"/>
            </a:xfrm>
            <a:prstGeom prst="curvedConnector5">
              <a:avLst>
                <a:gd name="adj1" fmla="val -75326"/>
                <a:gd name="adj2" fmla="val 29202"/>
                <a:gd name="adj3" fmla="val -7532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9" name=""/>
          <p:cNvGrpSpPr/>
          <p:nvPr/>
        </p:nvGrpSpPr>
        <p:grpSpPr>
          <a:xfrm>
            <a:off x="411840" y="4210920"/>
            <a:ext cx="3072960" cy="607320"/>
            <a:chOff x="411840" y="4210920"/>
            <a:chExt cx="3072960" cy="607320"/>
          </a:xfrm>
        </p:grpSpPr>
        <p:sp>
          <p:nvSpPr>
            <p:cNvPr id="70" name=""/>
            <p:cNvSpPr/>
            <p:nvPr/>
          </p:nvSpPr>
          <p:spPr>
            <a:xfrm>
              <a:off x="411840" y="4419360"/>
              <a:ext cx="11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lin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" name=""/>
            <p:cNvCxnSpPr>
              <a:stCxn id="70" idx="3"/>
              <a:endCxn id="64" idx="3"/>
            </p:cNvCxnSpPr>
            <p:nvPr/>
          </p:nvCxnSpPr>
          <p:spPr>
            <a:xfrm flipV="1">
              <a:off x="1533240" y="4210920"/>
              <a:ext cx="1951920" cy="4071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72" name=""/>
          <p:cNvSpPr/>
          <p:nvPr/>
        </p:nvSpPr>
        <p:spPr>
          <a:xfrm>
            <a:off x="4569120" y="320040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15320" y="525780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55600" y="51814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396080" y="2362320"/>
            <a:ext cx="1529640" cy="2818440"/>
            <a:chOff x="1396080" y="2362320"/>
            <a:chExt cx="1529640" cy="2818440"/>
          </a:xfrm>
        </p:grpSpPr>
        <p:grpSp>
          <p:nvGrpSpPr>
            <p:cNvPr id="76" name=""/>
            <p:cNvGrpSpPr/>
            <p:nvPr/>
          </p:nvGrpSpPr>
          <p:grpSpPr>
            <a:xfrm>
              <a:off x="2133000" y="3246480"/>
              <a:ext cx="534240" cy="1934280"/>
              <a:chOff x="2133000" y="3246480"/>
              <a:chExt cx="534240" cy="1934280"/>
            </a:xfrm>
          </p:grpSpPr>
          <p:sp>
            <p:nvSpPr>
              <p:cNvPr id="77" name=""/>
              <p:cNvSpPr/>
              <p:nvPr/>
            </p:nvSpPr>
            <p:spPr>
              <a:xfrm>
                <a:off x="2133000" y="32464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Z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438640" y="3961800"/>
                <a:ext cx="22860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1396080" y="2362320"/>
              <a:ext cx="152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stru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ntion-to-trea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(Wald) IV Estim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2925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3059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T Estimator =  E[Y|Z=1] - E[Y|Z=0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[Y|Z=1] - E[Y|Z=0]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V Estima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 -------------------------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[X|Z=1] - E[X|Z=0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 of the Instrument on the 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-------------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 of the Instrument on the Expos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pretation of an I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reatment effects are heterogeneous, IV estimator may be biased for average treatment effect (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 estimates a weighted average of causal treatment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groups of patients whose treatment status is more likely to be influenced by the IV are weighte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irical data, subject-matter knowledge may be used to anticipate direction of bias in IV relative to 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Vs For Comparative Effectiv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e-based Instrumental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tial variation in medical practice across regions, hospitals, phys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s in medical practice may represent a natural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s IVs defined at level of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</cp:lastModifiedBy>
  <dcterms:modified xsi:type="dcterms:W3CDTF">2008-10-02T16:02:26Z</dcterms:modified>
  <cp:revision>15</cp:revision>
  <dc:subject/>
  <dc:title>Instrumental variable methods in pharmacoepidemiology </dc:title>
</cp:coreProperties>
</file>