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3440" y="349200"/>
            <a:ext cx="83440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33440" y="349200"/>
            <a:ext cx="83440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8953560" y="5807160"/>
          <a:ext cx="107136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53560" y="5807160"/>
                    <a:ext cx="1071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" name=""/>
          <p:cNvGrpSpPr/>
          <p:nvPr/>
        </p:nvGrpSpPr>
        <p:grpSpPr>
          <a:xfrm>
            <a:off x="0" y="0"/>
            <a:ext cx="1333440" cy="1305720"/>
            <a:chOff x="0" y="0"/>
            <a:chExt cx="1333440" cy="1305720"/>
          </a:xfrm>
        </p:grpSpPr>
        <p:grpSp>
          <p:nvGrpSpPr>
            <p:cNvPr id="8" name=""/>
            <p:cNvGrpSpPr/>
            <p:nvPr/>
          </p:nvGrpSpPr>
          <p:grpSpPr>
            <a:xfrm>
              <a:off x="48960" y="0"/>
              <a:ext cx="1252800" cy="1305720"/>
              <a:chOff x="48960" y="0"/>
              <a:chExt cx="1252800" cy="1305720"/>
            </a:xfrm>
          </p:grpSpPr>
          <p:sp>
            <p:nvSpPr>
              <p:cNvPr id="9" name=""/>
              <p:cNvSpPr/>
              <p:nvPr/>
            </p:nvSpPr>
            <p:spPr>
              <a:xfrm>
                <a:off x="48960" y="0"/>
                <a:ext cx="1252800" cy="129528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43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8520" y="628560"/>
                <a:ext cx="107640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66ccff"/>
                    </a:solidFill>
                    <a:latin typeface="Arial"/>
                  </a:rPr>
                  <a:t>Advancing Excellence in Health Ca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45800" y="628560"/>
                <a:ext cx="98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" name=""/>
            <p:cNvGraphicFramePr/>
            <p:nvPr/>
          </p:nvGraphicFramePr>
          <p:xfrm>
            <a:off x="0" y="7920"/>
            <a:ext cx="1333440" cy="735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7920"/>
                      <a:ext cx="133344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91120" y="5703840"/>
            <a:ext cx="1789920" cy="848880"/>
            <a:chOff x="4191120" y="5703840"/>
            <a:chExt cx="1789920" cy="848880"/>
          </a:xfrm>
        </p:grpSpPr>
        <p:grpSp>
          <p:nvGrpSpPr>
            <p:cNvPr id="52" name=""/>
            <p:cNvGrpSpPr/>
            <p:nvPr/>
          </p:nvGrpSpPr>
          <p:grpSpPr>
            <a:xfrm>
              <a:off x="4201200" y="5717160"/>
              <a:ext cx="1779840" cy="835560"/>
              <a:chOff x="4201200" y="5717160"/>
              <a:chExt cx="1779840" cy="835560"/>
            </a:xfrm>
          </p:grpSpPr>
          <p:sp>
            <p:nvSpPr>
              <p:cNvPr id="53" name=""/>
              <p:cNvSpPr/>
              <p:nvPr/>
            </p:nvSpPr>
            <p:spPr>
              <a:xfrm>
                <a:off x="4371840" y="5717160"/>
                <a:ext cx="141120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08800" y="6143760"/>
                <a:ext cx="42084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255920" y="6040800"/>
                <a:ext cx="48996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84440" y="6169680"/>
                <a:ext cx="17568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43040" y="6229440"/>
                <a:ext cx="18180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201200" y="6449760"/>
                <a:ext cx="1947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19920" y="6143760"/>
                <a:ext cx="39348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9440" y="6359760"/>
                <a:ext cx="2916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97560" y="6117840"/>
                <a:ext cx="44820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362480" y="5703840"/>
              <a:ext cx="141048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191120" y="6027480"/>
              <a:ext cx="1779840" cy="511200"/>
              <a:chOff x="4191120" y="6027480"/>
              <a:chExt cx="17798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4699440" y="6130800"/>
                <a:ext cx="42048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45120" y="6027480"/>
                <a:ext cx="48996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74360" y="6156000"/>
                <a:ext cx="1760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33680" y="6215760"/>
                <a:ext cx="18108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91120" y="6435720"/>
                <a:ext cx="19476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09840" y="6130800"/>
                <a:ext cx="39312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79360" y="6345720"/>
                <a:ext cx="2916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7840" y="6105240"/>
                <a:ext cx="44712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0" y="3289320"/>
            <a:ext cx="8985240" cy="19080"/>
            <a:chOff x="0" y="3289320"/>
            <a:chExt cx="8985240" cy="19080"/>
          </a:xfrm>
        </p:grpSpPr>
        <p:sp>
          <p:nvSpPr>
            <p:cNvPr id="73" name=""/>
            <p:cNvSpPr/>
            <p:nvPr/>
          </p:nvSpPr>
          <p:spPr>
            <a:xfrm>
              <a:off x="6480" y="33084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32893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4076640" y="195120"/>
          <a:ext cx="213372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6640" y="195120"/>
                    <a:ext cx="2133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10287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grating Chronic Care Manageme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Business Strateg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99061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y Br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9.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3440" y="349200"/>
            <a:ext cx="834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3440" y="2209680"/>
            <a:ext cx="8344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Wag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ie Col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ruti Shu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cp:keywords/>
  <dc:language>en-US</dc:language>
  <cp:lastModifiedBy>bcambridge</cp:lastModifiedBy>
  <cp:lastPrinted>2002-06-17T15:09:49Z</cp:lastPrinted>
  <dcterms:modified xsi:type="dcterms:W3CDTF">2008-10-17T15:08:18Z</dcterms:modified>
  <cp:revision>298</cp:revision>
  <dc:subject/>
  <dc:title>Master Slide</dc:title>
</cp:coreProperties>
</file>