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C4C9-A4E6-4535-8F83-2DA423442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6F8E-798C-417A-8339-88985E409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E87F-26AE-41B9-A059-018828BAB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572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340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804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572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340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E6ED-3D0E-4095-A781-1F3CC343D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36240" y="226800"/>
            <a:ext cx="846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98E3-12EE-472C-A172-B0A82F322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572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340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04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572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340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39D2-AC9A-4364-A79A-C25DDB678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DFA5-1984-4246-B339-630B91C82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65F8-36C7-4703-8496-9B0C390B4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6240" y="226800"/>
            <a:ext cx="846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3F64-D586-4102-B022-03A82AA03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5A7E-DDD7-45E9-B7F0-94F6DB035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1903-6055-4B58-89AB-C4EE80CAD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739F-4859-4548-B119-6B5369105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76800" y="6501960"/>
            <a:ext cx="2746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FC2D-45C7-4C8B-902C-E26B6E1552A8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6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19040" y="314280"/>
          <a:ext cx="1714680" cy="16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314280"/>
                    <a:ext cx="171468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17604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onducting a Sound Systematic Review: Balancing Resources with Quality Contro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60240" y="439056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ic B. Bass, MD, MP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ohns Hopkins Univers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vidence-based Practice Ce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2080" y="10584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xtract Dat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5440" y="1312920"/>
            <a:ext cx="88185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8440" indent="-3884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t priorities for data ex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e content of final evidence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st temptation to extract every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-3884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oose data management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atic review software vs. Access vs.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complexity, consistency, completenes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-3884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tablish quality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al review vs. solo review with random che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vs. sequential dual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discrepa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2080" y="171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valuate Study Quality &amp; Applicability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6240" y="1566360"/>
            <a:ext cx="82198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cide how evaluation will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termine eligibility of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give more or less weight to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improve futur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cus on most important aspects of quality &amp;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 established instrument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dad criteria for R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tablish quality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dual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how to reconcile discrepa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080" y="171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ummarize &amp; Synthesize Eviden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6240" y="1566360"/>
            <a:ext cx="82198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semble evidenc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sess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 duplicativ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pare summary of evidence on ea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sess strength of ev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2 or more revie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de how to reconcile dif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conduct a sound systematic review with limited resour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attention t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ioriti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defining questions, eligibility criteria &amp; elements of evidence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quality contr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asures for each step that could introduce error or b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ing c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c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ng quality, applicability &amp; overall strength of ev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6240" y="155520"/>
            <a:ext cx="84646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9760" y="1189080"/>
            <a:ext cx="881388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steps in a systematic review that have greatest implications for resource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those steps are vulnerable to error/b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strategies for quality control when resources are lim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080" y="-9396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eps in the systematic review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055520" y="1714680"/>
            <a:ext cx="6820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arch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4720" y="2532240"/>
            <a:ext cx="6848280" cy="4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336840"/>
            <a:ext cx="685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164120"/>
            <a:ext cx="685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 study quality &amp; applic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991040"/>
            <a:ext cx="685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 &amp; synthesize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1718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967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805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6324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3800" y="846000"/>
            <a:ext cx="6819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 eligibility criteria for each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57600" y="13240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ocus the Question(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1920" y="1633680"/>
            <a:ext cx="80643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te in specific measurable te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y prior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listic about time &amp; eff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otiate with spon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080" y="171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t Eligibility Criteria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240" y="1566360"/>
            <a:ext cx="82198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CT on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son grou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observational stud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 pop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 se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of pub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er-review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2080" y="2836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arch Literatur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5080" y="1343160"/>
            <a:ext cx="8451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lect highest yield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LIN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AS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chrane database of reviews &amp; t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sider othe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sampling to estimate incremen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hand searches for quality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ations in eligible 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e of contents of relevant 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ry expe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6680" y="284040"/>
            <a:ext cx="8726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view Citatio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5080" y="1368000"/>
            <a:ext cx="8451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citations obviously not relevant &amp; can be excluded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bs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sufficient to determine eligibility of c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ll text of artic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ome studies, eligibility can only be determined by reading full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2080" y="684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view Citations: An Exampl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20760" y="2768760"/>
            <a:ext cx="3298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tle revie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n=10,47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62400" y="3270240"/>
            <a:ext cx="3414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tle review: 6,863 exclu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3520" y="3743280"/>
            <a:ext cx="3381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bstract revie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n=3,61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3720" y="4140360"/>
            <a:ext cx="3503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tract review: 3,163 ex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73240" y="4622760"/>
            <a:ext cx="3371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ull-text revie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n=4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0480" y="5103720"/>
            <a:ext cx="3486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-text review: 386 ex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9480" y="5626080"/>
            <a:ext cx="34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3 included 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52800" y="3224160"/>
            <a:ext cx="0" cy="519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63960" y="3435480"/>
            <a:ext cx="206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76560" y="4151160"/>
            <a:ext cx="0" cy="519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6560" y="4373640"/>
            <a:ext cx="2027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14720" y="5029200"/>
            <a:ext cx="0" cy="55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25880" y="5276880"/>
            <a:ext cx="1938240" cy="23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2080" y="10584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view Citations: Quality Contro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5440" y="1312920"/>
            <a:ext cx="88185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 independent dual revie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ess samples e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uss discrepa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2:19:33Z</dcterms:created>
  <dc:creator>Peter Winch</dc:creator>
  <dc:description/>
  <dc:language>en-US</dc:language>
  <cp:lastModifiedBy>bcambridge</cp:lastModifiedBy>
  <dcterms:modified xsi:type="dcterms:W3CDTF">2008-10-17T13:49:47Z</dcterms:modified>
  <cp:revision>346</cp:revision>
  <dc:subject/>
  <dc:title>Formative research to design a neonatal care intervention in Sylhet District, Bangladesh</dc:title>
</cp:coreProperties>
</file>