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F85B9-E744-4378-953E-61AADD7275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36240" y="22680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38040" y="1598760"/>
            <a:ext cx="8452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38040" y="4105440"/>
            <a:ext cx="8452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E5D75-3891-42FB-85DC-9F3F247165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6240" y="22680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8040" y="1598760"/>
            <a:ext cx="41245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41245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38040" y="4105440"/>
            <a:ext cx="41245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05440"/>
            <a:ext cx="41245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390A7-12DB-4A3F-B94B-C128B8B16A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36240" y="22680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8040" y="1598760"/>
            <a:ext cx="27212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5720" y="1598760"/>
            <a:ext cx="27212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53400" y="1598760"/>
            <a:ext cx="27212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38040" y="4105440"/>
            <a:ext cx="27212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5720" y="4105440"/>
            <a:ext cx="27212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53400" y="4105440"/>
            <a:ext cx="27212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1F588-E302-4843-A49E-2C8080F0FF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6240" y="22680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38040" y="1598760"/>
            <a:ext cx="8452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6240" y="22680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8040" y="1598760"/>
            <a:ext cx="8452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36240" y="22680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38040" y="1598760"/>
            <a:ext cx="412452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412452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36240" y="22680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36240" y="226800"/>
            <a:ext cx="846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36240" y="22680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38040" y="1598760"/>
            <a:ext cx="41245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412452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38040" y="4105440"/>
            <a:ext cx="41245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36240" y="22680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38040" y="1598760"/>
            <a:ext cx="8452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6FB95-F27D-424E-AA15-2011932E36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36240" y="22680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8040" y="1598760"/>
            <a:ext cx="412452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41245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9200" y="4105440"/>
            <a:ext cx="41245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36240" y="22680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38040" y="1598760"/>
            <a:ext cx="41245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41245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38040" y="4105440"/>
            <a:ext cx="8452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36240" y="22680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38040" y="1598760"/>
            <a:ext cx="8452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38040" y="4105440"/>
            <a:ext cx="8452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36240" y="22680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8040" y="1598760"/>
            <a:ext cx="41245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41245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38040" y="4105440"/>
            <a:ext cx="41245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9200" y="4105440"/>
            <a:ext cx="41245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36240" y="22680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38040" y="1598760"/>
            <a:ext cx="27212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5720" y="1598760"/>
            <a:ext cx="27212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53400" y="1598760"/>
            <a:ext cx="27212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38040" y="4105440"/>
            <a:ext cx="27212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5720" y="4105440"/>
            <a:ext cx="27212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53400" y="4105440"/>
            <a:ext cx="27212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36240" y="22680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38040" y="1598760"/>
            <a:ext cx="8452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E87CA-5E4C-44DE-AA9F-9D8C4E5780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36240" y="22680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38040" y="1598760"/>
            <a:ext cx="412452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412452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A2D79-FA2B-486A-8DBE-C67FABFEAB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36240" y="22680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6DDDE-3DDA-446C-B1A4-E1F5F66F05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36240" y="226800"/>
            <a:ext cx="846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2E2DF-698A-407F-B969-92F1BFB6BB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36240" y="22680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8040" y="1598760"/>
            <a:ext cx="41245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412452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38040" y="4105440"/>
            <a:ext cx="41245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40E20-08CD-4215-BE92-B2AB8A1D7B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36240" y="22680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38040" y="1598760"/>
            <a:ext cx="412452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41245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05440"/>
            <a:ext cx="41245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ABB13-511E-4212-9A31-E9E40D01C7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36240" y="22680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38040" y="1598760"/>
            <a:ext cx="41245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598760"/>
            <a:ext cx="41245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38040" y="4105440"/>
            <a:ext cx="8452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0569A-7D48-4B83-ABDC-EA2564F9E0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36240" y="22680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8040" y="1598760"/>
            <a:ext cx="8452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4640" indent="-40464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76320" indent="-4572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370160" indent="-2797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71288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76800" y="6501960"/>
            <a:ext cx="274680" cy="27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6726-3DB6-433A-8F3D-8D96A0489E68}" type="slidenum">
              <a:rPr b="0" lang="en-US" sz="16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68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" name=""/>
          <p:cNvGraphicFramePr/>
          <p:nvPr/>
        </p:nvGraphicFramePr>
        <p:xfrm>
          <a:off x="419040" y="314280"/>
          <a:ext cx="1714680" cy="160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040" y="314280"/>
                    <a:ext cx="1714680" cy="16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176040" algn="ctr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68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Conducting a Sound Systematic Review: Balancing Resources with Quality Contro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60240" y="439056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ric B. Bass, MD, MP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Johns Hopkins Univers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vidence-based Practice Cent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2080" y="10584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Extract Data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5440" y="1312920"/>
            <a:ext cx="881856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88440" indent="-38844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t priorities for data ex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37080" indent="-438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icipate content of final evidence 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37080" indent="-438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ist temptation to extract every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8440" indent="-38844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hoose data management 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37080" indent="-438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stematic review software vs. Access vs. 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37080" indent="-438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ider complexity, consistency, completenes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8440" indent="-38844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stablish quality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37080" indent="-438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al review vs. solo review with random che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37080" indent="-438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ependent vs. sequential dual 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37080" indent="-438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cuss discrepa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2080" y="17100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Evaluate Study Quality &amp; Applicability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6240" y="1566360"/>
            <a:ext cx="821988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4640" indent="-404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ecide how evaluation will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632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determine eligibility of stud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632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give more or less weight to stud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632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improve future re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04640" indent="-404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cus on most important aspects of quality &amp;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04640" indent="-404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Use established instrument(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632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dad criteria for R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04640" indent="-404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stablish quality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632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ependent dual 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6320" indent="-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cide how to reconcile discrepa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62080" y="17100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Summarize &amp; Synthesize Evidence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6240" y="1566360"/>
            <a:ext cx="821988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4640" indent="-40464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ssemble evidence t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76320" indent="-45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ssess prior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6320" indent="-45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clude duplicative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04640" indent="-40464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epare summary of evidence on each ques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4640" indent="-40464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ssess strength of evid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76320" indent="-45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2 or more review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6320" indent="-45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ide how to reconcile differ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36240" y="22680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Summary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38040" y="1598760"/>
            <a:ext cx="8452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4640" indent="-4046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o conduct a sound systematic review with limited resourc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76320" indent="-45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y attention to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ioritie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defining questions, eligibility criteria &amp; elements of evidence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6320" indent="-45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ablish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quality contro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easures for each step that could introduce error or b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0160" indent="-2797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iewing ci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0160" indent="-2797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tract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0160" indent="-2797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ting quality, applicability &amp; overall strength of evi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6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36240" y="155520"/>
            <a:ext cx="846468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Learning Objective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9760" y="1189080"/>
            <a:ext cx="881388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4640" indent="-40464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ntify steps in a systematic review that have greatest implications for resource nee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4640" indent="-40464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ain how those steps are vulnerable to error/bi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4640" indent="-40464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ntify strategies for quality control when resources are limi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62080" y="-9396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Steps in the systematic review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055520" y="1714680"/>
            <a:ext cx="68202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arch lit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44720" y="2532240"/>
            <a:ext cx="6848280" cy="42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view ci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3336840"/>
            <a:ext cx="6858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trac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4164120"/>
            <a:ext cx="6858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valuate study quality &amp; applic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4991040"/>
            <a:ext cx="68580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mmarize &amp; synthesize ev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217188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29671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60840" y="38052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463248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3800" y="846000"/>
            <a:ext cx="68198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tablish eligibility criteria for each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57600" y="132408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36240" y="22680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Focus the Question(s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91920" y="1633680"/>
            <a:ext cx="806436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4640" indent="-404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ulate in specific measurable te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4640" indent="-404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rify prior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4640" indent="-404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realistic about time &amp; eff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04640" indent="-404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gotiate with spon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62080" y="17100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Set Eligibility Criteria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6240" y="1566360"/>
            <a:ext cx="821988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4640" indent="-404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y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6320" indent="-45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CT on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6320" indent="-45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arison grou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6320" indent="-45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y observational stud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04640" indent="-404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y pop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04640" indent="-404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y se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04640" indent="-404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ze of stu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04640" indent="-404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ear of pub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04640" indent="-404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er-review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04640" indent="-404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62080" y="2836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Search Literature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5080" y="1343160"/>
            <a:ext cx="845172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4640" indent="-4046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lect highest yield 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76320" indent="-45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LIN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®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6320" indent="-45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BAS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®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6320" indent="-45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chrane database of reviews &amp; tri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04640" indent="-4046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sider other 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76320" indent="-45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sampling to estimate incremental y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04640" indent="-4046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se hand searches for quality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76320" indent="-45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tations in eligible arti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6320" indent="-45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ble of contents of relevant jour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6320" indent="-45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ery expe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6680" y="284040"/>
            <a:ext cx="872640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Review Citation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5080" y="1368000"/>
            <a:ext cx="845172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4640" indent="-40464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it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76320" indent="-45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citations obviously not relevant &amp; can be excluded quick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04640" indent="-40464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bstra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76320" indent="-45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ually sufficient to determine eligibility of ci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04640" indent="-40464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ull text of artic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6320" indent="-45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some studies, eligibility can only be determined by reading full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2080" y="68400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Review Citations: An Example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220760" y="2768760"/>
            <a:ext cx="32986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itle review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n=10,475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62400" y="3270240"/>
            <a:ext cx="34149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tle review: 6,863 exclud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63520" y="3743280"/>
            <a:ext cx="33814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bstract review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n=3,612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3720" y="4140360"/>
            <a:ext cx="35038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bstract review: 3,163 exclu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73240" y="4622760"/>
            <a:ext cx="33717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ull-text review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n=44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0480" y="5103720"/>
            <a:ext cx="348624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ull-text review: 386 exclu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9480" y="5626080"/>
            <a:ext cx="34192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63 included arti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52800" y="3224160"/>
            <a:ext cx="0" cy="519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63960" y="3435480"/>
            <a:ext cx="2068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76560" y="4151160"/>
            <a:ext cx="0" cy="519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76560" y="4373640"/>
            <a:ext cx="2027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14720" y="5029200"/>
            <a:ext cx="0" cy="555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125880" y="5276880"/>
            <a:ext cx="1938240" cy="23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62080" y="10584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Review Citations: Quality Control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5440" y="1312920"/>
            <a:ext cx="881856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4640" indent="-40464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Use independent dual review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04640" indent="-40464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ssess samples ea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04640" indent="-404640">
              <a:spcBef>
                <a:spcPts val="700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iscuss discrepa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2T12:19:33Z</dcterms:created>
  <dc:creator>Peter Winch</dc:creator>
  <dc:description/>
  <dc:language>en-US</dc:language>
  <cp:lastModifiedBy>bcambridge</cp:lastModifiedBy>
  <dcterms:modified xsi:type="dcterms:W3CDTF">2008-10-17T13:49:47Z</dcterms:modified>
  <cp:revision>346</cp:revision>
  <dc:subject/>
  <dc:title>Formative research to design a neonatal care intervention in Sylhet District, Bangladesh</dc:title>
</cp:coreProperties>
</file>