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B995-1BEB-48AA-86A0-D076A0833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opening screen for survey: shows sign model ch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sign language survey: shows question and response options for gend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9E745-D3B2-48FE-A8DA-B029E8239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6765-3C55-4655-BC87-52BE546A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4A3DC-F9D1-4702-A18C-CA43DD3ED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5E0F1-9371-4998-8B90-DF4371A43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A791-013B-41BF-ABD8-DA5F492D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C5CE3-1AFA-4219-A9F1-052B4BBB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EABDA-EDEE-4AB4-9725-9AE8AE10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C44B-B243-4C6E-9478-651DE514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5C96-DCC9-455C-B634-C24E6FC08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4F36-9EC6-478C-86F0-B5A98FE7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648C-CB2B-4677-96EF-0FF164649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4CA1-4FE0-4C5F-989E-9AD381BBD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E9E6-D785-4128-9885-987AD5D066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f People and Healthcare:  Adapting CAHPS</a:t>
            </a:r>
            <a:r>
              <a:rPr b="0" lang="en-US" sz="4400" spc="-1" strike="noStrike" baseline="30000">
                <a:solidFill>
                  <a:srgbClr val="ccffff"/>
                </a:solidFill>
                <a:latin typeface="Arial"/>
              </a:rPr>
              <a:t>®</a:t>
            </a:r>
            <a:r>
              <a:rPr b="0" lang="en-US" sz="4400" spc="-1" strike="noStrike">
                <a:solidFill>
                  <a:srgbClr val="ccffff"/>
                </a:solidFill>
                <a:latin typeface="Arial"/>
              </a:rPr>
              <a:t> to be Accessible for Sign Language Users </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ven Barnett MD</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Family Medicin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Roches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803B9D-C01C-4299-9A0A-57CB535A83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14400" y="274680"/>
            <a:ext cx="7315200" cy="5851440"/>
          </a:xfrm>
          <a:prstGeom prst="rect">
            <a:avLst/>
          </a:prstGeom>
          <a:ln w="0">
            <a:noFill/>
          </a:ln>
        </p:spPr>
      </p:pic>
      <p:sp>
        <p:nvSpPr>
          <p:cNvPr id="2" name="PlaceHolder 1"/>
          <p:cNvSpPr>
            <a:spLocks noGrp="1"/>
          </p:cNvSpPr>
          <p:nvPr>
            <p:ph type="sldNum" idx="3"/>
          </p:nvPr>
        </p:nvSpPr>
        <p:spPr/>
        <p:txBody>
          <a:bodyPr/>
          <a:p>
            <a:fld id="{3DE19E9B-09D0-46D2-A61F-3B68D75FB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14400" y="274680"/>
            <a:ext cx="7315200" cy="5851440"/>
          </a:xfrm>
          <a:prstGeom prst="rect">
            <a:avLst/>
          </a:prstGeom>
          <a:ln w="0">
            <a:noFill/>
          </a:ln>
        </p:spPr>
      </p:pic>
      <p:sp>
        <p:nvSpPr>
          <p:cNvPr id="2" name="PlaceHolder 1"/>
          <p:cNvSpPr>
            <a:spLocks noGrp="1"/>
          </p:cNvSpPr>
          <p:nvPr>
            <p:ph type="sldNum" idx="3"/>
          </p:nvPr>
        </p:nvSpPr>
        <p:spPr/>
        <p:txBody>
          <a:bodyPr/>
          <a:p>
            <a:fld id="{6F61A107-3A35-4FE4-9424-865778E0D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C57125-ABC1-4184-B687-F2C20E4230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highest grade or level of school that you have comple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8th grade or l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me high school, but did not gradu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gh school graduate or G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me college or 2-year degre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year college gradu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than 4-year college degre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A9DC09-93DB-4795-A95B-2CE4FCBC3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you graduate high school or get your G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es: After high school, did you go to colleg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 What degree to you hav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Did you go to high scho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 Did you finish 8th grad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Did you finish Kindergarten?</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Don’t know: Did you go to high scho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 Did you finish 8th grad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Did you finish Kindergarte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557AF1F0-E8E8-4B9A-81CC-48E2C980E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last 12 months, did you phone this doctor’s office with a medical question during regular office hours?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3DB4284-97CD-4717-81FD-09EFA73B0E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a:t>
            </a:r>
            <a:endParaRPr b="0" lang="en-US" sz="4400" spc="-1" strike="noStrike">
              <a:solidFill>
                <a:srgbClr val="cc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clinicians/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patients/famil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public health &amp; policy-mak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desig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700DF41-710C-429B-942B-D23B8E359B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ake Home Messages</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er Development Awards ar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f sign language users comprise understudied disparity populati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participatory research is essential to the survey adaptation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F425F7-9F4D-4F1A-8531-2A27767C7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s?</a:t>
            </a:r>
            <a:br>
              <a:rPr sz="4400"/>
            </a:br>
            <a:br>
              <a:rPr sz="4400"/>
            </a:br>
            <a:r>
              <a:rPr b="0" lang="en-US" sz="4400" spc="-1" strike="noStrike">
                <a:solidFill>
                  <a:srgbClr val="ccffff"/>
                </a:solidFill>
                <a:latin typeface="Arial"/>
              </a:rPr>
              <a:t>Feedback?</a:t>
            </a:r>
            <a:endParaRPr b="0" lang="en-US" sz="4400" spc="-1" strike="noStrike">
              <a:solidFill>
                <a:srgbClr val="ccffff"/>
              </a:solidFill>
              <a:latin typeface="Arial"/>
            </a:endParaRPr>
          </a:p>
        </p:txBody>
      </p:sp>
      <p:sp>
        <p:nvSpPr>
          <p:cNvPr id="3" name="PlaceHolder 2"/>
          <p:cNvSpPr>
            <a:spLocks noGrp="1"/>
          </p:cNvSpPr>
          <p:nvPr>
            <p:ph type="sldNum" idx="3"/>
          </p:nvPr>
        </p:nvSpPr>
        <p:spPr/>
        <p:txBody>
          <a:bodyPr/>
          <a:p>
            <a:fld id="{5EEB848E-FD4D-4677-A50C-15255E607D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914400"/>
            <a:ext cx="8229600" cy="5105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DHR is supported by Cooperative Agreement U48 DP000031 from CDC.  The contents of this presentation are solely the responsibility of the author and do not necessarily represent the official views of the CDC.</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ven Barnett is supported by grant K08 HS15700 from the Agency for Healthcare Research and Quality.</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to my family, mentors, and everyone who has worked with me on these projects.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66AADC6-279B-4E42-BE1C-9163CEFC2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tline</a:t>
            </a:r>
            <a:endParaRPr b="0" lang="en-US" sz="44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before my 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during my 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sea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3A7A2C-CDE7-46F5-B2B2-FA5C07261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160" y="914400"/>
            <a:ext cx="75438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ven Barnett M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 Medicine Research Program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1 South Aven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hester, NY 14620</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ven_Barnett@URMC.Rochester.edu</a:t>
            </a:r>
            <a:endParaRPr b="0" lang="en-US" sz="24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enter for Deaf Health Research </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chester Prevention Research Cente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versity of Rocheste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ww.urmc.edu/ncdhr</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d during the AHRQ 2008 Conference, “OEREP Panel Session on Successful Career Development in Health Services Research, Bethesda, MD (September 10, 2008)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3" name="" descr=""/>
          <p:cNvPicPr/>
          <p:nvPr/>
        </p:nvPicPr>
        <p:blipFill>
          <a:blip r:embed="rId1"/>
          <a:stretch/>
        </p:blipFill>
        <p:spPr>
          <a:xfrm>
            <a:off x="6934320" y="2895480"/>
            <a:ext cx="503280" cy="596880"/>
          </a:xfrm>
          <a:prstGeom prst="rect">
            <a:avLst/>
          </a:prstGeom>
          <a:ln w="0">
            <a:noFill/>
          </a:ln>
        </p:spPr>
      </p:pic>
      <p:sp>
        <p:nvSpPr>
          <p:cNvPr id="3" name="PlaceHolder 2"/>
          <p:cNvSpPr>
            <a:spLocks noGrp="1"/>
          </p:cNvSpPr>
          <p:nvPr>
            <p:ph type="sldNum" idx="3"/>
          </p:nvPr>
        </p:nvSpPr>
        <p:spPr/>
        <p:txBody>
          <a:bodyPr/>
          <a:p>
            <a:fld id="{7F59EF4F-E78C-436A-B0E9-083CB447322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reer Development</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be a leading expert &amp; independent researcher on the topic of health and healthcare with deaf people and their famili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adapt CAHPS</a:t>
            </a:r>
            <a:r>
              <a:rPr b="0" lang="en-US" sz="2800" spc="-1" strike="noStrike" baseline="30000">
                <a:solidFill>
                  <a:srgbClr val="ffffff"/>
                </a:solidFill>
                <a:latin typeface="Arial"/>
              </a:rPr>
              <a:t>®</a:t>
            </a:r>
            <a:r>
              <a:rPr b="0" lang="en-US" sz="2800" spc="-1" strike="noStrike">
                <a:solidFill>
                  <a:srgbClr val="ffffff"/>
                </a:solidFill>
                <a:latin typeface="Arial"/>
              </a:rPr>
              <a:t> in order to collect data in sign language on healthcare experienc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CAD4A2-8194-4AC2-8C29-BFF1D4FE16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eaf people? </a:t>
            </a:r>
            <a:endParaRPr b="0" lang="en-US" sz="44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ss-language/cross-cultural iss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overlooked minority popul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related researc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aspects of “dis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s &amp; challenges my assumption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376129-2026-45BB-A24D-66A2B2DEB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lthcare Issues</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 of 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u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9A17938-17D8-4E6A-B7DE-599424FB6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earch Issue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 of inform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trus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u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B</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survey experien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DB61144-B543-4584-82AF-98AB2575D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fore my K08</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mostly deaf-rel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sometimes deaf-rel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ometimes deaf-re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CAAF32-F4F8-4406-95DE-921DD006CF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ring my K08</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care (mostly deaf-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ing (</a:t>
            </a:r>
            <a:r>
              <a:rPr b="0" lang="en-US" sz="2800" spc="-1" strike="noStrike" u="sng">
                <a:solidFill>
                  <a:srgbClr val="ffffff"/>
                </a:solidFill>
                <a:uFillTx/>
                <a:latin typeface="Arial"/>
              </a:rPr>
              <a:t>often</a:t>
            </a:r>
            <a:r>
              <a:rPr b="0" lang="en-US" sz="2800" spc="-1" strike="noStrike">
                <a:solidFill>
                  <a:srgbClr val="ffffff"/>
                </a:solidFill>
                <a:latin typeface="Arial"/>
              </a:rPr>
              <a:t> deaf-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t>
            </a:r>
            <a:r>
              <a:rPr b="0" lang="en-US" sz="2800" spc="-1" strike="noStrike" u="sng">
                <a:solidFill>
                  <a:srgbClr val="ffffff"/>
                </a:solidFill>
                <a:uFillTx/>
                <a:latin typeface="Arial"/>
              </a:rPr>
              <a:t>mostly</a:t>
            </a:r>
            <a:r>
              <a:rPr b="0" lang="en-US" sz="2800" spc="-1" strike="noStrike">
                <a:solidFill>
                  <a:srgbClr val="ffffff"/>
                </a:solidFill>
                <a:latin typeface="Arial"/>
              </a:rPr>
              <a:t> deaf-relat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icated time for career develop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coursework/teac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DH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4F05EC3-C824-4A67-9878-F0EABCA8B6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earch</a:t>
            </a:r>
            <a:endParaRPr b="0" lang="en-US" sz="4400" spc="-1" strike="noStrike">
              <a:solidFill>
                <a:srgbClr val="cc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ECADB4-C49D-4471-B96D-9B9F81D43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19:42:07Z</dcterms:created>
  <dc:creator> </dc:creator>
  <dc:description/>
  <dc:language>en-US</dc:language>
  <cp:lastModifiedBy>Steven Barnett</cp:lastModifiedBy>
  <dcterms:modified xsi:type="dcterms:W3CDTF">2008-09-10T11:33:12Z</dcterms:modified>
  <cp:revision>66</cp:revision>
  <dc:subject/>
  <dc:title>Healthcare experiences of adults deaf since childhood:  Implications for people who work with deaf children </dc:title>
</cp:coreProperties>
</file>