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F1C-F9D6-4116-B346-45AD9A84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790-EC64-433A-853B-43412AA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821-E3E7-4BC5-8B6B-4869BE9B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4DC-9F9D-46A5-8607-941A8C69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96D-005D-4DB6-A40E-0731B6ED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8CB4-F705-4F9F-B2B7-B96CC562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608-2A4B-4CFD-A60B-2C9B2EA5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FC15-412C-4D14-B4CD-4A12F519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1F83-CE83-415E-B33A-03F9F74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5014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1993-78FF-45F7-8E68-85C55B7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1D8-2E35-43B9-89FE-E3FC398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AB1-F646-478D-A615-DC06B4D9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C28-0455-4D4C-928D-BA15891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797-1BF1-4249-8319-5442470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9D5-401F-4158-93DF-14FC398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029E-3B0F-4E99-BD04-348438BA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C8A-9A05-4384-825E-9F4629FC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CD8-2620-41BB-809A-C8E406F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CC4-DA45-49EA-A90A-3F77A6E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631-79F9-477E-B663-CABB467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014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A5E-A347-4703-806E-38E69118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C96-EC55-47D4-B950-5327F46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FC1-DBC9-4BBC-9D63-C3517D0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46F-4E10-4B53-A94A-0180A36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64004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819520" y="6400440"/>
            <a:ext cx="4419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Click to edit the outline text form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1" marL="635040" indent="-1778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econd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2" marL="1028880" indent="-1652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Third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3" marL="1428840" indent="-17136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Four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4" marL="1828800" indent="-1652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Fif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5" marL="1828800" indent="-165240"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ix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6" marL="1828800" indent="-165240"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even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 rot="10800000">
            <a:off x="8229600" y="640008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BF8-4732-470A-8373-A97A61A83285}" type="slidenum"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5760" y="1676520"/>
            <a:ext cx="8231040" cy="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4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19520" y="6400440"/>
            <a:ext cx="4419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 rot="10800000">
            <a:off x="8229600" y="640008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EA6-37F4-44D0-A285-F8694B4A82DA}" type="slidenum"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Click to edit the outline text form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Franklin Gothic Book"/>
            </a:endParaRPr>
          </a:p>
          <a:p>
            <a:pPr lvl="2" marL="863640" algn="ctr">
              <a:spcBef>
                <a:spcPts val="601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Franklin Gothic Book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Franklin Gothic Book"/>
            </a:endParaRPr>
          </a:p>
          <a:p>
            <a:pPr lvl="3" marL="1257480" algn="ctr">
              <a:spcBef>
                <a:spcPts val="499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4" marL="1663560" algn="ctr">
              <a:spcBef>
                <a:spcPts val="499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5" marL="166356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6" marL="166356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Patient Safety Organization Privacy Protection Center (PSOPPC): Servi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352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resented by: Kathy Barberio, R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PPC Project Director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Future Services and Resour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ducational brief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Tools and template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nual needs assessmen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 Workgroup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 Forum/Discussio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ducational brief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AHRQ Caf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Visit our display in the AHRQ Café (Exhibit Hall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Key to Success: Collaboration with Valued Partner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West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ational Quality Forum (NQF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Data Consulting Group (DCG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World Development Group (WDG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y Establish the PSOPPC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ational initiative to create a protected, evidence-based learning system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Legal privilege and confidentiality protections for event informatio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ticipate that PSOs will value assistance with de-identification of patient safety event data to facilitate safe and efficient data transfer to the NPS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Guiding Principle and Next Step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o information on patient safety events can ever be released that allow an individual patient, provider, facility or reporter to be identifie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waiting release of the Final Rule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De-identification presentation from the Office of Civil Rights – Monday at 8:00 a.m. 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xperts in Statistical Disclosure Methodologies identified and engage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PSOPPC Website (www.psoppc.org)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117" t="10752" r="2049" b="3357"/>
          <a:stretch/>
        </p:blipFill>
        <p:spPr>
          <a:xfrm>
            <a:off x="685800" y="1752480"/>
            <a:ext cx="5429160" cy="403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1981080"/>
            <a:ext cx="2362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mon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ser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inks to other websi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btaining the Common Format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17" t="10752" r="2049" b="5025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990720" y="2666520"/>
            <a:ext cx="1676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048120"/>
            <a:ext cx="2438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ption to Obtain All or Select Form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17" t="10752" r="3930" b="3357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9320" y="3657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6576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ommon Formats Users Guid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120" t="9304" r="4131" b="3494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342900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42900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Help Desk – 866-571-7712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One-on-one assistance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nual PSO meeting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ther Available Services and Resour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7:17:07Z</dcterms:created>
  <dc:creator>kbarberi</dc:creator>
  <dc:description/>
  <dc:language>en-US</dc:language>
  <cp:lastModifiedBy>rac</cp:lastModifiedBy>
  <dcterms:modified xsi:type="dcterms:W3CDTF">2008-10-02T16:15:14Z</dcterms:modified>
  <cp:revision>16</cp:revision>
  <dc:subject/>
  <dc:title>Patient Safety Organization Privacy Protection Center (PSOPPC): Services</dc:title>
</cp:coreProperties>
</file>