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450-9CE4-4FB5-9CF4-C7AB8A28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9520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1CED-20C0-466B-B52A-DA1778DA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E0B-1B05-4E8A-A5BC-18E69C8D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3C2-0D4C-4A32-B761-9F0AB3AE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E67A-4580-474E-9BCF-3CC45C6E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B417-D40E-4796-AD71-2388E82A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E30E-08E4-4775-B954-ECD26411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6F16-7762-452B-BAF7-B347ACC6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E75B-7C5A-478F-AF97-6EF4726E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50148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B0AC-A28F-4ABA-BF9D-FB9E28D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0E95-5104-4B6D-B422-ABA36CE2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B44-6E9A-463E-A6D0-2B9BF6F4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A2E3-004B-4C7E-AD8D-6779BC12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5BCB-E0B9-4B49-8FE6-BFB2D8AF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520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7547-841D-417D-B4F2-3EFAD55F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BC02-44CE-42CF-915D-42FB08A6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520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E33E-1366-4008-AC15-FD6D8622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8B58-68AC-4D42-8920-D2FD73A7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A07-A111-4745-8D67-5BD3DCFD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75BB-3338-40F6-9C93-5ECA4C1A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0148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91A-6492-4F36-8E44-57E5DA6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FC9-3089-49B0-B8E7-B7C611D9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9520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EA3-8B87-4612-B8BA-B28D7D70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9520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567-D1BF-422B-BD2B-79E1DCF5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914400" y="640044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819520" y="6400440"/>
            <a:ext cx="44193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Click to edit the outline text format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1" marL="635040" indent="-17784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Second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2" marL="1028880" indent="-16524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Third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3" marL="1428840" indent="-17136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Fourth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4" marL="1828800" indent="-16524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Fifth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5" marL="1828800" indent="-165240"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Sixth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6" marL="1828800" indent="-165240">
              <a:spcBef>
                <a:spcPts val="751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Seventh Outline Level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 rot="10800000">
            <a:off x="8229600" y="640008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B3A4-42B9-4D0D-B831-A9BB4DA12ECB}" type="slidenum"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5760" y="1676520"/>
            <a:ext cx="8231040" cy="2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14400" y="6400440"/>
            <a:ext cx="144792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819520" y="6400440"/>
            <a:ext cx="441936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 rot="10800000">
            <a:off x="8229600" y="6400080"/>
            <a:ext cx="45720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556D-30C8-4125-843A-5DE9BFA21518}" type="slidenum">
              <a:rPr b="0" lang="en-US" sz="10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Click to edit the outline text format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Franklin Gothic Book"/>
            </a:endParaRPr>
          </a:p>
          <a:p>
            <a:pPr lvl="2" marL="863640" algn="ctr">
              <a:spcBef>
                <a:spcPts val="601"/>
              </a:spcBef>
              <a:buClr>
                <a:srgbClr val="333333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Franklin Gothic Book"/>
              </a:rPr>
              <a:t>Third Outline Level</a:t>
            </a:r>
            <a:endParaRPr b="1" lang="en-US" sz="2400" spc="-1" strike="noStrike">
              <a:solidFill>
                <a:srgbClr val="333333"/>
              </a:solidFill>
              <a:latin typeface="Franklin Gothic Book"/>
            </a:endParaRPr>
          </a:p>
          <a:p>
            <a:pPr lvl="3" marL="1257480" algn="ctr">
              <a:spcBef>
                <a:spcPts val="499"/>
              </a:spcBef>
              <a:buClr>
                <a:srgbClr val="333333"/>
              </a:buClr>
              <a:buFont typeface="Franklin Gothic 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Franklin Gothic Book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Franklin Gothic Book"/>
            </a:endParaRPr>
          </a:p>
          <a:p>
            <a:pPr lvl="4" marL="1663560" algn="ctr">
              <a:spcBef>
                <a:spcPts val="499"/>
              </a:spcBef>
              <a:buClr>
                <a:srgbClr val="333333"/>
              </a:buClr>
              <a:buFont typeface="Franklin Gothic Boo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Franklin Gothic Book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Franklin Gothic Book"/>
            </a:endParaRPr>
          </a:p>
          <a:p>
            <a:pPr lvl="5" marL="166356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Franklin Gothic Book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Franklin Gothic Book"/>
            </a:endParaRPr>
          </a:p>
          <a:p>
            <a:pPr lvl="6" marL="1663560">
              <a:spcBef>
                <a:spcPts val="4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Franklin Gothic Book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Patient Safety Organization Privacy Protection Center (PSOPPC): Service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352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Presented by: Kathy Barberio, RN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PSOPPC Project Director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Future Services and Resource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Educational briefs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Tools and templates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Annual needs assessment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PSO Workgroups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PSO Forum/Discussion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Educational briefs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AHRQ Caf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Visit our display in the AHRQ Café (Exhibit Hall)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Key to Success: Collaboration with Valued Partner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Westat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National Quality Forum (NQF)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Data Consulting Group (DCG)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World Development Group (WDG)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Why Establish the PSOPPC?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National initiative to create a protected, evidence-based learning system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Legal privilege and confidentiality protections for event information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Anticipate that PSOs will value assistance with de-identification of patient safety event data to facilitate safe and efficient data transfer to the NPSD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Guiding Principle and Next Step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No information on patient safety events can ever be released that allow an individual patient, provider, facility or reporter to be identified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14560" indent="-21456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Awaiting release of the Final Rule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14560" indent="-21456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De-identification presentation from the Office of Civil Rights – Monday at 8:00 a.m. 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14560" indent="-214560">
              <a:lnSpc>
                <a:spcPct val="90000"/>
              </a:lnSpc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Experts in Statistical Disclosure Methodologies identified and engaged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PSOPPC Website (www.psoppc.org)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2117" t="10752" r="2049" b="3357"/>
          <a:stretch/>
        </p:blipFill>
        <p:spPr>
          <a:xfrm>
            <a:off x="685800" y="1752480"/>
            <a:ext cx="5429160" cy="403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5880" y="1981080"/>
            <a:ext cx="2362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vail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ommon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User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Help De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Links to other websit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Obtaining the Common Format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117" t="10752" r="2049" b="5025"/>
          <a:stretch/>
        </p:blipFill>
        <p:spPr>
          <a:xfrm>
            <a:off x="2112840" y="1905120"/>
            <a:ext cx="4916520" cy="3809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990720" y="2666520"/>
            <a:ext cx="1676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048120"/>
            <a:ext cx="2438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Option to Obtain All or Select Form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117" t="10752" r="3930" b="3357"/>
          <a:stretch/>
        </p:blipFill>
        <p:spPr>
          <a:xfrm>
            <a:off x="2112840" y="1905120"/>
            <a:ext cx="4916520" cy="3809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19320" y="3657600"/>
            <a:ext cx="2361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3657600"/>
            <a:ext cx="2210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5084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Common Formats Users Guide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120" t="9304" r="4131" b="3494"/>
          <a:stretch/>
        </p:blipFill>
        <p:spPr>
          <a:xfrm>
            <a:off x="2112840" y="1905120"/>
            <a:ext cx="49165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23880" y="342900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3429000"/>
            <a:ext cx="1981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Help Desk – 866-571-7712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One-on-one assistance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-228600">
              <a:spcBef>
                <a:spcPts val="751"/>
              </a:spcBef>
              <a:buClr>
                <a:srgbClr val="333333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Franklin Gothic Book"/>
              </a:rPr>
              <a:t>Annual PSO meeting</a:t>
            </a: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  <a:p>
            <a:pPr marL="2286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33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501480"/>
            <a:ext cx="82296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Other Available Services and Resources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7:17:07Z</dcterms:created>
  <dc:creator>kbarberi</dc:creator>
  <dc:description/>
  <dc:language>en-US</dc:language>
  <cp:lastModifiedBy>rac</cp:lastModifiedBy>
  <dcterms:modified xsi:type="dcterms:W3CDTF">2008-10-02T16:15:14Z</dcterms:modified>
  <cp:revision>16</cp:revision>
  <dc:subject/>
  <dc:title>Patient Safety Organization Privacy Protection Center (PSOPPC): Services</dc:title>
</cp:coreProperties>
</file>