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201680" y="694800"/>
            <a:ext cx="4611600" cy="34592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9" name=""/>
          <p:cNvSpPr/>
          <p:nvPr/>
        </p:nvSpPr>
        <p:spPr>
          <a:xfrm>
            <a:off x="6276960" y="883800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E73417-73E1-4DA8-B105-9C97FC11E1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01680" y="695160"/>
            <a:ext cx="4611600" cy="3459240"/>
          </a:xfrm>
          <a:prstGeom prst="rect">
            <a:avLst/>
          </a:prstGeom>
          <a:ln w="0">
            <a:noFill/>
          </a:ln>
        </p:spPr>
      </p:sp>
      <p:sp>
        <p:nvSpPr>
          <p:cNvPr id="118"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and welcome to our session o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resentation is on Financial Burdens for Health Care.  This work has been done jointly with my co-author Didem Bernar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01680" y="695160"/>
            <a:ext cx="4611600" cy="3459240"/>
          </a:xfrm>
          <a:prstGeom prst="rect">
            <a:avLst/>
          </a:prstGeom>
          <a:ln w="0">
            <a:noFill/>
          </a:ln>
        </p:spPr>
      </p:sp>
      <p:sp>
        <p:nvSpPr>
          <p:cNvPr id="134"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s looks more closely at insured and uninsured individuals with and without chronic disease.  Chronic disease would include hypertension, diabetes, mental illness, and many other conditions defined by physicians as chronic in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I previously showed you that the uninsured as a group had the lowest risk of high burdens compared to people with different insurance status, in this chart we see a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uninsured individuals with a chronic disease - the yellow line - their risk of living in a family with a high burden is the highes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01680" y="695160"/>
            <a:ext cx="4611600" cy="3459240"/>
          </a:xfrm>
          <a:prstGeom prst="rect">
            <a:avLst/>
          </a:prstGeom>
          <a:ln w="0">
            <a:noFill/>
          </a:ln>
        </p:spPr>
      </p:sp>
      <p:sp>
        <p:nvSpPr>
          <p:cNvPr id="120"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examines how rising health care costs have affected family budg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we are looking at situations where a family spends more than 10% of family income on out of pocket health care costs.  We define this situation as one of “high bu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look at trends over time in the prevalence of high financial burdens and also compare their prevalence across many subgroups of the population,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rance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and g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chronic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01680" y="695160"/>
            <a:ext cx="4611600" cy="3459240"/>
          </a:xfrm>
          <a:prstGeom prst="rect">
            <a:avLst/>
          </a:prstGeom>
          <a:ln w="0">
            <a:noFill/>
          </a:ln>
        </p:spPr>
      </p:sp>
      <p:sp>
        <p:nvSpPr>
          <p:cNvPr id="122"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nstruct a measure of high burden - a measure of when out of pocket expenditues exceed a certain proportion of family in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fine our measure at the family level and first define the nume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omin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10% as the threshold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t a threshold rather than computing the mean or median burden ratio.  Setting cut-off point removes potential bias from reporting error in family income.  It also gives an intutive understanding of the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calculated at family level,  we present results in terms of individuals for policy purposes.  We report the number of individuals or the percent of individuals living with high burdens, rather than the number of famil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01680" y="695160"/>
            <a:ext cx="4611600" cy="3459240"/>
          </a:xfrm>
          <a:prstGeom prst="rect">
            <a:avLst/>
          </a:prstGeom>
          <a:ln w="0">
            <a:noFill/>
          </a:ln>
        </p:spPr>
      </p:sp>
      <p:sp>
        <p:nvSpPr>
          <p:cNvPr id="124"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someone may have a high burden because of very low income.  Someone else may have a high burden because of very high OOP expenditures.  Both are counted as having high burd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d OOP premiums and OOP expenditures because there is a trade-off between the two.  As an overall view of financial burdens it makes sense to include both.  For some purposes, however, we have separately examined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01680" y="695160"/>
            <a:ext cx="4611600" cy="3459240"/>
          </a:xfrm>
          <a:prstGeom prst="rect">
            <a:avLst/>
          </a:prstGeom>
          <a:ln w="0">
            <a:noFill/>
          </a:ln>
        </p:spPr>
      </p:sp>
      <p:sp>
        <p:nvSpPr>
          <p:cNvPr id="126"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first chart we see the percent of individuals in the overall U.S. population under age 65 (civilian, non-institutionalized) who live in families with high financial bu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burden = spending 10% or more of family income on health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trend not entirely clear. We see the increase in persons facing high burdens between 2001 and 2003, but then there is some bouncing around between 2003 and 2005.  I think, however, we are safe in ruling out any real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choice of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10 percent of family income is reasonable threshold to define “high” burdens.  It is up to policymakers to set a more normative cut-off point. May want to use lower threshold (5%) for poor and very low income families.  May want to use high threshold (20%) for elderly who are mostly retired, without work related expenses, finished with raising children, and who have potentially high health care needs.  But 10 percent threshold is reasonable for the general working age population under 65.  Some argue that since U.S. economy spends 16% of GDP on health care, the threshold should be higher.  But that figure of 16% of GDP is not a useful guide for most family budgets because it is based on spending that includes investment, administration, and covers the  institutionalized popula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01680" y="695160"/>
            <a:ext cx="4611600" cy="3459240"/>
          </a:xfrm>
          <a:prstGeom prst="rect">
            <a:avLst/>
          </a:prstGeom>
          <a:ln w="0">
            <a:noFill/>
          </a:ln>
        </p:spPr>
      </p:sp>
      <p:sp>
        <p:nvSpPr>
          <p:cNvPr id="128"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oup with the highest burdens are the small number of people (12 million in 2005 MEPS) who purchase their insurance in the non-group or individual market.  The group with the lowest burdens, at the opposite extreme, are the uninsured have relatively low burdens because many of them do not use health care services at all.  They also do not pay premiu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efinition, individuals purchasing non-group coverage pay the entire premium out of pocket, while employers often contribute towards the premiums for their employees. Economic theory assumes that workers bear the full cost of employer contributions to health insurance premiums in the form of lost wages.  We do not have the data to make this adjustment, but in comparisons dating from 1996 (when data were available), we found that persons with employment related coverage faced risks of high burdens that were much closer but still lower than the risks faced by persons with non-group cover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gt;Regardless, people often develop budgets based on their expected out of pocket expenditures and the high rate of high financial burdens among those with non-group policies raises questions about the affordability of these polici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01680" y="695160"/>
            <a:ext cx="4611600" cy="3459240"/>
          </a:xfrm>
          <a:prstGeom prst="rect">
            <a:avLst/>
          </a:prstGeom>
          <a:ln w="0">
            <a:noFill/>
          </a:ln>
        </p:spPr>
      </p:sp>
      <p:sp>
        <p:nvSpPr>
          <p:cNvPr id="130"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do some a little differently.  Instead of defining middle income as families between 200 and 400 ercent of poverty - which is a standard definition - we break this group down into lower middle and upper middle.  We do this because policymakers are debating the need to provide subsidies, as in subsidized SCHIP for children, to families in the 200 to 300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hart, lower middle - the yellow line - refers to family income between 200 and 300 % of poverty, and upper middle - the turquoise line - refers to family income between 300 and 400 % of poverty.  When we do this we see that individuals living in lower middle income families faced virtually the same risk of high financial burden for health care as did individuals in low income families, with incomes less than 200 % of poverty.  Thus the risk of high financial burdens has crept up into the “middle” income groups in the U.S.  The majority of these families have private coverage but the out of pocket premiums plus the out of pocket payments for deductibles, copays and uncovered services add up to more than 10 percent of family income for a large proportion of these famil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an also see the clearest upward trend among the high income families with the lowest burde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01680" y="695160"/>
            <a:ext cx="4611600" cy="3459240"/>
          </a:xfrm>
          <a:prstGeom prst="rect">
            <a:avLst/>
          </a:prstGeom>
          <a:ln w="0">
            <a:noFill/>
          </a:ln>
        </p:spPr>
      </p:sp>
      <p:sp>
        <p:nvSpPr>
          <p:cNvPr id="132"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hart we show the percent of persons living in families with high burdens by age and gender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men and women are much more likely to face high burdens than are younger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women face the highest risks. The top line tells us that among women aged 50 to 64, more than 30 percent of them lived in families with high financial burdens for health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men’s risks were slightly lower.  About 26 percent of older men lived in families with high burd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generally face higher risks than men of the same ag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meps.ahrq.gov/" TargetMode="External"/><Relationship Id="rId2" Type="http://schemas.openxmlformats.org/officeDocument/2006/relationships/hyperlink" Target="http://www.meps.ahrq.gov/" TargetMode="External"/><Relationship Id="rId3" Type="http://schemas.openxmlformats.org/officeDocument/2006/relationships/hyperlink" Target="http://www.meps.ahrq.gov/" TargetMode="External"/><Relationship Id="rId4" Type="http://schemas.openxmlformats.org/officeDocument/2006/relationships/hyperlink" Target="http://www.meps.ahrq.gov/" TargetMode="External"/><Relationship Id="rId5" Type="http://schemas.openxmlformats.org/officeDocument/2006/relationships/hyperlink" Target="http://www.meps.ahrq.gov/" TargetMode="External"/><Relationship Id="rId6" Type="http://schemas.openxmlformats.org/officeDocument/2006/relationships/hyperlink" Target="http://www.meps.ahrq.gov/"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819520"/>
            <a:ext cx="815328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nancial Burdens for Health Care</a:t>
            </a:r>
            <a:r>
              <a:rPr b="1" lang="en-US" sz="3200" spc="-1" strike="noStrike">
                <a:solidFill>
                  <a:srgbClr val="ffff00"/>
                </a:solidFill>
                <a:latin typeface="Arial"/>
              </a:rPr>
              <a:t> </a:t>
            </a:r>
            <a:endParaRPr b="1" lang="en-US" sz="3200" spc="-1" strike="noStrike">
              <a:solidFill>
                <a:srgbClr val="ffff00"/>
              </a:solidFill>
              <a:latin typeface="Arial"/>
            </a:endParaRPr>
          </a:p>
        </p:txBody>
      </p:sp>
      <p:sp>
        <p:nvSpPr>
          <p:cNvPr id="91" name="PlaceHolder 2"/>
          <p:cNvSpPr>
            <a:spLocks noGrp="1"/>
          </p:cNvSpPr>
          <p:nvPr>
            <p:ph type="subTitle"/>
          </p:nvPr>
        </p:nvSpPr>
        <p:spPr>
          <a:xfrm>
            <a:off x="1447560" y="4114440"/>
            <a:ext cx="6019560" cy="243828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sica Banthin, Ph.D.</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em Bernard, Ph.D.</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tember 9, 20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aphicFrame>
        <p:nvGraphicFramePr>
          <p:cNvPr id="109" name=""/>
          <p:cNvGraphicFramePr/>
          <p:nvPr/>
        </p:nvGraphicFramePr>
        <p:xfrm>
          <a:off x="228600" y="457200"/>
          <a:ext cx="8480520" cy="6400800"/>
        </p:xfrm>
        <a:graphic>
          <a:graphicData uri="http://schemas.openxmlformats.org/presentationml/2006/ole">
            <p:oleObj progId="Excel.Sheet.12" r:id="rId1" spid="">
              <p:embed/>
              <p:pic>
                <p:nvPicPr>
                  <p:cNvPr id="110" name="" descr=""/>
                  <p:cNvPicPr/>
                  <p:nvPr/>
                </p:nvPicPr>
                <p:blipFill>
                  <a:blip r:embed="rId2"/>
                  <a:stretch/>
                </p:blipFill>
                <p:spPr>
                  <a:xfrm>
                    <a:off x="228600" y="457200"/>
                    <a:ext cx="848052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nancial Burdens by Chronic Disease 2003</a:t>
            </a:r>
            <a:endParaRPr b="1" lang="en-US" sz="3600" spc="-1" strike="noStrike">
              <a:solidFill>
                <a:srgbClr val="ffff00"/>
              </a:solidFill>
              <a:latin typeface="Arial"/>
            </a:endParaRPr>
          </a:p>
        </p:txBody>
      </p:sp>
      <p:sp>
        <p:nvSpPr>
          <p:cNvPr id="112" name="PlaceHolder 2"/>
          <p:cNvSpPr>
            <a:spLocks noGrp="1"/>
          </p:cNvSpPr>
          <p:nvPr>
            <p:ph/>
          </p:nvPr>
        </p:nvSpPr>
        <p:spPr>
          <a:xfrm>
            <a:off x="456840" y="1447920"/>
            <a:ext cx="8458200" cy="502920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lihood of facing high financial burden:</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ersons, 19.2%</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 39.1%</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ke, 56.0%</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disease, 32.7%</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tension, 30.9%</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hritis, 30.7%</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al disorder, 29.2%</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13"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lusion</a:t>
            </a:r>
            <a:endParaRPr b="1" lang="en-US" sz="2800" spc="-1" strike="noStrike">
              <a:solidFill>
                <a:srgbClr val="ffff00"/>
              </a:solidFill>
              <a:latin typeface="Arial"/>
            </a:endParaRPr>
          </a:p>
        </p:txBody>
      </p:sp>
      <p:sp>
        <p:nvSpPr>
          <p:cNvPr id="115"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cking trends in high financial burdens provides policymakers with overview of issu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es subgroups with elevated risk for high burde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s inform debate on affordability issu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provides benchmark against which to measure proposed changes in policy</a:t>
            </a:r>
            <a:endParaRPr b="0" lang="en-US" sz="3200" spc="-1" strike="noStrike">
              <a:solidFill>
                <a:srgbClr val="ffffff"/>
              </a:solidFill>
              <a:latin typeface="Arial"/>
            </a:endParaRPr>
          </a:p>
        </p:txBody>
      </p:sp>
      <p:sp>
        <p:nvSpPr>
          <p:cNvPr id="116"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search Questions</a:t>
            </a:r>
            <a:endParaRPr b="1" lang="en-US" sz="3600" spc="-1" strike="noStrike">
              <a:solidFill>
                <a:srgbClr val="ffff00"/>
              </a:solidFill>
              <a:latin typeface="Arial"/>
            </a:endParaRPr>
          </a:p>
        </p:txBody>
      </p:sp>
      <p:sp>
        <p:nvSpPr>
          <p:cNvPr id="93"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have rising health care costs affected family budge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risk of high out of pocket health care burdens vary by:</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rance status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me categori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 and gender</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ce of chronic conditions</a:t>
            </a:r>
            <a:endParaRPr b="0" lang="en-US" sz="2800" spc="-1" strike="noStrike">
              <a:solidFill>
                <a:srgbClr val="ffffff"/>
              </a:solidFill>
              <a:latin typeface="Arial"/>
            </a:endParaRPr>
          </a:p>
        </p:txBody>
      </p:sp>
      <p:sp>
        <p:nvSpPr>
          <p:cNvPr id="94"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8534520" y="6095880"/>
            <a:ext cx="228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a:t>
            </a:r>
            <a:br>
              <a:rPr sz="2800"/>
            </a:br>
            <a:r>
              <a:rPr b="1" lang="en-US" sz="2800" spc="-1" strike="noStrike">
                <a:solidFill>
                  <a:srgbClr val="ffff00"/>
                </a:solidFill>
                <a:latin typeface="Arial"/>
              </a:rPr>
              <a:t>Medical Expenditure Panel Survey</a:t>
            </a:r>
            <a:endParaRPr b="1" lang="en-US" sz="2800" spc="-1" strike="noStrike">
              <a:solidFill>
                <a:srgbClr val="ffff00"/>
              </a:solidFill>
              <a:latin typeface="Arial"/>
            </a:endParaRPr>
          </a:p>
        </p:txBody>
      </p:sp>
      <p:sp>
        <p:nvSpPr>
          <p:cNvPr id="97" name="PlaceHolder 2"/>
          <p:cNvSpPr>
            <a:spLocks noGrp="1"/>
          </p:cNvSpPr>
          <p:nvPr>
            <p:ph/>
          </p:nvPr>
        </p:nvSpPr>
        <p:spPr>
          <a:xfrm>
            <a:off x="609480" y="1752480"/>
            <a:ext cx="8305920" cy="510552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PS is annual survey sponsored by Agency for Healthcare Research &amp; Qualit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ly representative household survey consisting of 15,000 households and 39,000 individual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data on insurance coverage, health care utilization and expenditures, health status, medical conditions, &amp; more</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ccurate source of nationally representative micro level data on out of pocket spending for medical care</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ased on public use files, tables, statistical briefs: </a:t>
            </a:r>
            <a:r>
              <a:rPr b="0" lang="en-US" sz="2800" spc="-1" strike="noStrike" u="sng">
                <a:solidFill>
                  <a:srgbClr val="fafd00"/>
                </a:solidFill>
                <a:uFillTx/>
                <a:latin typeface="Arial"/>
                <a:hlinkClick r:id="rId1"/>
              </a:rPr>
              <a:t>www.</a:t>
            </a:r>
            <a:r>
              <a:rPr b="0" lang="en-US" sz="2800" spc="-1" strike="noStrike" u="sng">
                <a:solidFill>
                  <a:srgbClr val="fafd00"/>
                </a:solidFill>
                <a:uFillTx/>
                <a:latin typeface="Arial"/>
                <a:hlinkClick r:id="rId2"/>
              </a:rPr>
              <a:t>meps</a:t>
            </a:r>
            <a:r>
              <a:rPr b="0" lang="en-US" sz="2800" spc="-1" strike="noStrike" u="sng">
                <a:solidFill>
                  <a:srgbClr val="fafd00"/>
                </a:solidFill>
                <a:uFillTx/>
                <a:latin typeface="Arial"/>
                <a:hlinkClick r:id="rId3"/>
              </a:rPr>
              <a:t>.</a:t>
            </a:r>
            <a:r>
              <a:rPr b="0" lang="en-US" sz="2800" spc="-1" strike="noStrike" u="sng">
                <a:solidFill>
                  <a:srgbClr val="fafd00"/>
                </a:solidFill>
                <a:uFillTx/>
                <a:latin typeface="Arial"/>
                <a:hlinkClick r:id="rId4"/>
              </a:rPr>
              <a:t>ahrq</a:t>
            </a:r>
            <a:r>
              <a:rPr b="0" lang="en-US" sz="2800" spc="-1" strike="noStrike" u="sng">
                <a:solidFill>
                  <a:srgbClr val="fafd00"/>
                </a:solidFill>
                <a:uFillTx/>
                <a:latin typeface="Arial"/>
                <a:hlinkClick r:id="rId5"/>
              </a:rPr>
              <a:t>.</a:t>
            </a:r>
            <a:r>
              <a:rPr b="0" lang="en-US" sz="2800" spc="-1" strike="noStrike" u="sng">
                <a:solidFill>
                  <a:srgbClr val="fafd00"/>
                </a:solidFill>
                <a:uFillTx/>
                <a:latin typeface="Arial"/>
                <a:hlinkClick r:id="rId6"/>
              </a:rPr>
              <a:t>gov</a:t>
            </a:r>
            <a:endParaRPr b="0" lang="en-US" sz="2800" spc="-1" strike="noStrike">
              <a:solidFill>
                <a:srgbClr val="ffffff"/>
              </a:solidFill>
              <a:latin typeface="Arial"/>
            </a:endParaRPr>
          </a:p>
        </p:txBody>
      </p:sp>
      <p:sp>
        <p:nvSpPr>
          <p:cNvPr id="98"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hods: Constructing Measure of High Burden</a:t>
            </a:r>
            <a:endParaRPr b="1" lang="en-US" sz="2800" spc="-1" strike="noStrike">
              <a:solidFill>
                <a:srgbClr val="ffff00"/>
              </a:solidFill>
              <a:latin typeface="Arial"/>
            </a:endParaRPr>
          </a:p>
        </p:txBody>
      </p:sp>
      <p:sp>
        <p:nvSpPr>
          <p:cNvPr id="100"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ator: We calculated total out of pocket spending across all individuals in the family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ominator:  We calculated total family income and adjusted for tax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identify individuals living in families that spend more than 10% of family income on out of pocket expenses – “high burde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 are presented in terms of percent of individuals living in families with high financial burdens</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hodological Considerations </a:t>
            </a:r>
            <a:endParaRPr b="1" lang="en-US" sz="2800" spc="-1" strike="noStrike">
              <a:solidFill>
                <a:srgbClr val="ffff00"/>
              </a:solidFill>
              <a:latin typeface="Arial"/>
            </a:endParaRPr>
          </a:p>
        </p:txBody>
      </p:sp>
      <p:sp>
        <p:nvSpPr>
          <p:cNvPr id="103"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rden ratio (% of family income) is a composite or summary measure compressing many variables into one ratio</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big picture – no causal interpretation</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s OOP premiums plus OOP payments on service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s burdens at family level because family members share resource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10 percent of adjusted family income as reasonable threshold, other thresholds can be used</a:t>
            </a:r>
            <a:endParaRPr b="0" lang="en-US" sz="2800" spc="-1" strike="noStrike">
              <a:solidFill>
                <a:srgbClr val="ffffff"/>
              </a:solidFill>
              <a:latin typeface="Arial"/>
            </a:endParaRPr>
          </a:p>
        </p:txBody>
      </p:sp>
      <p:sp>
        <p:nvSpPr>
          <p:cNvPr id="104"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35080" y="463680"/>
            <a:ext cx="8673840" cy="593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35080" y="463680"/>
            <a:ext cx="8673840" cy="593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35080" y="463680"/>
            <a:ext cx="8673840" cy="593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35080" y="463680"/>
            <a:ext cx="8673840" cy="593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rac</cp:lastModifiedBy>
  <cp:lastPrinted>2003-01-21T20:19:23Z</cp:lastPrinted>
  <dcterms:modified xsi:type="dcterms:W3CDTF">2008-10-02T18:43:58Z</dcterms:modified>
  <cp:revision>236</cp:revision>
  <dc:subject/>
  <dc:title>AHRQ Slide Template 2004</dc:title>
</cp:coreProperties>
</file>