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E07135-52EF-4515-B4D7-741A15A959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1680" y="695160"/>
            <a:ext cx="4611600" cy="3459240"/>
          </a:xfrm>
          <a:prstGeom prst="rect">
            <a:avLst/>
          </a:prstGeom>
          <a:ln w="0">
            <a:noFill/>
          </a:ln>
        </p:spPr>
      </p:sp>
      <p:sp>
        <p:nvSpPr>
          <p:cNvPr id="11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o our session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n Financial Burdens for Health Care.  This work has been done jointly with my co-author Didem Bernar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01680" y="695160"/>
            <a:ext cx="4611600" cy="3459240"/>
          </a:xfrm>
          <a:prstGeom prst="rect">
            <a:avLst/>
          </a:prstGeom>
          <a:ln w="0">
            <a:noFill/>
          </a:ln>
        </p:spPr>
      </p:sp>
      <p:sp>
        <p:nvSpPr>
          <p:cNvPr id="13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s looks more closely at insured and uninsured individuals with and without chronic disease.  Chronic disease would include hypertension, diabetes, mental illness, and many other conditions defined by physicians as chronic in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 previously showed you that the uninsured as a group had the lowest risk of high burdens compared to people with different insurance status, in this chart we se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uninsured individuals with a chronic disease - the yellow line - their risk of living in a family with a high burden is the highes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1680" y="695160"/>
            <a:ext cx="4611600" cy="3459240"/>
          </a:xfrm>
          <a:prstGeom prst="rect">
            <a:avLst/>
          </a:prstGeom>
          <a:ln w="0">
            <a:noFill/>
          </a:ln>
        </p:spPr>
      </p:sp>
      <p:sp>
        <p:nvSpPr>
          <p:cNvPr id="12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examines how rising health care costs have affected family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are looking at situations where a family spends more than 10% of family income on out of pocket health care costs.  We define this situation as one of “high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trends over time in the prevalence of high financial burdens and also compare their prevalence across many subgroups of the population,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nd g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chronic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1680" y="695160"/>
            <a:ext cx="4611600" cy="3459240"/>
          </a:xfrm>
          <a:prstGeom prst="rect">
            <a:avLst/>
          </a:prstGeom>
          <a:ln w="0">
            <a:noFill/>
          </a:ln>
        </p:spPr>
      </p:sp>
      <p:sp>
        <p:nvSpPr>
          <p:cNvPr id="12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struct a measure of high burden - a measure of when out of pocket expenditues exceed a certain proportion of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our measure at the family level and first define the num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omi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10% as the threshold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a threshold rather than computing the mean or median burden ratio.  Setting cut-off point removes potential bias from reporting error in family income.  It also gives an intutive understanding of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alculated at family level,  we present results in terms of individuals for policy purposes.  We report the number of individuals or the percent of individuals living with high burdens, rather than the number of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1680" y="695160"/>
            <a:ext cx="4611600" cy="3459240"/>
          </a:xfrm>
          <a:prstGeom prst="rect">
            <a:avLst/>
          </a:prstGeom>
          <a:ln w="0">
            <a:noFill/>
          </a:ln>
        </p:spPr>
      </p:sp>
      <p:sp>
        <p:nvSpPr>
          <p:cNvPr id="12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omeone may have a high burden because of very low income.  Someone else may have a high burden because of very high OOP expenditures.  Both are counted as having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OOP premiums and OOP expenditures because there is a trade-off between the two.  As an overall view of financial burdens it makes sense to include both.  For some purposes, however, we have separately examined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1680" y="695160"/>
            <a:ext cx="4611600" cy="3459240"/>
          </a:xfrm>
          <a:prstGeom prst="rect">
            <a:avLst/>
          </a:prstGeom>
          <a:ln w="0">
            <a:noFill/>
          </a:ln>
        </p:spPr>
      </p:sp>
      <p:sp>
        <p:nvSpPr>
          <p:cNvPr id="126"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chart we see the percent of individuals in the overall U.S. population under age 65 (civilian, non-institutionalized) who live in families with high financial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urden = spending 10% or more of family income on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rend not entirely clear. We see the increase in persons facing high burdens between 2001 and 2003, but then there is some bouncing around between 2003 and 2005.  I think, however, we are safe in ruling out any real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hoice of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10 percent of family income is reasonable threshold to define “high” burdens.  It is up to policymakers to set a more normative cut-off point. May want to use lower threshold (5%) for poor and very low income families.  May want to use high threshold (20%) for elderly who are mostly retired, without work related expenses, finished with raising children, and who have potentially high health care needs.  But 10 percent threshold is reasonable for the general working age population under 65.  Some argue that since U.S. economy spends 16% of GDP on health care, the threshold should be higher.  But that figure of 16% of GDP is not a useful guide for most family budgets because it is based on spending that includes investment, administration, and covers the  institutionalized popul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1680" y="695160"/>
            <a:ext cx="4611600" cy="3459240"/>
          </a:xfrm>
          <a:prstGeom prst="rect">
            <a:avLst/>
          </a:prstGeom>
          <a:ln w="0">
            <a:noFill/>
          </a:ln>
        </p:spPr>
      </p:sp>
      <p:sp>
        <p:nvSpPr>
          <p:cNvPr id="12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with the highest burdens are the small number of people (12 million in 2005 MEPS) who purchase their insurance in the non-group or individual market.  The group with the lowest burdens, at the opposite extreme, are the uninsured have relatively low burdens because many of them do not use health care services at all.  They also do not pay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inition, individuals purchasing non-group coverage pay the entire premium out of pocket, while employers often contribute towards the premiums for their employees. Economic theory assumes that workers bear the full cost of employer contributions to health insurance premiums in the form of lost wages.  We do not have the data to make this adjustment, but in comparisons dating from 1996 (when data were available), we found that persons with employment related coverage faced risks of high burdens that were much closer but still lower than the risks faced by persons with non-group cover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t;Regardless, people often develop budgets based on their expected out of pocket expenditures and the high rate of high financial burdens among those with non-group policies raises questions about the affordability of these poli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1680" y="695160"/>
            <a:ext cx="4611600" cy="3459240"/>
          </a:xfrm>
          <a:prstGeom prst="rect">
            <a:avLst/>
          </a:prstGeom>
          <a:ln w="0">
            <a:noFill/>
          </a:ln>
        </p:spPr>
      </p:sp>
      <p:sp>
        <p:nvSpPr>
          <p:cNvPr id="13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do some a little differently.  Instead of defining middle income as families between 200 and 400 ercent of poverty - which is a standard definition - we break this group down into lower middle and upper middle.  We do this because policymakers are debating the need to provide subsidies, as in subsidized SCHIP for children, to families in the 200 to 300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lower middle - the yellow line - refers to family income between 200 and 300 % of poverty, and upper middle - the turquoise line - refers to family income between 300 and 400 % of poverty.  When we do this we see that individuals living in lower middle income families faced virtually the same risk of high financial burden for health care as did individuals in low income families, with incomes less than 200 % of poverty.  Thus the risk of high financial burdens has crept up into the “middle” income groups in the U.S.  The majority of these families have private coverage but the out of pocket premiums plus the out of pocket payments for deductibles, copays and uncovered services add up to more than 10 percent of family income for a large proportion of these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an also see the clearest upward trend among the high income families with the lowest burde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1680" y="695160"/>
            <a:ext cx="4611600" cy="3459240"/>
          </a:xfrm>
          <a:prstGeom prst="rect">
            <a:avLst/>
          </a:prstGeom>
          <a:ln w="0">
            <a:noFill/>
          </a:ln>
        </p:spPr>
      </p:sp>
      <p:sp>
        <p:nvSpPr>
          <p:cNvPr id="13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we show the percent of persons living in families with high burdens by age and gend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 and women are much more likely to face high burdens than are younger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women face the highest risks. The top line tells us that among women aged 50 to 64, more than 30 percent of them lived in families with high financial burdens for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s risks were slightly lower.  About 26 percent of older men lived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generally face higher risks than men of the same a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hyperlink" Target="http://www.meps.ahrq.gov/" TargetMode="External"/><Relationship Id="rId3" Type="http://schemas.openxmlformats.org/officeDocument/2006/relationships/hyperlink" Target="http://www.meps.ahrq.gov/" TargetMode="External"/><Relationship Id="rId4" Type="http://schemas.openxmlformats.org/officeDocument/2006/relationships/hyperlink" Target="http://www.meps.ahrq.gov/" TargetMode="External"/><Relationship Id="rId5" Type="http://schemas.openxmlformats.org/officeDocument/2006/relationships/hyperlink" Target="http://www.meps.ahrq.gov/" TargetMode="External"/><Relationship Id="rId6" Type="http://schemas.openxmlformats.org/officeDocument/2006/relationships/hyperlink" Target="http://www.meps.ahrq.gov/"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for Health Care</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sica Banthin,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em Bernar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228600" y="457200"/>
          <a:ext cx="8480520" cy="6400800"/>
        </p:xfrm>
        <a:graphic>
          <a:graphicData uri="http://schemas.openxmlformats.org/presentationml/2006/ole">
            <p:oleObj progId="Excel.Sheet.12" r:id="rId1" spid="">
              <p:embed/>
              <p:pic>
                <p:nvPicPr>
                  <p:cNvPr id="110" name="" descr=""/>
                  <p:cNvPicPr/>
                  <p:nvPr/>
                </p:nvPicPr>
                <p:blipFill>
                  <a:blip r:embed="rId2"/>
                  <a:stretch/>
                </p:blipFill>
                <p:spPr>
                  <a:xfrm>
                    <a:off x="228600" y="457200"/>
                    <a:ext cx="848052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by Chronic Disease 2003</a:t>
            </a:r>
            <a:endParaRPr b="1" lang="en-US" sz="3600" spc="-1" strike="noStrike">
              <a:solidFill>
                <a:srgbClr val="ffff00"/>
              </a:solidFill>
              <a:latin typeface="Arial"/>
            </a:endParaRPr>
          </a:p>
        </p:txBody>
      </p:sp>
      <p:sp>
        <p:nvSpPr>
          <p:cNvPr id="112" name="PlaceHolder 2"/>
          <p:cNvSpPr>
            <a:spLocks noGrp="1"/>
          </p:cNvSpPr>
          <p:nvPr>
            <p:ph/>
          </p:nvPr>
        </p:nvSpPr>
        <p:spPr>
          <a:xfrm>
            <a:off x="456840" y="1447920"/>
            <a:ext cx="84582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lihood of facing high financial burde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s, 19.2%</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39.1%</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ke, 56.0%</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disease, 32.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ension, 30.9%</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ritis, 30.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disorder, 29.2%</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3"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15"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king trends in high financial burdens provides policymakers with overview of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s subgroups with elevated risk for high burde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inform debate on affordability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provides benchmark against which to measure proposed changes in policy</a:t>
            </a:r>
            <a:endParaRPr b="0" lang="en-US" sz="3200" spc="-1" strike="noStrike">
              <a:solidFill>
                <a:srgbClr val="ffffff"/>
              </a:solidFill>
              <a:latin typeface="Arial"/>
            </a:endParaRPr>
          </a:p>
        </p:txBody>
      </p:sp>
      <p:sp>
        <p:nvSpPr>
          <p:cNvPr id="116"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9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ve rising health care costs affected family budge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isk of high out of pocket health care burdens vary b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statu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categor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nd gend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chronic conditions</a:t>
            </a:r>
            <a:endParaRPr b="0" lang="en-US" sz="2800" spc="-1" strike="noStrike">
              <a:solidFill>
                <a:srgbClr val="ffffff"/>
              </a:solidFill>
              <a:latin typeface="Arial"/>
            </a:endParaRPr>
          </a:p>
        </p:txBody>
      </p:sp>
      <p:sp>
        <p:nvSpPr>
          <p:cNvPr id="9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534520" y="60958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a:t>
            </a:r>
            <a:br>
              <a:rPr sz="2800"/>
            </a:br>
            <a:r>
              <a:rPr b="1" lang="en-US" sz="2800" spc="-1" strike="noStrike">
                <a:solidFill>
                  <a:srgbClr val="ffff00"/>
                </a:solidFill>
                <a:latin typeface="Arial"/>
              </a:rPr>
              <a:t>Medical Expenditure Panel Survey</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51055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5,000 households and 39,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nationally representative micro level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a:t>
            </a:r>
            <a:r>
              <a:rPr b="0" lang="en-US" sz="2800" spc="-1" strike="noStrike" u="sng">
                <a:solidFill>
                  <a:srgbClr val="fafd00"/>
                </a:solidFill>
                <a:uFillTx/>
                <a:latin typeface="Arial"/>
                <a:hlinkClick r:id="rId2"/>
              </a:rPr>
              <a:t>meps</a:t>
            </a:r>
            <a:r>
              <a:rPr b="0" lang="en-US" sz="2800" spc="-1" strike="noStrike" u="sng">
                <a:solidFill>
                  <a:srgbClr val="fafd00"/>
                </a:solidFill>
                <a:uFillTx/>
                <a:latin typeface="Arial"/>
                <a:hlinkClick r:id="rId3"/>
              </a:rPr>
              <a:t>.</a:t>
            </a:r>
            <a:r>
              <a:rPr b="0" lang="en-US" sz="2800" spc="-1" strike="noStrike" u="sng">
                <a:solidFill>
                  <a:srgbClr val="fafd00"/>
                </a:solidFill>
                <a:uFillTx/>
                <a:latin typeface="Arial"/>
                <a:hlinkClick r:id="rId4"/>
              </a:rPr>
              <a:t>ahrq</a:t>
            </a:r>
            <a:r>
              <a:rPr b="0" lang="en-US" sz="2800" spc="-1" strike="noStrike" u="sng">
                <a:solidFill>
                  <a:srgbClr val="fafd00"/>
                </a:solidFill>
                <a:uFillTx/>
                <a:latin typeface="Arial"/>
                <a:hlinkClick r:id="rId5"/>
              </a:rPr>
              <a:t>.</a:t>
            </a:r>
            <a:r>
              <a:rPr b="0" lang="en-US" sz="2800" spc="-1" strike="noStrike" u="sng">
                <a:solidFill>
                  <a:srgbClr val="fafd00"/>
                </a:solidFill>
                <a:uFillTx/>
                <a:latin typeface="Arial"/>
                <a:hlinkClick r:id="rId6"/>
              </a:rPr>
              <a:t>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s: Constructing Measure of High Burden</a:t>
            </a:r>
            <a:endParaRPr b="1" lang="en-US" sz="2800" spc="-1" strike="noStrike">
              <a:solidFill>
                <a:srgbClr val="ffff00"/>
              </a:solidFill>
              <a:latin typeface="Arial"/>
            </a:endParaRPr>
          </a:p>
        </p:txBody>
      </p:sp>
      <p:sp>
        <p:nvSpPr>
          <p:cNvPr id="100"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We calculated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We calculated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10% of family income on out of pocket expenses – “high burd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ological Considerations </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den ratio (% of family income) is a composite or summary measure compressing many variables into one ratio</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ig picture – no causal interpret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s OOP premiums plus OOP payments on servi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burdens at family level because family members share resour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percent of adjusted family income as reasonable threshold, other thresholds can be used</a:t>
            </a:r>
            <a:endParaRPr b="0" lang="en-US" sz="28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5:49:59Z</dcterms:modified>
  <cp:revision>236</cp:revision>
  <dc:subject/>
  <dc:title>AHRQ Slide Template 2004</dc:title>
</cp:coreProperties>
</file>